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2A58-CA40-4E56-962A-0BF43ECB75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зание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6D39-B669-48FB-B08D-61F8E1AD12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7. Отморожение и другие эффекты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46BA-0495-41D6-AD24-12F481E14E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8. От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8B61-234D-4855-AB06-D2B41907C2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В соответствии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30FD-22C9-483F-9255-534D6A8141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ень мероприяти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B209-2601-4277-B3A2-D3B848DE9A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5BC8-E001-4999-AB7F-13253B860A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1FA0-0B24-4349-8419-2D88C14923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Определение наличия сознания у пострадав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2A32-8DE6-4237-99CC-8DAF078BEB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F2FA-5A1A-4B2D-B304-72751CBC9F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искусственное дыхание с использованием устройства для искусственного дых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AE6D-E2B9-4D5E-B472-9B6A0D5861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EDDD-7306-40C7-AD2B-DB912A2826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 оказывается перв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мероприятий по оказанию первой помо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21F3-5A0B-483A-898C-A380E1579E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067B-0EC0-48C7-8ECC-BB52572C41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B662-1E8B-4DB1-84E0-4AF26D48E9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972E-2D30-4649-B23C-4224F2BC9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9. Придание пострадавшему оптимального положени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2DF0-4E6F-47BD-B0AE-F260DDDA18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F2E1-E160-4DE9-909B-7BEE692D8A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12C-0D0E-4915-A6FD-736CF925CD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 счастли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5462-EAD5-4ADB-A744-0FE816B786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644E-356D-429B-B3BF-B1FB425083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1. Отсутствие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1EF-30F6-41A5-97A9-BF292C5AD7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Остановка дыхания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EC62-BFA5-4C6A-9DA2-218B2AA070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Наружные кровот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A81F-2AD5-431F-BCCF-E9C1280C29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4. Инородные тела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86E-DA87-4BB3-8AB3-2E95872D37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5. Травмы различных областей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9E76-C4AC-429D-9D12-15D3294D09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6. Ожоги, эффекты воздействия высоких температур, теплов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F305-5E56-445F-8354-5F3610147D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718-EC26-4A2A-8C51-A15611B3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9C0-882B-423A-BFCE-27A78D2C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482-813F-4777-8716-8C9C86C3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C9F-ACC6-4A90-9133-E84CF960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6CD-C20A-49E3-9850-E971F04B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C4F-CCE9-4032-82DF-458BC820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E72-1393-4532-9805-AC9EC132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722-0A6C-4438-A8F4-FD66716C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F83-1B4E-401A-BB21-74B01F74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F9E-3D64-4EAD-A34E-F1CA2F9E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4CA-8F70-406A-92A8-302B80DF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4C6-BB03-483F-B980-E3A283F4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62B3-2ABA-4F85-A72B-090D891839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682560" y="3181320"/>
            <a:ext cx="8418600" cy="234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124000" y="1557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Урок ОБ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76360" y="501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403280" y="1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ГБОУ  СОШ №280 им. М.Ю.Лермо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Адмиралтейский рай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835280" y="6021360"/>
            <a:ext cx="73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дготовил: преподаватель-организатор ОБЖ Солошенко С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0" y="3105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7. Отморожение и другие эффекты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holodno.jpg"/>
          <p:cNvPicPr/>
          <p:nvPr/>
        </p:nvPicPr>
        <p:blipFill>
          <a:blip r:embed="rId1"/>
          <a:stretch/>
        </p:blipFill>
        <p:spPr>
          <a:xfrm>
            <a:off x="5508720" y="2133720"/>
            <a:ext cx="302400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33336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79280" y="32446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8. От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267945-1378-26.jpg"/>
          <p:cNvPicPr/>
          <p:nvPr/>
        </p:nvPicPr>
        <p:blipFill>
          <a:blip r:embed="rId1"/>
          <a:stretch/>
        </p:blipFill>
        <p:spPr>
          <a:xfrm>
            <a:off x="4427640" y="2349360"/>
            <a:ext cx="4392360" cy="3167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79280" y="549360"/>
            <a:ext cx="7777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В соответствии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0" y="1785960"/>
            <a:ext cx="9339120" cy="3249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10880"/>
            <a:ext cx="91440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50920" y="33336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pic_15719.jpg"/>
          <p:cNvPicPr/>
          <p:nvPr/>
        </p:nvPicPr>
        <p:blipFill>
          <a:blip r:embed="rId1"/>
          <a:stretch/>
        </p:blipFill>
        <p:spPr>
          <a:xfrm>
            <a:off x="1835280" y="2781360"/>
            <a:ext cx="4944960" cy="3527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50920" y="189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3. Определение наличия сознания у пострадавш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cpr-new-1.jpg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168120"/>
            <a:ext cx="91440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34812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) искусственное дыхание с использованием устройства для искусственного дыхания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11280" y="-41040"/>
            <a:ext cx="684036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 оказывается первая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мероприятий по оказанию первой помо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35820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-61920"/>
            <a:ext cx="914400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2009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24000" y="404640"/>
            <a:ext cx="653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9. Придание пострадавшему оптимального положения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376850-5979-54.jpg"/>
          <p:cNvPicPr/>
          <p:nvPr/>
        </p:nvPicPr>
        <p:blipFill>
          <a:blip r:embed="rId1"/>
          <a:stretch/>
        </p:blipFill>
        <p:spPr>
          <a:xfrm>
            <a:off x="2484360" y="2060640"/>
            <a:ext cx="3600360" cy="3816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280" y="260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10.jpg"/>
          <p:cNvPicPr/>
          <p:nvPr/>
        </p:nvPicPr>
        <p:blipFill>
          <a:blip r:embed="rId1"/>
          <a:stretch/>
        </p:blipFill>
        <p:spPr>
          <a:xfrm>
            <a:off x="2124000" y="1844640"/>
            <a:ext cx="3960720" cy="45370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79280" y="33336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80482.jpg"/>
          <p:cNvPicPr/>
          <p:nvPr/>
        </p:nvPicPr>
        <p:blipFill>
          <a:blip r:embed="rId1"/>
          <a:stretch/>
        </p:blipFill>
        <p:spPr>
          <a:xfrm>
            <a:off x="755640" y="3068640"/>
            <a:ext cx="584820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xtBox 1" descr=""/>
          <p:cNvPicPr/>
          <p:nvPr/>
        </p:nvPicPr>
        <p:blipFill>
          <a:blip r:embed="rId2"/>
          <a:stretch/>
        </p:blipFill>
        <p:spPr>
          <a:xfrm>
            <a:off x="542880" y="530280"/>
            <a:ext cx="8277120" cy="3097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344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3964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obmorok.jpg"/>
          <p:cNvPicPr/>
          <p:nvPr/>
        </p:nvPicPr>
        <p:blipFill>
          <a:blip r:embed="rId1"/>
          <a:stretch/>
        </p:blipFill>
        <p:spPr>
          <a:xfrm>
            <a:off x="4788000" y="2205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79280" y="292428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1. Отсутствие созн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press_03.jpg"/>
          <p:cNvPicPr/>
          <p:nvPr/>
        </p:nvPicPr>
        <p:blipFill>
          <a:blip r:embed="rId1"/>
          <a:stretch/>
        </p:blipFill>
        <p:spPr>
          <a:xfrm>
            <a:off x="4211640" y="2349360"/>
            <a:ext cx="4762440" cy="3191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755640" y="260280"/>
            <a:ext cx="61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0" y="3105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Остановка дыхания и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50920" y="260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0" y="3244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3. Наружные крово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firsthelp.gif"/>
          <p:cNvPicPr/>
          <p:nvPr/>
        </p:nvPicPr>
        <p:blipFill>
          <a:blip r:embed="rId1"/>
          <a:stretch/>
        </p:blipFill>
        <p:spPr>
          <a:xfrm>
            <a:off x="4211640" y="249228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9280" y="18900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50920" y="3105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4. Инородные тела верхних дыхательных пу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000199_712692.jpg"/>
          <p:cNvPicPr/>
          <p:nvPr/>
        </p:nvPicPr>
        <p:blipFill>
          <a:blip r:embed="rId1"/>
          <a:stretch/>
        </p:blipFill>
        <p:spPr>
          <a:xfrm>
            <a:off x="4702320" y="2781360"/>
            <a:ext cx="4113000" cy="2735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79280" y="40464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0" y="324468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5. Травмы различных областей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2552820.jpg"/>
          <p:cNvPicPr/>
          <p:nvPr/>
        </p:nvPicPr>
        <p:blipFill>
          <a:blip r:embed="rId1"/>
          <a:stretch/>
        </p:blipFill>
        <p:spPr>
          <a:xfrm>
            <a:off x="4356000" y="2421000"/>
            <a:ext cx="4464000" cy="3676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79280" y="26028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0" y="310500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2639874.jpg"/>
          <p:cNvPicPr/>
          <p:nvPr/>
        </p:nvPicPr>
        <p:blipFill>
          <a:blip r:embed="rId1"/>
          <a:stretch/>
        </p:blipFill>
        <p:spPr>
          <a:xfrm>
            <a:off x="5580000" y="2565360"/>
            <a:ext cx="33847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GION</cp:lastModifiedBy>
  <dcterms:modified xsi:type="dcterms:W3CDTF">2015-05-12T08:47:57Z</dcterms:modified>
  <cp:revision>722</cp:revision>
  <dc:subject/>
  <dc:title>Оказание первой помощи</dc:title>
</cp:coreProperties>
</file>