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05687-6300-43F8-AE03-7CB07C6D385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казание первой помо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3A585-1FD2-45BD-B6EA-58B1F13F868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Перечень состояний, при котор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оказывается перв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7. Отморожение и другие эффекты воздействия низких температу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11BAB-FCCC-4953-B94E-AB12E5A705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Перечень состояний, при котор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оказывается перв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8. От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E6F0F-5327-4E5A-B004-C3724E9E9C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В соответствии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с частью 1 статьи 31 Федерального закона от 21 ноября 2011 г. № 323-ФЗ «Об основах охраны здоровья граждан в Российской Федерации»</a:t>
            </a: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  первая помощь до оказания медицинской помощи оказывается гражданам при несчастных случаях, травмах, отравлениях и других состояниях и заболеваниях, угрожающих их жизни и здоровью, лицами, обязанными оказывать первую помощь в соответствии с федеральным законом или со специальным правилом и имеющими соответствующую подготовку, в том числе сотрудниками органов внутренних дел Российской Федерации, сотрудниками, военнослужащими и работниками Государственной противопожарной службы, спасателями аварийно-спасательных формирований и аварийно-спасательных служб. В соответствии с частью 4 статьи 31 Федерального закона от 21 ноября 2011 г. № 323-ФЗ водители транспортных средств и другие лица вправе оказывать первую помощь при наличии соответствующей подготовки и (или) навы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B3F13-11BD-4032-9182-295E4E18B33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ечень мероприятий по оказанию первой 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79953-2B0D-4730-898F-58B133E894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222268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Calibri"/>
              </a:rPr>
              <a:t>Мероприятия по оценке обстановки и обеспечению безопасных условий для оказания первой помощ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1) определение угрожающих факторов для собственной жизни и здоровь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2) определение угрожающих факторов для жизни и здоровья пострадавше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3) устранение угрожающих факторов для жизни и здоровь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4) прекращение действия повреждающих факторов на пострадавше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5) оценка количества пострадавши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6) извлечение пострадавшего из транспортного средства или других труднодоступных мес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7) перемещение пострадавш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6A100-DECB-4EC0-BEE3-5D91765C1A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2. Вызов скорой медицинской помощи, других специальных служб, сотрудники которых обязаны оказывать первую помощь в соответствии с федеральным законом или со специальным прави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BAFC-724B-4DAD-BECD-67FDE5A1403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3. Определение наличия сознания у пострадавше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9733-E780-4558-A486-3149A67967B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Calibri"/>
              </a:rPr>
              <a:t>4. Мероприятия по восстановлению проходимости дыхательных путей и определению признаков жизни у пострадавшег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1) запрокидывание головы с подъёмом подбород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2) выдвижение нижней челю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3) определение наличия дыхания с помощью слуха, зрения и осяз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4) определение наличия кровообращения, проверка пульса на магистральных артер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E305C-88F0-4705-9032-4224E036A0E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Calibri"/>
              </a:rPr>
              <a:t>5. Мероприятия по проведению сердечно-легочной реанимации до появления признаков жизн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1) давление руками на грудину пострадавше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2) искусственное дыхание «Рот ко рту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3) искусственное дыхание «Рот к носу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4) искусственное дыхание с использованием устройства для искусственного дых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1EB70-6074-4194-8577-E58DE7D53AF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222268"/>
                </a:solidFill>
                <a:latin typeface="Calibri"/>
              </a:rPr>
              <a:t>6. Мероприятия по поддержанию проходимости дыхательных путей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1) придание устойчивого бокового полож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2) запрокидывание головы с подъёмом подбород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3) выдвижение нижней челю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29E4A-6145-445F-86E4-371D119BC6F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План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ac09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Перечень состояний, при которых оказывается первая помощ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ac09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Перечень мероприятий по оказанию первой помощ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B3C07-9EF1-43BF-868B-459454874F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61645"/>
                </a:solidFill>
                <a:latin typeface="Calibri"/>
              </a:rPr>
              <a:t>7. Мероприятия по обзорному осмотру пострадавшего и временной остановке наружного кровотеч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1) обзорный осмотр пострадавшего на наличие кровотеч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2) пальцевое прижатие артер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3) наложение жгу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4) максимальное сгибание конечности в сустав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5) прямое давление на ран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6) наложение давящей повяз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A1556-5455-4EA5-A24F-E8F7CA88900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73"/>
                </a:solidFill>
                <a:latin typeface="Calibri"/>
              </a:rPr>
              <a:t>8. Мероприятия по подробному осмотру пострадавшего в целях выявления признаков травм, отравлений и других состояний, угрожающих его жизни и здоровью, и по оказанию первой помощи в случае выявления указанных состояний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1) проведение осмотра голов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2) проведение осмотра ше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3) проведение осмотра груд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4) проведение осмотра спи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5) проведение осмотра живота и таз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6) проведение осмотра конечност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7) наложение повязок при травмах различных областей тела, в том числе окклюзионной (герметизирующей) при ранении грудной клет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8) проведение иммобилизации (с помощью подручных средств, аутоиммобилизация, с использованием изделий медицинского назначен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648D1-D85C-4776-8B3D-27BF0B12409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9) фиксация шейного отдела позвоночника (вручную, подручными средствами, с использованием изделий медицинского назначен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10) прекращение воздействия опасных химических веществ на пострадавшего (промывание желудка путём приёма воды и вызывания рвоты, удаление с повреждённой поверхности и промывание повреждённой поверхности проточной водо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11) местное охлаждение при травмах, термических ожогах и иных воздействиях высоких температур или теплового излу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12) термоизоляция при отморожениях и других эффектах воздействия низких температу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692DB-0D3C-4838-9499-37B122705D4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9. Придание пострадавшему оптимального положения т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74EE4-D345-45E3-A115-148F5F3B37E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10. Контроль состояния пострадавшего (сознание, дыхание, кровообращение) и оказание психологической поддерж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89EE2-87AC-4F9C-B2DC-FCC0105CAAB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11. Передача пострадавшего бригаде скорой медицинской помощи, другим специальным службам, сотрудники которых обязаны оказывать первую помощь в соответствии с федеральным законом или со специальным прави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0E93B-17E3-480A-9D91-E27DCD12F29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удьте  счастлив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4A40F-EC38-4883-86CD-861D8EF26F1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Calibri"/>
              </a:rPr>
              <a:t>Приказ Минздравсоцразвития Росс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Calibri"/>
              </a:rPr>
              <a:t>№ </a:t>
            </a:r>
            <a:r>
              <a:rPr b="0" lang="ru-RU" sz="1200" spc="-1" strike="noStrike">
                <a:solidFill>
                  <a:srgbClr val="222268"/>
                </a:solidFill>
                <a:latin typeface="Calibri"/>
              </a:rPr>
              <a:t>477н от 04.05.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б утверждении перечня состояний, при которых оказывается первая помощь, и перечня мероприятий по оказанию первой помо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егистрирован в Минюсте РФ 16 мая 2012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страционный номер 2418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74EA5-6D59-4292-BEFE-77FC3B7BA1B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Перечень состояний, при котор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оказывается перв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1. Отсутствие созн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05490-8BB1-42D7-87BB-69616E20BAB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Перечень состояний, при котор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оказывается перв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2. Остановка дыхания и кровообра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DE1CD-FD71-46C5-BDF1-481BC0FFEDA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Перечень состояний, при котор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оказывается перв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3. Наружные кровоте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E3AAF-AD91-4D6A-8AAB-2021CB0F437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Перечень состояний, при котор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оказывается перв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4. Инородные тела верхних дыхательных пу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57189-246D-4B8A-9D92-EAC5698EAFD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Перечень состояний, при котор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оказывается перв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5. Травмы различных областей т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A029B-5886-4A2A-AA05-C550A1FD5F4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Перечень состояний, при котор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оказывается перв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6. Ожоги, эффекты воздействия высоких температур, теплового изл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D9BD1-8B96-4397-A82F-2AB730DEC8A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C35E-8118-4741-901D-36470370B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7C19-6828-4C94-AD3D-768702D27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B697-50B6-4EF9-BD9C-46BBBEC34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4845-EDC1-4BA8-86C1-F5F180453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6C80-FEA2-44AF-B1D4-BC0F9BC90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FF74-C7E6-4ABD-B8C9-D3922FF1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44FA-5525-4A97-B254-E3A8480A7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CBD5-83F2-437A-99C8-5FE58D3E5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F10F-AC55-43D3-9C03-5E7E98745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29FA-7084-4160-8CDD-3413D9BC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6D1B-D89C-44D1-8110-8EB025C5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D412-0C8D-406A-8D95-D580956B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77779-E28E-4A33-9339-B07D8A04273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2" descr=""/>
          <p:cNvPicPr/>
          <p:nvPr/>
        </p:nvPicPr>
        <p:blipFill>
          <a:blip r:embed="rId2"/>
          <a:stretch/>
        </p:blipFill>
        <p:spPr>
          <a:xfrm>
            <a:off x="682560" y="3181320"/>
            <a:ext cx="8418600" cy="234144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2124000" y="155736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2268"/>
                </a:solidFill>
                <a:latin typeface="Arial"/>
              </a:rPr>
              <a:t>Урок ОБЖ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1476360" y="501336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временные требо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1403280" y="18900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9194d"/>
                </a:solidFill>
                <a:latin typeface="Arial"/>
              </a:rPr>
              <a:t>ГБОУ  СОШ №280 им. М.Ю.Лермонт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9194d"/>
                </a:solidFill>
                <a:latin typeface="Arial"/>
              </a:rPr>
              <a:t>Адмиралтейский рай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1835280" y="6021360"/>
            <a:ext cx="73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Подготовил: преподаватель-организатор ОБЖ Солошенко С.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"/>
          <p:cNvSpPr/>
          <p:nvPr/>
        </p:nvSpPr>
        <p:spPr>
          <a:xfrm>
            <a:off x="0" y="40464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Перечень состояний, при котор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оказывается первая помощ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2"/>
          <p:cNvSpPr/>
          <p:nvPr/>
        </p:nvSpPr>
        <p:spPr>
          <a:xfrm>
            <a:off x="0" y="3105000"/>
            <a:ext cx="57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7. Отморожение и другие эффекты воздействия низких температу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3" descr="holodno.jpg"/>
          <p:cNvPicPr/>
          <p:nvPr/>
        </p:nvPicPr>
        <p:blipFill>
          <a:blip r:embed="rId1"/>
          <a:stretch/>
        </p:blipFill>
        <p:spPr>
          <a:xfrm>
            <a:off x="5508720" y="2133720"/>
            <a:ext cx="3024000" cy="388620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1"/>
          <p:cNvSpPr/>
          <p:nvPr/>
        </p:nvSpPr>
        <p:spPr>
          <a:xfrm>
            <a:off x="0" y="33336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Перечень состояний, при котор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оказывается первая помощ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2"/>
          <p:cNvSpPr/>
          <p:nvPr/>
        </p:nvSpPr>
        <p:spPr>
          <a:xfrm>
            <a:off x="179280" y="324468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22268"/>
                </a:solidFill>
                <a:latin typeface="Arial"/>
              </a:rPr>
              <a:t>8. Отравл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3" descr="267945-1378-26.jpg"/>
          <p:cNvPicPr/>
          <p:nvPr/>
        </p:nvPicPr>
        <p:blipFill>
          <a:blip r:embed="rId1"/>
          <a:stretch/>
        </p:blipFill>
        <p:spPr>
          <a:xfrm>
            <a:off x="4427640" y="2349360"/>
            <a:ext cx="4392360" cy="316728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"/>
          <p:cNvSpPr/>
          <p:nvPr/>
        </p:nvSpPr>
        <p:spPr>
          <a:xfrm>
            <a:off x="179280" y="549360"/>
            <a:ext cx="77774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73"/>
                </a:solidFill>
                <a:latin typeface="Arial"/>
              </a:rPr>
              <a:t>В соответствии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с частью 1 статьи 31 Федерального закона от 21 ноября 2011 г. № 323-ФЗ «Об основах охраны здоровья граждан в Российской Федерации»</a:t>
            </a:r>
            <a:r>
              <a:rPr b="0" lang="ru-RU" sz="2000" spc="-1" strike="noStrike">
                <a:solidFill>
                  <a:srgbClr val="262673"/>
                </a:solidFill>
                <a:latin typeface="Arial"/>
              </a:rPr>
              <a:t>  первая помощь до оказания медицинской помощи оказывается гражданам при несчастных случаях, травмах, отравлениях и других состояниях и заболеваниях, угрожающих их жизни и здоровью, лицами, обязанными оказывать первую помощь в соответствии с федеральным законом или со специальным правилом и имеющими соответствующую подготовку, в том числе сотрудниками органов внутренних дел Российской Федерации, сотрудниками, военнослужащими и работниками Государственной противопожарной службы, спасателями аварийно-спасательных формирований и аварийно-спасательных служб. В соответствии с частью 4 статьи 31 Федерального закона от 21 ноября 2011 г. № 323-ФЗ водители транспортных средств и другие лица вправе оказывать первую помощь при наличии соответствующей подготовки и (или) навы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Прямоугольник 2" descr=""/>
          <p:cNvPicPr/>
          <p:nvPr/>
        </p:nvPicPr>
        <p:blipFill>
          <a:blip r:embed="rId1"/>
          <a:stretch/>
        </p:blipFill>
        <p:spPr>
          <a:xfrm>
            <a:off x="0" y="1785960"/>
            <a:ext cx="9339120" cy="324972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"/>
          <p:cNvSpPr/>
          <p:nvPr/>
        </p:nvSpPr>
        <p:spPr>
          <a:xfrm>
            <a:off x="0" y="-110880"/>
            <a:ext cx="9144000" cy="58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lnSpc>
                <a:spcPct val="100000"/>
              </a:lnSpc>
              <a:buClr>
                <a:srgbClr val="222268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68"/>
                </a:solidFill>
                <a:latin typeface="Calibri"/>
              </a:rPr>
              <a:t>Мероприятия по оценке обстановки и обеспечению безопасных условий для оказания первой помощ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22226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1) определение угрожающих факторов для собственной жизни и здоровь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2) определение угрожающих факторов для жизни и здоровья пострадавшег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3) устранение угрожающих факторов для жизни и здоровь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4) прекращение действия повреждающих факторов на пострадавшег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5) оценка количества пострадавши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6) извлечение пострадавшего из транспортного средства или других труднодоступных мес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7) перемещение пострадавш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1"/>
          <p:cNvSpPr/>
          <p:nvPr/>
        </p:nvSpPr>
        <p:spPr>
          <a:xfrm>
            <a:off x="250920" y="333360"/>
            <a:ext cx="6985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68"/>
                </a:solidFill>
                <a:latin typeface="Arial"/>
              </a:rPr>
              <a:t>2. Вызов скорой медицинской помощи, других специальных служб, сотрудники которых обязаны оказывать первую помощь в соответствии с федеральным законом или со специальным прави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2" descr="pic_15719.jpg"/>
          <p:cNvPicPr/>
          <p:nvPr/>
        </p:nvPicPr>
        <p:blipFill>
          <a:blip r:embed="rId1"/>
          <a:stretch/>
        </p:blipFill>
        <p:spPr>
          <a:xfrm>
            <a:off x="1835280" y="2781360"/>
            <a:ext cx="4944960" cy="352728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250920" y="189000"/>
            <a:ext cx="75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68"/>
                </a:solidFill>
                <a:latin typeface="Arial"/>
              </a:rPr>
              <a:t>3. Определение наличия сознания у пострадавшег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2" descr="cpr-new-1.jpg"/>
          <p:cNvPicPr/>
          <p:nvPr/>
        </p:nvPicPr>
        <p:blipFill>
          <a:blip r:embed="rId1"/>
          <a:stretch/>
        </p:blipFill>
        <p:spPr>
          <a:xfrm>
            <a:off x="2484360" y="1916280"/>
            <a:ext cx="3816360" cy="417672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"/>
          <p:cNvSpPr/>
          <p:nvPr/>
        </p:nvSpPr>
        <p:spPr>
          <a:xfrm>
            <a:off x="0" y="168120"/>
            <a:ext cx="9144000" cy="62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68"/>
                </a:solidFill>
                <a:latin typeface="Calibri"/>
              </a:rPr>
              <a:t>4. Мероприятия по восстановлению проходимости дыхательных путей и определению признаков жизни у пострадавшег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1) запрокидывание головы с подъёмом подбород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2) выдвижение нижней челю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3) определение наличия дыхания с помощью слуха, зрения и осяз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4) определение наличия кровообращения, проверка пульса на магистральных артер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"/>
          <p:cNvSpPr/>
          <p:nvPr/>
        </p:nvSpPr>
        <p:spPr>
          <a:xfrm>
            <a:off x="0" y="348120"/>
            <a:ext cx="9144000" cy="52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68"/>
                </a:solidFill>
                <a:latin typeface="Calibri"/>
              </a:rPr>
              <a:t>5. Мероприятия по проведению сердечно-легочной реанимации до появления признаков жизн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1) давление руками на грудину пострадавше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2) искусственное дыхание «Рот ко рту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3) искусственное дыхание «Рот к носу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4) искусственное дыхание с использованием устройства для искусственного дыхания</a:t>
            </a:r>
            <a:r>
              <a:rPr b="0" lang="ru-RU" sz="1800" spc="-1" strike="noStrike">
                <a:solidFill>
                  <a:srgbClr val="26267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"/>
          <p:cNvSpPr/>
          <p:nvPr/>
        </p:nvSpPr>
        <p:spPr>
          <a:xfrm>
            <a:off x="611280" y="-41040"/>
            <a:ext cx="6840360" cy="61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22268"/>
                </a:solidFill>
                <a:latin typeface="Calibri"/>
              </a:rPr>
              <a:t>6. Мероприятия по поддержанию проходимости дыхательных путе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62673"/>
                </a:solidFill>
                <a:latin typeface="Calibri"/>
              </a:rPr>
              <a:t>1) придание устойчивого бокового положения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62673"/>
                </a:solidFill>
                <a:latin typeface="Calibri"/>
              </a:rPr>
              <a:t>2) запрокидывание головы с подъёмом подбородка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62673"/>
                </a:solidFill>
                <a:latin typeface="Calibri"/>
              </a:rPr>
              <a:t>3) выдвижение нижней челю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План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b6bc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Перечень состояний, при которых оказывается первая помощ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b6bc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Перечень мероприятий по оказанию первой помощ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"/>
          <p:cNvSpPr/>
          <p:nvPr/>
        </p:nvSpPr>
        <p:spPr>
          <a:xfrm>
            <a:off x="0" y="358200"/>
            <a:ext cx="9144000" cy="57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45"/>
                </a:solidFill>
                <a:latin typeface="Calibri"/>
              </a:rPr>
              <a:t>7. Мероприятия по обзорному осмотру пострадавшего и временной остановке наружного кровотеч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1) обзорный осмотр пострадавшего на наличие кровотечен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2) пальцевое прижатие артер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3) наложение жгу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4) максимальное сгибание конечности в сустав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5) прямое давление на ран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6) наложение давящей повяз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"/>
          <p:cNvSpPr/>
          <p:nvPr/>
        </p:nvSpPr>
        <p:spPr>
          <a:xfrm>
            <a:off x="0" y="-61920"/>
            <a:ext cx="9144000" cy="69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Calibri"/>
              </a:rPr>
              <a:t>8. Мероприятия по подробному осмотру пострадавшего в целях выявления признаков травм, отравлений и других состояний, угрожающих его жизни и здоровью, и по оказанию первой помощи в случае выявления указанных состоян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1) проведение осмотра голов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2) проведение осмотра ше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3) проведение осмотра груд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4) проведение осмотра спин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5) проведение осмотра живота и таз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6) проведение осмотра конечнос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7) наложение повязок при травмах различных областей тела, в том числе окклюзионной (герметизирующей) при ранении грудной клет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8) проведение иммобилизации (с помощью подручных средств, аутоиммобилизация, с использованием изделий медицинского назначен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"/>
          <p:cNvSpPr/>
          <p:nvPr/>
        </p:nvSpPr>
        <p:spPr>
          <a:xfrm>
            <a:off x="0" y="200916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9) фиксация шейного отдела позвоночника (вручную, подручными средствами, с использованием изделий медицинского назначен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10) прекращение воздействия опасных химических веществ на пострадавшего (промывание желудка путём приёма воды и вызывания рвоты, удаление с повреждённой поверхности и промывание повреждённой поверхности проточной водой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11) местное охлаждение при травмах, термических ожогах и иных воздействиях высоких температур или теплового излуч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12) термоизоляция при отморожениях и других эффектах воздействия низких температу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1"/>
          <p:cNvSpPr/>
          <p:nvPr/>
        </p:nvSpPr>
        <p:spPr>
          <a:xfrm>
            <a:off x="324000" y="404640"/>
            <a:ext cx="653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9. Придание пострадавшему оптимального положения те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2" descr="376850-5979-54.jpg"/>
          <p:cNvPicPr/>
          <p:nvPr/>
        </p:nvPicPr>
        <p:blipFill>
          <a:blip r:embed="rId1"/>
          <a:stretch/>
        </p:blipFill>
        <p:spPr>
          <a:xfrm>
            <a:off x="2484360" y="2060640"/>
            <a:ext cx="3600360" cy="381636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1"/>
          <p:cNvSpPr/>
          <p:nvPr/>
        </p:nvSpPr>
        <p:spPr>
          <a:xfrm>
            <a:off x="395280" y="260280"/>
            <a:ext cx="712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Arial"/>
              </a:rPr>
              <a:t>10. Контроль состояния пострадавшего (сознание, дыхание, кровообращение) и оказание психологической поддерж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Рисунок 2" descr="10.jpg"/>
          <p:cNvPicPr/>
          <p:nvPr/>
        </p:nvPicPr>
        <p:blipFill>
          <a:blip r:embed="rId1"/>
          <a:stretch/>
        </p:blipFill>
        <p:spPr>
          <a:xfrm>
            <a:off x="2124000" y="1844640"/>
            <a:ext cx="3960720" cy="453708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1"/>
          <p:cNvSpPr/>
          <p:nvPr/>
        </p:nvSpPr>
        <p:spPr>
          <a:xfrm>
            <a:off x="179280" y="333360"/>
            <a:ext cx="7488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Arial"/>
              </a:rPr>
              <a:t>11. Передача пострадавшего бригаде скорой медицинской помощи, другим специальным службам, сотрудники которых обязаны оказывать первую помощь в соответствии с федеральным законом или со специальным прави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2" descr="80482.jpg"/>
          <p:cNvPicPr/>
          <p:nvPr/>
        </p:nvPicPr>
        <p:blipFill>
          <a:blip r:embed="rId1"/>
          <a:stretch/>
        </p:blipFill>
        <p:spPr>
          <a:xfrm>
            <a:off x="755640" y="3068640"/>
            <a:ext cx="5848200" cy="34560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TextBox 1" descr=""/>
          <p:cNvPicPr/>
          <p:nvPr/>
        </p:nvPicPr>
        <p:blipFill>
          <a:blip r:embed="rId2"/>
          <a:stretch/>
        </p:blipFill>
        <p:spPr>
          <a:xfrm>
            <a:off x="542880" y="530280"/>
            <a:ext cx="8277120" cy="309708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0" y="34488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22268"/>
                </a:solidFill>
                <a:latin typeface="Calibri"/>
              </a:rPr>
              <a:t>Приказ Минздравсоцразвития Росс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22268"/>
                </a:solidFill>
                <a:latin typeface="Calibri"/>
              </a:rPr>
              <a:t>№ </a:t>
            </a:r>
            <a:r>
              <a:rPr b="0" lang="ru-RU" sz="3600" spc="-1" strike="noStrike">
                <a:solidFill>
                  <a:srgbClr val="222268"/>
                </a:solidFill>
                <a:latin typeface="Calibri"/>
              </a:rPr>
              <a:t>477н от 04.05.20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Об утверждении перечня состояний, при которых оказывается первая помощь, и перечня мероприятий по оказанию первой помощ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регистрирован в Минюсте РФ 16 мая 2012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егистрационный номер 2418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539640" y="260280"/>
            <a:ext cx="69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Перечень состояний, при котор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оказывается первая помощ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2" descr="obmorok.jpg"/>
          <p:cNvPicPr/>
          <p:nvPr/>
        </p:nvPicPr>
        <p:blipFill>
          <a:blip r:embed="rId1"/>
          <a:stretch/>
        </p:blipFill>
        <p:spPr>
          <a:xfrm>
            <a:off x="4788000" y="22050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61" name="TextBox 3"/>
          <p:cNvSpPr/>
          <p:nvPr/>
        </p:nvSpPr>
        <p:spPr>
          <a:xfrm>
            <a:off x="179280" y="2924280"/>
            <a:ext cx="424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22268"/>
                </a:solidFill>
                <a:latin typeface="Arial"/>
              </a:rPr>
              <a:t>1. Отсутствие созна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press_03.jpg"/>
          <p:cNvPicPr/>
          <p:nvPr/>
        </p:nvPicPr>
        <p:blipFill>
          <a:blip r:embed="rId1"/>
          <a:stretch/>
        </p:blipFill>
        <p:spPr>
          <a:xfrm>
            <a:off x="4211640" y="2349360"/>
            <a:ext cx="4762440" cy="319104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2"/>
          <p:cNvSpPr/>
          <p:nvPr/>
        </p:nvSpPr>
        <p:spPr>
          <a:xfrm>
            <a:off x="755640" y="260280"/>
            <a:ext cx="610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Перечень состояний, при котор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оказывается первая помощ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3"/>
          <p:cNvSpPr/>
          <p:nvPr/>
        </p:nvSpPr>
        <p:spPr>
          <a:xfrm>
            <a:off x="0" y="3105000"/>
            <a:ext cx="421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68"/>
                </a:solidFill>
                <a:latin typeface="Arial"/>
              </a:rPr>
              <a:t>2. Остановка дыхания и кровообращ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1"/>
          <p:cNvSpPr/>
          <p:nvPr/>
        </p:nvSpPr>
        <p:spPr>
          <a:xfrm>
            <a:off x="250920" y="260280"/>
            <a:ext cx="72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Перечень состояний, при котор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оказывается первая помощ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2"/>
          <p:cNvSpPr/>
          <p:nvPr/>
        </p:nvSpPr>
        <p:spPr>
          <a:xfrm>
            <a:off x="0" y="32446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68"/>
                </a:solidFill>
                <a:latin typeface="Arial"/>
              </a:rPr>
              <a:t>3. Наружные кровоте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3" descr="firsthelp.gif"/>
          <p:cNvPicPr/>
          <p:nvPr/>
        </p:nvPicPr>
        <p:blipFill>
          <a:blip r:embed="rId1"/>
          <a:stretch/>
        </p:blipFill>
        <p:spPr>
          <a:xfrm>
            <a:off x="4211640" y="2492280"/>
            <a:ext cx="4464000" cy="331308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1"/>
          <p:cNvSpPr/>
          <p:nvPr/>
        </p:nvSpPr>
        <p:spPr>
          <a:xfrm>
            <a:off x="179280" y="189000"/>
            <a:ext cx="667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Перечень состояний, при котор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оказывается первая помощ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2"/>
          <p:cNvSpPr/>
          <p:nvPr/>
        </p:nvSpPr>
        <p:spPr>
          <a:xfrm>
            <a:off x="250920" y="3105000"/>
            <a:ext cx="48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4. Инородные тела верхних дыхательных пу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3" descr="000199_712692.jpg"/>
          <p:cNvPicPr/>
          <p:nvPr/>
        </p:nvPicPr>
        <p:blipFill>
          <a:blip r:embed="rId1"/>
          <a:stretch/>
        </p:blipFill>
        <p:spPr>
          <a:xfrm>
            <a:off x="4702320" y="2781360"/>
            <a:ext cx="4113000" cy="273528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1"/>
          <p:cNvSpPr/>
          <p:nvPr/>
        </p:nvSpPr>
        <p:spPr>
          <a:xfrm>
            <a:off x="179280" y="404640"/>
            <a:ext cx="667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Перечень состояний, при котор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оказывается первая помощ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2"/>
          <p:cNvSpPr/>
          <p:nvPr/>
        </p:nvSpPr>
        <p:spPr>
          <a:xfrm>
            <a:off x="0" y="3244680"/>
            <a:ext cx="52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68"/>
                </a:solidFill>
                <a:latin typeface="Arial"/>
              </a:rPr>
              <a:t>5. Травмы различных областей те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3" descr="2552820.jpg"/>
          <p:cNvPicPr/>
          <p:nvPr/>
        </p:nvPicPr>
        <p:blipFill>
          <a:blip r:embed="rId1"/>
          <a:stretch/>
        </p:blipFill>
        <p:spPr>
          <a:xfrm>
            <a:off x="4356000" y="2421000"/>
            <a:ext cx="4464000" cy="367668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1"/>
          <p:cNvSpPr/>
          <p:nvPr/>
        </p:nvSpPr>
        <p:spPr>
          <a:xfrm>
            <a:off x="179280" y="260280"/>
            <a:ext cx="667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Перечень состояний, при котор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оказывается первая помощ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2"/>
          <p:cNvSpPr/>
          <p:nvPr/>
        </p:nvSpPr>
        <p:spPr>
          <a:xfrm>
            <a:off x="0" y="3105000"/>
            <a:ext cx="601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68"/>
                </a:solidFill>
                <a:latin typeface="Arial"/>
              </a:rPr>
              <a:t>6. Ожоги, эффекты воздействия высоких температур, теплового изл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3" descr="2639874.jpg"/>
          <p:cNvPicPr/>
          <p:nvPr/>
        </p:nvPicPr>
        <p:blipFill>
          <a:blip r:embed="rId1"/>
          <a:stretch/>
        </p:blipFill>
        <p:spPr>
          <a:xfrm>
            <a:off x="5580000" y="2565360"/>
            <a:ext cx="3384720" cy="309564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LEGION</cp:lastModifiedBy>
  <dcterms:modified xsi:type="dcterms:W3CDTF">2015-05-12T08:47:57Z</dcterms:modified>
  <cp:revision>722</cp:revision>
  <dc:subject/>
  <dc:title>Оказание первой помощи</dc:title>
</cp:coreProperties>
</file>