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4D61-3677-4B40-AE81-0AC74AE4C4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казание перв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A0BF-7FAA-4EF2-A03F-3E33F94546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7. Отморожение и другие эффекты воздействия низких температ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3406-AAA7-460D-BF76-92CE666EA4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8. От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D56E-B7FD-4986-B5B2-6C3677110E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В соответствии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 частью 1 статьи 31 Федерального закона от 21 ноября 2011 г. № 323-ФЗ «Об основах охраны здоровья граждан в Российской Федерации»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  первая помощь до оказания медицинской помощи оказывается гражданам при несчастных случаях, травмах, отравлениях и других состояниях и заболеваниях, угрожающих их жизни и здоровью, лицами, обязанными оказывать первую помощь в соответствии с федеральным законом или со специальным правилом и имеющими соответствующую подготовку, в том числе сотрудниками органов внутренних дел Российской Федерации, сотрудниками, военнослужащими и работниками Государственной противопожарной службы, спасателями аварийно-спасательных формирований и аварийно-спасательных служб. В соответствии с частью 4 статьи 31 Федерального закона от 21 ноября 2011 г. № 323-ФЗ водители транспортных средств и другие лица вправе оказывать первую помощь при наличии соответствующей подготовки и (или) навы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59D3-C86E-4245-837F-C778AFF114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чень мероприятий по оказанию пер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0B87-428F-436C-8760-13A2A391F1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22226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Мероприятия по оценке обстановки и обеспечению безопасных условий для оказания первой помощ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определение угрожающих факторов для собственной жизни и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определение угрожающих факторов для жизни и здоровья пострадав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устранение угрожающих факторов для жизни и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прекращение действия повреждающих факторов на пострадав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5) оценка количества пострадавш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6) извлечение пострадавшего из транспортного средства или других труднодоступных мес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7) перемещение пострадавш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2EDB-A04E-4BC3-AB07-4603CC2983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2. Вызов скорой медицинской помощи, других специальных служб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8003-9C98-4BC8-A655-6D3D9CC076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3. Определение наличия сознания у пострадавше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488F-4847-4D1E-9C09-7DA23CD534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Calibri"/>
              </a:rPr>
              <a:t>4. Мероприятия по восстановлению проходимости дыхательных путей и определению признаков жизни у пострадавшег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запрокидывание головы с подъёмом подборо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выдвижение нижней челю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определение наличия дыхания с помощью слуха, зрения и осяз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определение наличия кровообращения, проверка пульса на магистральных артер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5D55-1563-4555-A637-494C77D9A8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5. Мероприятия по проведению сердечно-легочной реанимации до появления признаков жиз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давление руками на грудину пострадавш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искусственное дыхание «Рот ко рту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искусственное дыхание «Рот к носу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искусственное дыхание с использованием устройства для искусственного дых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2EB2-A5D4-4AA9-B0F3-B34C09F968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222268"/>
                </a:solidFill>
                <a:latin typeface="Calibri"/>
              </a:rPr>
              <a:t>6. Мероприятия по поддержанию проходимости дыхательных путей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придание устойчивого бокового по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запрокидывание головы с подъёмом подборо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выдвижение нижней челю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4682-33F2-4ED6-8956-233C5EB188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 оказывается первая помощ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ac09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мероприятий по оказанию первой помощ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B8A9-9D9A-436E-9E44-E5C20ECB15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1645"/>
                </a:solidFill>
                <a:latin typeface="Calibri"/>
              </a:rPr>
              <a:t>7. Мероприятия по обзорному осмотру пострадавшего и временной остановке наружного кровотеч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обзорный осмотр пострадавшего на наличие кровоте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пальцевое прижатие артер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наложение жгу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максимальное сгибание конечности в сустав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5) прямое давление на ра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6) наложение давящей повя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1E6E-934C-4433-8030-E2AEC07263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2673"/>
                </a:solidFill>
                <a:latin typeface="Calibri"/>
              </a:rPr>
              <a:t>8. Мероприятия по подробному осмотру пострадавшего в целях выявления признаков травм, отравлений и других состояний, угрожающих его жизни и здоровью, и по оказанию первой помощи в случае выявления указанных состояни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) проведение осмотра голо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2) проведение осмотра ше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3) проведение осмотра гру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4) проведение осмотра сп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5) проведение осмотра живота и таз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6) проведение осмотра конеч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7) наложение повязок при травмах различных областей тела, в том числе окклюзионной (герметизирующей) при ранении грудной клет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8) проведение иммобилизации (с помощью подручных средств, аутоиммобилизация, с использованием изделий медицинского назнач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A67B-DF44-4A06-9E7C-BD0F994BA2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9) фиксация шейного отдела позвоночника (вручную, подручными средствами, с использованием изделий медицинского назнач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0) прекращение воздействия опасных химических веществ на пострадавшего (промывание желудка путём приёма воды и вызывания рвоты, удаление с повреждённой поверхности и промывание повреждённой поверхности проточной водо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1) местное охлаждение при травмах, термических ожогах и иных воздействиях высоких температур или теплового изл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2673"/>
                </a:solidFill>
                <a:latin typeface="Calibri"/>
              </a:rPr>
              <a:t>12) термоизоляция при отморожениях и других эффектах воздействия низких температ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0EC6-5D09-4FEC-ADF9-1D86B53E5F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9. Придание пострадавшему оптимального положения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5722-D348-421D-989E-654E335CF9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10. Контроль состояния пострадавшего (сознание, дыхание, кровообращение) и оказание психологической поддерж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4747-FD40-40C7-8A48-D89B17C11F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11. Передача пострадавшего бригаде скорой медицинской помощи, другим специальным службам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B638-C9EB-41EA-BD2D-6A5E45BE54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удьте  счастлив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C94A-DA99-46A5-B079-9CA957FC79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Приказ Минздравсоцразвития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477н от 04.05.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б утверждении перечня состояний, при которых оказывается первая помощь, и перечня мероприятий по оказанию перв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егистрирован в Минюсте РФ 16 мая 201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страционный номер 241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98DD-E8B2-4A4B-9977-8F8BCD5E45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1. Отсутствие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FE4D-6CAE-4D06-BFCC-35F607D4C1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2. Остановка дыхания 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8747-D8B2-4920-9F5E-5EA50A3384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3. Наружные кровот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8B0A-9E19-4CF2-B298-30C9DA390B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4. Инородные тела верхних дыхательных пу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4709-A60A-45DC-8733-F697A0D3DB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5. Травмы различных областей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3D1F-414A-4039-B4D2-7A978F2AF0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Перечень состояний, при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ac090"/>
                </a:solidFill>
                <a:latin typeface="Calibri"/>
              </a:rPr>
              <a:t>оказывается 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6. Ожоги, эффекты воздействия высоких температур, теплового изл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870C-4EB7-4C3E-9021-63BE341BE4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A6C2-AD49-4C00-864F-BEDBAB64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1E8E-000C-4289-AB83-687BDB54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6460-880A-4B7C-BBBF-2AF6F83B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10ED-F962-47ED-851F-E5A5C2CE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BBE3-62B6-4CA7-92F9-32870F8A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41F5-651B-41D5-9034-B7979425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4572-8050-463E-BCE0-C70F2110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639C-1DE7-4011-BAEF-3B9FF09C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60D-D68D-40C3-B63D-A9DC5F92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38B5-7D32-406A-A526-634A46AF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AAD1-79EC-424F-BD7F-0B6C6E65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4CE4-95E4-42F6-9F32-B2C204EB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7526-FCD1-449E-8758-89532B43AFB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2" descr=""/>
          <p:cNvPicPr/>
          <p:nvPr/>
        </p:nvPicPr>
        <p:blipFill>
          <a:blip r:embed="rId2"/>
          <a:stretch/>
        </p:blipFill>
        <p:spPr>
          <a:xfrm>
            <a:off x="682560" y="3181320"/>
            <a:ext cx="8418600" cy="2341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2124000" y="155736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2268"/>
                </a:solidFill>
                <a:latin typeface="Arial"/>
              </a:rPr>
              <a:t>Урок ОБЖ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1476360" y="501336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ременные треб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403280" y="189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194d"/>
                </a:solidFill>
                <a:latin typeface="Arial"/>
              </a:rPr>
              <a:t>ГБОУ  СОШ №280 им. М.Ю.Лермонт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9194d"/>
                </a:solidFill>
                <a:latin typeface="Arial"/>
              </a:rPr>
              <a:t>Адмиралтейский рай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835280" y="6021360"/>
            <a:ext cx="73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Подготовил: преподаватель-организатор ОБЖ Солошенко С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0" y="40464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0" y="310500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7. Отморожение и другие эффекты воздействия низких темпера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holodno.jpg"/>
          <p:cNvPicPr/>
          <p:nvPr/>
        </p:nvPicPr>
        <p:blipFill>
          <a:blip r:embed="rId1"/>
          <a:stretch/>
        </p:blipFill>
        <p:spPr>
          <a:xfrm>
            <a:off x="5508720" y="2133720"/>
            <a:ext cx="3024000" cy="38862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0" y="33336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179280" y="32446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Arial"/>
              </a:rPr>
              <a:t>8. Отрав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267945-1378-26.jpg"/>
          <p:cNvPicPr/>
          <p:nvPr/>
        </p:nvPicPr>
        <p:blipFill>
          <a:blip r:embed="rId1"/>
          <a:stretch/>
        </p:blipFill>
        <p:spPr>
          <a:xfrm>
            <a:off x="4427640" y="2349360"/>
            <a:ext cx="4392360" cy="31672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179280" y="549360"/>
            <a:ext cx="7777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В соответствии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с частью 1 статьи 31 Федерального закона от 21 ноября 2011 г. № 323-ФЗ «Об основах охраны здоровья граждан в Российской Федерации»</a:t>
            </a: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  первая помощь до оказания медицинской помощи оказывается гражданам при несчастных случаях, травмах, отравлениях и других состояниях и заболеваниях, угрожающих их жизни и здоровью, лицами, обязанными оказывать первую помощь в соответствии с федеральным законом или со специальным правилом и имеющими соответствующую подготовку, в том числе сотрудниками органов внутренних дел Российской Федерации, сотрудниками, военнослужащими и работниками Государственной противопожарной службы, спасателями аварийно-спасательных формирований и аварийно-спасательных служб. В соответствии с частью 4 статьи 31 Федерального закона от 21 ноября 2011 г. № 323-ФЗ водители транспортных средств и другие лица вправе оказывать первую помощь при наличии соответствующей подготовки и (или) нав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2" descr=""/>
          <p:cNvPicPr/>
          <p:nvPr/>
        </p:nvPicPr>
        <p:blipFill>
          <a:blip r:embed="rId1"/>
          <a:stretch/>
        </p:blipFill>
        <p:spPr>
          <a:xfrm>
            <a:off x="0" y="1785960"/>
            <a:ext cx="9339120" cy="32497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0" y="-110880"/>
            <a:ext cx="9144000" cy="58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22226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Calibri"/>
              </a:rPr>
              <a:t>Мероприятия по оценке обстановки и обеспечению безопасных условий для оказания первой помощ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2222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) определение угрожающих факторов для собственной жизни и здоровь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2) определение угрожающих факторов для жизни и здоровья пострадавш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3) устранение угрожающих факторов для жизни и здоровь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4) прекращение действия повреждающих факторов на пострадавш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5) оценка количества пострадавш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6) извлечение пострадавшего из транспортного средства или других труднодоступных мес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262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7) перемещение пострадавш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250920" y="333360"/>
            <a:ext cx="698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2. Вызов скорой медицинской помощи, других специальных служб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2" descr="pic_15719.jpg"/>
          <p:cNvPicPr/>
          <p:nvPr/>
        </p:nvPicPr>
        <p:blipFill>
          <a:blip r:embed="rId1"/>
          <a:stretch/>
        </p:blipFill>
        <p:spPr>
          <a:xfrm>
            <a:off x="1835280" y="2781360"/>
            <a:ext cx="4944960" cy="3527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250920" y="18900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Arial"/>
              </a:rPr>
              <a:t>3. Определение наличия сознания у пострадавше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2" descr="cpr-new-1.jpg"/>
          <p:cNvPicPr/>
          <p:nvPr/>
        </p:nvPicPr>
        <p:blipFill>
          <a:blip r:embed="rId1"/>
          <a:stretch/>
        </p:blipFill>
        <p:spPr>
          <a:xfrm>
            <a:off x="2484360" y="1916280"/>
            <a:ext cx="3816360" cy="41767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0" y="168120"/>
            <a:ext cx="9144000" cy="62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Calibri"/>
              </a:rPr>
              <a:t>4. Мероприятия по восстановлению проходимости дыхательных путей и определению признаков жизни у пострадавше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) запрокидывание головы с подъёмом подборо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2) выдвижение нижней челю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3) определение наличия дыхания с помощью слуха, зрения и осяз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4) определение наличия кровообращения, проверка пульса на магистральных артер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0" y="348120"/>
            <a:ext cx="914400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2268"/>
                </a:solidFill>
                <a:latin typeface="Calibri"/>
              </a:rPr>
              <a:t>5. Мероприятия по проведению сердечно-легочной реанимации до появления признаков жиз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) давление руками на грудину пострадавше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2) искусственное дыхание «Рот ко рту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3) искусственное дыхание «Рот к носу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4) искусственное дыхание с использованием устройства для искусственного дыхания</a:t>
            </a:r>
            <a:r>
              <a:rPr b="0" lang="ru-RU" sz="18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611280" y="-41040"/>
            <a:ext cx="6840360" cy="61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6. Мероприятия по поддержанию проходимости дыхательных путе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1) придание устойчивого бокового положения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2) запрокидывание головы с подъёмом подбородк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73"/>
                </a:solidFill>
                <a:latin typeface="Calibri"/>
              </a:rPr>
              <a:t>3) выдвижение нижней челю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 оказывается первая помощ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мероприятий по оказанию первой помощ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0" y="358200"/>
            <a:ext cx="914400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45"/>
                </a:solidFill>
                <a:latin typeface="Calibri"/>
              </a:rPr>
              <a:t>7. Мероприятия по обзорному осмотру пострадавшего и временной остановке наружного кровотеч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1) обзорный осмотр пострадавшего на наличие кровотеч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2) пальцевое прижатие артер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3) наложение жгу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4) максимальное сгибание конечности в сустав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5) прямое давление на ран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Calibri"/>
              </a:rPr>
              <a:t>6) наложение давящей повяз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0" y="-61920"/>
            <a:ext cx="9144000" cy="69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Calibri"/>
              </a:rPr>
              <a:t>8. Мероприятия по подробному осмотру пострадавшего в целях выявления признаков травм, отравлений и других состояний, угрожающих его жизни и здоровью, и по оказанию первой помощи в случае выявления указанных состоя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) проведение осмотра голо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2) проведение осмотра ше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3) проведение осмотра груд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4) проведение осмотра спи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5) проведение осмотра живота и таз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6) проведение осмотра конеч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7) наложение повязок при травмах различных областей тела, в том числе окклюзионной (герметизирующей) при ранении грудной кле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8) проведение иммобилизации (с помощью подручных средств, аутоиммобилизация, с использованием изделий медицинского назнач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0" y="200916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9) фиксация шейного отдела позвоночника (вручную, подручными средствами, с использованием изделий медицинского назнач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0) прекращение воздействия опасных химических веществ на пострадавшего (промывание желудка путём приёма воды и вызывания рвоты, удаление с повреждённой поверхности и промывание повреждённой поверхности проточной водой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1) местное охлаждение при травмах, термических ожогах и иных воздействиях высоких температур или теплового изл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Calibri"/>
              </a:rPr>
              <a:t>12) термоизоляция при отморожениях и других эффектах воздействия низких темпера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324000" y="404640"/>
            <a:ext cx="653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9. Придание пострадавшему оптимального положения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2" descr="376850-5979-54.jpg"/>
          <p:cNvPicPr/>
          <p:nvPr/>
        </p:nvPicPr>
        <p:blipFill>
          <a:blip r:embed="rId1"/>
          <a:stretch/>
        </p:blipFill>
        <p:spPr>
          <a:xfrm>
            <a:off x="2484360" y="2060640"/>
            <a:ext cx="3600360" cy="38163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395280" y="260280"/>
            <a:ext cx="71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10. Контроль состояния пострадавшего (сознание, дыхание, кровообращение) и оказание психологической поддерж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2" descr="10.jpg"/>
          <p:cNvPicPr/>
          <p:nvPr/>
        </p:nvPicPr>
        <p:blipFill>
          <a:blip r:embed="rId1"/>
          <a:stretch/>
        </p:blipFill>
        <p:spPr>
          <a:xfrm>
            <a:off x="2124000" y="1844640"/>
            <a:ext cx="3960720" cy="45370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179280" y="333360"/>
            <a:ext cx="748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11. Передача пострадавшего бригаде скорой медицинской помощи, другим специальным службам, сотрудники которых обязаны оказывать первую помощь в соответствии с федеральным законом или со специальным прави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80482.jpg"/>
          <p:cNvPicPr/>
          <p:nvPr/>
        </p:nvPicPr>
        <p:blipFill>
          <a:blip r:embed="rId1"/>
          <a:stretch/>
        </p:blipFill>
        <p:spPr>
          <a:xfrm>
            <a:off x="755640" y="3068640"/>
            <a:ext cx="5848200" cy="3456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extBox 1" descr=""/>
          <p:cNvPicPr/>
          <p:nvPr/>
        </p:nvPicPr>
        <p:blipFill>
          <a:blip r:embed="rId2"/>
          <a:stretch/>
        </p:blipFill>
        <p:spPr>
          <a:xfrm>
            <a:off x="542880" y="530280"/>
            <a:ext cx="8277120" cy="30970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0" y="3448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Приказ Минздравсоцразвития Росс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№ </a:t>
            </a:r>
            <a:r>
              <a:rPr b="0" lang="ru-RU" sz="3600" spc="-1" strike="noStrike">
                <a:solidFill>
                  <a:srgbClr val="222268"/>
                </a:solidFill>
                <a:latin typeface="Calibri"/>
              </a:rPr>
              <a:t>477н от 04.05.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Об утверждении перечня состояний, при которых оказывается первая помощь, и перечня мероприятий по оказанию первой помощ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регистрирован в Минюсте РФ 16 мая 2012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гистрационный номер 2418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539640" y="26028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obmorok.jpg"/>
          <p:cNvPicPr/>
          <p:nvPr/>
        </p:nvPicPr>
        <p:blipFill>
          <a:blip r:embed="rId1"/>
          <a:stretch/>
        </p:blipFill>
        <p:spPr>
          <a:xfrm>
            <a:off x="4788000" y="22050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179280" y="2924280"/>
            <a:ext cx="42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2268"/>
                </a:solidFill>
                <a:latin typeface="Arial"/>
              </a:rPr>
              <a:t>1. Отсутствие созн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press_03.jpg"/>
          <p:cNvPicPr/>
          <p:nvPr/>
        </p:nvPicPr>
        <p:blipFill>
          <a:blip r:embed="rId1"/>
          <a:stretch/>
        </p:blipFill>
        <p:spPr>
          <a:xfrm>
            <a:off x="4211640" y="2349360"/>
            <a:ext cx="4762440" cy="31910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755640" y="260280"/>
            <a:ext cx="610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0" y="3105000"/>
            <a:ext cx="42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2. Остановка дыхания и кровообра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250920" y="26028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0" y="32446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3. Наружные кровоте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3" descr="firsthelp.gif"/>
          <p:cNvPicPr/>
          <p:nvPr/>
        </p:nvPicPr>
        <p:blipFill>
          <a:blip r:embed="rId1"/>
          <a:stretch/>
        </p:blipFill>
        <p:spPr>
          <a:xfrm>
            <a:off x="4211640" y="2492280"/>
            <a:ext cx="4464000" cy="3313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179280" y="189000"/>
            <a:ext cx="66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250920" y="310500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Arial"/>
              </a:rPr>
              <a:t>4. Инородные тела верхних дыхательных пу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" descr="000199_712692.jpg"/>
          <p:cNvPicPr/>
          <p:nvPr/>
        </p:nvPicPr>
        <p:blipFill>
          <a:blip r:embed="rId1"/>
          <a:stretch/>
        </p:blipFill>
        <p:spPr>
          <a:xfrm>
            <a:off x="4702320" y="2781360"/>
            <a:ext cx="4113000" cy="27352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179280" y="404640"/>
            <a:ext cx="66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0" y="3244680"/>
            <a:ext cx="52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5. Травмы различных областей т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3" descr="2552820.jpg"/>
          <p:cNvPicPr/>
          <p:nvPr/>
        </p:nvPicPr>
        <p:blipFill>
          <a:blip r:embed="rId1"/>
          <a:stretch/>
        </p:blipFill>
        <p:spPr>
          <a:xfrm>
            <a:off x="4356000" y="2421000"/>
            <a:ext cx="4464000" cy="367668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79280" y="260280"/>
            <a:ext cx="66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Перечень состояний, при кото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оказывается 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"/>
          <p:cNvSpPr/>
          <p:nvPr/>
        </p:nvSpPr>
        <p:spPr>
          <a:xfrm>
            <a:off x="0" y="3105000"/>
            <a:ext cx="60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Arial"/>
              </a:rPr>
              <a:t>6. Ожоги, эффекты воздействия высоких температур, теплового из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3" descr="2639874.jpg"/>
          <p:cNvPicPr/>
          <p:nvPr/>
        </p:nvPicPr>
        <p:blipFill>
          <a:blip r:embed="rId1"/>
          <a:stretch/>
        </p:blipFill>
        <p:spPr>
          <a:xfrm>
            <a:off x="5580000" y="2565360"/>
            <a:ext cx="3384720" cy="30956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LEGION</cp:lastModifiedBy>
  <dcterms:modified xsi:type="dcterms:W3CDTF">2015-05-12T08:47:57Z</dcterms:modified>
  <cp:revision>722</cp:revision>
  <dc:subject/>
  <dc:title>Оказание первой помощи</dc:title>
</cp:coreProperties>
</file>