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998A-F374-4F23-9805-3E16B7BD1A30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ГАУЗ Республиканский врачебно-физкультурный диспанс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ервая помощь при утоп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одготовлено в соответствии с письмом МЗ РБ от 14.03.2012 №36/в «Об обеспечении наглядной агитацией общественных спасательных пос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90C5-FAF7-4FB9-961C-47AE69408D97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1200"/>
            </a:br>
            <a:r>
              <a:rPr b="1" lang="ru-RU" sz="16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197D-BF26-4E5A-B189-452EE59DD4B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.  Сделай два полных вду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2.  Следи за поднятием грудной кл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5.   Следи, чтобы не западал язы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6. Реанимацию продолжай не менее 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EAC4-4E9C-4E35-84A9-C77BA4E785A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оги свело судоро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CCAD-F820-4642-9B2F-12BA77C15823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сение тонущего с помощью ло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B9DA-2503-4DE9-8520-FC1341A1FB7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внимательны на вод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7A4F-9F33-40D2-A06D-31FDD6093FF3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9D95-0F59-4CAF-AF14-45D12355D83D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ое правило спас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2D5E-7227-4C2C-8A57-A04D7BCDF0B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177B-380F-495F-9666-10DB6A06E35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а спа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BC0A-0BD9-4264-BC7E-8865489BB902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ксировать тонущего человека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638A-D16C-4E2E-84E1-C1FC879F7210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азание первой медицинской помощ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утопл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уложить на жесткую поверх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горячий чай или коф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укутать одеялом и дать отдохну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02B8-12F1-4346-B8A5-AA8EA65B9D6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насухо обтере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вдохнуть нашатырный спи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8A65-8210-4370-8EDB-0B2AAE77DDF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4547-66CC-49BC-80CA-84E85AA76298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557-A268-4F28-9EB6-59107B28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F4D-D8F6-4745-B344-AA72313C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120-2008-47EF-A056-10B40E1E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670-B554-487A-9064-AE1C42EB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8ADC-D37B-4D2A-86AB-A8A88941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9751-1771-479B-9FB5-8A2FC5BA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6F87-AEB3-487E-93A0-B9E157FA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BB4D-8296-4386-BA06-219B247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54E0-C3D6-44D7-AD96-4D9C642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9287-695C-4BA4-B059-2E698F41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12F4-619F-4805-B990-06D48E43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327-6221-4756-9167-E9F05903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8945-EF2B-4116-9204-C046AFB0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2EE6-1349-4B40-9E02-969F4E43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14E-D31A-4404-8930-20C313B3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FEAC-CFFC-4F32-98BE-D2DEBAC3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C7CA-B5C8-450F-A7CE-050887E7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E25-30C3-4D45-9112-A6DC3365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EF8-9E77-4544-B1CB-F0938860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5DC-37FD-4CDF-9C07-54B670C0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008-E7A8-4345-AB11-5F74FAA4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6B4-1EAC-4FEF-A007-06731276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D7C-4783-48F8-8F25-4BD85F6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F10-4111-4946-BC62-1B2CD15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6975-5B8D-4BC0-A0DA-B63A893D57EE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FADC-B2C3-4911-8407-27C8DDF15B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AFB-1059-4F09-89E6-ECFFE2B96685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5CFD-D9C9-449A-9D9F-A0A4DBD9580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857160" y="5429160"/>
            <a:ext cx="74296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585720" y="523800"/>
            <a:ext cx="8008920" cy="1755720"/>
          </a:xfrm>
          <a:prstGeom prst="rect">
            <a:avLst/>
          </a:prstGeom>
          <a:ln w="0">
            <a:noFill/>
          </a:ln>
        </p:spPr>
      </p:pic>
      <p:grpSp>
        <p:nvGrpSpPr>
          <p:cNvPr id="105" name="Подзаголовок 2"/>
          <p:cNvGrpSpPr/>
          <p:nvPr/>
        </p:nvGrpSpPr>
        <p:grpSpPr>
          <a:xfrm>
            <a:off x="841320" y="2341440"/>
            <a:ext cx="7534440" cy="3814920"/>
            <a:chOff x="841320" y="2341440"/>
            <a:chExt cx="7534440" cy="3814920"/>
          </a:xfrm>
        </p:grpSpPr>
        <p:pic>
          <p:nvPicPr>
            <p:cNvPr id="106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841320" y="2341440"/>
              <a:ext cx="753444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2357280"/>
              <a:ext cx="7500960" cy="37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00000"/>
                  </a:solidFill>
                  <a:latin typeface="Arial"/>
                </a:rPr>
                <a:t>Первая помощь при утоплении</a:t>
              </a:r>
              <a:endParaRPr b="0" lang="en-US" sz="72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Подготовлено в соответствии с письмом МЗ РБ от 14.03.2012 №36/в «Об обеспечении наглядной агитацией общественных спасательных постов»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8" name="Місце для нижнього колонтитула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2600"/>
            </a:br>
            <a:r>
              <a:rPr b="1" lang="ru-RU" sz="20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26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5000760" cy="5000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4" descr="007.gif"/>
          <p:cNvPicPr/>
          <p:nvPr/>
        </p:nvPicPr>
        <p:blipFill>
          <a:blip r:embed="rId1"/>
          <a:stretch/>
        </p:blipFill>
        <p:spPr>
          <a:xfrm>
            <a:off x="5500800" y="1500120"/>
            <a:ext cx="3186000" cy="2405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b45e8d3abc5013cf1c5640282e35032c.jpg"/>
          <p:cNvPicPr/>
          <p:nvPr/>
        </p:nvPicPr>
        <p:blipFill>
          <a:blip r:embed="rId2">
            <a:lum contrast="20000"/>
          </a:blip>
          <a:srcRect l="8185" t="0" r="0" b="0"/>
          <a:stretch/>
        </p:blipFill>
        <p:spPr>
          <a:xfrm>
            <a:off x="5500800" y="4000680"/>
            <a:ext cx="3206520" cy="2323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928440"/>
            <a:ext cx="4500720" cy="5429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1.  Сделай два полных вдув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2.  Следи за поднятием грудной клетк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5.   Следи, чтобы не западал язык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6. Реанимацию продолжай не менее 20 мину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Содержимое 4" descr="0007-013-CHto-delat.jpg"/>
          <p:cNvPicPr/>
          <p:nvPr/>
        </p:nvPicPr>
        <p:blipFill>
          <a:blip r:embed="rId1"/>
          <a:srcRect l="8681" t="4630" r="4514" b="5093"/>
          <a:stretch/>
        </p:blipFill>
        <p:spPr>
          <a:xfrm>
            <a:off x="5072040" y="8571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ventilyacia.jpg.png"/>
          <p:cNvPicPr/>
          <p:nvPr/>
        </p:nvPicPr>
        <p:blipFill>
          <a:blip r:embed="rId2">
            <a:lum contrast="10000"/>
          </a:blip>
          <a:srcRect l="0" t="17613" r="0" b="0"/>
          <a:stretch/>
        </p:blipFill>
        <p:spPr>
          <a:xfrm>
            <a:off x="5000760" y="3857760"/>
            <a:ext cx="3786120" cy="234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10108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Если ноги свело судорогой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07160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Содержимое 10" descr="w2.jpg"/>
          <p:cNvPicPr/>
          <p:nvPr/>
        </p:nvPicPr>
        <p:blipFill>
          <a:blip r:embed="rId1"/>
          <a:srcRect l="0" t="0" r="22914" b="0"/>
          <a:stretch/>
        </p:blipFill>
        <p:spPr>
          <a:xfrm>
            <a:off x="4857840" y="1928880"/>
            <a:ext cx="3795480" cy="3500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581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Спасение тонущего с помощью лодк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004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Содержимое 4" descr="1257674580_tyanut-utopiyu-1.jpg"/>
          <p:cNvPicPr/>
          <p:nvPr/>
        </p:nvPicPr>
        <p:blipFill>
          <a:blip r:embed="rId1"/>
          <a:srcRect l="7605" t="0" r="16348" b="0"/>
          <a:stretch/>
        </p:blipFill>
        <p:spPr>
          <a:xfrm>
            <a:off x="4978440" y="2143080"/>
            <a:ext cx="3730680" cy="3286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8029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Будьте внимательны на воде!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17204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Содержимое 6" descr="SL270162.JPG"/>
          <p:cNvPicPr/>
          <p:nvPr/>
        </p:nvPicPr>
        <p:blipFill>
          <a:blip r:embed="rId1"/>
          <a:srcRect l="33480" t="0" r="12017" b="8117"/>
          <a:stretch/>
        </p:blipFill>
        <p:spPr>
          <a:xfrm>
            <a:off x="4857840" y="1500120"/>
            <a:ext cx="3786120" cy="4791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7120" y="999720"/>
            <a:ext cx="4143600" cy="51260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Содержимое 4" descr="8261010-single-hand-of-drowning-man-in-sea-asking-for-help.jpg"/>
          <p:cNvPicPr/>
          <p:nvPr/>
        </p:nvPicPr>
        <p:blipFill>
          <a:blip r:embed="rId1"/>
          <a:stretch/>
        </p:blipFill>
        <p:spPr>
          <a:xfrm>
            <a:off x="4857840" y="1000080"/>
            <a:ext cx="3433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Главное правило спасател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402912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4" descr="9ad6f1.jpg"/>
          <p:cNvPicPr/>
          <p:nvPr/>
        </p:nvPicPr>
        <p:blipFill>
          <a:blip r:embed="rId1"/>
          <a:srcRect l="6047" t="0" r="0" b="0"/>
          <a:stretch/>
        </p:blipFill>
        <p:spPr>
          <a:xfrm>
            <a:off x="5214960" y="3714840"/>
            <a:ext cx="3186000" cy="22921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929120" y="142884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Arial"/>
              </a:rPr>
              <a:t>но должен хорошо владеть специальными приемами подхода к тонущему человеку, транспортировки утопающего, а главное – умения освобождаться от «мертвых» захватов тонущег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95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Содержимое 4" descr="15otkrytie_kupalnogo_sezona.jpg"/>
          <p:cNvPicPr/>
          <p:nvPr/>
        </p:nvPicPr>
        <p:blipFill>
          <a:blip r:embed="rId1">
            <a:lum bright="10000"/>
          </a:blip>
          <a:srcRect l="2734" t="0" r="16211" b="0"/>
          <a:stretch/>
        </p:blipFill>
        <p:spPr>
          <a:xfrm>
            <a:off x="4786200" y="1714680"/>
            <a:ext cx="3929040" cy="36352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67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авила спасени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37144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Содержимое 7" descr="noid-8.jpg"/>
          <p:cNvPicPr/>
          <p:nvPr/>
        </p:nvPicPr>
        <p:blipFill>
          <a:blip r:embed="rId1"/>
          <a:srcRect l="0" t="0" r="13415" b="0"/>
          <a:stretch/>
        </p:blipFill>
        <p:spPr>
          <a:xfrm>
            <a:off x="4429080" y="1643040"/>
            <a:ext cx="4425840" cy="3554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Как буксировать тонущего человека? 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85560"/>
            <a:ext cx="424332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Содержимое 4" descr="spas5_b.jpg"/>
          <p:cNvPicPr/>
          <p:nvPr/>
        </p:nvPicPr>
        <p:blipFill>
          <a:blip r:embed="rId1"/>
          <a:stretch/>
        </p:blipFill>
        <p:spPr>
          <a:xfrm>
            <a:off x="5072040" y="3857760"/>
            <a:ext cx="3614760" cy="241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D Мои документы 1\Мои рисунки-2\Мои рисунки\Здоровье\медицина\Первая помощь\52omz.jpg"/>
          <p:cNvPicPr/>
          <p:nvPr/>
        </p:nvPicPr>
        <p:blipFill>
          <a:blip r:embed="rId2"/>
          <a:srcRect l="0" t="3078" r="0" b="0"/>
          <a:stretch/>
        </p:blipFill>
        <p:spPr>
          <a:xfrm>
            <a:off x="5286240" y="1500120"/>
            <a:ext cx="3214800" cy="224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Оказание первой медицинской помощи 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при утоплении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250920" algn="just">
              <a:lnSpc>
                <a:spcPct val="90000"/>
              </a:lnSpc>
              <a:buClr>
                <a:srgbClr val="0bd0d9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а) уложить на жесткую поверхность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) дать горячий чай или кофе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г) укутать одеялом и дать отдохнуть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Содержимое 4" descr="bd900ba8927935ff718fd625bf056ae7.jpg"/>
          <p:cNvPicPr/>
          <p:nvPr/>
        </p:nvPicPr>
        <p:blipFill>
          <a:blip r:embed="rId1"/>
          <a:srcRect l="0" t="0" r="27242" b="0"/>
          <a:stretch/>
        </p:blipFill>
        <p:spPr>
          <a:xfrm>
            <a:off x="4857840" y="1857240"/>
            <a:ext cx="389736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857160"/>
            <a:ext cx="4172040" cy="5391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б) насухо обтереть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) дать вдохнуть нашатырный спирт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2" descr="F:\D Мои документы 1\Мои рисунки-2\Мои рисунки\Здоровье\медицина\Первая помощь\0007-011-CHto-delat.jpg"/>
          <p:cNvPicPr/>
          <p:nvPr/>
        </p:nvPicPr>
        <p:blipFill>
          <a:blip r:embed="rId1"/>
          <a:srcRect l="26565" t="24523" r="24396" b="11647"/>
          <a:stretch/>
        </p:blipFill>
        <p:spPr>
          <a:xfrm>
            <a:off x="5072040" y="1571760"/>
            <a:ext cx="3635280" cy="371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13880" y="999720"/>
            <a:ext cx="3457800" cy="5248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Содержимое 5" descr="p60_reanimaciya.jpg"/>
          <p:cNvPicPr/>
          <p:nvPr/>
        </p:nvPicPr>
        <p:blipFill>
          <a:blip r:embed="rId1"/>
          <a:srcRect l="12782" t="0" r="0" b="0"/>
          <a:stretch/>
        </p:blipFill>
        <p:spPr>
          <a:xfrm>
            <a:off x="4572000" y="1785960"/>
            <a:ext cx="4067280" cy="3502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LEGION</cp:lastModifiedBy>
  <dcterms:modified xsi:type="dcterms:W3CDTF">2015-05-12T08:49:03Z</dcterms:modified>
  <cp:revision>83</cp:revision>
  <dc:subject/>
  <dc:title>Первая помощь при утоплении Подготовлено в соответствии с письмом МЗ РБ от 14</dc:title>
</cp:coreProperties>
</file>