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D6CB-EC36-4275-9FA5-6F01BF8ACF69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ГАУЗ Республиканский врачебно-физкультурный диспанс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ервая помощь при утоп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одготовлено в соответствии с письмом МЗ РБ от 14.03.2012 №36/в «Об обеспечении наглядной агитацией общественных спасательных пос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6CAA-616C-43FE-BB36-58CAF1A6B32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1200"/>
            </a:br>
            <a:r>
              <a:rPr b="1" lang="ru-RU" sz="16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924A-9A15-4C52-AB39-ABEA07619CC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.  Сделай два полных вду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2.  Следи за поднятием грудной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5.   Следи, чтобы не западал язы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6. Реанимацию продолжай не менее 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4004-A8EA-4430-B2C7-7BA239834302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оги свело судоро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F2C8-830A-4CBE-BF12-E684CC84CB9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сение тонущего с помощью ло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05F7-65B5-4954-99CE-F1BFB3C3F970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внимательны на во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9A38-B39F-4B3F-BDF0-29DBB138740C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5F4F-06BA-4DD9-B2DB-16B0024660B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ое правило спа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CDA4-7EB4-4ECB-B33D-0506F28C3EAD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6D55-B5E1-4D36-BF24-D3AC9BF40C4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а спа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B2FB-02B0-4DB5-96F2-578A525B349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ксировать тонущего человека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8CDE-EFF2-473D-809B-60638857578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азание первой медицинской помощ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утопл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уложить на жесткую поверх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горячий чай или коф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укутать одеялом и дать отдохну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A29A-3133-4222-8542-969F8DB10F9A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насухо обтере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вдохнуть нашатырный спи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CA05-CF32-43A4-98F4-ED8FF17E6884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889-4089-4669-8ACC-F76CC7A947C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042-631F-485C-B484-2E18D758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040-E130-4507-9D2C-43B9CF0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5D9-BA23-44D8-A4F9-383ED598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AB7-B456-4C42-A998-5E489AC9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36B5-C162-4D36-97DE-9881822E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6830-4938-4C94-BDAF-E86399D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E577-B843-42A4-8F8B-A821CB7F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79DA-1BF7-4AD8-B717-2AB5D7B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FCEF-2EAD-4B9B-B89E-3B4A729C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51BB-100E-4A15-8C88-811BBF34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1E5E-A764-400C-8FB5-20B6162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98C-E2A9-409F-B64D-B192A96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DDB6-75A4-4EC9-86C9-B2BE555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DA47-6E07-47AA-BABA-EC613F6B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BC42-8CE9-48C6-9D80-38AE71DF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4949-D0E6-4D4C-97AF-B92D3FF4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3E51-741D-4439-A865-83284AC9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ACC-CF44-441B-B4C1-963029FD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843-3801-4934-A995-F14BC30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428-3794-4452-8F4C-078EC998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ED6-CE10-4750-9910-EFE64FBD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2C6-C243-421C-83B7-E08F8E9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7E9-4C9A-4EC2-97E6-806BC5BF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C44-2529-4177-852E-28D39E8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7826-B75C-4982-A1DD-11CC608F37F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71C9-2071-473B-BDA7-6E3C41D435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F751-43AC-4131-A620-4BE3919086E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5CCE-910A-40F0-A195-A9F3CE29D87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857160" y="5429160"/>
            <a:ext cx="74296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585720" y="523800"/>
            <a:ext cx="8008920" cy="1755720"/>
          </a:xfrm>
          <a:prstGeom prst="rect">
            <a:avLst/>
          </a:prstGeom>
          <a:ln w="0">
            <a:noFill/>
          </a:ln>
        </p:spPr>
      </p:pic>
      <p:grpSp>
        <p:nvGrpSpPr>
          <p:cNvPr id="105" name="Подзаголовок 2"/>
          <p:cNvGrpSpPr/>
          <p:nvPr/>
        </p:nvGrpSpPr>
        <p:grpSpPr>
          <a:xfrm>
            <a:off x="841320" y="2341440"/>
            <a:ext cx="7534440" cy="3814920"/>
            <a:chOff x="841320" y="2341440"/>
            <a:chExt cx="7534440" cy="3814920"/>
          </a:xfrm>
        </p:grpSpPr>
        <p:pic>
          <p:nvPicPr>
            <p:cNvPr id="106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841320" y="2341440"/>
              <a:ext cx="753444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2357280"/>
              <a:ext cx="7500960" cy="37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00000"/>
                  </a:solidFill>
                  <a:latin typeface="Arial"/>
                </a:rPr>
                <a:t>Первая помощь при утоплении</a:t>
              </a:r>
              <a:endParaRPr b="0" lang="en-US" sz="72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Подготовлено в соответствии с письмом МЗ РБ от 14.03.2012 №36/в «Об обеспечении наглядной агитацией общественных спасательных постов»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" name="Місце для нижнього колонтитула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2600"/>
            </a:br>
            <a:r>
              <a:rPr b="1" lang="ru-RU" sz="20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26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5000760" cy="5000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4" descr="007.gif"/>
          <p:cNvPicPr/>
          <p:nvPr/>
        </p:nvPicPr>
        <p:blipFill>
          <a:blip r:embed="rId1"/>
          <a:stretch/>
        </p:blipFill>
        <p:spPr>
          <a:xfrm>
            <a:off x="5500800" y="1500120"/>
            <a:ext cx="3186000" cy="2405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b45e8d3abc5013cf1c5640282e35032c.jpg"/>
          <p:cNvPicPr/>
          <p:nvPr/>
        </p:nvPicPr>
        <p:blipFill>
          <a:blip r:embed="rId2">
            <a:lum contrast="20000"/>
          </a:blip>
          <a:srcRect l="8185" t="0" r="0" b="0"/>
          <a:stretch/>
        </p:blipFill>
        <p:spPr>
          <a:xfrm>
            <a:off x="5500800" y="4000680"/>
            <a:ext cx="3206520" cy="2323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928440"/>
            <a:ext cx="4500720" cy="5429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1.  Сделай два полных вдув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2.  Следи за поднятием грудной клетк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.   Следи, чтобы не западал язык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6. Реанимацию продолжай не менее 20 мину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4" descr="0007-013-CHto-delat.jpg"/>
          <p:cNvPicPr/>
          <p:nvPr/>
        </p:nvPicPr>
        <p:blipFill>
          <a:blip r:embed="rId1"/>
          <a:srcRect l="8681" t="4630" r="4514" b="5093"/>
          <a:stretch/>
        </p:blipFill>
        <p:spPr>
          <a:xfrm>
            <a:off x="5072040" y="8571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ventilyacia.jpg.png"/>
          <p:cNvPicPr/>
          <p:nvPr/>
        </p:nvPicPr>
        <p:blipFill>
          <a:blip r:embed="rId2">
            <a:lum contrast="10000"/>
          </a:blip>
          <a:srcRect l="0" t="17613" r="0" b="0"/>
          <a:stretch/>
        </p:blipFill>
        <p:spPr>
          <a:xfrm>
            <a:off x="5000760" y="3857760"/>
            <a:ext cx="378612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10108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Если ноги свело судорогой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07160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Содержимое 10" descr="w2.jpg"/>
          <p:cNvPicPr/>
          <p:nvPr/>
        </p:nvPicPr>
        <p:blipFill>
          <a:blip r:embed="rId1"/>
          <a:srcRect l="0" t="0" r="22914" b="0"/>
          <a:stretch/>
        </p:blipFill>
        <p:spPr>
          <a:xfrm>
            <a:off x="4857840" y="1928880"/>
            <a:ext cx="3795480" cy="3500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581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Спасение тонущего с помощью лодк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004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Содержимое 4" descr="1257674580_tyanut-utopiyu-1.jpg"/>
          <p:cNvPicPr/>
          <p:nvPr/>
        </p:nvPicPr>
        <p:blipFill>
          <a:blip r:embed="rId1"/>
          <a:srcRect l="7605" t="0" r="16348" b="0"/>
          <a:stretch/>
        </p:blipFill>
        <p:spPr>
          <a:xfrm>
            <a:off x="4978440" y="2143080"/>
            <a:ext cx="3730680" cy="3286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8029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Будьте внимательны на воде!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17204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Содержимое 6" descr="SL270162.JPG"/>
          <p:cNvPicPr/>
          <p:nvPr/>
        </p:nvPicPr>
        <p:blipFill>
          <a:blip r:embed="rId1"/>
          <a:srcRect l="33480" t="0" r="12017" b="8117"/>
          <a:stretch/>
        </p:blipFill>
        <p:spPr>
          <a:xfrm>
            <a:off x="4857840" y="1500120"/>
            <a:ext cx="3786120" cy="4791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4143600" cy="51260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Содержимое 4" descr="8261010-single-hand-of-drowning-man-in-sea-asking-for-help.jpg"/>
          <p:cNvPicPr/>
          <p:nvPr/>
        </p:nvPicPr>
        <p:blipFill>
          <a:blip r:embed="rId1"/>
          <a:stretch/>
        </p:blipFill>
        <p:spPr>
          <a:xfrm>
            <a:off x="4857840" y="1000080"/>
            <a:ext cx="3433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Главное правило спасател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402912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4" descr="9ad6f1.jpg"/>
          <p:cNvPicPr/>
          <p:nvPr/>
        </p:nvPicPr>
        <p:blipFill>
          <a:blip r:embed="rId1"/>
          <a:srcRect l="6047" t="0" r="0" b="0"/>
          <a:stretch/>
        </p:blipFill>
        <p:spPr>
          <a:xfrm>
            <a:off x="5214960" y="3714840"/>
            <a:ext cx="3186000" cy="22921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929120" y="14288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Arial"/>
              </a:rPr>
              <a:t>но должен хорошо владеть специальными приемами подхода к тонущему человеку, транспортировки утопающего, а главное – умения освобождаться от «мертвых» захватов тонущег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Содержимое 4" descr="15otkrytie_kupalnogo_sezona.jpg"/>
          <p:cNvPicPr/>
          <p:nvPr/>
        </p:nvPicPr>
        <p:blipFill>
          <a:blip r:embed="rId1">
            <a:lum bright="10000"/>
          </a:blip>
          <a:srcRect l="2734" t="0" r="16211" b="0"/>
          <a:stretch/>
        </p:blipFill>
        <p:spPr>
          <a:xfrm>
            <a:off x="4786200" y="1714680"/>
            <a:ext cx="3929040" cy="36352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67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авила спасени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37144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Содержимое 7" descr="noid-8.jpg"/>
          <p:cNvPicPr/>
          <p:nvPr/>
        </p:nvPicPr>
        <p:blipFill>
          <a:blip r:embed="rId1"/>
          <a:srcRect l="0" t="0" r="13415" b="0"/>
          <a:stretch/>
        </p:blipFill>
        <p:spPr>
          <a:xfrm>
            <a:off x="4429080" y="1643040"/>
            <a:ext cx="4425840" cy="3554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Как буксировать тонущего человека? 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85560"/>
            <a:ext cx="424332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Содержимое 4" descr="spas5_b.jpg"/>
          <p:cNvPicPr/>
          <p:nvPr/>
        </p:nvPicPr>
        <p:blipFill>
          <a:blip r:embed="rId1"/>
          <a:stretch/>
        </p:blipFill>
        <p:spPr>
          <a:xfrm>
            <a:off x="5072040" y="3857760"/>
            <a:ext cx="3614760" cy="241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D Мои документы 1\Мои рисунки-2\Мои рисунки\Здоровье\медицина\Первая помощь\52omz.jpg"/>
          <p:cNvPicPr/>
          <p:nvPr/>
        </p:nvPicPr>
        <p:blipFill>
          <a:blip r:embed="rId2"/>
          <a:srcRect l="0" t="3078" r="0" b="0"/>
          <a:stretch/>
        </p:blipFill>
        <p:spPr>
          <a:xfrm>
            <a:off x="5286240" y="1500120"/>
            <a:ext cx="3214800" cy="224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Оказание первой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при утоплении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250920" algn="just">
              <a:lnSpc>
                <a:spcPct val="90000"/>
              </a:lnSpc>
              <a:buClr>
                <a:srgbClr val="0bd0d9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а) уложить на жесткую поверхность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) дать горячий чай или кофе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) укутать одеялом и дать отдохнуть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Содержимое 4" descr="bd900ba8927935ff718fd625bf056ae7.jpg"/>
          <p:cNvPicPr/>
          <p:nvPr/>
        </p:nvPicPr>
        <p:blipFill>
          <a:blip r:embed="rId1"/>
          <a:srcRect l="0" t="0" r="27242" b="0"/>
          <a:stretch/>
        </p:blipFill>
        <p:spPr>
          <a:xfrm>
            <a:off x="4857840" y="1857240"/>
            <a:ext cx="389736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857160"/>
            <a:ext cx="4172040" cy="5391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б) насухо обтереть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) дать вдохнуть нашатырный спирт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2" descr="F:\D Мои документы 1\Мои рисунки-2\Мои рисунки\Здоровье\медицина\Первая помощь\0007-011-CHto-delat.jpg"/>
          <p:cNvPicPr/>
          <p:nvPr/>
        </p:nvPicPr>
        <p:blipFill>
          <a:blip r:embed="rId1"/>
          <a:srcRect l="26565" t="24523" r="24396" b="11647"/>
          <a:stretch/>
        </p:blipFill>
        <p:spPr>
          <a:xfrm>
            <a:off x="5072040" y="1571760"/>
            <a:ext cx="3635280" cy="371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3880" y="999720"/>
            <a:ext cx="3457800" cy="5248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Содержимое 5" descr="p60_reanimaciya.jpg"/>
          <p:cNvPicPr/>
          <p:nvPr/>
        </p:nvPicPr>
        <p:blipFill>
          <a:blip r:embed="rId1"/>
          <a:srcRect l="12782" t="0" r="0" b="0"/>
          <a:stretch/>
        </p:blipFill>
        <p:spPr>
          <a:xfrm>
            <a:off x="4572000" y="1785960"/>
            <a:ext cx="4067280" cy="3502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LEGION</cp:lastModifiedBy>
  <dcterms:modified xsi:type="dcterms:W3CDTF">2015-05-12T08:49:03Z</dcterms:modified>
  <cp:revision>83</cp:revision>
  <dc:subject/>
  <dc:title>Первая помощь при утоплении Подготовлено в соответствии с письмом МЗ РБ от 14</dc:title>
</cp:coreProperties>
</file>