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D55C-5134-49EE-8384-1AFC31A231DD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ГАУЗ Республиканский врачебно-физкультурный диспанс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Первая помощь при утопл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Подготовлено в соответствии с письмом МЗ РБ от 14.03.2012 №36/в «Об обеспечении наглядной агитацией общественных спасательных пос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21DF-46EC-4344-A8AD-588AA9E52F6B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d5ff"/>
                </a:solidFill>
                <a:latin typeface="Calibri"/>
              </a:rPr>
              <a:t>Порядок проведения сердечно-легочной реанимации. </a:t>
            </a:r>
            <a:br>
              <a:rPr sz="1200"/>
            </a:br>
            <a:r>
              <a:rPr b="1" lang="ru-RU" sz="1600" spc="-1" strike="noStrike">
                <a:solidFill>
                  <a:srgbClr val="ffd5ff"/>
                </a:solidFill>
                <a:latin typeface="Calibri"/>
              </a:rPr>
              <a:t>Выполняется только при отсутствии сердцебиения и дыхани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 Положи пострадавшего на спину, на пол или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Запрокинь его голову, приподними подбородок, зажми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 Сделай два полных вдувания изо рта в рот через трубку, носовой платок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 Контролируй поднятие грудной клетки оживляем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Положи основание ладони своей руки на грудину пострадавшего и накрой ее ладонью второй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Свои руки держ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7. Ритмичными толчками с частотой 60-70 в минуту, спасающий должен резко надавливать на грудную клетку на глубину 3 - 4 см до появления самостоятельного сердцеби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8. При выполнении движений не отрывай руки от гру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9. При проведении реанимации нужно 4-5 надавливаний чередовать с одним вдо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E1E6-81C0-49C4-AF2E-6C3BF1D799A2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0. Запрокинь голову, приподними подбородок, зажми нос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.  Сделай два полных вду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2.  Следи за поднятием грудной кл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3. При наличии помощника заставь его вдувать воздух по твоей коман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4. Повторяй циклы надавливания на грудину и вдуваний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5.   Следи, чтобы не западал язы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6. Реанимацию продолжай не менее 2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мните, что при утоплении в холодной воде есть все шансы спасти человека как бы долго он не был на холоде, так как низкая температура отодвигает срок наступления биологической смерти. Поэтому и реанимацию ему необходимо проводить длитель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86A6-B798-4994-A428-C690E0577255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ли ноги свело судорог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условиях низкой температуры воды или от переутомления у плывущего могут развиться судороги в икроножных мышцах, мышцах бедра и кистей р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судорогах в икроножных мышцах рекомендуется, плывя на спине , вытянуть ногу, которую свело судорогой, и потянуть пальцы стопы на себя. При судороге мышц бедра помогает сильное сгибание в коленном суставе и при этом еще прижать ступню руками к тыльной поверхности бед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судорогах мышц пальцев рук нужно сжать руку в кулак и, вытянув из воды, сильно встряхн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E7BA-60D4-44AB-95AC-B743AB3B419B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асение тонущего с помощью ло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правляясь на лодке, следует захватить собой шест, палку, веревку или т.п., чтобы подать утопающему, если он не потерял сознание. Если в лодке только один человек, то лучше ему не прыгать в воду, иначе лодка, будучи неуправляемой, может быть отнесена те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одку нужно подводить к тонущему кормой или носом, но не бортом. Поднимать пострадавшего нужно с носа или кормы, т.к. при втаскивании через борт можно опрокинуть лод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в лодке есть второй человек, то оказывающий помощь, может удерживать утопающего в воде с кормы и буксировать утопающего, не поднимая его в лод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D99B-8BAA-4B48-ACB7-7EB42AEE1BA6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дьте внимательны на вод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дный простор манит прохладой и тайнами глубин, завораживает своей красотой и загадочностью. И в то же время эта среда крайне опасна и враждебна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жегодно в нашей стране на воде гибнет 12 – 13 тысяч человек, из них 3,5 тысячи детей. Такова печальная стат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удьте внимательны на воде! Знайте и соблюдайте правила безопасности! Запомните! Находясь у воды, никогда не забывайте о грозящей опасности и будьте готовы оказать помощь попавшему в бед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776F-80EF-4606-BEDA-4F47B91A37B2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Среди причин, ведущих к утоплению, главное место занимают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страх и</a:t>
            </a: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чувство паники</a:t>
            </a: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, часто связанные не с реальной, а с мнимой опас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Другие причины утопления:  низкая температура воды и большая скорость течения, водоворот, холодный ключ со дна, шторм, а также неумение плавать, переутомление, болезненное состояние, травмы при прыжках в воду, нарушение сердечной деятельности при плавании под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1779-87BD-462C-AB75-DF0B006EDC56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ое правило спас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лавное правило при спасении утопающего — действовать быстро, но обдуманно, спокойно и остор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слышав зов утопающего о помощи, надо ему немедленно ответить, крикнуть, чтобы он знал, что помощь ему будет оказана. Это придает силы утопающ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наличии возможности, нужно подать тонущему шест, конец одежды или бросить конец веревки, подручные плавающ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еобходимо помнить, что оказывающий помощь должен не только сам хорошо плавать и ныря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B87C-A70F-44C6-94E3-FE741D7F37F8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С берега трудно разобрать, тонет человек, или нет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Запомните!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За редким исключением, тонущий человек физиологически не способен позвать на помощь, так как не имеет возможности дыш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росите, в порядке ли он. Если ответом будут молчание и бессмысленный взгляд — у вас может оставаться меньше 30 секунд, чтобы спасти 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Внимание родителям: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гда дети играют в воде, они шумят. Если шум стих — подойдите и выясните, поч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ыть к утопающему  следует, по возможности, на лодке, плоту, спасательном круге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оказания помощи следует быстро снять одежду и обув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сто для вхождения в воду нужно выбрать так, чтобы, используя силу и скорость течения скорее приплыть к месту проис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B779-5B39-47BC-AFB8-27E4AE3B392F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ила спас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асать тонущего человека обычно приходится впла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он еще держится на поверхности, следует подплывать к нему сзади, чтобы избежать опасного захвата с его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случае захвата лучше погрузиться с тонущим в воду. Он, пытаясь остаться на поверхности, как правило, отпускает спаса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тонущий погрузился в воду, надо нырнуть и попытаться обнаружить его. Найдя тонущего, необходимо взять его за руку или за волосы, и оттолкнувшись от дна, всплыть на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8606-1CFA-46DE-A002-C24553C3A403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буксировать тонущего человека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за руки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казывающий помощь должен подплыть сзади, стянуть локти тонущего назад за спину и, прижав его к себе, плыть к берегу вольным сти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под руку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. Для этого оказывающий помощь должен подплыть к утопающему сзади, быстро подсунуть свою правую (левую) руку под его правую (левую) руку, взять его за другую руку выше локтя, прижать к себе и плыть к берегу на бо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за ше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буксировки человека, находящегося без сознания, оказывающий помощь должен плыть на боку и тянуть пострадавшего за волосы или воротник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всех способах буксировки тонущего необходимо, чтобы нос и рот его находились над поверхностью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8D48-FFAF-429B-98BC-74A01EB5A35D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азание первой медицинской помощ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утоплен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bbb5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пострадавший находится в сознании, у него удовлетворительный пульс и сохранено дыхание, то ваши действия в отношение пострадавшего та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уложить на жесткую поверх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раздеть и растереть руками или сухим полотенц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дать горячий чай или коф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укутать одеялом и дать отдохну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53F6-CC30-49F2-B0BE-0A226A2E7377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c4ff"/>
                </a:solidFill>
                <a:latin typeface="Verdana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Если у пострадавшего отсутствует сознание, но сохранены дыхание и пульс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Пострадавшего кладут животом на согнутое колено спасателя таким образом, чтобы голова была ниже грудной клетки, и любым предметом, куском материи или пальцем удаляют из полости рта и глотки воду, рвотные массы, водоросли, гряз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тем несколькими энергичными движениями, сдавливающими грудную клетку, стараются удалить воду из трахеи и бронхов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насухо обтере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дать вдохнуть нашатырный спи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для активизации дыхания подергать пострадавшего за язы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5DF1-922C-44C8-A070-F5DA37A4C8BB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c4ff"/>
                </a:solidFill>
                <a:latin typeface="Verdana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Если у пострадавшего отсутствуют дыхание и сердечная деятель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Также, как и в предыдущем случае, удалить воду из дыхательных путей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освободить рот пострадавшего от ила, тины и рвотных ма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уложить его на спину, запрокинув голову и вытянув язы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делать искусственное дыхание и непрямой массаж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AD69-848E-4D7B-B2BF-291A9F63F659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EB3-D525-4B51-8E73-6F889813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E8F-0C8A-4E46-ADE9-1F4FEC7E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362-8DA4-4356-AD14-18A09816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477-DD0C-413A-AAD6-DE80C66D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00EC-176D-44AC-A04F-32B6597E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75AF-7229-43FE-AD3F-67FE1159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A8B2-D500-4344-8093-B01E4D13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D0DF-5EA7-4833-971B-83B3DAB6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8053-708E-47FA-87FB-352E80F7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B9AD-1279-4D73-BD5F-F145DA7B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586F-BD46-465F-8D48-D3AC111A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890-ADB7-4C60-A0CB-CA65821C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AA90-7EBC-4566-BA27-DF711F58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530C-B973-4851-A338-BDDDD9FB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08C7-A323-4608-8FF0-AF58A021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C5B7-24D2-4FEB-B7F9-085928F0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F230-E7F5-4FB3-B22A-5B419A4A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188-A889-42FA-842D-7172F800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FA5-3F7E-4085-8F21-A0742522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E19-3BE9-433D-83B0-8B2A8772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1A8-3F54-4CEF-900E-E3F819BB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DB6-2BE4-4FB8-9900-3D710E33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DC1-B80C-4123-8CD4-3CD240B3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5CB-5575-4B7E-8DBB-77B702EC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D325-2DF4-4CD2-BAE8-EC1D04C29CA2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C431-3555-4319-A782-6AA9AAF2CC5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E81B-75FD-4D42-9007-4330D1442057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ED6A-6B1E-4543-84B7-FAF5E0ED5A9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857160" y="5429160"/>
            <a:ext cx="7429680" cy="857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585720" y="523800"/>
            <a:ext cx="8008920" cy="1755720"/>
          </a:xfrm>
          <a:prstGeom prst="rect">
            <a:avLst/>
          </a:prstGeom>
          <a:ln w="0">
            <a:noFill/>
          </a:ln>
        </p:spPr>
      </p:pic>
      <p:grpSp>
        <p:nvGrpSpPr>
          <p:cNvPr id="105" name="Подзаголовок 2"/>
          <p:cNvGrpSpPr/>
          <p:nvPr/>
        </p:nvGrpSpPr>
        <p:grpSpPr>
          <a:xfrm>
            <a:off x="841320" y="2341440"/>
            <a:ext cx="7534440" cy="3814920"/>
            <a:chOff x="841320" y="2341440"/>
            <a:chExt cx="7534440" cy="3814920"/>
          </a:xfrm>
        </p:grpSpPr>
        <p:pic>
          <p:nvPicPr>
            <p:cNvPr id="106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841320" y="2341440"/>
              <a:ext cx="7534440" cy="38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57160" y="2357280"/>
              <a:ext cx="7500960" cy="37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36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00000"/>
                  </a:solidFill>
                  <a:latin typeface="Arial"/>
                </a:rPr>
                <a:t>Первая помощь при утоплении</a:t>
              </a:r>
              <a:endParaRPr b="0" lang="en-US" sz="7200" spc="-1" strike="noStrike">
                <a:solidFill>
                  <a:srgbClr val="ffffff"/>
                </a:solidFill>
                <a:latin typeface="Constantia"/>
              </a:endParaRPr>
            </a:p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Подготовлено в соответствии с письмом МЗ РБ от 14.03.2012 №36/в «Об обеспечении наглядной агитацией общественных спасательных постов»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08" name="Місце для нижнього колонтитула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9581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d5ff"/>
                </a:solidFill>
                <a:latin typeface="Calibri"/>
              </a:rPr>
              <a:t>Порядок проведения сердечно-легочной реанимации. </a:t>
            </a:r>
            <a:br>
              <a:rPr sz="2600"/>
            </a:br>
            <a:r>
              <a:rPr b="1" lang="ru-RU" sz="2000" spc="-1" strike="noStrike">
                <a:solidFill>
                  <a:srgbClr val="ffd5ff"/>
                </a:solidFill>
                <a:latin typeface="Calibri"/>
              </a:rPr>
              <a:t>Выполняется только при отсутствии сердцебиения и дыхания!</a:t>
            </a:r>
            <a:br>
              <a:rPr sz="26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5000760" cy="5000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.  Положи пострадавшего на спину, на пол или землю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.  Запрокинь его голову, приподними подбородок, зажми нос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3.  Сделай два полных вдувания изо рта в рот через трубку, носовой платок или ткан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4.  Контролируй поднятие грудной клетки оживляемо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5. Положи основание ладони своей руки на грудину пострадавшего и накрой ее ладонью второй руки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6. Свои руки держи прямым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7. Ритмичными толчками с частотой 60-70 в минуту, спасающий должен резко надавливать на грудную клетку на глубину 3 - 4 см до появления самостоятельного сердцебиени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8. При выполнении движений не отрывай руки от грудин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9. При проведении реанимации нужно 4-5 надавливаний чередовать с одним вдохо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Содержимое 4" descr="007.gif"/>
          <p:cNvPicPr/>
          <p:nvPr/>
        </p:nvPicPr>
        <p:blipFill>
          <a:blip r:embed="rId1"/>
          <a:stretch/>
        </p:blipFill>
        <p:spPr>
          <a:xfrm>
            <a:off x="5500800" y="1500120"/>
            <a:ext cx="3186000" cy="2405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b45e8d3abc5013cf1c5640282e35032c.jpg"/>
          <p:cNvPicPr/>
          <p:nvPr/>
        </p:nvPicPr>
        <p:blipFill>
          <a:blip r:embed="rId2">
            <a:lum contrast="20000"/>
          </a:blip>
          <a:srcRect l="8185" t="0" r="0" b="0"/>
          <a:stretch/>
        </p:blipFill>
        <p:spPr>
          <a:xfrm>
            <a:off x="5500800" y="4000680"/>
            <a:ext cx="3206520" cy="2323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7120" y="928440"/>
            <a:ext cx="4500720" cy="54291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0. Запрокинь голову, приподними подбородок, зажми нос пострадавше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1.  Сделай два полных вдувани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2.  Следи за поднятием грудной клетк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3. При наличии помощника заставь его вдувать воздух по твоей команд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4. Повторяй циклы надавливания на грудину и вдуваний воздух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5.   Следи, чтобы не западал язык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6. Реанимацию продолжай не менее 20 минут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мните, что при утоплении в холодной воде есть все шансы спасти человека как бы долго он не был на холоде, так как низкая температура отодвигает срок наступления биологической смерти. Поэтому и реанимацию ему необходимо проводить длительное врем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6" name="Содержимое 4" descr="0007-013-CHto-delat.jpg"/>
          <p:cNvPicPr/>
          <p:nvPr/>
        </p:nvPicPr>
        <p:blipFill>
          <a:blip r:embed="rId1"/>
          <a:srcRect l="8681" t="4630" r="4514" b="5093"/>
          <a:stretch/>
        </p:blipFill>
        <p:spPr>
          <a:xfrm>
            <a:off x="5072040" y="85716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ventilyacia.jpg.png"/>
          <p:cNvPicPr/>
          <p:nvPr/>
        </p:nvPicPr>
        <p:blipFill>
          <a:blip r:embed="rId2">
            <a:lum contrast="10000"/>
          </a:blip>
          <a:srcRect l="0" t="17613" r="0" b="0"/>
          <a:stretch/>
        </p:blipFill>
        <p:spPr>
          <a:xfrm>
            <a:off x="5000760" y="3857760"/>
            <a:ext cx="3786120" cy="234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810108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Если ноги свело судорогой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4071600" cy="4748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В условиях низкой температуры воды или от переутомления у плывущего могут развиться судороги в икроножных мышцах, мышцах бедра и кистей рук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судорогах в икроножных мышцах рекомендуется, плывя на спине , вытянуть ногу, которую свело судорогой, и потянуть пальцы стопы на себя. При судороге мышц бедра помогает сильное сгибание в коленном суставе и при этом еще прижать ступню руками к тыльной поверхности бедра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судорогах мышц пальцев рук нужно сжать руку в кулак и, вытянув из воды, сильно встряхнуть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1" name="Содержимое 10" descr="w2.jpg"/>
          <p:cNvPicPr/>
          <p:nvPr/>
        </p:nvPicPr>
        <p:blipFill>
          <a:blip r:embed="rId1"/>
          <a:srcRect l="0" t="0" r="22914" b="0"/>
          <a:stretch/>
        </p:blipFill>
        <p:spPr>
          <a:xfrm>
            <a:off x="4857840" y="1928880"/>
            <a:ext cx="3795480" cy="35002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95816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Спасение тонущего с помощью лодки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1004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тправляясь на лодке, следует захватить собой шест, палку, веревку или т.п., чтобы подать утопающему, если он не потерял сознание. Если в лодке только один человек, то лучше ему не прыгать в воду, иначе лодка, будучи неуправляемой, может быть отнесена течение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одку нужно подводить к тонущему кормой или носом, но не бортом. Поднимать пострадавшего нужно с носа или кормы, т.к. при втаскивании через борт можно опрокинуть лод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Если в лодке есть второй человек, то оказывающий помощь, может удерживать утопающего в воде с кормы и буксировать утопающего, не поднимая его в лод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5" name="Содержимое 4" descr="1257674580_tyanut-utopiyu-1.jpg"/>
          <p:cNvPicPr/>
          <p:nvPr/>
        </p:nvPicPr>
        <p:blipFill>
          <a:blip r:embed="rId1"/>
          <a:srcRect l="7605" t="0" r="16348" b="0"/>
          <a:stretch/>
        </p:blipFill>
        <p:spPr>
          <a:xfrm>
            <a:off x="4978440" y="2143080"/>
            <a:ext cx="3730680" cy="32860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802944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Будьте внимательны на воде!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9680" y="1356840"/>
            <a:ext cx="417204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Водный простор манит прохладой и тайнами глубин, завораживает своей красотой и загадочностью. И в то же время эта среда крайне опасна и враждебна человеку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Ежегодно в нашей стране на воде гибнет 12 – 13 тысяч человек, из них 3,5 тысячи детей. Такова печальная статистика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Будьте внимательны на воде! Знайте и соблюдайте правила безопасности! Запомните! Находясь у воды, никогда не забывайте о грозящей опасности и будьте готовы оказать помощь попавшему в беду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Содержимое 6" descr="SL270162.JPG"/>
          <p:cNvPicPr/>
          <p:nvPr/>
        </p:nvPicPr>
        <p:blipFill>
          <a:blip r:embed="rId1"/>
          <a:srcRect l="33480" t="0" r="12017" b="8117"/>
          <a:stretch/>
        </p:blipFill>
        <p:spPr>
          <a:xfrm>
            <a:off x="4857840" y="1500120"/>
            <a:ext cx="3786120" cy="4791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57120" y="999720"/>
            <a:ext cx="4143600" cy="51260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Среди причин, ведущих к утоплению, главное место занимают 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страх и</a:t>
            </a: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чувство паники</a:t>
            </a: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, часто связанные не с реальной, а с мнимой опасностью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Другие причины утопления:  низкая температура воды и большая скорость течения, водоворот, холодный ключ со дна, шторм, а также неумение плавать, переутомление, болезненное состояние, травмы при прыжках в воду, нарушение сердечной деятельности при плавании под водо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Содержимое 4" descr="8261010-single-hand-of-drowning-man-in-sea-asking-for-help.jpg"/>
          <p:cNvPicPr/>
          <p:nvPr/>
        </p:nvPicPr>
        <p:blipFill>
          <a:blip r:embed="rId1"/>
          <a:stretch/>
        </p:blipFill>
        <p:spPr>
          <a:xfrm>
            <a:off x="4857840" y="1000080"/>
            <a:ext cx="3433680" cy="5143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80010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Главное правило спасател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402912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Главное правило при спасении утопающего — действовать быстро, но обдуманно, спокойно и осторожно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слышав зов утопающего о помощи, надо ему немедленно ответить, крикнуть, чтобы он знал, что помощь ему будет оказана. Это придает силы утопающем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и наличии возможности, нужно подать тонущему шест, конец одежды или бросить конец веревки, подручные плавающие предмет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обходимо помнить, что оказывающий помощь должен не только сам хорошо плавать и нырять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Содержимое 4" descr="9ad6f1.jpg"/>
          <p:cNvPicPr/>
          <p:nvPr/>
        </p:nvPicPr>
        <p:blipFill>
          <a:blip r:embed="rId1"/>
          <a:srcRect l="6047" t="0" r="0" b="0"/>
          <a:stretch/>
        </p:blipFill>
        <p:spPr>
          <a:xfrm>
            <a:off x="5214960" y="3714840"/>
            <a:ext cx="3186000" cy="22921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4929120" y="1428840"/>
            <a:ext cx="3786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  <a:ea typeface="Arial"/>
              </a:rPr>
              <a:t>но должен хорошо владеть специальными приемами подхода к тонущему человеку, транспортировки утопающего, а главное – умения освобождаться от «мертвых» захватов тонущего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95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alibri"/>
              </a:rPr>
              <a:t>С берега трудно разобрать, тонет человек, или нет!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4286160" cy="5572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Запомните!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 За редким исключением, тонущий человек физиологически не способен позвать на помощь, так как не имеет возможности дышат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Спросите, в порядке ли он. Если ответом будут молчание и бессмысленный взгляд — у вас может оставаться меньше 30 секунд, чтобы спасти его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Внимание родителям: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когда дети играют в воде, они шумят. Если шум стих — подойдите и выясните, почему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лыть к утопающему  следует, по возможности, на лодке, плоту, спасательном круге и т.п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Для оказания помощи следует быстро снять одежду и обув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Место для вхождения в воду нужно выбрать так, чтобы, используя силу и скорость течения скорее приплыть к месту происшествия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9" name="Содержимое 4" descr="15otkrytie_kupalnogo_sezona.jpg"/>
          <p:cNvPicPr/>
          <p:nvPr/>
        </p:nvPicPr>
        <p:blipFill>
          <a:blip r:embed="rId1">
            <a:lum bright="10000"/>
          </a:blip>
          <a:srcRect l="2734" t="0" r="16211" b="0"/>
          <a:stretch/>
        </p:blipFill>
        <p:spPr>
          <a:xfrm>
            <a:off x="4786200" y="1714680"/>
            <a:ext cx="3929040" cy="36352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67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Правила спасени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680" y="1285560"/>
            <a:ext cx="371448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пасать тонущего человека обычно приходится вплав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он еще держится на поверхности, следует подплывать к нему сзади, чтобы избежать опасного захвата с его сторон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случае захвата лучше погрузиться с тонущим в воду. Он, пытаясь остаться на поверхности, как правило, отпускает спасател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тонущий погрузился в воду, надо нырнуть и попытаться обнаружить его. Найдя тонущего, необходимо взять его за руку или за волосы, и оттолкнувшись от дна, всплыть на поверхность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3" name="Содержимое 7" descr="noid-8.jpg"/>
          <p:cNvPicPr/>
          <p:nvPr/>
        </p:nvPicPr>
        <p:blipFill>
          <a:blip r:embed="rId1"/>
          <a:srcRect l="0" t="0" r="13415" b="0"/>
          <a:stretch/>
        </p:blipFill>
        <p:spPr>
          <a:xfrm>
            <a:off x="4429080" y="1643040"/>
            <a:ext cx="4425840" cy="3554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Как буксировать тонущего человека? </a:t>
            </a:r>
            <a:br>
              <a:rPr sz="2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285560"/>
            <a:ext cx="424332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за руки  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Оказывающий помощь должен подплыть сзади, стянуть локти тонущего назад за спину и, прижав его к себе, плыть к берегу вольным стилем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под руку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. Для этого оказывающий помощь должен подплыть к утопающему сзади, быстро подсунуть свою правую (левую) руку под его правую (левую) руку, взять его за другую руку выше локтя, прижать к себе и плыть к берегу на боку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за шею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Для буксировки человека, находящегося без сознания, оказывающий помощь должен плыть на боку и тянуть пострадавшего за волосы или воротник одежд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всех способах буксировки тонущего необходимо, чтобы нос и рот его находились над поверхностью вод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Содержимое 4" descr="spas5_b.jpg"/>
          <p:cNvPicPr/>
          <p:nvPr/>
        </p:nvPicPr>
        <p:blipFill>
          <a:blip r:embed="rId1"/>
          <a:stretch/>
        </p:blipFill>
        <p:spPr>
          <a:xfrm>
            <a:off x="5072040" y="3857760"/>
            <a:ext cx="3614760" cy="2417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F:\D Мои документы 1\Мои рисунки-2\Мои рисунки\Здоровье\медицина\Первая помощь\52omz.jpg"/>
          <p:cNvPicPr/>
          <p:nvPr/>
        </p:nvPicPr>
        <p:blipFill>
          <a:blip r:embed="rId2"/>
          <a:srcRect l="0" t="3078" r="0" b="0"/>
          <a:stretch/>
        </p:blipFill>
        <p:spPr>
          <a:xfrm>
            <a:off x="5286240" y="1500120"/>
            <a:ext cx="3214800" cy="224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8868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Оказание первой медицинской помощи </a:t>
            </a:r>
            <a:br>
              <a:rPr sz="3200"/>
            </a:b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при утоплении</a:t>
            </a:r>
            <a:br>
              <a:rPr sz="2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1492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250920" algn="just">
              <a:lnSpc>
                <a:spcPct val="90000"/>
              </a:lnSpc>
              <a:buClr>
                <a:srgbClr val="0bd0d9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Если пострадавший находится в сознании, у него удовлетворительный пульс и сохранено дыхание, то ваши действия в отношение пострадавшего такие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а) уложить на жесткую поверхность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б) раздеть и растереть руками или сухим полотенцем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в) дать горячий чай или кофе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г) укутать одеялом и дать отдохнуть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2" name="Содержимое 4" descr="bd900ba8927935ff718fd625bf056ae7.jpg"/>
          <p:cNvPicPr/>
          <p:nvPr/>
        </p:nvPicPr>
        <p:blipFill>
          <a:blip r:embed="rId1"/>
          <a:srcRect l="0" t="0" r="27242" b="0"/>
          <a:stretch/>
        </p:blipFill>
        <p:spPr>
          <a:xfrm>
            <a:off x="4857840" y="1857240"/>
            <a:ext cx="3897360" cy="35719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440" y="857160"/>
            <a:ext cx="4172040" cy="5391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dc4ff"/>
                </a:solidFill>
                <a:latin typeface="Verdana"/>
              </a:rPr>
              <a:t>2.</a:t>
            </a: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 Если у пострадавшего отсутствует сознание, но сохранены дыхание и пульс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а) Пострадавшего кладут животом на согнутое колено спасателя таким образом, чтобы голова была ниже грудной клетки, и любым предметом, куском материи или пальцем удаляют из полости рта и глотки воду, рвотные массы, водоросли, гряз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Затем несколькими энергичными движениями, сдавливающими грудную клетку, стараются удалить воду из трахеи и бронхов.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б) насухо обтереть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в) дать вдохнуть нашатырный спирт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г) для активизации дыхания подергать пострадавшего за язык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" name="Picture 2" descr="F:\D Мои документы 1\Мои рисунки-2\Мои рисунки\Здоровье\медицина\Первая помощь\0007-011-CHto-delat.jpg"/>
          <p:cNvPicPr/>
          <p:nvPr/>
        </p:nvPicPr>
        <p:blipFill>
          <a:blip r:embed="rId1"/>
          <a:srcRect l="26565" t="24523" r="24396" b="11647"/>
          <a:stretch/>
        </p:blipFill>
        <p:spPr>
          <a:xfrm>
            <a:off x="5072040" y="1571760"/>
            <a:ext cx="3635280" cy="3714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13880" y="999720"/>
            <a:ext cx="3457800" cy="52484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c4ff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Если у пострадавшего отсутствуют дыхание и сердечная деятельность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) Также, как и в предыдущем случае, удалить воду из дыхательных путей пострадавшего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б) освободить рот пострадавшего от ила, тины и рвотных масс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) уложить его на спину, запрокинув голову и вытянув язык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) делать искусственное дыхание и непрямой массаж сердц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Содержимое 5" descr="p60_reanimaciya.jpg"/>
          <p:cNvPicPr/>
          <p:nvPr/>
        </p:nvPicPr>
        <p:blipFill>
          <a:blip r:embed="rId1"/>
          <a:srcRect l="12782" t="0" r="0" b="0"/>
          <a:stretch/>
        </p:blipFill>
        <p:spPr>
          <a:xfrm>
            <a:off x="4572000" y="1785960"/>
            <a:ext cx="4067280" cy="3502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ина</dc:creator>
  <dc:description/>
  <dc:language>en-US</dc:language>
  <cp:lastModifiedBy>LEGION</cp:lastModifiedBy>
  <dcterms:modified xsi:type="dcterms:W3CDTF">2015-05-12T08:49:03Z</dcterms:modified>
  <cp:revision>83</cp:revision>
  <dc:subject/>
  <dc:title>Первая помощь при утоплении Подготовлено в соответствии с письмом МЗ РБ от 14</dc:title>
</cp:coreProperties>
</file>