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B132-9499-4463-A15E-6E8DAE3D1B83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ГАУЗ Республиканский врачебно-физкультурный диспанс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ервая помощь при утопл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одготовлено в соответствии с письмом МЗ РБ от 14.03.2012 №36/в «Об обеспечении наглядной агитацией общественных спасательных пос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D94C-6461-4893-8BC1-B995CB11D5EE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1200"/>
            </a:br>
            <a:r>
              <a:rPr b="1" lang="ru-RU" sz="16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D7EB-D7CF-4676-B50E-93DE09D78ACE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.  Сделай два полных вду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2.  Следи за поднятием грудной кл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5.   Следи, чтобы не западал язы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6. Реанимацию продолжай не менее 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9C0D-8CB6-425D-A287-816FFCD127F2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ноги свело судоро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7927-6C4A-4C2D-A190-B422CBA67003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асение тонущего с помощью ло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748D-76EA-428E-AD29-BD162F214F2F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дьте внимательны на вод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9A59-6F3F-4795-8113-ADB8E652D5EA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60BA-9B54-41F6-AF5D-83132905E09F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ое правило спас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C50A-5DCF-49F0-B53E-326824E59DB2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2301-1260-43D0-BE90-8428910E11DE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ила спа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68DB-62F1-42C6-AE20-A6510B4007F5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буксировать тонущего человека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AB6D-575F-442F-A2F3-D02D47EC26C7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азание первой медицинской помощ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утоплен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уложить на жесткую поверх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горячий чай или коф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укутать одеялом и дать отдохну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F074-2830-4794-8D45-9FC58E66C57B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насухо обтере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вдохнуть нашатырный спи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238A-2C0D-47EA-985D-89A0977A2E98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0D8C-642B-40F4-A730-BB458888D839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659-EEB3-413B-9337-746B6B1D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63F-A7F5-468B-A82C-13A1E266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A06-16DE-4DA6-B784-06CFC743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BD8-BA1A-4007-B20B-839F7E88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BCB6-B439-4E2D-97FC-9573D278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9858-D11F-4730-9A90-FE619967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3D24-6B1B-4EF5-A901-5D9013F9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DD16-55C1-4615-84C3-4135B544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5F64-0B2A-4BCB-83DB-BB28F3A3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6389-F3AE-49E7-8EBB-69E55F35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D2C0-EBFF-4401-8AE0-4E1B0B0E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E6D-2A99-4345-86BE-D68FBDD9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7C19-5687-4FCE-8E5A-0BE06ED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086F-0C8E-4348-BF5A-10B97DC6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CB1D-874B-4B7C-B982-0A20ED11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82FA-0DE9-4591-8DBC-B60F5147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36FC-CC6A-4F90-AFA4-70EB8716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CDB-5F25-480A-872A-029B515A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26B-437B-4A61-BFBB-3517136A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4FA-0EC1-42D0-B8FD-686A7D20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6D9-A230-49BA-9852-E5939AF0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E53-A1E8-414C-AD5B-AA7D743E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AEB-F95A-4FD3-8C7F-4E14FCD5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A38-17D4-45AA-BED6-7E439763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3CAE-6B49-464A-BAA4-708692813770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2CF4-60C3-4675-9011-418C2057B5D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5D6C-3638-4141-833F-786EA7954538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939E-94E3-4A7A-AEF1-9167D6BE1CA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857160" y="5429160"/>
            <a:ext cx="7429680" cy="857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585720" y="523800"/>
            <a:ext cx="8008920" cy="1755720"/>
          </a:xfrm>
          <a:prstGeom prst="rect">
            <a:avLst/>
          </a:prstGeom>
          <a:ln w="0">
            <a:noFill/>
          </a:ln>
        </p:spPr>
      </p:pic>
      <p:grpSp>
        <p:nvGrpSpPr>
          <p:cNvPr id="105" name="Подзаголовок 2"/>
          <p:cNvGrpSpPr/>
          <p:nvPr/>
        </p:nvGrpSpPr>
        <p:grpSpPr>
          <a:xfrm>
            <a:off x="841320" y="2341440"/>
            <a:ext cx="7534440" cy="3814920"/>
            <a:chOff x="841320" y="2341440"/>
            <a:chExt cx="7534440" cy="3814920"/>
          </a:xfrm>
        </p:grpSpPr>
        <p:pic>
          <p:nvPicPr>
            <p:cNvPr id="106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841320" y="2341440"/>
              <a:ext cx="753444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57160" y="2357280"/>
              <a:ext cx="7500960" cy="37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00000"/>
                  </a:solidFill>
                  <a:latin typeface="Arial"/>
                </a:rPr>
                <a:t>Первая помощь при утоплении</a:t>
              </a:r>
              <a:endParaRPr b="0" lang="en-US" sz="72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Подготовлено в соответствии с письмом МЗ РБ от 14.03.2012 №36/в «Об обеспечении наглядной агитацией общественных спасательных постов»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08" name="Місце для нижнього колонтитула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95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2600"/>
            </a:br>
            <a:r>
              <a:rPr b="1" lang="ru-RU" sz="20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26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5000760" cy="5000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Содержимое 4" descr="007.gif"/>
          <p:cNvPicPr/>
          <p:nvPr/>
        </p:nvPicPr>
        <p:blipFill>
          <a:blip r:embed="rId1"/>
          <a:stretch/>
        </p:blipFill>
        <p:spPr>
          <a:xfrm>
            <a:off x="5500800" y="1500120"/>
            <a:ext cx="3186000" cy="2405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b45e8d3abc5013cf1c5640282e35032c.jpg"/>
          <p:cNvPicPr/>
          <p:nvPr/>
        </p:nvPicPr>
        <p:blipFill>
          <a:blip r:embed="rId2">
            <a:lum contrast="20000"/>
          </a:blip>
          <a:srcRect l="8185" t="0" r="0" b="0"/>
          <a:stretch/>
        </p:blipFill>
        <p:spPr>
          <a:xfrm>
            <a:off x="5500800" y="4000680"/>
            <a:ext cx="3206520" cy="2323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7120" y="928440"/>
            <a:ext cx="4500720" cy="5429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1.  Сделай два полных вдуван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2.  Следи за поднятием грудной клетк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5.   Следи, чтобы не западал язык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6. Реанимацию продолжай не менее 20 минут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Содержимое 4" descr="0007-013-CHto-delat.jpg"/>
          <p:cNvPicPr/>
          <p:nvPr/>
        </p:nvPicPr>
        <p:blipFill>
          <a:blip r:embed="rId1"/>
          <a:srcRect l="8681" t="4630" r="4514" b="5093"/>
          <a:stretch/>
        </p:blipFill>
        <p:spPr>
          <a:xfrm>
            <a:off x="5072040" y="85716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ventilyacia.jpg.png"/>
          <p:cNvPicPr/>
          <p:nvPr/>
        </p:nvPicPr>
        <p:blipFill>
          <a:blip r:embed="rId2">
            <a:lum contrast="10000"/>
          </a:blip>
          <a:srcRect l="0" t="17613" r="0" b="0"/>
          <a:stretch/>
        </p:blipFill>
        <p:spPr>
          <a:xfrm>
            <a:off x="5000760" y="3857760"/>
            <a:ext cx="3786120" cy="234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810108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Если ноги свело судорогой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4071600" cy="4748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1" name="Содержимое 10" descr="w2.jpg"/>
          <p:cNvPicPr/>
          <p:nvPr/>
        </p:nvPicPr>
        <p:blipFill>
          <a:blip r:embed="rId1"/>
          <a:srcRect l="0" t="0" r="22914" b="0"/>
          <a:stretch/>
        </p:blipFill>
        <p:spPr>
          <a:xfrm>
            <a:off x="4857840" y="1928880"/>
            <a:ext cx="3795480" cy="3500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9581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Спасение тонущего с помощью лодки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004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5" name="Содержимое 4" descr="1257674580_tyanut-utopiyu-1.jpg"/>
          <p:cNvPicPr/>
          <p:nvPr/>
        </p:nvPicPr>
        <p:blipFill>
          <a:blip r:embed="rId1"/>
          <a:srcRect l="7605" t="0" r="16348" b="0"/>
          <a:stretch/>
        </p:blipFill>
        <p:spPr>
          <a:xfrm>
            <a:off x="4978440" y="2143080"/>
            <a:ext cx="3730680" cy="32860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802944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Будьте внимательны на воде!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9680" y="1356840"/>
            <a:ext cx="417204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Содержимое 6" descr="SL270162.JPG"/>
          <p:cNvPicPr/>
          <p:nvPr/>
        </p:nvPicPr>
        <p:blipFill>
          <a:blip r:embed="rId1"/>
          <a:srcRect l="33480" t="0" r="12017" b="8117"/>
          <a:stretch/>
        </p:blipFill>
        <p:spPr>
          <a:xfrm>
            <a:off x="4857840" y="1500120"/>
            <a:ext cx="3786120" cy="4791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7120" y="999720"/>
            <a:ext cx="4143600" cy="51260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Содержимое 4" descr="8261010-single-hand-of-drowning-man-in-sea-asking-for-help.jpg"/>
          <p:cNvPicPr/>
          <p:nvPr/>
        </p:nvPicPr>
        <p:blipFill>
          <a:blip r:embed="rId1"/>
          <a:stretch/>
        </p:blipFill>
        <p:spPr>
          <a:xfrm>
            <a:off x="4857840" y="1000080"/>
            <a:ext cx="3433680" cy="5143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80010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Главное правило спасател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402912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Содержимое 4" descr="9ad6f1.jpg"/>
          <p:cNvPicPr/>
          <p:nvPr/>
        </p:nvPicPr>
        <p:blipFill>
          <a:blip r:embed="rId1"/>
          <a:srcRect l="6047" t="0" r="0" b="0"/>
          <a:stretch/>
        </p:blipFill>
        <p:spPr>
          <a:xfrm>
            <a:off x="5214960" y="3714840"/>
            <a:ext cx="3186000" cy="22921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4929120" y="1428840"/>
            <a:ext cx="3786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Arial"/>
              </a:rPr>
              <a:t>но должен хорошо владеть специальными приемами подхода к тонущему человеку, транспортировки утопающего, а главное – умения освобождаться от «мертвых» захватов тонущег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95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4286160" cy="5572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Содержимое 4" descr="15otkrytie_kupalnogo_sezona.jpg"/>
          <p:cNvPicPr/>
          <p:nvPr/>
        </p:nvPicPr>
        <p:blipFill>
          <a:blip r:embed="rId1">
            <a:lum bright="10000"/>
          </a:blip>
          <a:srcRect l="2734" t="0" r="16211" b="0"/>
          <a:stretch/>
        </p:blipFill>
        <p:spPr>
          <a:xfrm>
            <a:off x="4786200" y="1714680"/>
            <a:ext cx="3929040" cy="36352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67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Правила спасени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680" y="1285560"/>
            <a:ext cx="371448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3" name="Содержимое 7" descr="noid-8.jpg"/>
          <p:cNvPicPr/>
          <p:nvPr/>
        </p:nvPicPr>
        <p:blipFill>
          <a:blip r:embed="rId1"/>
          <a:srcRect l="0" t="0" r="13415" b="0"/>
          <a:stretch/>
        </p:blipFill>
        <p:spPr>
          <a:xfrm>
            <a:off x="4429080" y="1643040"/>
            <a:ext cx="4425840" cy="3554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Как буксировать тонущего человека? 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285560"/>
            <a:ext cx="424332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Содержимое 4" descr="spas5_b.jpg"/>
          <p:cNvPicPr/>
          <p:nvPr/>
        </p:nvPicPr>
        <p:blipFill>
          <a:blip r:embed="rId1"/>
          <a:stretch/>
        </p:blipFill>
        <p:spPr>
          <a:xfrm>
            <a:off x="5072040" y="3857760"/>
            <a:ext cx="3614760" cy="2417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D Мои документы 1\Мои рисунки-2\Мои рисунки\Здоровье\медицина\Первая помощь\52omz.jpg"/>
          <p:cNvPicPr/>
          <p:nvPr/>
        </p:nvPicPr>
        <p:blipFill>
          <a:blip r:embed="rId2"/>
          <a:srcRect l="0" t="3078" r="0" b="0"/>
          <a:stretch/>
        </p:blipFill>
        <p:spPr>
          <a:xfrm>
            <a:off x="5286240" y="1500120"/>
            <a:ext cx="3214800" cy="224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Оказание первой медицинской помощи </a:t>
            </a: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при утоплении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1492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250920" algn="just">
              <a:lnSpc>
                <a:spcPct val="90000"/>
              </a:lnSpc>
              <a:buClr>
                <a:srgbClr val="0bd0d9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а) уложить на жесткую поверхность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) дать горячий чай или кофе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г) укутать одеялом и дать отдохнуть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Содержимое 4" descr="bd900ba8927935ff718fd625bf056ae7.jpg"/>
          <p:cNvPicPr/>
          <p:nvPr/>
        </p:nvPicPr>
        <p:blipFill>
          <a:blip r:embed="rId1"/>
          <a:srcRect l="0" t="0" r="27242" b="0"/>
          <a:stretch/>
        </p:blipFill>
        <p:spPr>
          <a:xfrm>
            <a:off x="4857840" y="1857240"/>
            <a:ext cx="3897360" cy="35719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857160"/>
            <a:ext cx="4172040" cy="5391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б) насухо обтереть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) дать вдохнуть нашатырный спирт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2" descr="F:\D Мои документы 1\Мои рисунки-2\Мои рисунки\Здоровье\медицина\Первая помощь\0007-011-CHto-delat.jpg"/>
          <p:cNvPicPr/>
          <p:nvPr/>
        </p:nvPicPr>
        <p:blipFill>
          <a:blip r:embed="rId1"/>
          <a:srcRect l="26565" t="24523" r="24396" b="11647"/>
          <a:stretch/>
        </p:blipFill>
        <p:spPr>
          <a:xfrm>
            <a:off x="5072040" y="1571760"/>
            <a:ext cx="3635280" cy="3714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13880" y="999720"/>
            <a:ext cx="3457800" cy="52484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Содержимое 5" descr="p60_reanimaciya.jpg"/>
          <p:cNvPicPr/>
          <p:nvPr/>
        </p:nvPicPr>
        <p:blipFill>
          <a:blip r:embed="rId1"/>
          <a:srcRect l="12782" t="0" r="0" b="0"/>
          <a:stretch/>
        </p:blipFill>
        <p:spPr>
          <a:xfrm>
            <a:off x="4572000" y="1785960"/>
            <a:ext cx="4067280" cy="3502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на</dc:creator>
  <dc:description/>
  <dc:language>en-US</dc:language>
  <cp:lastModifiedBy>LEGION</cp:lastModifiedBy>
  <dcterms:modified xsi:type="dcterms:W3CDTF">2015-05-12T08:49:03Z</dcterms:modified>
  <cp:revision>83</cp:revision>
  <dc:subject/>
  <dc:title>Первая помощь при утоплении Подготовлено в соответствии с письмом МЗ РБ от 14</dc:title>
</cp:coreProperties>
</file>