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E5D4-3C43-4EC0-98D2-80FC2D746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../slides/slide9.xml"/><Relationship Id="rId5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Calibri"/>
              </a:rPr>
              <a:t>Первая помощь при пищевом от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E96C-E748-4200-BC18-EFDAA4A6B0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Микробные отравления (пищевые токсико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AB9D-E013-4093-BE6D-8957F6523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, связанные с употреблением в пищу ядовитых растений 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8877-6CAC-461E-8F66-464C7F7B47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 химическими веществами различных катего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0982-1DF5-4E09-BB06-9D83787284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к оказать первую помощ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ED28-29A1-4B97-8893-ABD54F2D3A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хема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Calibri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82F4-80D8-45D4-9FD3-CB8EF6629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Calibri"/>
              </a:rPr>
              <a:t>Информационные 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CD-R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www.yandex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1C81-ADC2-4473-B69D-4A34599CBD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лагодарим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37BF-92EA-4C7F-82F2-D3059EBD4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ищеварительн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это система органов, при помощи которых тело получает питательные веществ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44AE-76B9-4A0C-BEF3-46A24B676D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60093"/>
                </a:solidFill>
                <a:latin typeface="Calibri"/>
              </a:rPr>
              <a:t>Основным видом повреждений органов пищеварительного тракта являются инород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5612-DF06-439D-AE92-B8D3BDE65A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ботул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A718-70CA-4F83-BE7D-9A9CB3B9DC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езнь длится 2-5 дней, затем, почти во всех случаях, наступает самоизлечение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7D33-C620-4BA8-A0D3-19432CAC6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33"/>
                </a:solidFill>
                <a:latin typeface="Calibri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EDDC-514C-4CDE-AFEF-9D7A88D73D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1514-7BDB-42FE-A480-5DA7737B3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равильно оказанная первая помощь сокращает время специального лечения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время оказанная первая помощь дает шанс пострадавшему выж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0119-47C7-4486-A823-27D9FD9D2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иболее распространенные типы пищевых отравлений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F5E2-CF2B-40A3-89EA-5A557B11E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C28-1520-4D64-AA89-BE115A60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F96-16FE-4A88-BD1A-6FACB3A4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4D8-B450-4821-83CD-C11DC39D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F4D-B3EC-4922-99CD-BABE8582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C59-5A4E-4DFF-B218-37AC6F0A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0DD-5EB9-4B9F-91C6-5878B2CD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CF5-0EBF-420E-934C-BE3058E1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EBA-061E-42C6-913C-3A1E8573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0F2-D7CA-439D-848D-B3FF395F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1AC-A3F7-48A0-9BEC-7B968C5E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7B9-9BC1-45EB-BD85-F9C9E450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D4C-72EA-4C7C-AF6F-147D3E4D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7BAD-811E-4488-9703-A76D5EC965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384200"/>
            <a:ext cx="727236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Arial"/>
              </a:rPr>
              <a:t>Первая помощь при пищевом отравл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4925880"/>
            <a:ext cx="35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ыполнила студентка гр.М-4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рикуненко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987640" y="6110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Волгоград, 20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2_4A"/>
          <p:cNvPicPr/>
          <p:nvPr/>
        </p:nvPicPr>
        <p:blipFill>
          <a:blip r:embed="rId1"/>
          <a:stretch/>
        </p:blipFill>
        <p:spPr>
          <a:xfrm>
            <a:off x="611280" y="2768760"/>
            <a:ext cx="4043160" cy="3321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57120" y="164304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357200" y="142920"/>
            <a:ext cx="70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икробные отравления (пищевые токсикоинфек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7.jpeg"/>
          <p:cNvPicPr/>
          <p:nvPr/>
        </p:nvPicPr>
        <p:blipFill>
          <a:blip r:embed="rId1"/>
          <a:stretch/>
        </p:blipFill>
        <p:spPr>
          <a:xfrm>
            <a:off x="500040" y="3071880"/>
            <a:ext cx="352260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11.jpeg"/>
          <p:cNvPicPr/>
          <p:nvPr/>
        </p:nvPicPr>
        <p:blipFill>
          <a:blip r:embed="rId2"/>
          <a:stretch/>
        </p:blipFill>
        <p:spPr>
          <a:xfrm>
            <a:off x="4500720" y="3071880"/>
            <a:ext cx="3960720" cy="2928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50004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785880" y="1429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, связанные с употреблением в пищу ядовитых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2.jpeg"/>
          <p:cNvPicPr/>
          <p:nvPr/>
        </p:nvPicPr>
        <p:blipFill>
          <a:blip r:embed="rId1"/>
          <a:stretch/>
        </p:blipFill>
        <p:spPr>
          <a:xfrm>
            <a:off x="428760" y="3214800"/>
            <a:ext cx="401004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12.jpeg"/>
          <p:cNvPicPr/>
          <p:nvPr/>
        </p:nvPicPr>
        <p:blipFill>
          <a:blip r:embed="rId2"/>
          <a:stretch/>
        </p:blipFill>
        <p:spPr>
          <a:xfrm>
            <a:off x="4572000" y="3214800"/>
            <a:ext cx="3979800" cy="300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928800" y="21420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 химическими веществами различных катего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8588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i.jpeg"/>
          <p:cNvPicPr/>
          <p:nvPr/>
        </p:nvPicPr>
        <p:blipFill>
          <a:blip r:embed="rId1"/>
          <a:stretch/>
        </p:blipFill>
        <p:spPr>
          <a:xfrm>
            <a:off x="2643120" y="3000240"/>
            <a:ext cx="378612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93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Как оказать первую помощ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11280" y="692280"/>
            <a:ext cx="7705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до прихода врача промыть желудок как можно быстрее большим количеством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дать слабительное (2 столовые ложки касторового масл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делать глубокую клизму с 2 ложками касторового масла или крепким настоем ромаш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через каждые полчаса давать горячее питье, крепкий чай, кофе, горячее ви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полезны теплые ванны и общее согре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астереть тело суконкой, смоченной в уксусе или вод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вызвать «скорую помощ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rticles"/>
          <p:cNvPicPr/>
          <p:nvPr/>
        </p:nvPicPr>
        <p:blipFill>
          <a:blip r:embed="rId1"/>
          <a:stretch/>
        </p:blipFill>
        <p:spPr>
          <a:xfrm>
            <a:off x="2124000" y="4005360"/>
            <a:ext cx="4753080" cy="252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0" y="2349360"/>
            <a:ext cx="8424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3429000"/>
            <a:ext cx="6985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0" y="4653000"/>
            <a:ext cx="8064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55640" y="26028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хема 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0" y="907920"/>
            <a:ext cx="8028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нформационные 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285920" y="128592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CD-R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Первая медицинская помощ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www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Современная медицинская энциклопед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7325_books_pic"/>
          <p:cNvPicPr/>
          <p:nvPr/>
        </p:nvPicPr>
        <p:blipFill>
          <a:blip r:embed="rId1"/>
          <a:stretch/>
        </p:blipFill>
        <p:spPr>
          <a:xfrm>
            <a:off x="1714680" y="2928960"/>
            <a:ext cx="5857560" cy="3806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0" y="1928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ищеварительная систем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– это система органов, при помощи которых тело получает питательные вещества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EMA17"/>
          <p:cNvPicPr/>
          <p:nvPr/>
        </p:nvPicPr>
        <p:blipFill>
          <a:blip r:embed="rId1"/>
          <a:stretch/>
        </p:blipFill>
        <p:spPr>
          <a:xfrm>
            <a:off x="684360" y="2708280"/>
            <a:ext cx="2803320" cy="414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7020601"/>
          <p:cNvPicPr/>
          <p:nvPr/>
        </p:nvPicPr>
        <p:blipFill>
          <a:blip r:embed="rId2"/>
          <a:stretch/>
        </p:blipFill>
        <p:spPr>
          <a:xfrm>
            <a:off x="3708360" y="2733840"/>
            <a:ext cx="3208320" cy="41241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Arial"/>
              </a:rPr>
              <a:t>Основным видом повреждений органов пищеварительного тракта являются инородные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2349360"/>
            <a:ext cx="352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Попадание в пищеварительный тракт едких ядов – кислот и щелочей – вызывает разъедание слизистой оболочки ротовой полости, пищевода и желу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7_4A"/>
          <p:cNvPicPr/>
          <p:nvPr/>
        </p:nvPicPr>
        <p:blipFill>
          <a:blip r:embed="rId1"/>
          <a:stretch/>
        </p:blipFill>
        <p:spPr>
          <a:xfrm>
            <a:off x="3851280" y="1700280"/>
            <a:ext cx="4989600" cy="3741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382716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ботул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0_709b_7e44cef9_S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28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0_7d78_eb8ea104_S"/>
          <p:cNvPicPr/>
          <p:nvPr/>
        </p:nvPicPr>
        <p:blipFill>
          <a:blip r:embed="rId2"/>
          <a:stretch/>
        </p:blipFill>
        <p:spPr>
          <a:xfrm>
            <a:off x="4643280" y="3571920"/>
            <a:ext cx="4233960" cy="27954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14716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олезнь длится 2-5 дней, затем, почти во всех случаях, наступает самоизлечение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354184-001"/>
          <p:cNvPicPr/>
          <p:nvPr/>
        </p:nvPicPr>
        <p:blipFill>
          <a:blip r:embed="rId1"/>
          <a:stretch/>
        </p:blipFill>
        <p:spPr>
          <a:xfrm>
            <a:off x="214200" y="3500280"/>
            <a:ext cx="3902040" cy="2571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3"/>
          <p:cNvPicPr/>
          <p:nvPr/>
        </p:nvPicPr>
        <p:blipFill>
          <a:blip r:embed="rId2"/>
          <a:stretch/>
        </p:blipFill>
        <p:spPr>
          <a:xfrm>
            <a:off x="4643280" y="3500280"/>
            <a:ext cx="4340520" cy="251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613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55250-016"/>
          <p:cNvPicPr/>
          <p:nvPr/>
        </p:nvPicPr>
        <p:blipFill>
          <a:blip r:embed="rId1"/>
          <a:stretch/>
        </p:blipFill>
        <p:spPr>
          <a:xfrm>
            <a:off x="142920" y="2286000"/>
            <a:ext cx="449100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255229-001"/>
          <p:cNvPicPr/>
          <p:nvPr/>
        </p:nvPicPr>
        <p:blipFill>
          <a:blip r:embed="rId2"/>
          <a:stretch/>
        </p:blipFill>
        <p:spPr>
          <a:xfrm>
            <a:off x="4929120" y="2286000"/>
            <a:ext cx="3619440" cy="3816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2400"/>
            </a:b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_1A"/>
          <p:cNvPicPr/>
          <p:nvPr/>
        </p:nvPicPr>
        <p:blipFill>
          <a:blip r:embed="rId1"/>
          <a:stretch/>
        </p:blipFill>
        <p:spPr>
          <a:xfrm>
            <a:off x="1835280" y="2565360"/>
            <a:ext cx="5473440" cy="3948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9640" y="3357720"/>
            <a:ext cx="764388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вая помощ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2400"/>
            </a:b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авильно оказанная первая помощь сокращает время специального лечения.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время оказанная первая помощь дает шанс пострадавшему вы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9.jpeg"/>
          <p:cNvPicPr/>
          <p:nvPr/>
        </p:nvPicPr>
        <p:blipFill>
          <a:blip r:embed="rId1"/>
          <a:stretch/>
        </p:blipFill>
        <p:spPr>
          <a:xfrm>
            <a:off x="1000080" y="57168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.jpeg"/>
          <p:cNvPicPr/>
          <p:nvPr/>
        </p:nvPicPr>
        <p:blipFill>
          <a:blip r:embed="rId2"/>
          <a:stretch/>
        </p:blipFill>
        <p:spPr>
          <a:xfrm>
            <a:off x="4643280" y="571680"/>
            <a:ext cx="3929400" cy="30002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785880" y="357120"/>
            <a:ext cx="72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иболее распространенные типы пищевых отравлений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>
            <a:hlinkClick r:id="" action="ppaction://hlinkshowjump?jump=nextslide"/>
          </p:cNvPr>
          <p:cNvSpPr/>
          <p:nvPr/>
        </p:nvSpPr>
        <p:spPr>
          <a:xfrm>
            <a:off x="1571760" y="185724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714680" y="3000240"/>
            <a:ext cx="53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714680" y="4714920"/>
            <a:ext cx="5715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5:40:48Z</dcterms:created>
  <dc:creator>STUDENT</dc:creator>
  <dc:description/>
  <dc:language>en-US</dc:language>
  <cp:lastModifiedBy>LEGION</cp:lastModifiedBy>
  <dcterms:modified xsi:type="dcterms:W3CDTF">2015-05-12T08:55:05Z</dcterms:modified>
  <cp:revision>24</cp:revision>
  <dc:subject/>
  <dc:title>Первая помощь при пищевом отравлении</dc:title>
</cp:coreProperties>
</file>