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1.jpeg" ContentType="image/jpeg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6ED7-2C60-4E05-A984-9EDF7C8BE59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мопомощь при тепловых и солнечных ударах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9B68-7013-4716-8EA9-A46A43BC8B1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Солнечные ожоги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7ACE-89A4-4555-8A80-E18E15930BC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СОЛНЕЧНЫХ ОЖ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А КРАСНЕЕТ, БОЛ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Е ОЖОГА  НА КОЖЕ ПОЯВЛЯЮТСЯ ВОЛДЫР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ТЕМПЕРАТУРЫ, ОЗН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ШНОТА И РВ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BA7E-D5A3-4038-8288-D6DBFB3661C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Солнечные ожоги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Как предотвратить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F9AD-7533-43D3-9B2D-CF1B36929ED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йте защитные кр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B19C-B408-41EB-B363-C372FE9D7DE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F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цезащитный фа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56EB-D1D3-455C-B8AF-72D74BA98BD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к предотвратить солнечный удар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е головной у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949B-B2A8-4DBF-A0CA-6EABE2BD9A0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ходите на пляж или с утра или после об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115E-6AF6-429A-9152-DE705301E1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е двигайте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58C9-0EBE-4412-A295-B91A7E9E662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йте больше воды , находясь на солнц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A2D5-DF50-45C7-AFBD-852F726F6A4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пловой уда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зультат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щего перегрева организм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во время пребывания в душном помещении, во время физических нагрузок, в общественном транспорт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D5FD-4B23-4B76-90AC-586762146B1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ереедайте перед походом на пля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314C-B249-406D-A86A-3DFFFA11367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спать на солнц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99BD-6266-4DF1-BB97-CE8FA4FC426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айте под зон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844F-A3AC-4574-B2FB-877536BF441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лнечный уда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регревание в результате длительного пребывания на солнце и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ямого воздействия солнечных луч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ожет проявиться через несколько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54EF-A9E9-4BBE-B468-8944ABAAFCD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сновные признак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солнечного удар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окружение или острая головная б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бость, шум в уш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ькание в глаз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раснение ко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енное дыхание и пуль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темп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шнота (иногда рво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380D-9304-4D0D-8814-5BCC419A54C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ТО ДЕЛА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появлении сильной жажды, сухости во рту, при покраснении кожи лица необходим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йти прохладное мест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выпить воды, принять душ или искупа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80F6-F17E-42C9-82BF-FFD0E5C5641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этого не сделать, появится головная боль, слабость, шум в ушах, тошнота, участятся пульс и дыхание температура тела повыш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тяжелых случаях потеря сознания, судор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9B2B-2A06-4102-AD9A-B1EA9B50939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мощь пострадавшем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нести в прохладное темное место, где есть доступ свежего воздуха, раздеть его, приподнять ноги (на 25 с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сли в сознан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ать выпить холодную жидкость, компресс на голову и шею, обтереть холодной вод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сли без созна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ать понюхать нашатырный спирт, облить водой или завернуть в мокрую тка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звать 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0B6F-620F-4011-9D5F-651F43D1572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чем отличается ТЕПЛОВОЙ УДАР от СОЛНЕЧНО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некоторые люди падают в обморок в душном автобус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2D74-DB26-4C47-9F0A-28BABE777C8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пловой или солнечный удары чаще поражают людей, неправильно одетых, не имеющих головного убора, переутомлен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6E88-29C3-4AE8-9568-F03800881A7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F365-0501-43E4-B49C-9975B6417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B813-68F5-4C77-BF29-B7004893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9909-AD75-4172-9CD2-DFA50FD1A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F13A-F698-4ADD-91DE-715D209BD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719E-32CB-4E11-8BC8-617E8F80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46E7-8606-4B3A-916F-4083C095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0014-D528-4977-8400-D252323D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B225-8F17-4C7E-A957-D8A60E43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9E4C-4B6B-430B-AB03-F3DD3689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F51C-6A30-4D41-9F4A-BE3E4309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FE58-A3B9-43FF-B881-04F8550A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E5C7-BE5D-45D3-9A6D-CEE0D2F6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AFC7-862A-420B-95D3-51C39761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391B-C6C7-4FD6-BF68-D2420077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4040-9784-40EE-B57F-5F41AB18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B56B-423B-4A5E-A4A4-D36A95FDF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9BFF-8E76-4D3A-B5F9-31171C562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DEAA-FC37-413A-AFCA-471651FD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FC15-6A9A-4AC2-83FD-DD345975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06F0-76AC-4604-8B2F-33FE9357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26ED-8030-4266-9168-222C869C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B8FB-ED1A-4C9C-A562-9A2283E5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66E5-444B-40DA-ACB8-A8F7A8CE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A49C-15E3-47E5-AB80-1B2D961A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3DD5-DF75-406B-99C1-B1B5F0322C3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3BFD-4FFC-4BEA-8F98-05291B35F7A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4"/>
          <p:cNvGraphicFramePr/>
          <p:nvPr/>
        </p:nvGraphicFramePr>
        <p:xfrm>
          <a:off x="6191280" y="4017960"/>
          <a:ext cx="2952720" cy="28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1280" y="4017960"/>
                    <a:ext cx="2952720" cy="28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280360" cy="237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c0c0"/>
                </a:solidFill>
                <a:latin typeface="Arial"/>
              </a:rPr>
              <a:t>Самопомощь при тепловых и солнечных ударах .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Солнечные ожоги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ПРИЗНАКИ СОЛНЕЧНЫХ ОЖОГОВ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ЖА КРАСНЕЕТ, БОЛИ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 МЕСТЕ ОЖОГА  НА КОЖЕ ПОЯВЛЯЮТСЯ ВОЛДЫРИ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ВЫШЕНИЕ ТЕМПЕРАТУРЫ, ОЗНО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ОШНОТА И РВО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0c0c0"/>
              </a:solidFill>
              <a:latin typeface="Arial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Солнечные ожоги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ак предотвратить</a:t>
            </a: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Используйте защитные крема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big_1239014954"/>
          <p:cNvPicPr/>
          <p:nvPr/>
        </p:nvPicPr>
        <p:blipFill>
          <a:blip r:embed="rId1"/>
          <a:stretch/>
        </p:blipFill>
        <p:spPr>
          <a:xfrm>
            <a:off x="2124000" y="1557360"/>
            <a:ext cx="3960720" cy="47545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SPF-</a:t>
            </a: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Солнцезащитный фактор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" descr="крем"/>
          <p:cNvPicPr/>
          <p:nvPr/>
        </p:nvPicPr>
        <p:blipFill>
          <a:blip r:embed="rId1"/>
          <a:stretch/>
        </p:blipFill>
        <p:spPr>
          <a:xfrm>
            <a:off x="5724360" y="3284640"/>
            <a:ext cx="2883240" cy="2735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крем 2"/>
          <p:cNvPicPr/>
          <p:nvPr/>
        </p:nvPicPr>
        <p:blipFill>
          <a:blip r:embed="rId2"/>
          <a:stretch/>
        </p:blipFill>
        <p:spPr>
          <a:xfrm>
            <a:off x="539640" y="162864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0c0c0"/>
                </a:solidFill>
                <a:uFillTx/>
                <a:latin typeface="Arial"/>
              </a:rPr>
              <a:t>Как предотвратить солнечный удар?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осите головной убо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4" descr="i_526045_1"/>
          <p:cNvPicPr/>
          <p:nvPr/>
        </p:nvPicPr>
        <p:blipFill>
          <a:blip r:embed="rId1"/>
          <a:stretch/>
        </p:blipFill>
        <p:spPr>
          <a:xfrm>
            <a:off x="2050920" y="2276640"/>
            <a:ext cx="5257800" cy="44240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иходите на пляж или с утра или после обед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foto_422869"/>
          <p:cNvPicPr/>
          <p:nvPr/>
        </p:nvPicPr>
        <p:blipFill>
          <a:blip r:embed="rId1"/>
          <a:stretch/>
        </p:blipFill>
        <p:spPr>
          <a:xfrm>
            <a:off x="4381560" y="3048120"/>
            <a:ext cx="4762440" cy="380988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ольше двигайтесь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5761a18dffc663_b"/>
          <p:cNvPicPr/>
          <p:nvPr/>
        </p:nvPicPr>
        <p:blipFill>
          <a:blip r:embed="rId1"/>
          <a:stretch/>
        </p:blipFill>
        <p:spPr>
          <a:xfrm>
            <a:off x="971640" y="1557360"/>
            <a:ext cx="7200720" cy="480708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Пейте больше воды , находясь на солнце</a:t>
            </a:r>
            <a:br>
              <a:rPr sz="4000"/>
            </a:b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water_bottles_turqoise"/>
          <p:cNvPicPr/>
          <p:nvPr/>
        </p:nvPicPr>
        <p:blipFill>
          <a:blip r:embed="rId1"/>
          <a:stretch/>
        </p:blipFill>
        <p:spPr>
          <a:xfrm>
            <a:off x="2340000" y="1276200"/>
            <a:ext cx="4467240" cy="55818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c0c0"/>
                </a:solidFill>
                <a:latin typeface="Arial"/>
              </a:rPr>
              <a:t>Тепловой удар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результат </a:t>
            </a: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общего перегрева организма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 во время пребывания в душном помещении, во время физических нагрузок, в общественном транспорте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Не переедайте перед походом на пляж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Obesidad-infatil"/>
          <p:cNvPicPr/>
          <p:nvPr/>
        </p:nvPicPr>
        <p:blipFill>
          <a:blip r:embed="rId1"/>
          <a:stretch/>
        </p:blipFill>
        <p:spPr>
          <a:xfrm>
            <a:off x="1692360" y="1700280"/>
            <a:ext cx="5943600" cy="427176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Нельзя спать на солнце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lisa-sleep"/>
          <p:cNvPicPr/>
          <p:nvPr/>
        </p:nvPicPr>
        <p:blipFill>
          <a:blip r:embed="rId1"/>
          <a:stretch/>
        </p:blipFill>
        <p:spPr>
          <a:xfrm>
            <a:off x="1028880" y="1268280"/>
            <a:ext cx="7143480" cy="535968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Отдыхайте под зонтом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зонт"/>
          <p:cNvPicPr/>
          <p:nvPr/>
        </p:nvPicPr>
        <p:blipFill>
          <a:blip r:embed="rId1"/>
          <a:stretch/>
        </p:blipFill>
        <p:spPr>
          <a:xfrm>
            <a:off x="4267080" y="2225520"/>
            <a:ext cx="4876920" cy="46324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056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c0c0"/>
                </a:solidFill>
                <a:latin typeface="Arial"/>
              </a:rPr>
              <a:t>Солнечный удар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ерегревание в результате длительного пребывания на солнце и </a:t>
            </a: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прямого воздействия солнечных луч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может проявиться через несколько час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balltossBg"/>
          <p:cNvPicPr/>
          <p:nvPr/>
        </p:nvPicPr>
        <p:blipFill>
          <a:blip r:embed="rId1"/>
          <a:stretch/>
        </p:blipFill>
        <p:spPr>
          <a:xfrm>
            <a:off x="0" y="0"/>
            <a:ext cx="2484360" cy="14842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260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11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Основные признак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солнечного уда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оловокружение или острая головная бо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лабость, шум в уша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елькание в глаза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краснение кож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чащенное дыхание и пуль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вышение температу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шнота (иногда рвот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c0c0"/>
                </a:solidFill>
                <a:latin typeface="Arial"/>
              </a:rPr>
              <a:t>ЧТО ДЕЛАТЬ?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 появлении сильной жажды, сухости во рту, при покраснении кожи лица необходимо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айти прохладное мест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 выпить воды, принять душ или искупать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2672m"/>
          <p:cNvPicPr/>
          <p:nvPr/>
        </p:nvPicPr>
        <p:blipFill>
          <a:blip r:embed="rId1"/>
          <a:stretch/>
        </p:blipFill>
        <p:spPr>
          <a:xfrm>
            <a:off x="4822920" y="3456000"/>
            <a:ext cx="4321080" cy="3402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-747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08000" y="333360"/>
            <a:ext cx="4572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сли этого не сделать, появится головная боль, слабость, шум в ушах, тошнота, участятся пульс и дыхание температура тела повышает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тяжелых случаях потеря сознания, судорог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400_F_466122_rqr1B7Hi1ocvDf6lhVSOp8wj2C8RsB"/>
          <p:cNvPicPr/>
          <p:nvPr/>
        </p:nvPicPr>
        <p:blipFill>
          <a:blip r:embed="rId1"/>
          <a:stretch/>
        </p:blipFill>
        <p:spPr>
          <a:xfrm>
            <a:off x="4500720" y="1341360"/>
            <a:ext cx="4287600" cy="41752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c0c0"/>
                </a:solidFill>
                <a:latin typeface="Arial"/>
              </a:rPr>
              <a:t>Помощь пострадавшему: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енести в прохладное темное место, где есть доступ свежего воздуха, раздеть его, приподнять ноги (на 25 см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Если в сознани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дать выпить холодную жидкость, компресс на голову и шею, обтереть холодной водо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Если без сознан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дать понюхать нашатырный спирт, облить водой или завернуть в мокрую ткан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звать 0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ак чем отличается ТЕПЛОВОЙ УДАР от СОЛНЕЧНОГ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чему некоторые люди падают в обморок в душном автобус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0560" y="1628280"/>
            <a:ext cx="8893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пловой или солнечный удары чаще поражают людей, неправильно одетых, не имеющих головного убора, переутомленны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5" descr="плакат солнце"/>
          <p:cNvPicPr/>
          <p:nvPr/>
        </p:nvPicPr>
        <p:blipFill>
          <a:blip r:embed="rId1"/>
          <a:stretch/>
        </p:blipFill>
        <p:spPr>
          <a:xfrm>
            <a:off x="2124000" y="620640"/>
            <a:ext cx="3870360" cy="33051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04:39:03Z</dcterms:created>
  <dc:creator>Олег Евгеньевич;Хадыкина Наталья</dc:creator>
  <dc:description/>
  <dc:language>en-US</dc:language>
  <cp:lastModifiedBy>LEGION</cp:lastModifiedBy>
  <dcterms:modified xsi:type="dcterms:W3CDTF">2015-05-12T08:56:02Z</dcterms:modified>
  <cp:revision>56</cp:revision>
  <dc:subject/>
  <dc:title>Самопомощь при тепловых и солнечных ударах</dc:title>
</cp:coreProperties>
</file>