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1.jpeg" ContentType="image/jpe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9BB2-DE6F-4E00-AE28-3DC80B1CC36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помощь при тепловых и солнечных ударах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925B-3224-4238-8F4B-11F45089D3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Солнечные ожоги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D98A-78CB-4A70-8F7D-8D20564CDC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ОЛНЕЧНЫХ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КРАСНЕЕТ, БО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Е ОЖОГА  НА КОЖЕ ПОЯВЛЯЮТСЯ ВОЛДЫР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ТЕМПЕРАТУРЫ, ОЗН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И РВ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CF16-1628-4C21-8526-3C2B4D6136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олнечные ожоги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Как предотвратить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1048-F8AB-469B-8363-59942C551A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защитные кр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2906-09E0-4DF6-87F5-D1677043E5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F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защитный фа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B6E6-912E-4B49-8C51-8D62861757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предотвратить солнечный уда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е головной у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BCC7-6253-46F9-AE4C-351112C7CA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ходите на пляж или с утра или после об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E3E7-0A7D-4468-82F0-19A5B25EEE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двигайте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4132-BD96-47C3-B1C4-5A92B08259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те больше воды , находясь на солнц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1503-A85D-4864-A198-509EE8139C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пловой уда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зультат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щего перегрева организм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о время пребывания в душном помещении, во время физических нагрузок, в общественном транспорт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8478-DBA4-4B89-A077-303F6CD349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ереедайте перед походом на пля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3E48-3E82-4771-B1C8-C7F2AA17D4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спать на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EFF6-8590-4E0A-AC55-E749E192CD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айте под зо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5945-6147-4AF5-8F80-9045F52125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лнечный уд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регревание в результате длительного пребывания на солнце и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ямого воздействия солнечных луч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жет проявиться через несколько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970B-3C46-49AB-923F-546433DF71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сновные признак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солнечного уда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окружение или острая головная б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, шум в уш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ькание в глаз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аснение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енное дыхание и пу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темп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(иногда рво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39D9-45C9-4361-813C-C089C198E1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ДЕЛА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оявлении сильной жажды, сухости во рту, при покраснении кожи лица необходим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йти прохладное мес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выпить воды, принять душ или искупа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6AB2-FAA4-4743-B1E3-AB42E7AC77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этого не сделать, появится головная боль, слабость, шум в ушах, тошнота, участятся пульс и дыхание температура тела повыш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яжелых случаях потеря сознания, су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3CAB-F8E0-42BC-9DAA-30E876B661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мощь пострадавше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нести в прохладное темное место, где есть доступ свежего воздуха, раздеть его, приподнять ноги (на 25 с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ли в сознан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ать выпить холодную жидкость, компресс на голову и шею, обтереть холодной в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ли без созн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ать понюхать нашатырный спирт, облить водой или завернуть в мокрую тка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звать 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B784-797C-4DCA-AE4D-A8461A37DB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чем отличается ТЕПЛОВОЙ УДАР от СОЛНЕЧ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некоторые люди падают в обморок в душном автобус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DF79-5D49-4A90-9199-CB75A73B83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пловой или солнечный удары чаще поражают людей, неправильно одетых, не имеющих головного убора, переутомле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9CAF-D713-4E67-AAE5-FCB06BD12B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2190-F578-4F15-9F4D-DB305DCF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C521-8BC3-423D-BB8C-6F0EE8CC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2BD-0E23-4539-A687-D25675AA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701D-615E-47BE-BF79-29496C66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5E33-B29D-4E93-BDB5-F6910FB5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7835-25D1-4550-B8E0-5DB8EF48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0189-385E-4CCB-B8B8-3093D0F0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EF65-BA99-4409-BD89-151F02ED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B5A3-3142-4AC3-BE96-2C83C114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EE81-1290-4490-A5EF-9EF49588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9BF2-D425-4092-B7A8-E748A3FB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CE3-FAC7-4A4A-9BCD-FA8D9A3A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48CC-3EBD-416A-8E06-59C8C26B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75E2-030D-454A-93E9-0BB12257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1D67-D047-436A-91AD-5082B7E5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B6B9-9A82-4E65-B096-7F76DBFA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C474-E6EB-4F56-BDA6-9FBBDF1C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A427-AABE-4915-813D-CF6803A0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5BB3-2B14-4AC0-B6F9-8FB8B673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D1C-F5D0-4722-AC08-73F91832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7A6-A042-455F-8D7A-1F026659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D42-88B5-4A70-8C45-2A17E86D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9BA-FEC4-462F-82CC-25800560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D2A3-5C13-4797-A3A7-CA1EBD5F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E6DB-0DBF-4A57-BECE-7861B4E8CBE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A8FF-53F6-49E9-BC0F-4D07D6EB43E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4"/>
          <p:cNvGraphicFramePr/>
          <p:nvPr/>
        </p:nvGraphicFramePr>
        <p:xfrm>
          <a:off x="6191280" y="4017960"/>
          <a:ext cx="2952720" cy="28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1280" y="4017960"/>
                    <a:ext cx="295272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280360" cy="237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c0c0"/>
                </a:solidFill>
                <a:latin typeface="Arial"/>
              </a:rPr>
              <a:t>Самопомощь при тепловых и солнечных ударах .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Солнечные ожог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РИЗНАКИ СОЛНЕЧНЫХ ОЖОГОВ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ЖА КРАСНЕЕТ, БОЛ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 МЕСТЕ ОЖОГА  НА КОЖЕ ПОЯВЛЯЮТСЯ ВОЛДЫРИ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ВЫШЕНИЕ ТЕМПЕРАТУРЫ, ОЗНО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ОШНОТА И РВО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Солнечные ожоги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ак предотвратить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Используйте защитные крем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big_1239014954"/>
          <p:cNvPicPr/>
          <p:nvPr/>
        </p:nvPicPr>
        <p:blipFill>
          <a:blip r:embed="rId1"/>
          <a:stretch/>
        </p:blipFill>
        <p:spPr>
          <a:xfrm>
            <a:off x="2124000" y="1557360"/>
            <a:ext cx="3960720" cy="4754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SPF-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Солнцезащитный фактор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крем"/>
          <p:cNvPicPr/>
          <p:nvPr/>
        </p:nvPicPr>
        <p:blipFill>
          <a:blip r:embed="rId1"/>
          <a:stretch/>
        </p:blipFill>
        <p:spPr>
          <a:xfrm>
            <a:off x="5724360" y="3284640"/>
            <a:ext cx="2883240" cy="2735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крем 2"/>
          <p:cNvPicPr/>
          <p:nvPr/>
        </p:nvPicPr>
        <p:blipFill>
          <a:blip r:embed="rId2"/>
          <a:stretch/>
        </p:blipFill>
        <p:spPr>
          <a:xfrm>
            <a:off x="539640" y="162864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c0c0"/>
                </a:solidFill>
                <a:uFillTx/>
                <a:latin typeface="Arial"/>
              </a:rPr>
              <a:t>Как предотвратить солнечный удар?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осите головной у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i_526045_1"/>
          <p:cNvPicPr/>
          <p:nvPr/>
        </p:nvPicPr>
        <p:blipFill>
          <a:blip r:embed="rId1"/>
          <a:stretch/>
        </p:blipFill>
        <p:spPr>
          <a:xfrm>
            <a:off x="2050920" y="2276640"/>
            <a:ext cx="5257800" cy="44240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иходите на пляж или с утра или после обе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foto_422869"/>
          <p:cNvPicPr/>
          <p:nvPr/>
        </p:nvPicPr>
        <p:blipFill>
          <a:blip r:embed="rId1"/>
          <a:stretch/>
        </p:blipFill>
        <p:spPr>
          <a:xfrm>
            <a:off x="4381560" y="304812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ольше двигайтес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5761a18dffc663_b"/>
          <p:cNvPicPr/>
          <p:nvPr/>
        </p:nvPicPr>
        <p:blipFill>
          <a:blip r:embed="rId1"/>
          <a:stretch/>
        </p:blipFill>
        <p:spPr>
          <a:xfrm>
            <a:off x="971640" y="1557360"/>
            <a:ext cx="7200720" cy="48070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Пейте больше воды , находясь на солнце</a:t>
            </a: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water_bottles_turqoise"/>
          <p:cNvPicPr/>
          <p:nvPr/>
        </p:nvPicPr>
        <p:blipFill>
          <a:blip r:embed="rId1"/>
          <a:stretch/>
        </p:blipFill>
        <p:spPr>
          <a:xfrm>
            <a:off x="2340000" y="1276200"/>
            <a:ext cx="4467240" cy="55818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Тепловой удар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результат 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общего перегрева организма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во время пребывания в душном помещении, во время физических нагрузок, в общественном транспорте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Не переедайте перед походом на пляж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Obesidad-infatil"/>
          <p:cNvPicPr/>
          <p:nvPr/>
        </p:nvPicPr>
        <p:blipFill>
          <a:blip r:embed="rId1"/>
          <a:stretch/>
        </p:blipFill>
        <p:spPr>
          <a:xfrm>
            <a:off x="1692360" y="1700280"/>
            <a:ext cx="5943600" cy="42717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Нельзя спать на солнце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lisa-sleep"/>
          <p:cNvPicPr/>
          <p:nvPr/>
        </p:nvPicPr>
        <p:blipFill>
          <a:blip r:embed="rId1"/>
          <a:stretch/>
        </p:blipFill>
        <p:spPr>
          <a:xfrm>
            <a:off x="1028880" y="1268280"/>
            <a:ext cx="7143480" cy="53596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Отдыхайте под зонтом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зонт"/>
          <p:cNvPicPr/>
          <p:nvPr/>
        </p:nvPicPr>
        <p:blipFill>
          <a:blip r:embed="rId1"/>
          <a:stretch/>
        </p:blipFill>
        <p:spPr>
          <a:xfrm>
            <a:off x="4267080" y="2225520"/>
            <a:ext cx="4876920" cy="46324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0560" y="277920"/>
            <a:ext cx="7093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Солнечный удар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ерегревание в результате длительного пребывания на солнце и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прямого воздействия солнечных луч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может проявиться через несколько час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balltossBg"/>
          <p:cNvPicPr/>
          <p:nvPr/>
        </p:nvPicPr>
        <p:blipFill>
          <a:blip r:embed="rId1"/>
          <a:stretch/>
        </p:blipFill>
        <p:spPr>
          <a:xfrm>
            <a:off x="0" y="0"/>
            <a:ext cx="248436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11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Основные признак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олнечного уда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ловокружение или острая головная бо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абость, шум в уш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лькание в глаз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краснение кож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ащенное дыхание и пуль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вышение температу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шнота (иногда рвот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ЧТО ДЕЛАТЬ?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 появлении сильной жажды, сухости во рту, при покраснении кожи лица необходимо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айти прохладное мест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 выпить воды, принять душ или искупа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2672m"/>
          <p:cNvPicPr/>
          <p:nvPr/>
        </p:nvPicPr>
        <p:blipFill>
          <a:blip r:embed="rId1"/>
          <a:stretch/>
        </p:blipFill>
        <p:spPr>
          <a:xfrm>
            <a:off x="4822920" y="3456000"/>
            <a:ext cx="4321080" cy="3402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-747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08000" y="333360"/>
            <a:ext cx="4572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этого не сделать, появится головная боль, слабость, шум в ушах, тошнота, участятся пульс и дыхание температура тела повышае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тяжелых случаях потеря сознания, судор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400_F_466122_rqr1B7Hi1ocvDf6lhVSOp8wj2C8RsB"/>
          <p:cNvPicPr/>
          <p:nvPr/>
        </p:nvPicPr>
        <p:blipFill>
          <a:blip r:embed="rId1"/>
          <a:stretch/>
        </p:blipFill>
        <p:spPr>
          <a:xfrm>
            <a:off x="4500720" y="1341360"/>
            <a:ext cx="4287600" cy="4175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c0c0"/>
                </a:solidFill>
                <a:latin typeface="Arial"/>
              </a:rPr>
              <a:t>Помощь пострадавшему: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нести в прохладное темное место, где есть доступ свежего воздуха, раздеть его, приподнять ноги (на 25 см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в сознан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дать выпить холодную жидкость, компресс на голову и шею, обтереть холодной вод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Если без созн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дать понюхать нашатырный спирт, облить водой или завернуть в мокрую тка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звать 0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ак чем отличается ТЕПЛОВОЙ УДАР от СОЛНЕЧНОГ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чему некоторые люди падают в обморок в душном автобус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пловой или солнечный удары чаще поражают людей, неправильно одетых, не имеющих головного убора, переутомленны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плакат солнце"/>
          <p:cNvPicPr/>
          <p:nvPr/>
        </p:nvPicPr>
        <p:blipFill>
          <a:blip r:embed="rId1"/>
          <a:stretch/>
        </p:blipFill>
        <p:spPr>
          <a:xfrm>
            <a:off x="2124000" y="620640"/>
            <a:ext cx="3870360" cy="33051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04:39:03Z</dcterms:created>
  <dc:creator>Олег Евгеньевич;Хадыкина Наталья</dc:creator>
  <dc:description/>
  <dc:language>en-US</dc:language>
  <cp:lastModifiedBy>LEGION</cp:lastModifiedBy>
  <dcterms:modified xsi:type="dcterms:W3CDTF">2015-05-12T08:56:02Z</dcterms:modified>
  <cp:revision>56</cp:revision>
  <dc:subject/>
  <dc:title>Самопомощь при тепловых и солнечных ударах</dc:title>
</cp:coreProperties>
</file>