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media/image11.jpeg" ContentType="image/jpeg"/>
  <Override PartName="/ppt/media/image8.jpeg" ContentType="image/jpeg"/>
  <Override PartName="/ppt/media/image10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544760" y="1068480"/>
            <a:ext cx="44640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1152360" y="5089680"/>
            <a:ext cx="5253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ff420e"/>
                </a:solidFill>
                <a:latin typeface="Tahoma"/>
                <a:ea typeface="Tahoma"/>
              </a:rPr>
              <a:t>Первая помощь при отравлении угарным газо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филакти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Работы осуществлять в хорошо проветриваемых помещениях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Проверять открытие заслонок при использовании в домах печей и каминов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1152000" y="5089680"/>
            <a:ext cx="5254920" cy="406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uk-UA" sz="1200" spc="-1" strike="noStrike">
                <a:solidFill>
                  <a:srgbClr val="3deb3d"/>
                </a:solidFill>
                <a:latin typeface="Arial Black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Угарный га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47ff"/>
                </a:solidFill>
                <a:latin typeface="Times New Roman"/>
              </a:rPr>
              <a:t>Угарный газ попадает в атмосферный воздух при любых видах горения. В городах в основном в составе выхлопных газов из двигателей внутреннего сгорания. Угарный газ активно связывается с гемоглобином, образуя карбоксигемоглобин, и блокирует передачу кислорода тканевым клеткам, что приводит к гипоксии гемического типа. Угарный газ также включается в окислительные реакции, нарушая биохимическое равновесие в тканях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руппа рис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200" spc="-1" strike="noStrike" u="sng">
                <a:solidFill>
                  <a:srgbClr val="c5000b"/>
                </a:solidFill>
                <a:uFillTx/>
                <a:latin typeface="Times New Roman"/>
              </a:rPr>
              <a:t>Отравление возможно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при пожарах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на производстве, где угарный газ используется для  синтеза ряда органических веществ (ацетон,          метиловый спирт, фенол и т.д.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в гаражах при плохой вентиляции, в других              не проветриваемых или слабо проветриваемых      помещениях, туннелях, так как в выхлопе автомобиля содержится до 1-3 % СО по нормативам и свыше 10 % при плохой регулировке карбюраторного     мотора;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должение(о группе риска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при длительном нахождении на оживленной дороге или рядом с ней. На крупных автострадах средняя концентрация 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</a:rPr>
              <a:t>СО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превышает порог отравления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в домашних условиях при утечке светильного газа и при несвоевременно закрытых печных заслонках в помещениях с печным отоплением (дома, бани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при использовании некачественного воздуха в дыхательных аппаратах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симпто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400" spc="-1" strike="noStrike" u="sng">
                <a:solidFill>
                  <a:srgbClr val="0000ff"/>
                </a:solidFill>
                <a:uFillTx/>
                <a:latin typeface="Times New Roman"/>
              </a:rPr>
              <a:t>При лёгком отравлении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оявляются головная боль, стук в висках, головокружение, боли в груди, 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сухой кашель, слезотечение, тошнота, рвота, возможны зрительные и слуховые галлюцинации, покраснение кожных покровов, карминнокрасная окраска слизистых оболочек, тахикардия, повышение артериального давл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32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326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При отравлении средней тяжес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сонливость, возможен двигательный паралич при сохраненном сознании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000" spc="-1" strike="noStrike" u="sng">
                <a:solidFill>
                  <a:srgbClr val="0000ff"/>
                </a:solidFill>
                <a:uFillTx/>
                <a:latin typeface="Times New Roman"/>
              </a:rPr>
              <a:t>при тяжёлом отравлении:</a:t>
            </a: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потеря сознания, судороги, непроизвольное отхождение мочи и кала, нарушение дыхания, которое становится непрерывным, расширение зрачков с ослабленной реакцией на свет, резкий цианоз (посинение) слизистых оболочек и кожи лица. Смерть обычно наступает на месте происшествия в результате остановки дыхания и падения сердечной деятель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сложн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При выходе из коматозного состояния характерно появление резкого двигательного возбуждения. Возможно повторное развитие комы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dc2300"/>
                </a:solidFill>
                <a:uFillTx/>
                <a:latin typeface="Times New Roman"/>
              </a:rPr>
              <a:t>Часто отмечаются тяжелые осложн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нарушение мозгового кровообраще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субарахноидальные кровоизлияния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полиневриты -явления отека мозг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 нарушение зрения, слух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Возможно развитие инфаркта миокард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Часто наблюдаются кожно-трофические расстройства (пузыри, местные отеки с набуханием и последующим некрозом);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</a:rPr>
              <a:t>-При длительной коме постоянно отмечается тяжелая пневмония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338120" y="1068480"/>
            <a:ext cx="4883400" cy="366372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1152000" y="5089320"/>
            <a:ext cx="5257800" cy="406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ервая помощ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 u="sng">
                <a:solidFill>
                  <a:srgbClr val="dc2300"/>
                </a:solidFill>
                <a:uFillTx/>
                <a:latin typeface="Arial"/>
              </a:rPr>
              <a:t>Для оказания первой помощи необходимо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вызвать «скорую помощь»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spcBef>
                <a:spcPts val="7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•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быстро вынести пострадавшего из зоны действия угарного газа, обеспечить приток свежего воздуха (открыть форточки, двери, включить вентилятор и т. п.);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• дать пострадавшему подышать кислородом;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• на голову и грудь положить холодный компресс или пузырь со льдом;</a:t>
            </a:r>
            <a:br>
              <a:rPr sz="2000"/>
            </a:b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• если пострадавший находится в бессознательном состоянии, через каждые 5 минут давать ему нюхать нашатырный спирт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85E29-4B17-424B-8002-A10E2109BA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7C69A-D1E9-4A8E-8E8E-C701CEFB79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31A64-8E2B-4E36-A47E-F6BE04BB67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124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968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5776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39667-0DC0-47B1-88F8-408E9F519E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BCE1C-2361-472A-87CB-AD3A3B9CC7B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9942E-2993-4CD4-90FB-A07E951FB95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CF083E-653D-4E51-A608-E58FCB660C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17384-1F3B-412E-AFBE-52E203C5160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B99DC-3C52-4A18-B6D2-DC503AF033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41240" y="620640"/>
            <a:ext cx="86011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E42E2-7B76-47B1-8DA0-6452025D22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AFF89-40E0-4767-9D30-07F21270F3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C0055-E2BE-4EE5-B0F3-498AD9785B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C396D-942B-4BE4-8B22-5D3F97CAEB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E8AC8-3A5F-4CA4-8C7D-68322931374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395740-6CFB-4628-9247-ED8E5BAF66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A3700-E2CA-4530-9EE0-AC77650AAC0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4124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968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5776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5A474-388D-469E-A126-2365C3AC365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77CF-9881-40C1-96F1-0B31169A210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B759-2C9A-49BA-9339-908AF5F94E4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9DB2-1B11-4830-98AA-2987BB0AE1B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0569-DDB6-4948-87D4-F22EF86E74B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1C8F-82FC-424D-9C6E-6252DC8F48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127F0-B125-4C5A-9CEA-67058B405EF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741240" y="620640"/>
            <a:ext cx="86011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6A15-AC96-41A4-8DFB-6CF40E90A83D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92CA-3D56-4D09-BE5C-C1C834BAC61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66D4-5BBB-4A55-8F56-BCBFD5E3621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7A2D-7FE0-4F56-BFDA-77B1B3609FA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E15F-EF90-4EE2-964A-B29D98B4CE7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5DDE-72E9-4B26-826E-6EF918B4B84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74124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64968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55776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692F-EE3C-48CA-BC99-A0588F16BE9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E866D0-FB58-40D2-9DCE-4620FEECCB5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5561D5-9B5F-4840-963D-2D2535185F8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8A0F8F-078A-482E-B89D-15FE988379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812BD-AA1A-49BD-AD6E-F10FB9C458D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06041F-214C-4346-AE97-A7660C9C5D81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0E3392-9FBC-466B-A8B2-B3B45976D4A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741240" y="620640"/>
            <a:ext cx="86011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A9B8C5-1C9E-425E-82DC-2753FF9FBCB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2136DC-BEDF-45A8-B7E2-5C508497A65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8BFE77-0231-491A-993E-5AB740B9B92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79B21-D597-4B54-B4CF-5FC4028E576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CA9F5-8099-4894-926C-05978DD427A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5FC93D-0B11-4BFC-80DE-BBD6AA6D9B8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74124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64968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55776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1453A7-A091-43E2-9FEC-44892F25775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CB6CF-AE63-49FF-92FF-A03F5FBB302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741240" y="620640"/>
            <a:ext cx="86011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1240" y="620640"/>
            <a:ext cx="860112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A00ED-C6EE-4CE9-BF46-76D95ECA4D9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64968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557760" y="210132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74124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64968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557760" y="4704480"/>
            <a:ext cx="276948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D3082-524E-416A-8E46-0551C0DA87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8720" y="470448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9D695F-F875-4F72-BCEB-E6DA550724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124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8720" y="2101320"/>
            <a:ext cx="419724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1240" y="4704480"/>
            <a:ext cx="8601120" cy="23770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5510D-D40C-41D4-8E58-00F9D4CEC6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01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01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504720" y="6886440"/>
            <a:ext cx="23432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AAF97B-1E4A-4E8C-9B45-D6D6AF58DD1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4360" y="301320"/>
            <a:ext cx="906012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4360" y="1768320"/>
            <a:ext cx="9060120" cy="4980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504720" y="6886440"/>
            <a:ext cx="234324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7227720" y="688644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8B2B8D-5D62-4163-AE50-A91B2CF536C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4720" y="282240"/>
            <a:ext cx="9066240" cy="159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4720" y="2099880"/>
            <a:ext cx="9066240" cy="4529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504720" y="6885000"/>
            <a:ext cx="23511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3444840" y="6885000"/>
            <a:ext cx="31910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7224480" y="6885000"/>
            <a:ext cx="2346120" cy="5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964070-D70E-4601-8129-B94C14869F9B}" type="slidenum"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AutoShape 1"/>
          <p:cNvSpPr/>
          <p:nvPr/>
        </p:nvSpPr>
        <p:spPr>
          <a:xfrm>
            <a:off x="314280" y="3090960"/>
            <a:ext cx="3240" cy="3344760"/>
          </a:xfrm>
          <a:custGeom>
            <a:avLst/>
            <a:gdLst>
              <a:gd name="textAreaLeft" fmla="*/ 0 w 3240"/>
              <a:gd name="textAreaRight" fmla="*/ 3600 w 3240"/>
              <a:gd name="textAreaTop" fmla="*/ 0 h 3344760"/>
              <a:gd name="textAreaBottom" fmla="*/ 3345120 h 3344760"/>
            </a:gdLst>
            <a:ahLst/>
            <a:rect l="textAreaLeft" t="textAreaTop" r="textAreaRight" b="textAreaBottom"/>
            <a:pathLst>
              <a:path w="3175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4720" y="282240"/>
            <a:ext cx="9066240" cy="1592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9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504720" y="2099880"/>
            <a:ext cx="9066240" cy="45291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876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3444840" y="6885000"/>
            <a:ext cx="319104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7224480" y="6885000"/>
            <a:ext cx="2346120" cy="51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5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E1A386-E29D-4772-8B93-7770F86B78F9}" type="slidenum">
              <a:rPr b="0" lang="ru-RU" sz="15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04720" y="6885000"/>
            <a:ext cx="235116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41240" y="620640"/>
            <a:ext cx="8601120" cy="127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41240" y="2101320"/>
            <a:ext cx="8601120" cy="498348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49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2"/>
          <p:cNvSpPr/>
          <p:nvPr/>
        </p:nvSpPr>
        <p:spPr>
          <a:xfrm>
            <a:off x="0" y="230040"/>
            <a:ext cx="10080720" cy="13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260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5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MS Gothic"/>
              </a:rPr>
              <a:t>Государственное образовательное учреждение среднего профессионального образования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MS Gothic"/>
              </a:rPr>
              <a:t>Комитета по  здравоохранению Администрации Волгоградской област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Times New Roman"/>
                <a:ea typeface="MS Gothic"/>
              </a:rPr>
              <a:t> «Медицинский колледж №1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 Box 3"/>
          <p:cNvSpPr/>
          <p:nvPr/>
        </p:nvSpPr>
        <p:spPr>
          <a:xfrm>
            <a:off x="504720" y="1989000"/>
            <a:ext cx="9075960" cy="42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1000"/>
              </a:lnSpc>
              <a:spcBef>
                <a:spcPts val="1225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1225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WordArt 4"/>
          <p:cNvSpPr txBox="1"/>
          <p:nvPr/>
        </p:nvSpPr>
        <p:spPr>
          <a:xfrm>
            <a:off x="216000" y="1467000"/>
            <a:ext cx="9864720" cy="45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420e"/>
                </a:solidFill>
                <a:effectLst>
                  <a:outerShdw dist="152735" dir="2700000" blurRad="0" rotWithShape="0">
                    <a:srgbClr val="868686"/>
                  </a:outerShdw>
                </a:effectLst>
                <a:latin typeface="Tahoma"/>
              </a:rPr>
              <a:t>Первая помощь при отравлении угарным газо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420e"/>
              </a:solidFill>
              <a:effectLst>
                <a:outerShdw dist="152735" dir="2700000" blurRad="0" rotWithShape="0">
                  <a:srgbClr val="868686"/>
                </a:outerShdw>
              </a:effectLst>
              <a:latin typeface="Tahoma"/>
              <a:ea typeface="Tahoma"/>
            </a:endParaRPr>
          </a:p>
        </p:txBody>
      </p:sp>
      <p:graphicFrame>
        <p:nvGraphicFramePr>
          <p:cNvPr id="213" name="Object 5"/>
          <p:cNvGraphicFramePr/>
          <p:nvPr/>
        </p:nvGraphicFramePr>
        <p:xfrm>
          <a:off x="4824360" y="6086520"/>
          <a:ext cx="6099120" cy="10713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1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24360" y="6086520"/>
                    <a:ext cx="6099120" cy="107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Text Box 1"/>
          <p:cNvSpPr/>
          <p:nvPr/>
        </p:nvSpPr>
        <p:spPr>
          <a:xfrm>
            <a:off x="463680" y="-720720"/>
            <a:ext cx="9075600" cy="23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Профилакти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182520" y="1494000"/>
            <a:ext cx="8609040" cy="63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-Работы осуществлять в хорошо проветриваемых помещениях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Проверять открытие заслонок при использовании в домах печей и каминов 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4" descr="F:\73241668.jpg"/>
          <p:cNvPicPr/>
          <p:nvPr/>
        </p:nvPicPr>
        <p:blipFill>
          <a:blip r:embed="rId1"/>
          <a:stretch/>
        </p:blipFill>
        <p:spPr>
          <a:xfrm>
            <a:off x="5111640" y="4208400"/>
            <a:ext cx="4969080" cy="33512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770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2" dur="77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74" dur="77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7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6" dur="77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77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92040" y="2309760"/>
            <a:ext cx="8607240" cy="1301760"/>
          </a:xfrm>
          <a:prstGeom prst="rect">
            <a:avLst/>
          </a:prstGeom>
          <a:noFill/>
          <a:ln w="0">
            <a:noFill/>
          </a:ln>
        </p:spPr>
        <p:txBody>
          <a:bodyPr lIns="0" rIns="0" tIns="277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WordArt 2"/>
          <p:cNvSpPr txBox="1"/>
          <p:nvPr/>
        </p:nvSpPr>
        <p:spPr>
          <a:xfrm>
            <a:off x="1979640" y="2340000"/>
            <a:ext cx="594036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20648"/>
                <a:gd name="adj2" fmla="val -157"/>
              </a:avLst>
            </a:prstTxWarp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deb3d"/>
                </a:solidFill>
                <a:effectLst>
                  <a:outerShdw dist="152735" dir="2700000" blurRad="0" rotWithShape="0">
                    <a:srgbClr val="808080"/>
                  </a:outerShdw>
                </a:effectLst>
                <a:latin typeface="Arial Black"/>
              </a:rPr>
              <a:t>Спасибо за внимание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deb3d"/>
              </a:solidFill>
              <a:effectLst>
                <a:outerShdw dist="152735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push dir="l"/>
  </p:transition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"/>
          <p:cNvSpPr/>
          <p:nvPr/>
        </p:nvSpPr>
        <p:spPr>
          <a:xfrm>
            <a:off x="730080" y="679320"/>
            <a:ext cx="860904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2"/>
          <p:cNvSpPr/>
          <p:nvPr/>
        </p:nvSpPr>
        <p:spPr>
          <a:xfrm>
            <a:off x="730080" y="2100240"/>
            <a:ext cx="8609040" cy="50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1" descr=""/>
          <p:cNvPicPr/>
          <p:nvPr/>
        </p:nvPicPr>
        <p:blipFill>
          <a:blip r:embed="rId1"/>
          <a:stretch/>
        </p:blipFill>
        <p:spPr>
          <a:xfrm>
            <a:off x="0" y="4500720"/>
            <a:ext cx="10080720" cy="30589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2"/>
          <p:cNvSpPr/>
          <p:nvPr/>
        </p:nvSpPr>
        <p:spPr>
          <a:xfrm>
            <a:off x="571680" y="-184320"/>
            <a:ext cx="860868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  <a:ea typeface="MS Gothic"/>
              </a:rPr>
              <a:t>Угарный газ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539640" y="950760"/>
            <a:ext cx="8609040" cy="55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7640" bIns="0" anchor="t">
            <a:noAutofit/>
          </a:bodyPr>
          <a:p>
            <a:pPr algn="just"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47ff"/>
                </a:solidFill>
                <a:latin typeface="Times New Roman"/>
                <a:ea typeface="MS Gothic"/>
              </a:rPr>
              <a:t>Угарный газ попадает в атмосферный воздух при любых видах горения. В городах в основном в составе выхлопных газов из двигателей внутреннего сгорания. Угарный газ активно связывается с гемоглобином, образуя карбоксигемоглобин, и блокирует передачу кислорода тканевым клеткам, что приводит к гипоксии гемического типа. Угарный газ также включается в окислительные реакции, нарушая биохимическое равновесие в тканях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 Box 1"/>
          <p:cNvSpPr/>
          <p:nvPr/>
        </p:nvSpPr>
        <p:spPr>
          <a:xfrm>
            <a:off x="-603360" y="-220680"/>
            <a:ext cx="9075960" cy="15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Verdana"/>
                <a:ea typeface="MS Gothic"/>
              </a:rPr>
              <a:t>Группа риска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2"/>
          <p:cNvSpPr/>
          <p:nvPr/>
        </p:nvSpPr>
        <p:spPr>
          <a:xfrm>
            <a:off x="0" y="922320"/>
            <a:ext cx="9180360" cy="56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000" spc="-1" strike="noStrike" u="sng">
                <a:solidFill>
                  <a:srgbClr val="c5000b"/>
                </a:solidFill>
                <a:uFillTx/>
                <a:latin typeface="Times New Roman"/>
                <a:ea typeface="MS Gothic"/>
              </a:rPr>
              <a:t>Отравление возможно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при пожарах 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на производстве, где угарный газ используется для  синтеза ряда органических веществ (ацетон,          метиловый спирт, фенол и т.д.)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в гаражах при плохой вентиляции, в других              не проветриваемых или слабо проветриваемых      помещениях, туннелях, так как в выхлопе автомобиля содержится до 1-3 % СО по нормативам и свыше 10 % при плохой регулировке карбюраторного     мотора;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5" descr="F:\6058.jpg"/>
          <p:cNvPicPr/>
          <p:nvPr/>
        </p:nvPicPr>
        <p:blipFill>
          <a:blip r:embed="rId1"/>
          <a:stretch/>
        </p:blipFill>
        <p:spPr>
          <a:xfrm>
            <a:off x="6508800" y="0"/>
            <a:ext cx="3571920" cy="235728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77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" dur="77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" dur="77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Text Box 1"/>
          <p:cNvSpPr/>
          <p:nvPr/>
        </p:nvSpPr>
        <p:spPr>
          <a:xfrm>
            <a:off x="754200" y="0"/>
            <a:ext cx="860904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MS Gothic"/>
              </a:rPr>
              <a:t>Продолжение(о группе риска)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182520" y="1279440"/>
            <a:ext cx="9075960" cy="453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0160" bIns="0" anchor="t">
            <a:noAutofit/>
          </a:bodyPr>
          <a:p>
            <a:pPr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при длительном нахождении на оживленной дороге или рядом с ней. На крупных автострадах средняя концентрация </a:t>
            </a: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MS Gothic"/>
              </a:rPr>
              <a:t>СО 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превышает порог отравления;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в домашних условиях при утечке светильного газа и при несвоевременно закрытых печных заслонках в помещениях с печным отоплением (дома, бани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87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при использовании некачественного воздуха в дыхательных аппаратах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5" descr="F:\12635409589019.jpg"/>
          <p:cNvPicPr/>
          <p:nvPr/>
        </p:nvPicPr>
        <p:blipFill>
          <a:blip r:embed="rId1"/>
          <a:stretch/>
        </p:blipFill>
        <p:spPr>
          <a:xfrm>
            <a:off x="7008840" y="5345280"/>
            <a:ext cx="3071880" cy="2214360"/>
          </a:xfrm>
          <a:prstGeom prst="rect">
            <a:avLst/>
          </a:prstGeom>
          <a:ln w="0">
            <a:noFill/>
          </a:ln>
        </p:spPr>
      </p:pic>
    </p:spTree>
  </p:cSld>
  <p:transition>
    <p:push dir="l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77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0" dur="77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4" dur="77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5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1"/>
          <p:cNvSpPr/>
          <p:nvPr/>
        </p:nvSpPr>
        <p:spPr>
          <a:xfrm>
            <a:off x="504720" y="-360360"/>
            <a:ext cx="9075960" cy="22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MS Gothic"/>
              </a:rPr>
              <a:t>Симптом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2"/>
          <p:cNvSpPr/>
          <p:nvPr/>
        </p:nvSpPr>
        <p:spPr>
          <a:xfrm>
            <a:off x="360360" y="360360"/>
            <a:ext cx="8820000" cy="66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Times New Roman"/>
                <a:ea typeface="MS Gothic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600" spc="-1" strike="noStrike" u="sng">
                <a:solidFill>
                  <a:srgbClr val="0000ff"/>
                </a:solidFill>
                <a:uFillTx/>
                <a:latin typeface="Times New Roman"/>
                <a:ea typeface="MS Gothic"/>
              </a:rPr>
              <a:t>При лёгком отравлении: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ff"/>
                </a:solidFill>
                <a:latin typeface="Times New Roman"/>
                <a:ea typeface="MS Gothic"/>
              </a:rPr>
              <a:t>появляются головная боль, стук в висках, головокружение, боли в груди,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MS Gothic"/>
              </a:rPr>
              <a:t>сухой кашель, слезотечение, тошнота, рвота, возможны зрительные и слуховые галлюцинации, покраснение кожных покровов, карминнокрасная окраска слизистых оболочек, тахикардия, повышение артериального давлени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4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3"/>
          <p:cNvSpPr/>
          <p:nvPr/>
        </p:nvSpPr>
        <p:spPr>
          <a:xfrm>
            <a:off x="179280" y="4319640"/>
            <a:ext cx="994572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spcBef>
                <a:spcPts val="32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32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MS Gothic"/>
              </a:rPr>
              <a:t>При отравлении средней тяжест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MS Gothic"/>
              </a:rPr>
              <a:t>сонливость, возможен двигательный паралич при сохраненном сознании 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77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77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8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9" dur="77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0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2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ext Box 1"/>
          <p:cNvSpPr/>
          <p:nvPr/>
        </p:nvSpPr>
        <p:spPr>
          <a:xfrm>
            <a:off x="730080" y="679320"/>
            <a:ext cx="860904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Text Box 2"/>
          <p:cNvSpPr/>
          <p:nvPr/>
        </p:nvSpPr>
        <p:spPr>
          <a:xfrm>
            <a:off x="750960" y="1079640"/>
            <a:ext cx="8609040" cy="63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040" bIns="0" anchor="t">
            <a:noAutofit/>
          </a:bodyPr>
          <a:p>
            <a:pPr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326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1440000" y="179280"/>
            <a:ext cx="852480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0" y="684360"/>
            <a:ext cx="99252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Times New Roman"/>
                <a:ea typeface="MS Gothic"/>
              </a:rPr>
              <a:t>при тяжёлом отравлении:</a:t>
            </a: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601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Times New Roman"/>
                <a:ea typeface="MS Gothic"/>
              </a:rPr>
              <a:t>потеря сознания, судороги, непроизвольное отхождение мочи и кала, нарушение дыхания, которое становится непрерывным, расширение зрачков с ослабленной реакцией на свет, резкий цианоз (посинение) слизистых оболочек и кожи лица. Смерть обычно наступает на месте происшествия в результате остановки дыхания и падения сердечной деятельност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77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77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9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1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1"/>
          <p:cNvSpPr/>
          <p:nvPr/>
        </p:nvSpPr>
        <p:spPr>
          <a:xfrm>
            <a:off x="179280" y="179280"/>
            <a:ext cx="8609040" cy="12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Осложн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284040" y="1401840"/>
            <a:ext cx="9075960" cy="453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4040" bIns="0" anchor="t">
            <a:noAutofit/>
          </a:bodyPr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MS Gothic"/>
              </a:rPr>
              <a:t>При выходе из коматозного состояния характерно появление резкого двигательного возбуждения. Возможно повторное развитие ком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400" spc="-1" strike="noStrike" u="sng">
                <a:solidFill>
                  <a:srgbClr val="dc2300"/>
                </a:solidFill>
                <a:uFillTx/>
                <a:latin typeface="Times New Roman"/>
                <a:ea typeface="MS Gothic"/>
              </a:rPr>
              <a:t>Часто отмечаются тяжелые осложнения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нарушение мозгового кровообраще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субарахноидальные кровоизлияния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полиневриты -явления отека мозг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 нарушение зрения, слух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Возможно развитие инфаркта миокарда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Часто наблюдаются кожно-трофические расстройства (пузыри, местные отеки с набуханием и последующим некрозом);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spcAft>
                <a:spcPts val="1412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ff"/>
                </a:solidFill>
                <a:latin typeface="Times New Roman"/>
                <a:ea typeface="MS Gothic"/>
              </a:rPr>
              <a:t>-При длительной коме постоянно отмечается тяжелая пневмони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77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5" dur="77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6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7" dur="77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8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9" dur="770" fill="hold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0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1" descr=""/>
          <p:cNvPicPr/>
          <p:nvPr/>
        </p:nvPicPr>
        <p:blipFill>
          <a:blip r:embed="rId1"/>
          <a:stretch/>
        </p:blipFill>
        <p:spPr>
          <a:xfrm>
            <a:off x="7380360" y="5400720"/>
            <a:ext cx="2700360" cy="216072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2"/>
          <p:cNvSpPr/>
          <p:nvPr/>
        </p:nvSpPr>
        <p:spPr>
          <a:xfrm>
            <a:off x="647640" y="0"/>
            <a:ext cx="9075960" cy="15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MS Gothic"/>
              </a:rPr>
              <a:t>Первая помощ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3"/>
          <p:cNvSpPr/>
          <p:nvPr/>
        </p:nvSpPr>
        <p:spPr>
          <a:xfrm>
            <a:off x="-4319640" y="-179280"/>
            <a:ext cx="13032000" cy="688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16000" y="1187280"/>
            <a:ext cx="9001080" cy="56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800" spc="-1" strike="noStrike" u="sng">
                <a:solidFill>
                  <a:srgbClr val="dc2300"/>
                </a:solidFill>
                <a:uFillTx/>
                <a:latin typeface="Arial"/>
                <a:ea typeface="MS Gothic"/>
              </a:rPr>
              <a:t>Для оказания первой помощи необходим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2200"/>
            </a:b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MS Gothic"/>
              </a:rPr>
              <a:t>•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MS Gothic"/>
              </a:rPr>
              <a:t>вызвать «скорую помощь»</a:t>
            </a:r>
            <a:r>
              <a:rPr b="1" lang="ru-RU" sz="2600" spc="-1" strike="noStrike">
                <a:solidFill>
                  <a:srgbClr val="0000ff"/>
                </a:solidFill>
                <a:latin typeface="Arial"/>
                <a:ea typeface="MS Gothic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MS Gothic"/>
              </a:rPr>
              <a:t>• </a:t>
            </a:r>
            <a:r>
              <a:rPr b="1" lang="en-US" sz="2600" spc="-1" strike="noStrike">
                <a:solidFill>
                  <a:srgbClr val="0000ff"/>
                </a:solidFill>
                <a:latin typeface="Arial"/>
                <a:ea typeface="MS Gothic"/>
              </a:rPr>
              <a:t>быстро вынести пострадавшего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MS Gothic"/>
              </a:rPr>
              <a:t> из зоны действия угарного газа, обеспечить приток свежего воздуха (открыть форточки, двери, включить вентилятор и т. п.);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MS Gothic"/>
              </a:rPr>
              <a:t>• дать пострадавшему подышать кислородом;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MS Gothic"/>
              </a:rPr>
              <a:t>• на голову и грудь положить холодный компресс или пузырь со льдом;</a:t>
            </a:r>
            <a:br>
              <a:rPr sz="2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MS Gothic"/>
              </a:rPr>
              <a:t>• если пострадавший находится в бессознательном состоянии, через каждые 5 минут давать ему нюхать нашатырный спирт</a:t>
            </a:r>
            <a:r>
              <a:rPr b="1" lang="ru-RU" sz="2800" spc="-1" strike="noStrike">
                <a:solidFill>
                  <a:srgbClr val="0000ff"/>
                </a:solidFill>
                <a:latin typeface="Arial"/>
                <a:ea typeface="MS Gothic"/>
              </a:rPr>
              <a:t>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l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77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9" dur="77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0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41" dur="77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2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3" dur="77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4" dur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9T17:40:54Z</dcterms:created>
  <dc:creator/>
  <dc:description/>
  <dc:language>en-US</dc:language>
  <cp:lastModifiedBy>LEGION</cp:lastModifiedBy>
  <dcterms:modified xsi:type="dcterms:W3CDTF">2015-05-12T08:57:11Z</dcterms:modified>
  <cp:revision>18</cp:revision>
  <dc:subject/>
  <dc:title>Первая помощь при отравлении угарным газом</dc:title>
</cp:coreProperties>
</file>