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544760" y="106848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52360" y="5089680"/>
            <a:ext cx="5253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420e"/>
                </a:solidFill>
                <a:latin typeface="Tahoma"/>
                <a:ea typeface="Tahoma"/>
              </a:rPr>
              <a:t>Первая помощь при отравлении угарным га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Работы осуществлять в хорошо проветриваемых помещения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оверять открытие заслонок при использовании в домах печей и каминов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3deb3d"/>
                </a:solidFill>
                <a:latin typeface="Arial Blac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47ff"/>
                </a:solidFill>
                <a:latin typeface="Times New Roman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а ри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5000b"/>
                </a:solidFill>
                <a:uFillTx/>
                <a:latin typeface="Times New Roman"/>
              </a:rPr>
              <a:t>Отравление возмож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пожара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ение(о группе рис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ревышает порог отравления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использовании некачественного воздуха в дыхательных аппара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лёгком отравле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являются головная боль, стук в висках, головокружение, боли в груди,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отравлении средней тяж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нливость, возможен двигательный паралич при сохраненном сознании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при тяжёлом отравлении: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ло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убарахноидальные кровоизлия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олиневриты -явления отека моз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нарушение зрения, слух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dc2300"/>
                </a:solidFill>
                <a:uFillTx/>
                <a:latin typeface="Arial"/>
              </a:rPr>
              <a:t>Для оказания первой помощи необходим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звать «скорую помощь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ыстро вынести пострадавшего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дать пострадавшему подышать кислоро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на голову и грудь положить холодный компресс или пузырь со ль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F94E-203D-43BB-A524-D5C6E9030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B315-8534-4671-85FF-7F9418EB6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FEE0-7ADC-494E-9C51-65AC70263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960C-C268-4B0D-B8AB-678B09256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F977-E250-4347-A9D3-1FA112CB07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5CFD-953F-4E49-A548-8FA9F8E7E9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C011-0457-4268-B8DD-C6C14FA666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EF59-654C-4639-A0FF-79B1C778E2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68A2-9DAC-439B-8ED3-6A810015C6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499C-93FA-41B9-B89B-FD34894C80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FFABD-EC10-45F8-9B3D-D0DA07EEA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A1DA-6101-40E4-B7D5-A6BA4F7F0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137A-E935-46B6-BDCD-A3A3133DF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36A1-0DD4-471A-B2EA-00F312F689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0F26-B75E-4355-888A-A637C83E39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3E28-72BF-4888-A1C1-6ABAC21429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57AB-5E46-4180-8C85-EDC728DD67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D88-4ED7-4680-8250-BDEA348196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9B8-3598-4F20-AB6D-15568AFCCD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B5F-8B94-4D4D-BFB6-7F31222580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F03-9A32-423B-90D6-C66A506712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FA0-64EC-4E18-A523-C739E4111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4159-65D9-44DF-91A3-71537FCB82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923-EC55-4D45-AEEA-5D782FF5AD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9EF-FB57-4530-9292-E8ECF4EA09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582-A614-4E64-9232-231B0CD779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73E-A278-480E-AE25-2094BF5F80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59B-8FBD-4B54-9226-4E3433D2B2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175-7794-4E8F-91AE-42DDEF2A9C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FFD-75F4-40BC-A555-79D02D599E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D00D4-A8FB-4FE0-A26F-BF3EE4E665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06288-0E33-4363-963D-4F793E4228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079A1-FF93-4058-AFD9-8B39A9045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BE09-3013-4F96-8373-861D6CEA70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386BF-3DF5-4689-8522-B494835AB5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2D5F7-D15E-421E-8426-78B148070B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EE8DF-AC4D-485E-992A-D7079F5214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9D49D-982F-4E91-A47F-0041C33EA8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DD77D-FCBF-490C-ACF2-C1D7BFCA6B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EAE52-9B6B-45C2-9AEC-5D566B347E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2056E-A607-499D-8D7B-C1EC3ACB11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34989-C912-46BD-B6D3-B08891328F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C03E5-3AF6-4C77-9ED0-E2C65AA5BE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DFAC-0F24-43D2-B6A9-558FD38F89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B977-578D-4652-BEA4-32E21996D8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9271-1590-4773-9351-8A460745C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975C-697B-4206-9AAD-BD23C1005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0FF6-BD52-430F-9788-2C0D45C11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CBB0A-FF61-4A3D-A194-7E8322A7EB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5F3B5-EEA6-4DC0-93F1-4667CE047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79556-F9CE-441C-A6B2-63065C4C5A8B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"/>
          <p:cNvSpPr/>
          <p:nvPr/>
        </p:nvSpPr>
        <p:spPr>
          <a:xfrm>
            <a:off x="314280" y="3090960"/>
            <a:ext cx="3240" cy="3344760"/>
          </a:xfrm>
          <a:custGeom>
            <a:avLst/>
            <a:gdLst>
              <a:gd name="textAreaLeft" fmla="*/ 0 w 3240"/>
              <a:gd name="textAreaRight" fmla="*/ 3600 w 3240"/>
              <a:gd name="textAreaTop" fmla="*/ 0 h 3344760"/>
              <a:gd name="textAreaBottom" fmla="*/ 3345120 h 3344760"/>
            </a:gdLst>
            <a:ahLst/>
            <a:rect l="textAreaLeft" t="textAreaTop" r="textAreaRight" b="textAreaBottom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5ECB5-6E2F-4DF3-824B-C5A567FB8F0F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0" y="230040"/>
            <a:ext cx="10080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Государственное образовательное учреждение средне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Комитета по  здравоохранению Администрации Волгоград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 «Медицинский колледж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04720" y="1989000"/>
            <a:ext cx="907596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6000" y="1467000"/>
            <a:ext cx="9864720" cy="45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20e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Tahoma"/>
              </a:rPr>
              <a:t>Первая помощь при отравлении угарным газ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20e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4824360" y="6086520"/>
          <a:ext cx="6099120" cy="107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6086520"/>
                    <a:ext cx="60991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63680" y="-720720"/>
            <a:ext cx="9075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фила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82520" y="1494000"/>
            <a:ext cx="86090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Работы осуществлять в хорошо проветриваемых помещениях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оверять открытие заслонок при использовании в домах печей и каминов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:\73241668.jpg"/>
          <p:cNvPicPr/>
          <p:nvPr/>
        </p:nvPicPr>
        <p:blipFill>
          <a:blip r:embed="rId1"/>
          <a:stretch/>
        </p:blipFill>
        <p:spPr>
          <a:xfrm>
            <a:off x="5111640" y="4208400"/>
            <a:ext cx="4969080" cy="3351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2040" y="2309760"/>
            <a:ext cx="86072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2"/>
          <p:cNvSpPr txBox="1"/>
          <p:nvPr/>
        </p:nvSpPr>
        <p:spPr>
          <a:xfrm>
            <a:off x="1979640" y="2340000"/>
            <a:ext cx="59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-1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deb3d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Arial Black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deb3d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30080" y="2100240"/>
            <a:ext cx="8609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0" y="4500720"/>
            <a:ext cx="10080720" cy="3058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571680" y="-184320"/>
            <a:ext cx="86086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Угарный г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950760"/>
            <a:ext cx="86090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7ff"/>
                </a:solidFill>
                <a:latin typeface="Times New Roman"/>
                <a:ea typeface="MS Gothic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-603360" y="-22068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Группа рис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0" y="922320"/>
            <a:ext cx="9180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5000b"/>
                </a:solidFill>
                <a:uFillTx/>
                <a:latin typeface="Times New Roman"/>
                <a:ea typeface="MS Gothic"/>
              </a:rPr>
              <a:t>Отравление возмож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пожарах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F:\6058.jpg"/>
          <p:cNvPicPr/>
          <p:nvPr/>
        </p:nvPicPr>
        <p:blipFill>
          <a:blip r:embed="rId1"/>
          <a:stretch/>
        </p:blipFill>
        <p:spPr>
          <a:xfrm>
            <a:off x="6508800" y="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754200" y="0"/>
            <a:ext cx="86090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должение(о группе риск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82520" y="1279440"/>
            <a:ext cx="90759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евышает порог отравления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использовании некачественного воздуха в дыхательных аппарат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F:\12635409589019.jpg"/>
          <p:cNvPicPr/>
          <p:nvPr/>
        </p:nvPicPr>
        <p:blipFill>
          <a:blip r:embed="rId1"/>
          <a:stretch/>
        </p:blipFill>
        <p:spPr>
          <a:xfrm>
            <a:off x="7008840" y="5345280"/>
            <a:ext cx="3071880" cy="2214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04720" y="-360360"/>
            <a:ext cx="90759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60360" y="360360"/>
            <a:ext cx="88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лёгком отравлени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являются головная боль, стук в висках, головокружение, боли в груди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9280" y="4319640"/>
            <a:ext cx="9945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отравлении средней тяж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онливость, возможен двигательный паралич при сохраненном сознани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50960" y="1079640"/>
            <a:ext cx="860904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440000" y="179280"/>
            <a:ext cx="85248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684360"/>
            <a:ext cx="9925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тяжёлом отравлении: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79280" y="17928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слож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84040" y="1401840"/>
            <a:ext cx="90759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  <a:ea typeface="MS Gothic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субарахноидальные кровоизлия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олиневриты -явления отека моз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 нарушение зрения,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7380360" y="540072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647640" y="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рвая помощ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-4319640" y="-179280"/>
            <a:ext cx="13032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16000" y="1187280"/>
            <a:ext cx="90010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dc2300"/>
                </a:solidFill>
                <a:uFillTx/>
                <a:latin typeface="Arial"/>
                <a:ea typeface="MS Gothic"/>
              </a:rPr>
              <a:t>Для оказания первой помощи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вызвать «скорую помощь»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MS Gothic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быстро вынести пострадавшег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дать пострадавшему подышать кислоро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на голову и грудь положить холодный компресс или пузырь со ль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MS Gothic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40:54Z</dcterms:created>
  <dc:creator/>
  <dc:description/>
  <dc:language>en-US</dc:language>
  <cp:lastModifiedBy>LEGION</cp:lastModifiedBy>
  <dcterms:modified xsi:type="dcterms:W3CDTF">2015-05-12T08:57:11Z</dcterms:modified>
  <cp:revision>18</cp:revision>
  <dc:subject/>
  <dc:title>Первая помощь при отравлении угарным газом</dc:title>
</cp:coreProperties>
</file>