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544760" y="106848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52360" y="5089680"/>
            <a:ext cx="5253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420e"/>
                </a:solidFill>
                <a:latin typeface="Tahoma"/>
                <a:ea typeface="Tahoma"/>
              </a:rPr>
              <a:t>Первая помощь при отравлении угарным газ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Работы осуществлять в хорошо проветриваемых помещения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оверять открытие заслонок при использовании в домах печей и каминов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3deb3d"/>
                </a:solidFill>
                <a:latin typeface="Arial Blac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47ff"/>
                </a:solidFill>
                <a:latin typeface="Times New Roman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а ри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5000b"/>
                </a:solidFill>
                <a:uFillTx/>
                <a:latin typeface="Times New Roman"/>
              </a:rPr>
              <a:t>Отравление возмож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пожара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ение(о группе рис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О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ревышает порог отравления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использовании некачественного воздуха в дыхательных аппара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лёгком отравлен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являются головная боль, стук в висках, головокружение, боли в груди,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отравлении средней тяж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нливость, возможен двигательный паралич при сохраненном сознании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при тяжёлом отравлении: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ло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субарахноидальные кровоизлия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олиневриты -явления отека моз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нарушение зрения, слух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dc2300"/>
                </a:solidFill>
                <a:uFillTx/>
                <a:latin typeface="Arial"/>
              </a:rPr>
              <a:t>Для оказания первой помощи необходим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звать «скорую помощь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ыстро вынести пострадавшего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дать пострадавшему подышать кислоро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на голову и грудь положить холодный компресс или пузырь со ль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C169-83FC-4687-8968-924FE4535E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2FF7-8F80-461A-B8D0-7EE62CEEB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B05F-B878-4DA1-9D64-BA369FBB2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2E87-4337-4B35-B845-647F32FDA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69B2-22EA-43D2-9AD9-0D4B155E41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B78F-D58B-4B8E-86E8-15B779D4A2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9F519-778E-49E8-BC69-2CDFE6EFC1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855D-49EE-429D-B784-C57B0F9336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1378-9148-4CED-8D66-7396246C75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FE67-ABA1-43B8-AC27-B37EFE0DEF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B362-876C-48D6-BC81-E141B2599E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DDCD-94F1-46BB-B740-EB675E762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E15C-57BE-48A7-B158-6D188A317D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37B2-4D0D-4FD6-89CD-63EF5B81A4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3E91-1650-4774-B6EE-2E5257D66E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D0D9-F12A-402B-A9E1-036DCCCB43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7034-4634-4EA2-A26A-05BCEC552D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C99-BE2B-4AB6-849C-F96B1E7E1F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356A-DF6D-470C-B7F6-734227F27A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DE2-C039-4E91-BC94-90C0C116C7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E6C-857D-4F23-8B05-05B6B9D026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0EB-8CC9-4D4E-9F46-B04A7EDFF8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74E8-E5B2-46A5-ADC0-A989B35036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DB8-7948-4310-8697-13819A45EE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2DE-0AAD-4937-83EA-9C65AD66D7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00A-CBBF-4745-8E2F-C7B4493642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BDB-E6FF-40BE-A60F-5F0EED093F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ABB-BBEB-4C3B-B958-9626BC8441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B32-4A10-4FCF-8E70-0A8F3CEA16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103-C1A3-4D20-B434-CEF2229B27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F1650-318C-4625-8061-BD0983EBDE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602B1-90E8-4267-8607-322A3661D6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2F7FA-B6A3-4825-A007-1D0460D65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4A80-F0EF-4962-9204-3550E2C5AD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487AE-DA91-4AAC-AF5A-B33D35A886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2EE3E-42CE-409F-B8E4-568BF0E7D4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84CEC-DB7C-41AC-883E-6E812EA02B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B448A-1CC5-4A00-8B71-D6300D4906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407A9-CD1A-482A-8D76-B78C4F9F35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CE91C-AF73-43AE-86DB-5D1D5FF948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77599-9C38-4541-9F87-1832566971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BDD2F-F818-4D82-B1A7-7FE0F78D44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A7353-DF19-4EAE-BCCD-9345DA0A2BF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03AA-82D2-438E-894E-438E79AE73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9786-437B-4D02-865A-809F470893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8D11-AD97-40FA-9BB2-AE57DF409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FF3A-550F-4623-9670-85FD359A9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FE83-A0B4-498B-BD44-5E1208BDE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40E84-2176-4B8C-B9B8-1DC2908EB8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7CC53-EF79-4C74-AFF1-3DDFF43B26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4844A-01DD-4827-B5FA-35A4B522C206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"/>
          <p:cNvSpPr/>
          <p:nvPr/>
        </p:nvSpPr>
        <p:spPr>
          <a:xfrm>
            <a:off x="314280" y="3090960"/>
            <a:ext cx="3240" cy="3344760"/>
          </a:xfrm>
          <a:custGeom>
            <a:avLst/>
            <a:gdLst>
              <a:gd name="textAreaLeft" fmla="*/ 0 w 3240"/>
              <a:gd name="textAreaRight" fmla="*/ 3600 w 3240"/>
              <a:gd name="textAreaTop" fmla="*/ 0 h 3344760"/>
              <a:gd name="textAreaBottom" fmla="*/ 3345120 h 3344760"/>
            </a:gdLst>
            <a:ahLst/>
            <a:rect l="textAreaLeft" t="textAreaTop" r="textAreaRight" b="textAreaBottom"/>
            <a:pathLst>
              <a:path w="3175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945F8-0179-42C6-8EF0-5D6A10B2C263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0" y="230040"/>
            <a:ext cx="10080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Государственное образовательное учреждение среднего профессион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Комитета по  здравоохранению Администрации Волгоград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 «Медицинский колледж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04720" y="1989000"/>
            <a:ext cx="907596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16000" y="1467000"/>
            <a:ext cx="9864720" cy="45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20e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Tahoma"/>
              </a:rPr>
              <a:t>Первая помощь при отравлении угарным газ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420e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4824360" y="6086520"/>
          <a:ext cx="6099120" cy="107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4360" y="6086520"/>
                    <a:ext cx="60991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63680" y="-720720"/>
            <a:ext cx="90756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филак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82520" y="1494000"/>
            <a:ext cx="86090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Работы осуществлять в хорошо проветриваемых помещениях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оверять открытие заслонок при использовании в домах печей и каминов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F:\73241668.jpg"/>
          <p:cNvPicPr/>
          <p:nvPr/>
        </p:nvPicPr>
        <p:blipFill>
          <a:blip r:embed="rId1"/>
          <a:stretch/>
        </p:blipFill>
        <p:spPr>
          <a:xfrm>
            <a:off x="5111640" y="4208400"/>
            <a:ext cx="4969080" cy="3351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2040" y="2309760"/>
            <a:ext cx="86072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2"/>
          <p:cNvSpPr txBox="1"/>
          <p:nvPr/>
        </p:nvSpPr>
        <p:spPr>
          <a:xfrm>
            <a:off x="1979640" y="2340000"/>
            <a:ext cx="59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-15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deb3d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Arial Black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deb3d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30080" y="2100240"/>
            <a:ext cx="86090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0" y="4500720"/>
            <a:ext cx="10080720" cy="3058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571680" y="-184320"/>
            <a:ext cx="86086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Угарный г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950760"/>
            <a:ext cx="86090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7ff"/>
                </a:solidFill>
                <a:latin typeface="Times New Roman"/>
                <a:ea typeface="MS Gothic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-603360" y="-22068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Группа рис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0" y="922320"/>
            <a:ext cx="9180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c5000b"/>
                </a:solidFill>
                <a:uFillTx/>
                <a:latin typeface="Times New Roman"/>
                <a:ea typeface="MS Gothic"/>
              </a:rPr>
              <a:t>Отравление возмож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пожарах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F:\6058.jpg"/>
          <p:cNvPicPr/>
          <p:nvPr/>
        </p:nvPicPr>
        <p:blipFill>
          <a:blip r:embed="rId1"/>
          <a:stretch/>
        </p:blipFill>
        <p:spPr>
          <a:xfrm>
            <a:off x="6508800" y="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754200" y="0"/>
            <a:ext cx="86090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должение(о группе риск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82520" y="1279440"/>
            <a:ext cx="90759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MS Gothic"/>
              </a:rPr>
              <a:t>С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евышает порог отравления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использовании некачественного воздуха в дыхательных аппарат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F:\12635409589019.jpg"/>
          <p:cNvPicPr/>
          <p:nvPr/>
        </p:nvPicPr>
        <p:blipFill>
          <a:blip r:embed="rId1"/>
          <a:stretch/>
        </p:blipFill>
        <p:spPr>
          <a:xfrm>
            <a:off x="7008840" y="5345280"/>
            <a:ext cx="3071880" cy="2214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504720" y="-360360"/>
            <a:ext cx="90759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60360" y="360360"/>
            <a:ext cx="88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лёгком отравлени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являются головная боль, стук в висках, головокружение, боли в груди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9280" y="4319640"/>
            <a:ext cx="9945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отравлении средней тяже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онливость, возможен двигательный паралич при сохраненном сознани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50960" y="1079640"/>
            <a:ext cx="860904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440000" y="179280"/>
            <a:ext cx="85248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684360"/>
            <a:ext cx="9925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тяжёлом отравлении: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79280" y="17928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слож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84040" y="1401840"/>
            <a:ext cx="90759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  <a:ea typeface="MS Gothic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субарахноидальные кровоизлия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олиневриты -явления отека моз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 нарушение зрения,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7380360" y="5400720"/>
            <a:ext cx="2700360" cy="216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"/>
          <p:cNvSpPr/>
          <p:nvPr/>
        </p:nvSpPr>
        <p:spPr>
          <a:xfrm>
            <a:off x="647640" y="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ервая помощ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-4319640" y="-179280"/>
            <a:ext cx="13032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16000" y="1187280"/>
            <a:ext cx="90010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dc2300"/>
                </a:solidFill>
                <a:uFillTx/>
                <a:latin typeface="Arial"/>
                <a:ea typeface="MS Gothic"/>
              </a:rPr>
              <a:t>Для оказания первой помощи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вызвать «скорую помощь»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MS Gothic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быстро вынести пострадавшег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дать пострадавшему подышать кислоро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на голову и грудь положить холодный компресс или пузырь со ль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MS Gothic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40:54Z</dcterms:created>
  <dc:creator/>
  <dc:description/>
  <dc:language>en-US</dc:language>
  <cp:lastModifiedBy>LEGION</cp:lastModifiedBy>
  <dcterms:modified xsi:type="dcterms:W3CDTF">2015-05-12T08:57:11Z</dcterms:modified>
  <cp:revision>18</cp:revision>
  <dc:subject/>
  <dc:title>Первая помощь при отравлении угарным газом</dc:title>
</cp:coreProperties>
</file>