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544760" y="106848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420e"/>
                </a:solidFill>
                <a:latin typeface="Tahoma"/>
                <a:ea typeface="Tahoma"/>
              </a:rPr>
              <a:t>Первая помощь при отравлении угарным 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Работы осуществлять в хорошо проветриваемых помещения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оверять открытие заслонок при использовании в домах печей и каминов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3deb3d"/>
                </a:solidFill>
                <a:latin typeface="Arial Blac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47ff"/>
                </a:solidFill>
                <a:latin typeface="Times New Roman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а ри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5000b"/>
                </a:solidFill>
                <a:uFillTx/>
                <a:latin typeface="Times New Roman"/>
              </a:rPr>
              <a:t>Отравление возмож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пожара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ение(о группе рис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ревышает порог отравления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использовании некачественного воздуха в дыхательных аппара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лёгком отравле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являются головная боль, стук в висках, головокружение, боли в груди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отравлении средней тяж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нливость, возможен двигательный паралич при сохраненном сознании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при тяжёлом отравлении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убарахноидальные кровоизлия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олиневриты -явления отека моз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нарушение зрения, слух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dc2300"/>
                </a:solidFill>
                <a:uFillTx/>
                <a:latin typeface="Arial"/>
              </a:rPr>
              <a:t>Для оказания первой помощи необходим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звать «скорую помощь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стро вынести пострадавшего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дать пострадавшему подышать кислоро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на голову и грудь положить холодный компресс или пузырь со ль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BCF2-A82B-4FF7-A3C0-666B05D3A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A3E2-AC9A-421A-AE9D-43A8CFC61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A5EE-0CCE-451F-9447-DB01EF1DC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E2DC-E5E7-4228-87D6-836E79A54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CFD6-9500-48C8-943B-CA24341E9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078F5-D599-4185-95AC-74DC950DAE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6574-0F63-4FBA-822E-78A4E145DD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9A5B-B1F0-4D85-BE43-0220B1B74B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ED32-ABEB-4BC3-B99C-EECEF02FFE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F83C-6430-41A2-8ED9-B3C0892619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F1F1-4963-4D44-88DD-99ED067BFD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589D-8911-4621-BD28-674E20B95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F881-7058-4B29-8AFD-AFDA942C9D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B447-E643-4FC7-A441-3CB5A3DAC5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9B8B-D2A7-4C1A-9E45-1CC9B21572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A3AA-56E3-45B6-9D3B-E47CFE3C68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81E0-9BBB-4A8F-9B6F-F309126F21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A16-44AB-44F1-98D0-700DD7DA7D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8C4-C153-43C3-AA0F-EE620A4295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2D6-BC6C-4A03-AFAB-08680B2F65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1F5-A0C5-4BA9-A3FC-F85832E5CB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D90-8617-4B9C-BA40-4B5C3B3DBE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8669-F55D-4082-B2A7-5EFF437711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C95-3D37-460D-9BA3-5D5D97E317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641-F23B-47DE-A42A-7600A9F950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453-A4D0-40F8-87DC-6CC5D33515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753-34D5-4F52-8C4B-53A810659A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ACE-DA85-4790-9399-D6AD233B27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2CF-6978-4D5E-948C-D47C3B84D3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4EE-3E21-44AA-8A73-086B916A61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B12A3-D2F2-481A-9084-5C27DA00EF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70DCE-619A-45D6-AFB3-CC5EBF03D6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9A960-8C5B-427E-9085-BC9881853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1A29-DCBA-49CD-A004-DB33BA46F7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C9F96-F80B-4A4B-B019-D268AEB7C9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ED0BD-468B-4C47-A5EE-906BF2CA31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B4A32-BA4B-42C6-95CE-1AE5974EEC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626E3-D910-4D90-981F-F62E187279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66DA8-6F61-4512-A1BA-5E0A8AFA89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4B135-C2DB-47B9-BBB4-BE2A09B625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762C1-B860-4C83-8D53-B9CA51CCAB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823F2-FA14-43F1-AD0F-0EAF4C6215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3C61F-C75E-4A18-9540-A0880A43E9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AAEB-389C-4F59-B040-4645215A91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4ACC-4355-45C9-89FB-D24CD87AC5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9BB3-ED1D-4A91-8599-FDDDA4EF3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1CA2-C058-4667-A0BF-DE05B816C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529E-C267-4526-9B2C-D740F2D88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BFC10-D7A7-4036-A260-B0FFF43842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FEFBE-DC1A-4237-8D94-04961774BB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D88E5-B19B-4AEE-A478-761AE464CC91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314280" y="3090960"/>
            <a:ext cx="3240" cy="3344760"/>
          </a:xfrm>
          <a:custGeom>
            <a:avLst/>
            <a:gdLst>
              <a:gd name="textAreaLeft" fmla="*/ 0 w 3240"/>
              <a:gd name="textAreaRight" fmla="*/ 3600 w 32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35A3A-92FC-4BD4-8A38-5CBB4741E192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0" y="230040"/>
            <a:ext cx="10080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Государственное образовательное учреждение средне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Комитета по  здравоохранению Администрации Волгоград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«Медицинский колледж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04720" y="1989000"/>
            <a:ext cx="907596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6000" y="1467000"/>
            <a:ext cx="9864720" cy="45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Tahoma"/>
              </a:rPr>
              <a:t>Первая помощь при отравлении угарным газ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4824360" y="6086520"/>
          <a:ext cx="6099120" cy="107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6086520"/>
                    <a:ext cx="6099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63680" y="-720720"/>
            <a:ext cx="9075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фила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82520" y="1494000"/>
            <a:ext cx="8609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Работы осуществлять в хорошо проветриваемых помещениях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оверять открытие заслонок при использовании в домах печей и каминов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:\73241668.jpg"/>
          <p:cNvPicPr/>
          <p:nvPr/>
        </p:nvPicPr>
        <p:blipFill>
          <a:blip r:embed="rId1"/>
          <a:stretch/>
        </p:blipFill>
        <p:spPr>
          <a:xfrm>
            <a:off x="5111640" y="4208400"/>
            <a:ext cx="4969080" cy="3351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2040" y="230976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1979640" y="2340000"/>
            <a:ext cx="59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30080" y="2100240"/>
            <a:ext cx="8609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4500720"/>
            <a:ext cx="10080720" cy="305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571680" y="-184320"/>
            <a:ext cx="8608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Угарный г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950760"/>
            <a:ext cx="86090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7ff"/>
                </a:solidFill>
                <a:latin typeface="Times New Roman"/>
                <a:ea typeface="MS Gothic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-603360" y="-22068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Группа 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0" y="922320"/>
            <a:ext cx="9180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5000b"/>
                </a:solidFill>
                <a:uFillTx/>
                <a:latin typeface="Times New Roman"/>
                <a:ea typeface="MS Gothic"/>
              </a:rPr>
              <a:t>Отравление возмож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пожарах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F:\6058.jpg"/>
          <p:cNvPicPr/>
          <p:nvPr/>
        </p:nvPicPr>
        <p:blipFill>
          <a:blip r:embed="rId1"/>
          <a:stretch/>
        </p:blipFill>
        <p:spPr>
          <a:xfrm>
            <a:off x="6508800" y="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754200" y="0"/>
            <a:ext cx="86090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должение(о группе риск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82520" y="1279440"/>
            <a:ext cx="90759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евышает порог отра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использовании некачественного воздуха в дыхательных аппара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F:\12635409589019.jpg"/>
          <p:cNvPicPr/>
          <p:nvPr/>
        </p:nvPicPr>
        <p:blipFill>
          <a:blip r:embed="rId1"/>
          <a:stretch/>
        </p:blipFill>
        <p:spPr>
          <a:xfrm>
            <a:off x="7008840" y="5345280"/>
            <a:ext cx="3071880" cy="221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04720" y="-360360"/>
            <a:ext cx="90759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60360" y="360360"/>
            <a:ext cx="88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лёгком отравлени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являются головная боль, стук в висках, головокружение, боли в груди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9280" y="4319640"/>
            <a:ext cx="9945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отравлении средней тяж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онливость, возможен двигательный паралич при сохраненном сознани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50960" y="1079640"/>
            <a:ext cx="86090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440000" y="179280"/>
            <a:ext cx="85248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684360"/>
            <a:ext cx="992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тяжёлом отравлении: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79280" y="17928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лож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84040" y="1401840"/>
            <a:ext cx="90759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  <a:ea typeface="MS Gothic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субарахноидальные кровоизлия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олиневриты -явления отека моз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 нарушение зрения,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380360" y="540072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647640" y="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рвая помощ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-4319640" y="-179280"/>
            <a:ext cx="13032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6000" y="1187280"/>
            <a:ext cx="90010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dc2300"/>
                </a:solidFill>
                <a:uFillTx/>
                <a:latin typeface="Arial"/>
                <a:ea typeface="MS Gothic"/>
              </a:rPr>
              <a:t>Для оказания первой помощи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вызвать «скорую помощь»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MS Gothic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быстро вынести пострадавшег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дать пострадавшему подышать кислоро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на голову и грудь положить холодный компресс или пузырь со ль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MS Gothi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40:54Z</dcterms:created>
  <dc:creator/>
  <dc:description/>
  <dc:language>en-US</dc:language>
  <cp:lastModifiedBy>LEGION</cp:lastModifiedBy>
  <dcterms:modified xsi:type="dcterms:W3CDTF">2015-05-12T08:57:11Z</dcterms:modified>
  <cp:revision>18</cp:revision>
  <dc:subject/>
  <dc:title>Первая помощь при отравлении угарным газом</dc:title>
</cp:coreProperties>
</file>