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518B-D486-4B59-83DA-F89A1248BC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 первую очередь наркотики влияют на психику,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на приводит к духовной деградации и полному физическому истощению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5548-0DD6-450A-BB80-C4B4A8B292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Именно школы и места массового развлечения молодежи, в первую очередь дискотеки, являются сегодня основными местами распространения наркотиков. За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ри года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наркомания среди детей и подростков выросла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очти в 6 раз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96E1-803A-41E0-B369-A987CFF4D6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86A9-781A-4D2F-8F70-4411246A7D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2403"/>
                </a:solidFill>
                <a:latin typeface="Calibri"/>
              </a:rPr>
              <a:t>ПОМНИТЕ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людей, принимающих наркотики, рождаются дети-уроды или нежизнеспособные дети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8EBA-8389-4E18-9D5B-82E4864915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блуждения наркома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о не болезнь, лечиться не от чего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могу расстаться со своей привычкой в любой мо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самостоятельно буду снижать дозы или уже с завтрашнего  дня сменю наркотик, чтобы не привыкнуть , на слабый, а к врачам обращаться не обяз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о помогает мне жить на пределе возможностей. Становлюсь умнее, раскованнее, в голову приходят блестящие иде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205D-A91E-4F2B-962D-CE3D975396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Закончите предложение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не употребляю нарко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тому что…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3DE2-6D26-41EA-91E2-BB4EB937D6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АБАК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ЫЙ П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E3C3-B73B-4AF5-B753-15216D5545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БАЧНЫЙ ДЫ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П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ПИ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АКТИВНЫЙ ПОЛО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М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3C66-733B-4363-AD65-7CE8E94D89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ИЗМ- </a:t>
            </a: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БОЛЕ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ТОРОЕ ОСОЗН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СРАЗ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НАША ЗАДАЧ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УПРЕДИТЬ 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Я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9A56-F322-4171-81B6-FF3651EED7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я об алкогол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богат калориями и отличается питательной ц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ный  душ помогает пьяному человеку быстрее протрезветь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ие алкоголя на человека зависит от его общего физического состояния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лых дозах алкоголь ослабляет концентрацию и замедляет реа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е количество алкоголя помогает человеку сосредоточ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чрезмерного употребления алкоголя можно умер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переваривается организмом также, как и пищ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родолжительного употребления алкоголя мозг человека уменьш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DF05-5DFF-4A8F-8E48-4B2B376C95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Цель занят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делировать самостоятельно возможные меры предупреждения вредных привычек у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Задачи занят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оценивать с гражданских позиций современную ситуацию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учащихся с факторами, вредящими нашему здо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AD80-AD02-41CA-9313-EDB41C1349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й лучший день – сегодн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лучшее место – там, где ты живёш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й лучший отдых – труд душ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ая большая утрата – потеря надежд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большое богатство – здоровь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                     </a:t>
            </a: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Будьте здоров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B410-0932-4008-A4ED-20D84ADA10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ВЫВОДЫ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а активная пропаганда проти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коголизм, курение, наркомания ухудш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оровье человека, обрекает на гибель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езнь будущее поколения росси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дные привычки надо изгонять, а здоров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 жизни всем необход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A5E1-B960-4A02-9795-CC29DD5C53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ФАКТОРЫ, ВЛИЯЮЩИЕ НА УРОВЕНЬ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жизни, условия труда и прожи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ки и поведение –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ика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среда, экология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е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7FF0-CACC-46D4-87AC-7DCE038B61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равоохра-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ффективность профилактических мероприятий, низкое качество медицинской помощи, несвоевременность её о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3599-6189-4488-8E84-4FC8DCB8A0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среда, эк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воздуха, воды, почвы, резкая смена атмосферных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2C59-4984-4633-B9FC-92C39BCA31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ка, биолог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расположенность к наследственным болезн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772C-DD83-4A18-A26A-1D65A45F72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 жизни, привычки и по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, употребление алкоголя, несбалансированное,  неправильное питание, стрессовые ситуации, плохие материально-бытовые условия, употребление наркотиков, злоупотребление лекарствами, низкий образовательный и культурный уров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DB48-EB24-4C81-9002-6096E11137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D986-78B5-49CA-81A7-7F1E144F5F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 НАШЕЙ ДУ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2AFC-4BAD-4839-8A1F-ECC2FB1EB7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A74-9587-4B27-A569-ADC71F30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52B0-B239-4DB3-85C4-7D9AEA49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489A-143F-4603-A4BA-8C4895FC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7394-DD25-43CB-836B-B29FAAF1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2500-CC83-439C-8036-946D7A2F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76AE-A207-4C72-B478-2730C102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296A-77C0-4665-800F-A9D071C1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9437-7F75-477B-BA7C-726E1C36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498F-F3D8-402D-9044-87141CD4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C3FA-CCDD-47D5-8C00-7D2E603C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9285-8D2E-4035-B0E6-61003FAF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8D7-72AA-4A81-A561-7E7FE38C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3B73-CAB2-435D-91B7-BB80D364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1123-BE5E-457F-B6BC-18635E09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9AEE-B316-430A-AB97-13ED5237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1F1D-4FDE-4798-872C-3D8C1B4E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7E4A-F598-4D74-8FCB-94DE271B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0BA04-3FAA-4A14-B539-6F1473C8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D9765-38FB-42AF-A964-046DBCA2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040D8-22D9-4691-A1D2-4D39E908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0D163-551F-4293-BD36-78F237C5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1F2E3-A80D-4DC5-85DD-C0BCFFBB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F1BD-B5CF-4E28-8C5F-B736E333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307A8-892D-4628-A21C-7626E287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2C9E3-570E-4AB8-9D9B-091FD24B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39A62-EF92-4047-BEB2-65C8A367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29F69-249D-4FB6-961D-63D49D6B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75F64-328C-4414-A2B1-53ECFF08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CF59D-1CD4-4E0D-94AA-F0953D78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918AF-992E-45F3-BA77-CFB10C1C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A641C-99B5-44AE-A2A0-761C3F38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F1D76-05FD-49C9-8F82-6A1120EC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46307-CCB6-4ED6-835B-65595405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C15-B42D-4082-8771-FA038A6D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B7E15-C2B2-4B7E-8FE6-3E761C40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9771D-F293-4DC1-BBB7-63CF3A0E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C43CF-A99D-4805-BA62-02B7E90B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E7846-100A-41DE-9F9F-4F775E79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273DA-3A6C-4944-86ED-091FE27A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5C0AF-464C-44B6-B6BB-EC7C2955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2BB3A-A30F-4ECA-8748-22E88A77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4A0FE-7179-4F34-B9D4-3B9DAB24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5CE6C-4980-4B49-91C3-05E4225B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241EC-D412-4D26-9635-43283677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687E-23FD-4450-94E3-F247CF48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89E62-FB13-4E44-AB94-99D56C40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8D0C8-A293-4761-BDCA-584D4009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DD239-0F55-4B85-8BE0-F4865FAC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67771-EADA-4F91-A9DE-05351977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A6F59-EE5C-4DE5-A9CC-CCE19A71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2A215-0602-4ECC-9629-AD3446EE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C9D81-0C58-47EC-9CF0-CCEABC89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CE0E4-55F1-4141-900D-200AE448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E9D24-E977-4009-8E10-B94C53B2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822A5-CB93-40AE-9C29-A82E2497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ED8-2040-41FB-8629-D5461803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E3E4D-7AEE-405D-8D99-81B4BCF4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C08BA9-554C-441F-B6A8-0B4506C4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4FFB29-77E9-4E0A-9A3C-703182A3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4B557E-F0D8-4F90-8B81-332D61FF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AB5395-173D-4EA9-A6D7-963BBEE9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3BC204-E7C3-4B82-9CA3-8F71968D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B1975D-3AA5-4C6E-931B-231B42E5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A0DD0-F7AD-49A0-9C8C-441862D3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6FF84D-CE86-4285-9006-0C6972CF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E86E8F-5A51-4A39-A22F-F6186F0B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D276-0657-4309-B921-16680D9D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3F0012-2BB0-45B3-A664-5C1D411A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D14F59-CF27-48CB-8480-3D493049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6C762-39D6-4F92-8AAC-B9DCFB0D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1D69-B8AF-40CD-994C-1E99DA64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341-0B09-4FE7-A623-0557B204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169A-B91D-40B1-907E-2C9A70D00480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0A6D-787D-46CF-8DAB-EFF6CFC84E16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4013-23A3-442C-8EAE-662C5344B978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A39B-3978-4BD5-A7DA-47A098B7E676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b0ccb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b0ccb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a7e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7a7e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7a7e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7898-D59F-4715-BF3D-532200E4EE53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6F94-6556-4D31-9F40-F125968BED55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7a7e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41BC-F4DE-4238-B8F6-179D5CEFAB87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9B5D-930B-4BB9-941D-3824B0E3A4B8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252" name="Прямая соединительная линия 20"/>
            <p:cNvSpPr/>
            <p:nvPr/>
          </p:nvSpPr>
          <p:spPr>
            <a:xfrm>
              <a:off x="857808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Прямая соединительная линия 23"/>
            <p:cNvSpPr/>
            <p:nvPr/>
          </p:nvSpPr>
          <p:spPr>
            <a:xfrm>
              <a:off x="8516520" y="12826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Прямая соединительная линия 24"/>
            <p:cNvSpPr/>
            <p:nvPr/>
          </p:nvSpPr>
          <p:spPr>
            <a:xfrm flipV="1">
              <a:off x="857808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256" name="Прямая соединительная линия 26"/>
            <p:cNvSpPr/>
            <p:nvPr/>
          </p:nvSpPr>
          <p:spPr>
            <a:xfrm>
              <a:off x="873108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27"/>
            <p:cNvSpPr/>
            <p:nvPr/>
          </p:nvSpPr>
          <p:spPr>
            <a:xfrm>
              <a:off x="8669520" y="1435320"/>
              <a:ext cx="95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28"/>
            <p:cNvSpPr/>
            <p:nvPr/>
          </p:nvSpPr>
          <p:spPr>
            <a:xfrm flipV="1">
              <a:off x="873108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260" name="Прямая соединительная линия 30"/>
            <p:cNvSpPr/>
            <p:nvPr/>
          </p:nvSpPr>
          <p:spPr>
            <a:xfrm>
              <a:off x="838296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31"/>
            <p:cNvSpPr/>
            <p:nvPr/>
          </p:nvSpPr>
          <p:spPr>
            <a:xfrm>
              <a:off x="8321400" y="15382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32"/>
            <p:cNvSpPr/>
            <p:nvPr/>
          </p:nvSpPr>
          <p:spPr>
            <a:xfrm flipV="1">
              <a:off x="838296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2E8F-A21C-48F2-8DF9-36D19BF0A5AB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27AC-D96F-487C-A71F-CF6AB9ECBAD2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B02B-2586-49DE-8528-43BE037DCA0B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C316-4C78-4180-BF61-B69BFE7927FE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687564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14" descr="i5"/>
          <p:cNvPicPr/>
          <p:nvPr/>
        </p:nvPicPr>
        <p:blipFill>
          <a:blip r:embed="rId1"/>
          <a:stretch/>
        </p:blipFill>
        <p:spPr>
          <a:xfrm>
            <a:off x="3492360" y="1341360"/>
            <a:ext cx="1800360" cy="1440000"/>
          </a:xfrm>
          <a:prstGeom prst="rect">
            <a:avLst/>
          </a:prstGeom>
          <a:ln w="0">
            <a:noFill/>
          </a:ln>
        </p:spPr>
      </p:pic>
      <p:sp>
        <p:nvSpPr>
          <p:cNvPr id="390" name="WordArt 4"/>
          <p:cNvSpPr txBox="1"/>
          <p:nvPr/>
        </p:nvSpPr>
        <p:spPr>
          <a:xfrm>
            <a:off x="1979640" y="333360"/>
            <a:ext cx="532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db5353"/>
                  </a:solidFill>
                  <a:miter/>
                </a:ln>
                <a:gradFill rotWithShape="0">
                  <a:gsLst>
                    <a:gs pos="0">
                      <a:srgbClr val="db5353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ПОСЛЕДСТВИЯ</a:t>
            </a:r>
            <a:endParaRPr b="1" lang="en-US" sz="2000" spc="1" strike="noStrike">
              <a:ln w="9360">
                <a:solidFill>
                  <a:srgbClr val="db5353"/>
                </a:solidFill>
                <a:miter/>
              </a:ln>
              <a:gradFill rotWithShape="0">
                <a:gsLst>
                  <a:gs pos="0">
                    <a:srgbClr val="db5353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91" name="Rectangle 19"/>
          <p:cNvSpPr/>
          <p:nvPr/>
        </p:nvSpPr>
        <p:spPr>
          <a:xfrm>
            <a:off x="539640" y="486900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03638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В первую очередь наркотики влияют на психику, </a:t>
            </a: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она приводит к духовной деградации и полному физическому истощению организ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20"/>
          <p:cNvSpPr/>
          <p:nvPr/>
        </p:nvSpPr>
        <p:spPr>
          <a:xfrm>
            <a:off x="4500720" y="2637000"/>
            <a:ext cx="45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21"/>
          <p:cNvSpPr/>
          <p:nvPr/>
        </p:nvSpPr>
        <p:spPr>
          <a:xfrm>
            <a:off x="3995640" y="465300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03638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22" descr="21"/>
          <p:cNvPicPr/>
          <p:nvPr/>
        </p:nvPicPr>
        <p:blipFill>
          <a:blip r:embed="rId2"/>
          <a:stretch/>
        </p:blipFill>
        <p:spPr>
          <a:xfrm>
            <a:off x="3564000" y="2997360"/>
            <a:ext cx="1800000" cy="1527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5" descr="16"/>
          <p:cNvPicPr/>
          <p:nvPr/>
        </p:nvPicPr>
        <p:blipFill>
          <a:blip r:embed="rId3"/>
          <a:stretch/>
        </p:blipFill>
        <p:spPr>
          <a:xfrm>
            <a:off x="1332000" y="1341360"/>
            <a:ext cx="1636560" cy="3240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7" descr="19"/>
          <p:cNvPicPr/>
          <p:nvPr/>
        </p:nvPicPr>
        <p:blipFill>
          <a:blip r:embed="rId4"/>
          <a:stretch/>
        </p:blipFill>
        <p:spPr>
          <a:xfrm>
            <a:off x="5891040" y="1341360"/>
            <a:ext cx="2171880" cy="32400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4"/>
          <p:cNvSpPr/>
          <p:nvPr/>
        </p:nvSpPr>
        <p:spPr>
          <a:xfrm>
            <a:off x="250920" y="4365720"/>
            <a:ext cx="860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Именно школы и места массового развлечения молодежи, в первую очередь дискотеки, являются сегодня основными местами распространения наркотиков. З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ри года</a:t>
            </a: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наркомания среди детей и подростков выросл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чти в 6 раз</a:t>
            </a: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5" descr="120040713204739_1-narkotiki[1]"/>
          <p:cNvPicPr/>
          <p:nvPr/>
        </p:nvPicPr>
        <p:blipFill>
          <a:blip r:embed="rId1"/>
          <a:stretch/>
        </p:blipFill>
        <p:spPr>
          <a:xfrm>
            <a:off x="2124000" y="26028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5337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6"/>
          <p:cNvSpPr/>
          <p:nvPr/>
        </p:nvSpPr>
        <p:spPr>
          <a:xfrm>
            <a:off x="5508720" y="476280"/>
            <a:ext cx="331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3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удод2"/>
          <p:cNvPicPr/>
          <p:nvPr/>
        </p:nvPicPr>
        <p:blipFill>
          <a:blip r:embed="rId1"/>
          <a:stretch/>
        </p:blipFill>
        <p:spPr>
          <a:xfrm>
            <a:off x="4572000" y="3549600"/>
            <a:ext cx="4032360" cy="2687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урод1"/>
          <p:cNvPicPr/>
          <p:nvPr/>
        </p:nvPicPr>
        <p:blipFill>
          <a:blip r:embed="rId2"/>
          <a:stretch/>
        </p:blipFill>
        <p:spPr>
          <a:xfrm>
            <a:off x="395280" y="981000"/>
            <a:ext cx="3343320" cy="51120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4067280" y="404640"/>
            <a:ext cx="453528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Arial"/>
              </a:rPr>
              <a:t>ПОМНИТ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людей, принимающих наркотики, рождаются дети-уроды или нежизнеспособные де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870840" y="714240"/>
            <a:ext cx="4877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аблуждения нарком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Это не болезнь, лечиться не от чего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865800" y="15001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могу расстаться со своей привычкой в любой мо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928800" y="242892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самостоятельно буду снижать дозы или уже с завтрашнего  дня сменю наркотик, чтобы не привыкнуть , на слабый, а к врачам обращаться не обяза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4"/>
          <p:cNvSpPr/>
          <p:nvPr/>
        </p:nvSpPr>
        <p:spPr>
          <a:xfrm>
            <a:off x="928800" y="43578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Это помогает мне жить на пределе возможностей. Становлюсь умнее, раскованнее, в голову приходят блестящие иде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1"/>
          <p:cNvSpPr/>
          <p:nvPr/>
        </p:nvSpPr>
        <p:spPr>
          <a:xfrm>
            <a:off x="214200" y="1357200"/>
            <a:ext cx="842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Закончите предлож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не употребляю наркотики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тому что….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1"/>
          <p:cNvSpPr/>
          <p:nvPr/>
        </p:nvSpPr>
        <p:spPr>
          <a:xfrm>
            <a:off x="642960" y="500040"/>
            <a:ext cx="77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АК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ЫЙ ПУ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Рисунок 2" descr=""/>
          <p:cNvPicPr/>
          <p:nvPr/>
        </p:nvPicPr>
        <p:blipFill>
          <a:blip r:embed="rId1"/>
          <a:stretch/>
        </p:blipFill>
        <p:spPr>
          <a:xfrm>
            <a:off x="1428840" y="1652760"/>
            <a:ext cx="5940360" cy="520524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1"/>
          <p:cNvSpPr/>
          <p:nvPr/>
        </p:nvSpPr>
        <p:spPr>
          <a:xfrm>
            <a:off x="2428920" y="107172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БАЧНЫЙ ДЫ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2"/>
          <p:cNvSpPr/>
          <p:nvPr/>
        </p:nvSpPr>
        <p:spPr>
          <a:xfrm>
            <a:off x="2641320" y="1857240"/>
            <a:ext cx="3809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Т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РИД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Л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ПР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НЗОПИР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ИАКТИВНЫЙ ПОЛО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ЬЯ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М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МИ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НЕ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РАВЬИ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ИЛЬ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ДОВИТЫЕ ГА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-357120" y="1500120"/>
            <a:ext cx="6429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ИЗМ-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БОЛЕВАН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ТОРОЕ ОСОЗНАЮ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СРАЗУ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НАША ЗАДАЧА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УПРЕДИТЬ ЕГ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ЯВ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3"/>
          <p:cNvPicPr/>
          <p:nvPr/>
        </p:nvPicPr>
        <p:blipFill>
          <a:blip r:embed="rId1"/>
          <a:stretch/>
        </p:blipFill>
        <p:spPr>
          <a:xfrm>
            <a:off x="5894280" y="0"/>
            <a:ext cx="3249720" cy="471312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Box 1"/>
          <p:cNvSpPr/>
          <p:nvPr/>
        </p:nvSpPr>
        <p:spPr>
          <a:xfrm>
            <a:off x="214200" y="785880"/>
            <a:ext cx="73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верждения об алкого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ь богат калориями и отличается питательной ценност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2"/>
          <p:cNvSpPr/>
          <p:nvPr/>
        </p:nvSpPr>
        <p:spPr>
          <a:xfrm>
            <a:off x="214200" y="1428840"/>
            <a:ext cx="73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лодный  душ помогает пьяному человеку быстрее протрезве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3"/>
          <p:cNvSpPr/>
          <p:nvPr/>
        </p:nvSpPr>
        <p:spPr>
          <a:xfrm>
            <a:off x="81720" y="2000160"/>
            <a:ext cx="905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действие алкоголя на человека зависит от его общего физического состоя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214200" y="3214800"/>
            <a:ext cx="819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алых дозах алкоголь ослабляет концентрацию и замедляет реакц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5"/>
          <p:cNvSpPr/>
          <p:nvPr/>
        </p:nvSpPr>
        <p:spPr>
          <a:xfrm>
            <a:off x="0" y="2643120"/>
            <a:ext cx="800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большое количество алкоголя помогает человеку сосредоточ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6"/>
          <p:cNvSpPr/>
          <p:nvPr/>
        </p:nvSpPr>
        <p:spPr>
          <a:xfrm>
            <a:off x="214200" y="3857760"/>
            <a:ext cx="649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чрезмерного употребления алкоголя можно умере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7"/>
          <p:cNvSpPr/>
          <p:nvPr/>
        </p:nvSpPr>
        <p:spPr>
          <a:xfrm>
            <a:off x="214200" y="4572000"/>
            <a:ext cx="65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ь переваривается организмом также, как и пищ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8"/>
          <p:cNvSpPr/>
          <p:nvPr/>
        </p:nvSpPr>
        <p:spPr>
          <a:xfrm>
            <a:off x="214200" y="5286240"/>
            <a:ext cx="841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продолжительного употребления алкоголя мозг человека уменьша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Місце для нижнього колонтитула 9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1"/>
          <p:cNvSpPr/>
          <p:nvPr/>
        </p:nvSpPr>
        <p:spPr>
          <a:xfrm>
            <a:off x="571680" y="500040"/>
            <a:ext cx="77864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Цель занят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делировать самостоятельно возможные меры предупреждения вредных привычек у подрост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Задачи занят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ься оценивать с гражданских позиций современную ситуацию в обще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комить учащихся с факторами, вредящими нашему здоров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500040" y="140040"/>
            <a:ext cx="8143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ый лучший день – сегодн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ое лучшее место – там, где ты живёш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ый лучший отдых – труд душ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ая большая утрата – потеря надежд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ое большое богатство – здоровь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                     </a:t>
            </a: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Будьте здоров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"/>
          <p:cNvSpPr/>
          <p:nvPr/>
        </p:nvSpPr>
        <p:spPr>
          <a:xfrm>
            <a:off x="235080" y="597960"/>
            <a:ext cx="8757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ВЫВОДЫ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еобходима активная пропаганда проти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редных привыч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Алкоголизм, курение, наркомания ухудш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здоровье человека, обрекает на гибель и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болезнь будущее поколения россия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редные привычки надо изгонять, а здоров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раз жизни всем необход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3"/>
          <p:cNvSpPr/>
          <p:nvPr/>
        </p:nvSpPr>
        <p:spPr>
          <a:xfrm>
            <a:off x="785880" y="57168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МЫ ВЫБИРАЕМ ЖИЗН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Рисунок 6" descr=""/>
          <p:cNvPicPr/>
          <p:nvPr/>
        </p:nvPicPr>
        <p:blipFill>
          <a:blip r:embed="rId1"/>
          <a:stretch/>
        </p:blipFill>
        <p:spPr>
          <a:xfrm>
            <a:off x="2071800" y="2000160"/>
            <a:ext cx="4786200" cy="457200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1"/>
          <p:cNvSpPr/>
          <p:nvPr/>
        </p:nvSpPr>
        <p:spPr>
          <a:xfrm>
            <a:off x="500040" y="35712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ФАКТОРЫ, ВЛИЯЮЩИЕ НА УРОВЕНЬ ЗДОРОВ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642960" y="207180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 жизни, условия труда и проживан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ычки и поведение – 5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642960" y="3143160"/>
            <a:ext cx="400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тика –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642960" y="407196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яя среда, экология –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642960" y="50720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оохранение – 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142920" y="1071720"/>
          <a:ext cx="8786880" cy="5047920"/>
        </p:xfrm>
        <a:graphic>
          <a:graphicData uri="http://schemas.openxmlformats.org/drawingml/2006/table">
            <a:tbl>
              <a:tblPr/>
              <a:tblGrid>
                <a:gridCol w="2428920"/>
                <a:gridCol w="2286000"/>
                <a:gridCol w="4071960"/>
              </a:tblGrid>
              <a:tr h="210312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дравоохра-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эффективность профилактических мероприятий, низкое качество медицинской помощи, несвоевременность её оказа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42920" y="928800"/>
          <a:ext cx="8786880" cy="5440320"/>
        </p:xfrm>
        <a:graphic>
          <a:graphicData uri="http://schemas.openxmlformats.org/drawingml/2006/table">
            <a:tbl>
              <a:tblPr/>
              <a:tblGrid>
                <a:gridCol w="2571840"/>
                <a:gridCol w="2571480"/>
                <a:gridCol w="3643560"/>
              </a:tblGrid>
              <a:tr h="298584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48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шняя среда, экологи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рязнение воздуха, воды, почвы, резкая смена атмосферных явлени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142920" y="642960"/>
          <a:ext cx="8786880" cy="5519880"/>
        </p:xfrm>
        <a:graphic>
          <a:graphicData uri="http://schemas.openxmlformats.org/drawingml/2006/table">
            <a:tbl>
              <a:tblPr/>
              <a:tblGrid>
                <a:gridCol w="2571840"/>
                <a:gridCol w="2500200"/>
                <a:gridCol w="3714840"/>
              </a:tblGrid>
              <a:tr h="30654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48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нетика, биология человек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расположенность к наследственным болезня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357120" y="0"/>
          <a:ext cx="8786880" cy="6215040"/>
        </p:xfrm>
        <a:graphic>
          <a:graphicData uri="http://schemas.openxmlformats.org/drawingml/2006/table">
            <a:tbl>
              <a:tblPr/>
              <a:tblGrid>
                <a:gridCol w="2357640"/>
                <a:gridCol w="1785960"/>
                <a:gridCol w="4643280"/>
              </a:tblGrid>
              <a:tr h="20718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24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 жизни, привычки и поведен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рение, употребление алкоголя, несбалансированное,  неправильное питание, стрессовые ситуации, плохие материально-бытовые условия, употребление наркотиков, злоупотребление лекарствами, низкий образовательный и культурный уровен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2"/>
          <p:cNvSpPr/>
          <p:nvPr/>
        </p:nvSpPr>
        <p:spPr>
          <a:xfrm>
            <a:off x="2071800" y="5500800"/>
            <a:ext cx="48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12" descr="НАРКОТИКИ1"/>
          <p:cNvPicPr/>
          <p:nvPr/>
        </p:nvPicPr>
        <p:blipFill>
          <a:blip r:embed="rId1"/>
          <a:stretch/>
        </p:blipFill>
        <p:spPr>
          <a:xfrm>
            <a:off x="1143000" y="0"/>
            <a:ext cx="643428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357120" y="324468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1357200" y="4857840"/>
            <a:ext cx="542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АЯ СМЕР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1" descr="13"/>
          <p:cNvPicPr/>
          <p:nvPr/>
        </p:nvPicPr>
        <p:blipFill>
          <a:blip r:embed="rId1"/>
          <a:stretch/>
        </p:blipFill>
        <p:spPr>
          <a:xfrm>
            <a:off x="857160" y="-219240"/>
            <a:ext cx="6858000" cy="71056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4"/>
          <p:cNvSpPr/>
          <p:nvPr/>
        </p:nvSpPr>
        <p:spPr>
          <a:xfrm>
            <a:off x="810000" y="1428840"/>
            <a:ext cx="70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5"/>
          <p:cNvSpPr/>
          <p:nvPr/>
        </p:nvSpPr>
        <p:spPr>
          <a:xfrm>
            <a:off x="1093680" y="3929040"/>
            <a:ext cx="669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 НАШЕЙ ДУШ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2:16:45Z</dcterms:created>
  <dc:creator>COMP11</dc:creator>
  <dc:description/>
  <dc:language>en-US</dc:language>
  <cp:lastModifiedBy>LEGION</cp:lastModifiedBy>
  <dcterms:modified xsi:type="dcterms:W3CDTF">2015-05-12T09:00:37Z</dcterms:modified>
  <cp:revision>32</cp:revision>
  <dc:subject/>
  <dc:title>Цель занятия: Смоделировать самостоятельно возможные меры предупреждения вредных привычек у подростков</dc:title>
</cp:coreProperties>
</file>