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076D-299A-436A-A52D-D3DDC62197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первую очередь наркотики влияют на психику,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на приводит к духовной деградации и полному физическому истощению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7031-5AD0-46CD-9017-245A02196B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ри года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наркомания среди детей и подростков выросл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очти в 6 раз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2D74-A7A6-4A11-8E86-EC4C638422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139D-AB72-47AF-97FD-24E42457E0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2403"/>
                </a:solidFill>
                <a:latin typeface="Calibri"/>
              </a:rPr>
              <a:t>ПОМНИТЕ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людей, принимающих наркотики, рождаются дети-уроды или нежизнеспособные дет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28A6-A657-4FD9-8EE7-1E6A92D669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BD52-924B-418D-AB73-149BF25035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75AF-A983-4FC3-AE89-D056943F4A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BDE4-5C60-4F1B-9B5D-0E1437A2FF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П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М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B32-4A15-4856-BC3C-153683982B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E2A0-4022-4523-BB98-D4B712B023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 количество алкоголя помогает человеку сосредоточ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3BF2-248D-470B-81B2-BD6FAA00C1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048D-08FC-4806-B706-D46BC231D5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Будьте здоро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5298-EC3E-4D80-95E1-1C33B0C0D4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ВЫВОД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C077-FAD1-4941-BCB3-FA5A554EFE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1E38-6C05-40E4-BC06-48F07E22B8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оохра-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профилактических мероприятий, низкое качество медицинской помощи, несвоевременность её о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8197-4CDC-4CF4-ABEA-B3C0BF4CFD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среда,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воздуха, воды, почвы, резкая смена атмосферн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9635-9D9F-437E-864E-D674C8EF38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ка, биолог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расположенность к наследственным болез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D5A8-C909-4A04-9E0F-3760D5FC31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жизни, привычки и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D539-E2BC-4BF3-BDB3-D92EC849AB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FDEC-7C46-47AA-A5EE-E2BEC1D004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AAB6-56E6-4298-8FA8-5A763D5301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0E5-0AE5-4714-8ACF-9CB9085B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A89-3DBD-4E99-91D8-E9A2C241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738-0EFC-47BE-9D24-538D2D2E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749-A6D9-484F-AA5A-20E3DEF0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2835-B64A-4952-AF91-E26C0E16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EFDF-BD90-4903-A3B9-75095A26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5885-08BA-457F-AFA5-782E7489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9453-D61E-4CBB-9571-93B3B1E7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C7F6-3A1E-4B9D-BB60-FAA5E9CE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505D-00A4-4DE9-84A5-60836B3C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BF28-7748-482E-B328-8103F147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692-F8A6-4ABC-A91F-5E7355A8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23DF-5C6E-4C5F-90D3-FB494D5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0DAA-C6F8-44E1-B8E5-7AFFB3BF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086F-9A2E-4536-9F19-8A20A937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5276-DE80-41C1-ACC9-026F1B50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9449-9E38-42F4-A7DE-2D2A4DFC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4A19-00CF-4C75-88C1-8B0FE435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8827-4DB7-4E88-AB7C-99E6E621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F7BC-0247-4638-90FE-BD163733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29BF-3EC3-4DA3-B86A-1AA86633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0E25-696E-4F6D-83B4-0BC5AB5A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166-ECDF-4526-B6BA-30D6541B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2E63-257E-4031-8B74-40F0EA77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4C6B-61DE-430A-9489-407752FD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97707-1314-4C42-868D-30702EED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E1D2-E53C-40AB-9A32-03604EE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AC24-A2F2-40E1-BD7A-49BB01B5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7BCA-814B-4F36-A623-2A526EEB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7527-A1E7-47A3-BF6D-AC74F3E8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C3E3C-E8BE-4855-B296-8108E72F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4558-4C0E-4627-99BA-E59BC88D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2D1A2-927B-439F-9A16-7E84530B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7E6-A5BB-420C-B2BD-3430134B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C995-D4F9-4D4D-AE41-CF50C015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2B1DA-93AB-41D2-9460-7A28E466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701BC-32B6-4E50-AFFE-451DF5F1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1D9B0-088E-4A08-9C6E-09968DE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ADFFE-73FF-4C8F-AEB5-95B698A8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B36AB-7EEE-40D3-8F7C-88C8E1A6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F21A4-D336-453C-8870-0C4E8FAD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5019-AC4D-4424-B94E-692E4A90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FA5F-15C6-4E6C-8ECE-06BCBCB5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8F975-AB7D-4596-B37A-D9E043FD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893-E4A9-4BF6-8834-AEAE2FEE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3D21F-CEF7-4B03-B5F8-F39BBA6D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FD36B-11F8-4EE5-8AF9-5F5C2AF5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5251D-78E3-4B48-B31F-ECD49B4C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B7112-A92B-4C3B-AD54-F5E0133E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894CA-223D-4334-BF9F-6D7F60E7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CDC22-D385-4831-9EF3-A723A010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7F42D-64BC-40E0-A74F-135F0AAE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8D31B-B0AA-4075-85E2-2C4F8483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9DFFA-C433-46A1-BA6B-4E1CF5E3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AB3F1-2FE3-47A8-9AC6-90323D33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F68-CBFE-44B8-8090-92F4E4A2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EF451-3087-477C-98DA-62D86DA9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CB2F6-7C01-4481-9E2A-4FF907D0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D0432-A49D-4B3C-8B4E-24805FFA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502F0-AF34-456F-9E7E-8FC557A2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73658B-2BDC-4D56-BCFD-6A309813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67765-E171-4A51-B9F5-BD6614F4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943F8-3652-44B5-8F74-9DD52C66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F87F7-38B0-4994-A965-51D3A952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DB539-C133-416C-968F-711F4EE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DDBFB-57C1-4A97-BEA1-F6820A15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247-59D1-4BAC-AD65-B63F041B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515CA5-4B37-401D-B65A-D69577AC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33BDA-6CD9-4CDE-B69A-5E8C224E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D866D-3013-4929-94B8-7CFDB505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5E6-E919-4586-953D-E25493E2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C1B-BA95-4222-A64C-F116249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D53F-F0A3-4C2A-97D2-EBB6F6B96882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586D-1AAF-426E-890F-A507576D1DE3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11DF-FA26-477E-AF44-A66F91B56FE5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01EB-1E6C-4780-814D-FA83975A68C6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75AF-C1B0-4748-8ED6-14DF3D0B754A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490D-3BCB-4BFF-93F3-C6B208EC7411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1CB8-EB27-4144-AC49-64EB2CD33A14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08FF-2BCC-4FB6-9E6B-FFF512CBD05D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252" name="Прямая соединительная линия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256" name="Прямая соединительная линия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260" name="Прямая соединительная линия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4634-4FB8-4A82-89A6-177E904E1A05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D3DC-FC55-40FD-9A62-A34DBE2D90AA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972C-2A3A-4147-8E0E-BDD7131C172D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FD73-3745-4D0C-B9F1-8C0C431EEB54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56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14" descr="i5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390" name="WordArt 4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db5353"/>
                  </a:solidFill>
                  <a:miter/>
                </a:ln>
                <a:gradFill rotWithShape="0">
                  <a:gsLst>
                    <a:gs pos="0">
                      <a:srgbClr val="db5353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db5353"/>
                </a:solidFill>
                <a:miter/>
              </a:ln>
              <a:gradFill rotWithShape="0">
                <a:gsLst>
                  <a:gs pos="0">
                    <a:srgbClr val="db5353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2" descr="21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5" descr="16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7" descr="19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250920" y="4365720"/>
            <a:ext cx="860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ри года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наркомания среди детей и подростков вырос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чти в 6 раз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120040713204739_1-narkotiki[1]"/>
          <p:cNvPicPr/>
          <p:nvPr/>
        </p:nvPicPr>
        <p:blipFill>
          <a:blip r:embed="rId1"/>
          <a:stretch/>
        </p:blipFill>
        <p:spPr>
          <a:xfrm>
            <a:off x="2124000" y="260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удод2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урод1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870840" y="714240"/>
            <a:ext cx="487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865800" y="15001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28800" y="242892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928800" y="4357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214200" y="135720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642960" y="500040"/>
            <a:ext cx="77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1428840" y="1652760"/>
            <a:ext cx="5940360" cy="52052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2428920" y="1071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2641320" y="1857240"/>
            <a:ext cx="3809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Т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РИД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П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ЗОПИ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ЬЯ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М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МИ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-357120" y="1500120"/>
            <a:ext cx="6429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3"/>
          <p:cNvPicPr/>
          <p:nvPr/>
        </p:nvPicPr>
        <p:blipFill>
          <a:blip r:embed="rId1"/>
          <a:stretch/>
        </p:blipFill>
        <p:spPr>
          <a:xfrm>
            <a:off x="5894280" y="0"/>
            <a:ext cx="3249720" cy="471312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214200" y="78588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"/>
          <p:cNvSpPr/>
          <p:nvPr/>
        </p:nvSpPr>
        <p:spPr>
          <a:xfrm>
            <a:off x="214200" y="142884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81720" y="2000160"/>
            <a:ext cx="90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214200" y="3214800"/>
            <a:ext cx="819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0" y="2643120"/>
            <a:ext cx="80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льшое количество алкоголя помогает человеку сосредото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14200" y="3857760"/>
            <a:ext cx="64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14200" y="4572000"/>
            <a:ext cx="65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214200" y="528624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ісце для нижнього колонтитула 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571680" y="500040"/>
            <a:ext cx="77864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500040" y="14004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Будьте здоров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235080" y="597960"/>
            <a:ext cx="875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ВЫВОД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785880" y="57168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МЫ ВЫБИРАЕМ ЖИЗ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Рисунок 6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4786200" cy="45720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500040" y="3571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642960" y="20718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642960" y="3143160"/>
            <a:ext cx="40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42960" y="40719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642960" y="50720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42920" y="1071720"/>
          <a:ext cx="8786880" cy="5047920"/>
        </p:xfrm>
        <a:graphic>
          <a:graphicData uri="http://schemas.openxmlformats.org/drawingml/2006/table">
            <a:tbl>
              <a:tblPr/>
              <a:tblGrid>
                <a:gridCol w="2428920"/>
                <a:gridCol w="2286000"/>
                <a:gridCol w="4071960"/>
              </a:tblGrid>
              <a:tr h="210312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дравоохра-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эффективность профилактических мероприятий, низкое качество медицинской помощи, несвоевременность её оказ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42920" y="928800"/>
          <a:ext cx="8786880" cy="544032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3643560"/>
              </a:tblGrid>
              <a:tr h="29858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яя среда, эколог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рязнение воздуха, воды, почвы, резкая смена атмосферных явлени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42920" y="642960"/>
          <a:ext cx="8786880" cy="5519880"/>
        </p:xfrm>
        <a:graphic>
          <a:graphicData uri="http://schemas.openxmlformats.org/drawingml/2006/table">
            <a:tbl>
              <a:tblPr/>
              <a:tblGrid>
                <a:gridCol w="2571840"/>
                <a:gridCol w="2500200"/>
                <a:gridCol w="3714840"/>
              </a:tblGrid>
              <a:tr h="30654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нетика, биология челове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расположенность к наследственным болезня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357120" y="0"/>
          <a:ext cx="8786880" cy="6215040"/>
        </p:xfrm>
        <a:graphic>
          <a:graphicData uri="http://schemas.openxmlformats.org/drawingml/2006/table">
            <a:tbl>
              <a:tblPr/>
              <a:tblGrid>
                <a:gridCol w="2357640"/>
                <a:gridCol w="1785960"/>
                <a:gridCol w="4643280"/>
              </a:tblGrid>
              <a:tr h="2071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2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 жизни, привычки и повед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2"/>
          <p:cNvSpPr/>
          <p:nvPr/>
        </p:nvSpPr>
        <p:spPr>
          <a:xfrm>
            <a:off x="2071800" y="5500800"/>
            <a:ext cx="48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12" descr="НАРКОТИКИ1"/>
          <p:cNvPicPr/>
          <p:nvPr/>
        </p:nvPicPr>
        <p:blipFill>
          <a:blip r:embed="rId1"/>
          <a:stretch/>
        </p:blipFill>
        <p:spPr>
          <a:xfrm>
            <a:off x="1143000" y="0"/>
            <a:ext cx="643428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357120" y="324468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1357200" y="4857840"/>
            <a:ext cx="542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1" descr="13"/>
          <p:cNvPicPr/>
          <p:nvPr/>
        </p:nvPicPr>
        <p:blipFill>
          <a:blip r:embed="rId1"/>
          <a:stretch/>
        </p:blipFill>
        <p:spPr>
          <a:xfrm>
            <a:off x="857160" y="-219240"/>
            <a:ext cx="6858000" cy="71056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810000" y="142884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093680" y="3929040"/>
            <a:ext cx="669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16:45Z</dcterms:created>
  <dc:creator>COMP11</dc:creator>
  <dc:description/>
  <dc:language>en-US</dc:language>
  <cp:lastModifiedBy>LEGION</cp:lastModifiedBy>
  <dcterms:modified xsi:type="dcterms:W3CDTF">2015-05-12T09:00:37Z</dcterms:modified>
  <cp:revision>32</cp:revision>
  <dc:subject/>
  <dc:title>Цель занятия: Смоделировать самостоятельно возможные меры предупреждения вредных привычек у подростков</dc:title>
</cp:coreProperties>
</file>