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0A13-3429-41C0-AD33-F83689572A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 первую очередь наркотики влияют на психику,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на приводит к духовной деградации и полному физическому истощению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34B7-0940-4BB3-858D-A9263429B8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Именно школы и места массового развлечения молодежи, в первую очередь дискотеки, являются сегодня основными местами распространения наркотиков. За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ри года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наркомания среди детей и подростков выросла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очти в 6 раз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F0FE-3F32-4C01-B5AA-A23083DD97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0D92-1508-46D7-ACED-C1E5629906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2403"/>
                </a:solidFill>
                <a:latin typeface="Calibri"/>
              </a:rPr>
              <a:t>ПОМНИТЕ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людей, принимающих наркотики, рождаются дети-уроды или нежизнеспособные дети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57C7-4831-4FD5-B3CB-5FACCA9034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блуждения наркома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о не болезнь, лечиться не от чего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могу расстаться со своей привычкой в любой мо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самостоятельно буду снижать дозы или уже с завтрашнего  дня сменю наркотик, чтобы не привыкнуть , на слабый, а к врачам обращаться не обяз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о помогает мне жить на пределе возможностей. Становлюсь умнее, раскованнее, в голову приходят блестящие иде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8CFF-8D0E-44FC-9EB1-53ACACACF5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Закончите предложение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не употребляю нарко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тому что…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2880-D8AF-4234-A185-C8CCE1F380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АБАК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ЫЙ П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1AE9-B6F1-4E1B-A0BD-9BB5E9909B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БАЧНЫЙ ДЫ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П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ПИ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АКТИВНЫЙ ПОЛО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М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A03A-D5CD-4770-A56E-50B4B9E516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ИЗМ- </a:t>
            </a: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БОЛЕ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ТОРОЕ ОСОЗН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СРАЗ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НАША ЗАДАЧ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УПРЕДИТЬ 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Я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8331-022B-46A8-AB29-6E73D869DA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я об алкогол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богат калориями и отличается питательной ц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ный  душ помогает пьяному человеку быстрее протрезвет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ие алкоголя на человека зависит от его общего физического состояния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лых дозах алкоголь ослабляет концентрацию и замедляет реа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е количество алкоголя помогает человеку сосредоточ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чрезмерного употребления алкоголя можно умер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переваривается организмом также, как и пищ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родолжительного употребления алкоголя мозг человека уменьш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A531-97E3-4D3C-915E-3F9D10FB9A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Цель занят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делировать самостоятельно возможные меры предупреждения вредных привычек у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Задачи занят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оценивать с гражданских позиций современную ситуацию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учащихся с факторами, вредящими нашему здо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F291-8760-46E2-ABFD-E9EAA72C87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лучший день – сегодн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лучшее место – там, где ты живёш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лучший отдых – труд душ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ая большая утрата – потеря надежд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большое богатство – здоровь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                     </a:t>
            </a: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Будьте здоров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3491-1F3E-4138-A1E5-BA91C658DB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ВЫВОДЫ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а активная пропаганда проти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коголизм, курение, наркомания ухудш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оровье человека, обрекает на гибель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езнь будущее поколения росси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дные привычки надо изгонять, а здоров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 жизни всем необход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0727-DCC9-4A86-984A-2D6B704952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ФАКТОРЫ, ВЛИЯЮЩИЕ НА УРОВЕНЬ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жизни, условия труда и прожи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ки и поведение –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ика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среда, экология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е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6ACC-D411-439D-856E-4E1705618C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равоохра-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ффективность профилактических мероприятий, низкое качество медицинской помощи, несвоевременность её о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F221-EFBD-48C9-8E06-A5F7A8F323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среда, эк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воздуха, воды, почвы, резкая смена атмосферных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0E72-856D-4DB2-9FC5-FB12A2320D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ка, биолог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расположенность к наследственным болезн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1986-F276-4E1E-B2B9-A69E59A2DF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 жизни, привычки и по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, употребление алкоголя, несбалансированное,  неправильное питание, стрессовые ситуации, плохие материально-бытовые условия, употребление наркотиков, злоупотребление лекарствами, низкий образовательный и культурный уров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7F25-3190-4280-AE9A-10D61A6453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88CF-F533-4031-A932-FD76D4BF98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 НАШЕЙ ДУ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4722-E659-43C8-B9F1-2F6BCFDF89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503-57CA-4A99-8022-A7AF5CD0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6A8-869B-4C35-93F3-77833EA5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0EE4-B4F5-459D-AF34-CBDE30F0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39B-005C-4A00-A81F-92079E8B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F594-55AE-4C04-853A-948B61FF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E0B9-6CFE-4688-83B3-74A37A58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CF8C-934F-4EED-B97A-BEDC2B56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45B4-12D2-4C46-95ED-7D422677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CFEE-7493-4522-9B8E-633FFEF6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84D3-0458-42AB-9E93-40DDB318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679F-8019-4FCB-81BA-681DCEBD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4B5-9CB5-44AA-A0F4-672E4948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4E9F-9D02-42BA-BD18-B23D056B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2002-E11D-438E-A8DD-2BECF8FB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4AB1-AE8D-4329-BB5A-79F8152A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1B30-684D-464F-81D1-E7D222F8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D973-410A-48F1-884B-B0779D47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43724-7A39-49F5-A22F-D3F15D9D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ED140-C114-4F86-AE15-D2EF64DB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41328-34EB-4EB3-90BC-2FAEDA18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5BA07-C9AA-4AA9-8703-B4497347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9FF70-F795-4E95-B3AE-321900AE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79F-368F-4B94-A94E-7441CB5D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AE173-0676-4935-88CB-E3271BC0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1FE28-2157-4FA1-B3AC-F7D5B54E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0A6FC-7F5A-4D14-91A6-5C88F670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1BC99-842B-4390-B6C3-60DE1264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ED2CB-980D-4A85-9F06-86A16D3B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D62F9-E09F-42EC-AE71-B7B5800D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E5E69-8F84-47F3-9224-ADF37E68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25DEF-9926-47F0-8230-9A484F09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B3AA8-FD1B-45EC-BEE3-1A3E2391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B1D0C-4E44-427C-8A48-F9F846CD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744A-F892-4FEC-B7D9-BD60AEB9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86B5A-F263-44FB-BAD6-17C2D91D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C6E57-22F4-44C8-88C8-B7020526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10D62-9872-4732-A1C5-5767686B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446DA-5AF0-4573-8D0C-1E70FE95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0BA08-5361-4400-8DBA-888910CB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1122F-4B15-4577-BFC7-B2051902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53BEF-58B5-4839-96FD-C119BC3E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CEC8C-7F14-4E4A-B7F3-48BDA81B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EF7B1-099D-40E8-8C92-CB06E82C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664C6-ED56-4C69-B694-09522CDA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FB51-5DF4-4E1C-B7E5-52E27644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97306-CDF8-467F-8900-4C1C47B2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E4C55-CD24-436B-8777-4B75915E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3AB03-D353-4354-9459-6F95248D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6FDF6-D9A8-478F-88C1-368DB2CB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E709C-005E-48CA-85EE-F16AE783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AEF55-1FCE-4DBA-ABF2-932E76E5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F5DE4-9A71-4A87-9E7A-CF767141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9FCD7-6C05-4FB1-924F-9AA88BD2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40B90-F9E3-4F2F-98FA-8F06977B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40F48-8268-4842-9D12-33836511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0F5-9A7B-443C-BA11-2638A858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2B9D1-47B9-4BD2-AB0C-49C67799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63C29E-CDEE-47CD-A97E-5D17CA78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DF199B-0CE7-4B60-8E34-D857E3F9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B5651A-CFF6-4F33-BF50-B1F56C22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251447-F9D6-4CB5-A44D-640558C3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712D71-A2BE-47E8-822C-522B6741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395E76-190F-45D5-AA35-65D1ACD4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EC940A-DD76-4584-9FBA-3E375E8B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692F3B-C226-4777-AAE1-8C637B30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6F58BE-88E5-499B-AACC-2E49AD71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E73B-2BCA-41D9-B745-CD04F034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E4682B-DDC4-4D89-BC95-3956F250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61BB48-B379-47DF-A59C-F15FFDC3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0F63C5-03FA-45D7-B5B0-B34DDD56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9C2-15ED-4167-BDF2-862E7BB5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AAA8-97DF-4206-B589-594F884D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01B0-13EF-4C09-9C87-F7524B6FE0E1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2690-78B1-40BE-BEBB-0F28B72F2CE8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EBB5-AC76-4C5D-A6AC-580BB88A5666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64C1-D23F-4AFB-8308-92F98DB543EC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b0ccb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b0ccb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a7e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7a7e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7a7e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F21A-7820-489A-B939-EDD7645F060B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5C89-4E7F-4EAB-845A-A699F7E52092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7a7e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D770-FE95-4F63-A4CE-B44050E00296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5908-A404-422F-8E48-94C303A8468E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252" name="Прямая соединительная линия 20"/>
            <p:cNvSpPr/>
            <p:nvPr/>
          </p:nvSpPr>
          <p:spPr>
            <a:xfrm>
              <a:off x="857808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Прямая соединительная линия 23"/>
            <p:cNvSpPr/>
            <p:nvPr/>
          </p:nvSpPr>
          <p:spPr>
            <a:xfrm>
              <a:off x="8516520" y="12826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Прямая соединительная линия 24"/>
            <p:cNvSpPr/>
            <p:nvPr/>
          </p:nvSpPr>
          <p:spPr>
            <a:xfrm flipV="1">
              <a:off x="857808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256" name="Прямая соединительная линия 26"/>
            <p:cNvSpPr/>
            <p:nvPr/>
          </p:nvSpPr>
          <p:spPr>
            <a:xfrm>
              <a:off x="873108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27"/>
            <p:cNvSpPr/>
            <p:nvPr/>
          </p:nvSpPr>
          <p:spPr>
            <a:xfrm>
              <a:off x="8669520" y="1435320"/>
              <a:ext cx="95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28"/>
            <p:cNvSpPr/>
            <p:nvPr/>
          </p:nvSpPr>
          <p:spPr>
            <a:xfrm flipV="1">
              <a:off x="873108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260" name="Прямая соединительная линия 30"/>
            <p:cNvSpPr/>
            <p:nvPr/>
          </p:nvSpPr>
          <p:spPr>
            <a:xfrm>
              <a:off x="838296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31"/>
            <p:cNvSpPr/>
            <p:nvPr/>
          </p:nvSpPr>
          <p:spPr>
            <a:xfrm>
              <a:off x="8321400" y="15382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32"/>
            <p:cNvSpPr/>
            <p:nvPr/>
          </p:nvSpPr>
          <p:spPr>
            <a:xfrm flipV="1">
              <a:off x="838296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39AD-DD1D-4D59-B183-22D1D8EE447A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D643-4164-4ECC-B194-13F5BE53861B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D18D-C34C-4B6F-B8E0-FE3E08E2F365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B0D4-F6E7-41D7-B236-FEC3B813B23B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687564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14" descr="i5"/>
          <p:cNvPicPr/>
          <p:nvPr/>
        </p:nvPicPr>
        <p:blipFill>
          <a:blip r:embed="rId1"/>
          <a:stretch/>
        </p:blipFill>
        <p:spPr>
          <a:xfrm>
            <a:off x="3492360" y="134136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390" name="WordArt 4"/>
          <p:cNvSpPr txBox="1"/>
          <p:nvPr/>
        </p:nvSpPr>
        <p:spPr>
          <a:xfrm>
            <a:off x="1979640" y="333360"/>
            <a:ext cx="532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db5353"/>
                  </a:solidFill>
                  <a:miter/>
                </a:ln>
                <a:gradFill rotWithShape="0">
                  <a:gsLst>
                    <a:gs pos="0">
                      <a:srgbClr val="db5353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ПОСЛЕДСТВИЯ</a:t>
            </a:r>
            <a:endParaRPr b="1" lang="en-US" sz="2000" spc="1" strike="noStrike">
              <a:ln w="9360">
                <a:solidFill>
                  <a:srgbClr val="db5353"/>
                </a:solidFill>
                <a:miter/>
              </a:ln>
              <a:gradFill rotWithShape="0">
                <a:gsLst>
                  <a:gs pos="0">
                    <a:srgbClr val="db5353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91" name="Rectangle 19"/>
          <p:cNvSpPr/>
          <p:nvPr/>
        </p:nvSpPr>
        <p:spPr>
          <a:xfrm>
            <a:off x="539640" y="486900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03638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В первую очередь наркотики влияют на психику, </a:t>
            </a: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она приводит к духовной деградации и полному физическому истощению организ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20"/>
          <p:cNvSpPr/>
          <p:nvPr/>
        </p:nvSpPr>
        <p:spPr>
          <a:xfrm>
            <a:off x="4500720" y="2637000"/>
            <a:ext cx="45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21"/>
          <p:cNvSpPr/>
          <p:nvPr/>
        </p:nvSpPr>
        <p:spPr>
          <a:xfrm>
            <a:off x="3995640" y="465300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03638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22" descr="21"/>
          <p:cNvPicPr/>
          <p:nvPr/>
        </p:nvPicPr>
        <p:blipFill>
          <a:blip r:embed="rId2"/>
          <a:stretch/>
        </p:blipFill>
        <p:spPr>
          <a:xfrm>
            <a:off x="3564000" y="2997360"/>
            <a:ext cx="1800000" cy="1527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5" descr="16"/>
          <p:cNvPicPr/>
          <p:nvPr/>
        </p:nvPicPr>
        <p:blipFill>
          <a:blip r:embed="rId3"/>
          <a:stretch/>
        </p:blipFill>
        <p:spPr>
          <a:xfrm>
            <a:off x="1332000" y="1341360"/>
            <a:ext cx="1636560" cy="3240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7" descr="19"/>
          <p:cNvPicPr/>
          <p:nvPr/>
        </p:nvPicPr>
        <p:blipFill>
          <a:blip r:embed="rId4"/>
          <a:stretch/>
        </p:blipFill>
        <p:spPr>
          <a:xfrm>
            <a:off x="5891040" y="1341360"/>
            <a:ext cx="2171880" cy="32400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4"/>
          <p:cNvSpPr/>
          <p:nvPr/>
        </p:nvSpPr>
        <p:spPr>
          <a:xfrm>
            <a:off x="250920" y="4365720"/>
            <a:ext cx="860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Именно школы и места массового развлечения молодежи, в первую очередь дискотеки, являются сегодня основными местами распространения наркотиков. З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ри года</a:t>
            </a: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наркомания среди детей и подростков выросл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чти в 6 раз</a:t>
            </a: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5" descr="120040713204739_1-narkotiki[1]"/>
          <p:cNvPicPr/>
          <p:nvPr/>
        </p:nvPicPr>
        <p:blipFill>
          <a:blip r:embed="rId1"/>
          <a:stretch/>
        </p:blipFill>
        <p:spPr>
          <a:xfrm>
            <a:off x="2124000" y="26028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5337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6"/>
          <p:cNvSpPr/>
          <p:nvPr/>
        </p:nvSpPr>
        <p:spPr>
          <a:xfrm>
            <a:off x="5508720" y="476280"/>
            <a:ext cx="331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3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удод2"/>
          <p:cNvPicPr/>
          <p:nvPr/>
        </p:nvPicPr>
        <p:blipFill>
          <a:blip r:embed="rId1"/>
          <a:stretch/>
        </p:blipFill>
        <p:spPr>
          <a:xfrm>
            <a:off x="4572000" y="3549600"/>
            <a:ext cx="4032360" cy="2687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урод1"/>
          <p:cNvPicPr/>
          <p:nvPr/>
        </p:nvPicPr>
        <p:blipFill>
          <a:blip r:embed="rId2"/>
          <a:stretch/>
        </p:blipFill>
        <p:spPr>
          <a:xfrm>
            <a:off x="395280" y="981000"/>
            <a:ext cx="3343320" cy="51120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4067280" y="404640"/>
            <a:ext cx="45352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Arial"/>
              </a:rPr>
              <a:t>ПОМНИТ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людей, принимающих наркотики, рождаются дети-уроды или нежизнеспособные де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870840" y="714240"/>
            <a:ext cx="4877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аблуждения нарком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Это не болезнь, лечиться не от чего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865800" y="15001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могу расстаться со своей привычкой в любой мо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928800" y="242892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самостоятельно буду снижать дозы или уже с завтрашнего  дня сменю наркотик, чтобы не привыкнуть , на слабый, а к врачам обращаться не обяза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4"/>
          <p:cNvSpPr/>
          <p:nvPr/>
        </p:nvSpPr>
        <p:spPr>
          <a:xfrm>
            <a:off x="928800" y="43578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Это помогает мне жить на пределе возможностей. Становлюсь умнее, раскованнее, в голову приходят блестящие иде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1"/>
          <p:cNvSpPr/>
          <p:nvPr/>
        </p:nvSpPr>
        <p:spPr>
          <a:xfrm>
            <a:off x="214200" y="1357200"/>
            <a:ext cx="842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Закончите предлож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не употребляю наркотики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тому что….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1"/>
          <p:cNvSpPr/>
          <p:nvPr/>
        </p:nvSpPr>
        <p:spPr>
          <a:xfrm>
            <a:off x="642960" y="500040"/>
            <a:ext cx="77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АК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ЫЙ ПУ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Рисунок 2" descr=""/>
          <p:cNvPicPr/>
          <p:nvPr/>
        </p:nvPicPr>
        <p:blipFill>
          <a:blip r:embed="rId1"/>
          <a:stretch/>
        </p:blipFill>
        <p:spPr>
          <a:xfrm>
            <a:off x="1428840" y="1652760"/>
            <a:ext cx="5940360" cy="520524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1"/>
          <p:cNvSpPr/>
          <p:nvPr/>
        </p:nvSpPr>
        <p:spPr>
          <a:xfrm>
            <a:off x="2428920" y="107172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БАЧНЫЙ ДЫ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2"/>
          <p:cNvSpPr/>
          <p:nvPr/>
        </p:nvSpPr>
        <p:spPr>
          <a:xfrm>
            <a:off x="2641320" y="1857240"/>
            <a:ext cx="3809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Т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РИД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Л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ПР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НЗОПИР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ИАКТИВНЫЙ ПОЛО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ЬЯ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М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МИ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НЕ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РАВЬИ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ИЛЬ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ДОВИТЫЕ ГА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-357120" y="1500120"/>
            <a:ext cx="6429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ИЗМ-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БОЛЕВАН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ТОРОЕ ОСОЗНАЮ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СРАЗУ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НАША ЗАДАЧА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УПРЕДИТЬ Е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ЯВ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3"/>
          <p:cNvPicPr/>
          <p:nvPr/>
        </p:nvPicPr>
        <p:blipFill>
          <a:blip r:embed="rId1"/>
          <a:stretch/>
        </p:blipFill>
        <p:spPr>
          <a:xfrm>
            <a:off x="5894280" y="0"/>
            <a:ext cx="3249720" cy="471312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Box 1"/>
          <p:cNvSpPr/>
          <p:nvPr/>
        </p:nvSpPr>
        <p:spPr>
          <a:xfrm>
            <a:off x="214200" y="785880"/>
            <a:ext cx="73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верждения об алкого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ь богат калориями и отличается питательной ценност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2"/>
          <p:cNvSpPr/>
          <p:nvPr/>
        </p:nvSpPr>
        <p:spPr>
          <a:xfrm>
            <a:off x="214200" y="1428840"/>
            <a:ext cx="73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лодный  душ помогает пьяному человеку быстрее протрезве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3"/>
          <p:cNvSpPr/>
          <p:nvPr/>
        </p:nvSpPr>
        <p:spPr>
          <a:xfrm>
            <a:off x="81720" y="2000160"/>
            <a:ext cx="905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действие алкоголя на человека зависит от его общего физического состоя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214200" y="3214800"/>
            <a:ext cx="819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алых дозах алкоголь ослабляет концентрацию и замедляет реакц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5"/>
          <p:cNvSpPr/>
          <p:nvPr/>
        </p:nvSpPr>
        <p:spPr>
          <a:xfrm>
            <a:off x="0" y="2643120"/>
            <a:ext cx="80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большое количество алкоголя помогает человеку сосредоточ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6"/>
          <p:cNvSpPr/>
          <p:nvPr/>
        </p:nvSpPr>
        <p:spPr>
          <a:xfrm>
            <a:off x="214200" y="3857760"/>
            <a:ext cx="649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чрезмерного употребления алкоголя можно умере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7"/>
          <p:cNvSpPr/>
          <p:nvPr/>
        </p:nvSpPr>
        <p:spPr>
          <a:xfrm>
            <a:off x="214200" y="4572000"/>
            <a:ext cx="65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ь переваривается организмом также, как и пищ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8"/>
          <p:cNvSpPr/>
          <p:nvPr/>
        </p:nvSpPr>
        <p:spPr>
          <a:xfrm>
            <a:off x="214200" y="5286240"/>
            <a:ext cx="841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продолжительного употребления алкоголя мозг человека уменьша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Місце для нижнього колонтитула 9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1"/>
          <p:cNvSpPr/>
          <p:nvPr/>
        </p:nvSpPr>
        <p:spPr>
          <a:xfrm>
            <a:off x="571680" y="500040"/>
            <a:ext cx="77864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Цель занят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делировать самостоятельно возможные меры предупреждения вредных привычек у подрос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Задачи занят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ься оценивать с гражданских позиций современную ситуацию в обще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комить учащихся с факторами, вредящими нашему здоров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500040" y="140040"/>
            <a:ext cx="8143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ый лучший день – сегодн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е лучшее место – там, где ты живёш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ый лучший отдых – труд душ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ая большая утрата – потеря надежд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е большое богатство – здоровь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                     </a:t>
            </a: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Будьте здоров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"/>
          <p:cNvSpPr/>
          <p:nvPr/>
        </p:nvSpPr>
        <p:spPr>
          <a:xfrm>
            <a:off x="235080" y="597960"/>
            <a:ext cx="8757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ВЫВОДЫ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еобходима активная пропаганда проти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редных привыч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Алкоголизм, курение, наркомания ухудш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здоровье человека, обрекает на гибель и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болезнь будущее поколения россия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редные привычки надо изгонять, а здоров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раз жизни всем необход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3"/>
          <p:cNvSpPr/>
          <p:nvPr/>
        </p:nvSpPr>
        <p:spPr>
          <a:xfrm>
            <a:off x="785880" y="57168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МЫ ВЫБИРАЕМ ЖИЗН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Рисунок 6" descr=""/>
          <p:cNvPicPr/>
          <p:nvPr/>
        </p:nvPicPr>
        <p:blipFill>
          <a:blip r:embed="rId1"/>
          <a:stretch/>
        </p:blipFill>
        <p:spPr>
          <a:xfrm>
            <a:off x="2071800" y="2000160"/>
            <a:ext cx="4786200" cy="457200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1"/>
          <p:cNvSpPr/>
          <p:nvPr/>
        </p:nvSpPr>
        <p:spPr>
          <a:xfrm>
            <a:off x="500040" y="35712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ФАКТОРЫ, ВЛИЯЮЩИЕ НА УРОВЕНЬ ЗДОРОВ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642960" y="207180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 жизни, условия труда и проживан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ычки и поведение – 5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642960" y="3143160"/>
            <a:ext cx="400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тика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642960" y="407196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яя среда, экология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642960" y="50720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оохранение – 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142920" y="1071720"/>
          <a:ext cx="8786880" cy="5047920"/>
        </p:xfrm>
        <a:graphic>
          <a:graphicData uri="http://schemas.openxmlformats.org/drawingml/2006/table">
            <a:tbl>
              <a:tblPr/>
              <a:tblGrid>
                <a:gridCol w="2428920"/>
                <a:gridCol w="2286000"/>
                <a:gridCol w="4071960"/>
              </a:tblGrid>
              <a:tr h="210312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дравоохра-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эффективность профилактических мероприятий, низкое качество медицинской помощи, несвоевременность её оказа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42920" y="928800"/>
          <a:ext cx="8786880" cy="5440320"/>
        </p:xfrm>
        <a:graphic>
          <a:graphicData uri="http://schemas.openxmlformats.org/drawingml/2006/table">
            <a:tbl>
              <a:tblPr/>
              <a:tblGrid>
                <a:gridCol w="2571840"/>
                <a:gridCol w="2571480"/>
                <a:gridCol w="3643560"/>
              </a:tblGrid>
              <a:tr h="298584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48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шняя среда, экологи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рязнение воздуха, воды, почвы, резкая смена атмосферных явлени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142920" y="642960"/>
          <a:ext cx="8786880" cy="5519880"/>
        </p:xfrm>
        <a:graphic>
          <a:graphicData uri="http://schemas.openxmlformats.org/drawingml/2006/table">
            <a:tbl>
              <a:tblPr/>
              <a:tblGrid>
                <a:gridCol w="2571840"/>
                <a:gridCol w="2500200"/>
                <a:gridCol w="3714840"/>
              </a:tblGrid>
              <a:tr h="30654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48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нетика, биология человек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расположенность к наследственным болезня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357120" y="0"/>
          <a:ext cx="8786880" cy="6215040"/>
        </p:xfrm>
        <a:graphic>
          <a:graphicData uri="http://schemas.openxmlformats.org/drawingml/2006/table">
            <a:tbl>
              <a:tblPr/>
              <a:tblGrid>
                <a:gridCol w="2357640"/>
                <a:gridCol w="1785960"/>
                <a:gridCol w="4643280"/>
              </a:tblGrid>
              <a:tr h="20718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24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 жизни, привычки и поведен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рение, употребление алкоголя, несбалансированное,  неправильное питание, стрессовые ситуации, плохие материально-бытовые условия, употребление наркотиков, злоупотребление лекарствами, низкий образовательный и культурный уровен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2"/>
          <p:cNvSpPr/>
          <p:nvPr/>
        </p:nvSpPr>
        <p:spPr>
          <a:xfrm>
            <a:off x="2071800" y="5500800"/>
            <a:ext cx="48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12" descr="НАРКОТИКИ1"/>
          <p:cNvPicPr/>
          <p:nvPr/>
        </p:nvPicPr>
        <p:blipFill>
          <a:blip r:embed="rId1"/>
          <a:stretch/>
        </p:blipFill>
        <p:spPr>
          <a:xfrm>
            <a:off x="1143000" y="0"/>
            <a:ext cx="643428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357120" y="324468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1357200" y="4857840"/>
            <a:ext cx="542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АЯ СМЕР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1" descr="13"/>
          <p:cNvPicPr/>
          <p:nvPr/>
        </p:nvPicPr>
        <p:blipFill>
          <a:blip r:embed="rId1"/>
          <a:stretch/>
        </p:blipFill>
        <p:spPr>
          <a:xfrm>
            <a:off x="857160" y="-219240"/>
            <a:ext cx="6858000" cy="71056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>
            <a:off x="810000" y="1428840"/>
            <a:ext cx="70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1093680" y="3929040"/>
            <a:ext cx="669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 НАШЕЙ ДУШ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2:16:45Z</dcterms:created>
  <dc:creator>COMP11</dc:creator>
  <dc:description/>
  <dc:language>en-US</dc:language>
  <cp:lastModifiedBy>LEGION</cp:lastModifiedBy>
  <dcterms:modified xsi:type="dcterms:W3CDTF">2015-05-12T09:00:37Z</dcterms:modified>
  <cp:revision>32</cp:revision>
  <dc:subject/>
  <dc:title>Цель занятия: Смоделировать самостоятельно возможные меры предупреждения вредных привычек у подростков</dc:title>
</cp:coreProperties>
</file>