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1FC1-038C-48F1-88E5-8A5B019179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506A-EB2D-4478-8205-3178EF91F8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B397-D927-4D8B-A236-4A56DE88C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го уд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6229-DCB6-4FBE-8B4F-495DB6CC3C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птомы солнечного уда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Легкая степен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бщая слаб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головная бол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тошнот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я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асширение зрач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При средней степени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езкая адинам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сильная головная боль с тошнотой и рвото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глушенн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неуверенность движени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шаткая походк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временами обморочные состоя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е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кровотечение из нос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повышение температуры тела до 39 — 40 °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0943-3BCE-4B93-BDC6-EBA2A3009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олнечном удар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443B-F110-40E4-9660-58C933524C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илактика солнечного уда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у защищайте легким светлым головным убо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длительного пребывания на солнце, на пляж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нахождения на открытых пространствах с прямыми солнечными луч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егкую, светлую одежду, из натуральных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ьзуйтесь зонтом от солнца (светлых отт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ремя от времени протирайте лицо платком, смоченным в прохладной в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ощущении недомогания обратиться за помощью и предпринять самому возможные 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870A-BB7B-4338-9BAD-85DEE0A768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внимательны и аккуратны при нахождении на прямых солнечных лучах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3F19-C588-4D5F-8DCE-E6031A5F35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00"/>
                </a:solidFill>
                <a:latin typeface="Calibri"/>
              </a:rPr>
              <a:t>Тепловой уд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5CF4-16AC-4A09-8F66-797D01422F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ичины возникновения теплового у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ы в условиях высокой влажности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ая и синтетическая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ркая по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яжелая физическая нагру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787D-310F-4765-9F25-3DF749C09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имптомы и признаки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а тела (40 С и выш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сутствие потоотд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тепловом ударе кожа зачастую красн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щен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кое повышение частоты сердечных сок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дороги, галлюцинации, 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1C43-9910-43E9-86B3-E8F6033F35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дленно зайдите в прохладное кондиционированное поме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нимите тесную одежду, развяжите галстук, снимите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лучае теплового удара обернитесь влажной простыней или включите вентиля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примите прохладный душ или ван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омендуется выпить 1 литр воды с добавлением 2 чайных ложек с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5AA6-6D1C-49DE-A546-2997AEF557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филактика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озможности, установите в доме кондицио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2D40-2E5F-4687-920C-841F7762EE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8EAB-64D5-4CAF-A65F-1DFEA75546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ки солнечного ож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рас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пухлость, а иногда и пузыри на кож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хорадка (повышение температуры до 38 С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аб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5155-8B97-4CBD-9DFA-1C0A5A0E37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помощь при солнечных ожог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C2B1-0248-4A4E-9D22-5669FB0846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A1D-85BC-482B-96BD-EA0B0526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C2A-0F96-4370-8882-620F62A2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9F3-C31B-484E-9433-9923D240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4B2-E49E-40DC-BFB0-FD946C2B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488-876E-4196-884F-252CAF35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0EE-1EE2-4168-B4FD-01F13AA2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8C3-1E15-422F-9FCF-849321D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8FE-A83C-4E9B-9DBE-F823527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B95-D1E9-4B03-8069-602E2A7C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D0D-BDDC-4A4E-A184-764788C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B63-AE4E-47AA-ADBA-61EF16A6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A37-602B-4E51-9CF3-584A852C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8FB-A63E-4B57-8762-9407B6212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?id=58300681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?id=491294559-24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ового уд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олнечный удар. Описание, симптомы, профилактика и первая помощь при солнечном ударе"/>
          <p:cNvPicPr/>
          <p:nvPr/>
        </p:nvPicPr>
        <p:blipFill>
          <a:blip r:embed="rId2"/>
          <a:stretch/>
        </p:blipFill>
        <p:spPr>
          <a:xfrm>
            <a:off x="900000" y="1268280"/>
            <a:ext cx="3962520" cy="4670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птомы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Легкая степень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бщая слаб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головная бол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тошнот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я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асширение зра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При средней степени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езкая адинам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сильная головная боль с тошнотой и рвото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глушенн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неуверенность движ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шаткая поход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временами обморочные состоя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е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кровотечение из н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повышение температуры тела до 39 — 40 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?id=324258498-08-72&amp;n=21"/>
          <p:cNvPicPr/>
          <p:nvPr/>
        </p:nvPicPr>
        <p:blipFill>
          <a:blip r:embed="rId2"/>
          <a:stretch/>
        </p:blipFill>
        <p:spPr>
          <a:xfrm>
            <a:off x="5435640" y="836640"/>
            <a:ext cx="2892240" cy="28922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ом у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-L-UDGSlE"/>
          <p:cNvPicPr/>
          <p:nvPr/>
        </p:nvPicPr>
        <p:blipFill>
          <a:blip r:embed="rId1"/>
          <a:stretch/>
        </p:blipFill>
        <p:spPr>
          <a:xfrm>
            <a:off x="1258920" y="1197000"/>
            <a:ext cx="6600960" cy="5229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у защищайте легким светлым головным уб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длительного пребывания на солнце, на пляж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нахождения на открытых пространствах с прямыми солнечными луч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сите легкую, светлую одежду, из натуральных тка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йтесь зонтом от солнца (светлых оттенк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ремя от времени протирайте лицо платком, смоченным в прохладной в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ощущении недомогания обратиться за помощью и предпринять самому возмож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?id=326405896-04-72&amp;n=21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удьте внимательны и аккуратны при нахождении на прямых солнечных лучах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620280"/>
            <a:ext cx="53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плово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Тепловой уда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?id=447937039-43-72&amp;n=21"/>
          <p:cNvPicPr/>
          <p:nvPr/>
        </p:nvPicPr>
        <p:blipFill>
          <a:blip r:embed="rId2"/>
          <a:stretch/>
        </p:blipFill>
        <p:spPr>
          <a:xfrm>
            <a:off x="1116000" y="404640"/>
            <a:ext cx="194472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36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чины возникновения теплового уд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ая температуры в условиях высокой влажност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плая и синтетическая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аркая по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яжел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лекарствен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?id=489795115-65-72&amp;n=21"/>
          <p:cNvPicPr/>
          <p:nvPr/>
        </p:nvPicPr>
        <p:blipFill>
          <a:blip r:embed="rId2"/>
          <a:stretch/>
        </p:blipFill>
        <p:spPr>
          <a:xfrm>
            <a:off x="971640" y="0"/>
            <a:ext cx="318456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9423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мптомы и признаки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 тела (40 С и вы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пото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тепловом ударе кожа зачастую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ен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частоты сердечных сокра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дороги, галлюцинации, потер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едленно зайдите в прохладное кондиционированное пом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имите тесную одежду, развяжите галстук, снимите обу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учае теплового удара обернитесь влажной простыней или включите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есть возможность, примите прохладный душ или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омендуется выпить 1 литр воды с добавлением 2 чайных ложек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возможности, установите в доме кондицио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?id=63095669-42-72&amp;n=21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992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е ож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солнечного ож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рас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пухлость, а иногда и пузыри на к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хорадка (повышение температуры до 38 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аб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?id=615825154-10-72&amp;n=21"/>
          <p:cNvPicPr/>
          <p:nvPr/>
        </p:nvPicPr>
        <p:blipFill>
          <a:blip r:embed="rId2"/>
          <a:stretch/>
        </p:blipFill>
        <p:spPr>
          <a:xfrm>
            <a:off x="6372360" y="3573360"/>
            <a:ext cx="2028600" cy="2870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ых ожог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43:24Z</dcterms:created>
  <dc:creator>Лариса</dc:creator>
  <dc:description/>
  <dc:language>en-US</dc:language>
  <cp:lastModifiedBy>LEGION</cp:lastModifiedBy>
  <dcterms:modified xsi:type="dcterms:W3CDTF">2015-05-12T09:01:44Z</dcterms:modified>
  <cp:revision>6</cp:revision>
  <dc:subject/>
  <dc:title>Тепловые и солнечные удары</dc:title>
</cp:coreProperties>
</file>