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812D-8035-40EC-B628-DDE21A436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259B-5E95-47FB-B342-BA5534622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BCED-AE18-43AB-A96A-DF8503C80D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го уд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35EE-9DBD-4802-B345-C19C30130E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птомы солнечного уда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Легкая степен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бщая слаб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головная бол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тошнот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я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асширение зрач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При средней степени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езкая адинам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сильная головная боль с тошнотой и рвото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глушенн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неуверенность движени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шаткая походк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временами обморочные состоя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е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кровотечение из нос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повышение температуры тела до 39 — 40 °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8D1-B4FA-4C52-9AA1-42A79BD990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олнечном удар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1D99-0017-4CE2-9D42-D2D845DD79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илактика солнечного уда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у защищайте легким светлым головным убо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длительного пребывания на солнце, на пляж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нахождения на открытых пространствах с прямыми солнечными луч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егкую, светлую одежду, из натуральных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ьзуйтесь зонтом от солнца (светлых отт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ремя от времени протирайте лицо платком, смоченным в прохладной в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ощущении недомогания обратиться за помощью и предпринять самому возможные 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EFF6-F22F-4138-A47F-FB9882EC52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внимательны и аккуратны при нахождении на прямых солнечных лучах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31CA-9033-48EE-9DD9-EB9F0312F7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00"/>
                </a:solidFill>
                <a:latin typeface="Calibri"/>
              </a:rPr>
              <a:t>Тепловой уд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704D-C97B-4863-85F0-B857DEB6C8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ичины возникновения теплового у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ы в условиях высокой влажности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ая и синтетическая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ркая по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яжелая физическая нагру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0CC8-EBED-42DD-BBAC-E69A5B2CCE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имптомы и признаки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а тела (40 С и выш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сутствие потоотд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тепловом ударе кожа зачастую красн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щен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кое повышение частоты сердечных сок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дороги, галлюцинации, 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6106-D2A7-42F8-9911-3F4066E3F0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дленно зайдите в прохладное кондиционированное поме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нимите тесную одежду, развяжите галстук, снимите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лучае теплового удара обернитесь влажной простыней или включите вентиля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примите прохладный душ или ван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омендуется выпить 1 литр воды с добавлением 2 чайных ложек с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1BAD-F8DC-4809-9AA7-A10D79A17D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филактика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озможности, установите в доме кондицио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6D5D-F84F-41E1-AB33-ACF73A6022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AC7A-F2EB-4A10-BC6B-6480D1546D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ки солнечного ож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рас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пухлость, а иногда и пузыри на кож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хорадка (повышение температуры до 38 С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аб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5699-77EE-41E8-88F7-2C7DC27077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помощь при солнечных ожог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C99-ED7C-4094-9181-63B063AE9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C95-FEC6-4E02-9326-D9049E25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F5D-E11C-4B5F-A2D6-15254FED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270-08E0-415C-8815-6C30D680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214-846A-4B61-AAF0-EECB7208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7FD-AF53-47BA-AE6C-F378DE36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98C-465D-43CD-B1CC-38993C79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F55-4194-4CB0-9F42-1130052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3C1-2BDF-4156-946B-5DCD812D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CCC-709F-4805-8150-CF01AEEB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67E-14BD-44A0-8E87-FDF205C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4B5-5E1F-41A8-94A0-90932B4D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C69-C04D-479D-B980-471C16B1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8465-7621-42FF-A284-759A1F096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?id=58300681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?id=491294559-24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ового уд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олнечный удар. Описание, симптомы, профилактика и первая помощь при солнечном ударе"/>
          <p:cNvPicPr/>
          <p:nvPr/>
        </p:nvPicPr>
        <p:blipFill>
          <a:blip r:embed="rId2"/>
          <a:stretch/>
        </p:blipFill>
        <p:spPr>
          <a:xfrm>
            <a:off x="900000" y="1268280"/>
            <a:ext cx="3962520" cy="4670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птомы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Легкая степень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бщая слаб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головная бол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тошнот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я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асширение зра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При средней степени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езкая адинам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сильная головная боль с тошнотой и рвото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глушенн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неуверенность движ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шаткая поход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временами обморочные состоя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е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кровотечение из н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повышение температуры тела до 39 — 40 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?id=324258498-08-72&amp;n=21"/>
          <p:cNvPicPr/>
          <p:nvPr/>
        </p:nvPicPr>
        <p:blipFill>
          <a:blip r:embed="rId2"/>
          <a:stretch/>
        </p:blipFill>
        <p:spPr>
          <a:xfrm>
            <a:off x="5435640" y="836640"/>
            <a:ext cx="2892240" cy="28922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ом у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-L-UDGSlE"/>
          <p:cNvPicPr/>
          <p:nvPr/>
        </p:nvPicPr>
        <p:blipFill>
          <a:blip r:embed="rId1"/>
          <a:stretch/>
        </p:blipFill>
        <p:spPr>
          <a:xfrm>
            <a:off x="1258920" y="1197000"/>
            <a:ext cx="6600960" cy="5229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у защищайте легким светлым головным уб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длительного пребывания на солнце, на пляж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нахождения на открытых пространствах с прямыми солнечными луч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сите легкую, светлую одежду, из натуральных тка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йтесь зонтом от солнца (светлых оттенк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ремя от времени протирайте лицо платком, смоченным в прохладной в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ощущении недомогания обратиться за помощью и предпринять самому возмож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?id=326405896-04-72&amp;n=21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удьте внимательны и аккуратны при нахождении на прямых солнечных лучах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620280"/>
            <a:ext cx="53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плово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Тепловой уда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?id=447937039-43-72&amp;n=21"/>
          <p:cNvPicPr/>
          <p:nvPr/>
        </p:nvPicPr>
        <p:blipFill>
          <a:blip r:embed="rId2"/>
          <a:stretch/>
        </p:blipFill>
        <p:spPr>
          <a:xfrm>
            <a:off x="1116000" y="404640"/>
            <a:ext cx="194472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36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чины возникновения теплового уд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ая температуры в условиях высокой влажност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плая и синтетическая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аркая по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яжел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лекарствен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?id=489795115-65-72&amp;n=21"/>
          <p:cNvPicPr/>
          <p:nvPr/>
        </p:nvPicPr>
        <p:blipFill>
          <a:blip r:embed="rId2"/>
          <a:stretch/>
        </p:blipFill>
        <p:spPr>
          <a:xfrm>
            <a:off x="971640" y="0"/>
            <a:ext cx="318456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9423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мптомы и признаки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 тела (40 С и вы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пото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тепловом ударе кожа зачастую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ен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частоты сердечных сокра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дороги, галлюцинации, потер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едленно зайдите в прохладное кондиционированное пом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имите тесную одежду, развяжите галстук, снимите обу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учае теплового удара обернитесь влажной простыней или включите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есть возможность, примите прохладный душ или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омендуется выпить 1 литр воды с добавлением 2 чайных ложек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возможности, установите в доме кондицио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?id=63095669-42-72&amp;n=21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992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е ож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солнечного ож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рас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пухлость, а иногда и пузыри на к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хорадка (повышение температуры до 38 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аб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?id=615825154-10-72&amp;n=21"/>
          <p:cNvPicPr/>
          <p:nvPr/>
        </p:nvPicPr>
        <p:blipFill>
          <a:blip r:embed="rId2"/>
          <a:stretch/>
        </p:blipFill>
        <p:spPr>
          <a:xfrm>
            <a:off x="6372360" y="3573360"/>
            <a:ext cx="2028600" cy="2870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ых ожог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43:24Z</dcterms:created>
  <dc:creator>Лариса</dc:creator>
  <dc:description/>
  <dc:language>en-US</dc:language>
  <cp:lastModifiedBy>LEGION</cp:lastModifiedBy>
  <dcterms:modified xsi:type="dcterms:W3CDTF">2015-05-12T09:01:44Z</dcterms:modified>
  <cp:revision>6</cp:revision>
  <dc:subject/>
  <dc:title>Тепловые и солнечные удары</dc:title>
</cp:coreProperties>
</file>