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E51F-46AC-463D-9F9A-A4BD4A8475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Тепловые и солнечные уд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рзамасцева Лариса Алексеевна- преподаватель-организатор ОБЖ МБОУСОШ №55 им.А.В.Чернова г.Т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6202-A27C-49B6-8A6B-15007E8482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02E1-8CC7-426E-8EA7-99398B1E94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олезненное состояние, расстройство работы головного мозга вследствие продолжительного воздействия солнечного света на непокрытую поверхность головы. Это особая фор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ового уда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5340-32B9-44B0-92F2-343931264C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мптомы солнечного уда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00"/>
                </a:solidFill>
                <a:uFillTx/>
                <a:latin typeface="Calibri"/>
              </a:rPr>
              <a:t>Легкая степень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общая слабост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головная бол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тошнот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учащения пульса и дыха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расширение зрач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00"/>
                </a:solidFill>
                <a:uFillTx/>
                <a:latin typeface="Calibri"/>
              </a:rPr>
              <a:t>При средней степени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резкая адинам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сильная головная боль с тошнотой и рвотой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оглушенност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неуверенность движений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шаткая походк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временами обморочные состоя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учащение пульса и дыха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кровотечение из нос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повышение температуры тела до 39 — 40 °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6409-EF9B-44DF-B42D-226D7C8160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ая помощь при солнечном удар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0430-5A3A-4563-87D7-66ED15BE1E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филактика солнечного удар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у защищайте легким светлым головным убор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длительного пребывания на солнце, на пляж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нахождения на открытых пространствах с прямыми солнечными луч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горать лучше не лежа, а в движении, солнечные ванны принимать в утренние и вечерние часы и не ранее чем через час после еды. Полезно сочетать их с куп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сите легкую, светлую одежду, из натуральных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жаркое время не ешьте слишком плотно. Отдавайте предпочтение кисломолочным продуктам и овощ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ддерживайте водный баланс в организме (лучше с помощью прохладной воды; 3-х литров в ден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льзуйтесь зонтом от солнца (светлых оттенк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ремя от времени протирайте лицо платком, смоченным в прохладной в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ощущении недомогания обратиться за помощью и предпринять самому возможные 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4AEA-365E-40BE-9B98-4E4304B8B0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ьте внимательны и аккуратны при нахождении на прямых солнечных лучах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9CEE-F003-4E2E-8B9D-1218601CD7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00"/>
                </a:solidFill>
                <a:latin typeface="Calibri"/>
              </a:rPr>
              <a:t>Тепловой удар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это опасное для жизни состояние, которое возникает при воздействии на тело человека повышенной температуры, в условиях повышенной влажности, обезвоживания и нарушения процесса терморегуляции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2F19-EAF2-471F-B09E-285F3D7029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ричины возникновения теплового уда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температуры в условиях высокой влажности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ая и синтетическая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аркая по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яжелая физическая нагру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которые лекарствен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5D05-E8B8-4F07-ABBF-8E6ED7866C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имптомы и признаки теплового уда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температура тела (40 С и выш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аж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сутствие потоотд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тепловом ударе кожа зачастую красн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ащенное дых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зкое повышение частоты сердечных сокращ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дороги, галлюцинации, потеря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1A93-9F1E-4E52-9590-0D72BE7C69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Первая помощь при тепловом ударе в домашних условиях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медленно зайдите в прохладное кондиционированное поме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нимите тесную одежду, развяжите галстук, снимите обу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лучае теплового удара обернитесь влажной простыней или включите вентиля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есть возможность, примите прохладный душ или ван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комендуется выпить 1 литр воды с добавлением 2 чайных ложек с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ак же для снижения температуры тела можно приложить к области шеи, спины, подмышек и паха мешочки со ль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94D5-0E12-469A-9F86-6C661C2CC8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офилактика теплового уда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сите лёгкую одежду из натуральных материалов (лён, хлопок), это позволит избежать развитие теплового уд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возможности, установите в доме кондицион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йте больше жидкости, особенно в теплое время года, это снизит риск развития теплового уд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икогда не оставляйте машину на солнце. Если всё же это случилось, не сидите в раскаленной машине больше 1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тяжелой физической нагрузки в жаркое время года. Во время выполнения работы время от времени делайте перерывы на отдых, пейте больше жид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1DE8-71A9-4DB2-8C1E-D18BDEF2D9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29FD-7CCE-429F-AAC9-83BD7663BA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знаки солнечного ожо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ол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красн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пухлость, а иногда и пузыри на кож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ная бол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хорадка (повышение температуры до 38 С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лаб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99E6-5442-43E5-A33F-A07700F042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рвая помощь при солнечных ожог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ите прохладную ванну или душ с добавлением в воду ½ чашки крахмала, овсянки или пищевой соды, это снимет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носите лосьон Алоэ Вера на поражённую кожу несколько раз в день, при солнечных ожог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при солнечных ожогах на коже появляются волдыри или сыпь, немедленно обратитесь к врачу. Не вскрывайте волды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0615-E191-413C-A9EA-0BF28051DD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356-CB2D-4D3B-9434-6634FD9B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4AD-DA52-404A-A6F3-EC6396A1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DA1D-2272-4569-837A-3124F4A7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667-D11E-47A4-B173-50F7BCC9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4046-0F75-4E4C-A837-840DE737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2C3D-27E2-447E-B560-2E91FBBE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54F-8D44-42F4-9EDA-DE25FC59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F33A-7371-4299-BADD-06B4C2C5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3F9D-C583-49DE-A997-4BD52F6B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9DE-A9E4-4FE9-A142-FEA530F9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77A8-66F5-4314-B0CD-EF056156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709-0059-4E67-B452-1B1038FD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6B8E-C973-4595-8CDE-81EA669ABA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?id=58300681-41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рзамасцева Лариса Алексеевна- преподаватель-организатор ОБЖ МБОУСОШ №55 им.А.В.Чернова г.Т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Тепловые и солнечные уд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i?id=491294559-24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лезненное состояние, расстройство работы головного мозга вследствие продолжительного воздействия солнечного света на непокрытую поверхность головы. Это особая фор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плового удар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Солнечный удар. Описание, симптомы, профилактика и первая помощь при солнечном ударе"/>
          <p:cNvPicPr/>
          <p:nvPr/>
        </p:nvPicPr>
        <p:blipFill>
          <a:blip r:embed="rId2"/>
          <a:stretch/>
        </p:blipFill>
        <p:spPr>
          <a:xfrm>
            <a:off x="900000" y="1268280"/>
            <a:ext cx="3962520" cy="46706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птомы солнечного уд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Легкая степень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общая слабост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головная бол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тошнот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учащения пульса и дыха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расширение зрач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При средней степени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резкая адинам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сильная головная боль с тошнотой и рвотой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оглушенност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неуверенность движений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шаткая походк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временами обморочные состоя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учащение пульса и дыха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кровотечение из нос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повышение температуры тела до 39 — 40 °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?id=324258498-08-72&amp;n=21"/>
          <p:cNvPicPr/>
          <p:nvPr/>
        </p:nvPicPr>
        <p:blipFill>
          <a:blip r:embed="rId2"/>
          <a:stretch/>
        </p:blipFill>
        <p:spPr>
          <a:xfrm>
            <a:off x="5435640" y="836640"/>
            <a:ext cx="2892240" cy="28922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помощь при солнечном уда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-L-UDGSlE"/>
          <p:cNvPicPr/>
          <p:nvPr/>
        </p:nvPicPr>
        <p:blipFill>
          <a:blip r:embed="rId1"/>
          <a:stretch/>
        </p:blipFill>
        <p:spPr>
          <a:xfrm>
            <a:off x="1258920" y="1197000"/>
            <a:ext cx="6600960" cy="5229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филактика солнечного уд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олову защищайте легким светлым головным убор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бегайте длительного пребывания на солнце, на пляж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бегайте нахождения на открытых пространствах с прямыми солнечными луч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горать лучше не лежа, а в движении, солнечные ванны принимать в утренние и вечерние часы и не ранее чем через час после еды. Полезно сочетать их с купа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осите легкую, светлую одежду, из натуральных тка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жаркое время не ешьте слишком плотно. Отдавайте предпочтение кисломолочным продуктам и овощ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ддерживайте водный баланс в организме (лучше с помощью прохладной воды; 3-х литров в ден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льзуйтесь зонтом от солнца (светлых оттенков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ремя от времени протирайте лицо платком, смоченным в прохладной вод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 ощущении недомогания обратиться за помощью и предпринять самому возможные м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i?id=326405896-04-72&amp;n=21"/>
          <p:cNvPicPr/>
          <p:nvPr/>
        </p:nvPicPr>
        <p:blipFill>
          <a:blip r:embed="rId1"/>
          <a:stretch/>
        </p:blipFill>
        <p:spPr>
          <a:xfrm>
            <a:off x="-34920" y="-255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Будьте внимательны и аккуратны при нахождении на прямых солнечных лучах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48000" y="620280"/>
            <a:ext cx="5338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еплово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Тепловой удар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это опасное для жизни состояние, которое возникает при воздействии на тело человека повышенной температуры, в условиях повышенной влажности, обезвоживания и нарушения процесса терморегуляции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i?id=447937039-43-72&amp;n=21"/>
          <p:cNvPicPr/>
          <p:nvPr/>
        </p:nvPicPr>
        <p:blipFill>
          <a:blip r:embed="rId2"/>
          <a:stretch/>
        </p:blipFill>
        <p:spPr>
          <a:xfrm>
            <a:off x="1116000" y="404640"/>
            <a:ext cx="1944720" cy="17780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40360" y="4759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ичины возникновения теплового уд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сокая температуры в условиях высокой влажности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плая и синтетическая одеж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Жаркая по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яжелая физическая нагру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которые лекарственные 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?id=489795115-65-72&amp;n=21"/>
          <p:cNvPicPr/>
          <p:nvPr/>
        </p:nvPicPr>
        <p:blipFill>
          <a:blip r:embed="rId2"/>
          <a:stretch/>
        </p:blipFill>
        <p:spPr>
          <a:xfrm>
            <a:off x="971640" y="0"/>
            <a:ext cx="3184560" cy="2124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94232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имптомы и признаки теплового уд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сокая температура тела (40 С и выш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аж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сутствие потоот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тепловом ударе кожа зачастую красн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ащенное д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зкое повышение частоты сердечных сокращ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ловная б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удороги, галлюцинации, потеря со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ервая помощь при тепловом ударе в домашних условия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медленно зайдите в прохладное кондиционированное помещ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нимите тесную одежду, развяжите галстук, снимите обу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лучае теплового удара обернитесь влажной простыней или включите вентиля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есть возможность, примите прохладный душ или ван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комендуется выпить 1 литр воды с добавлением 2 чайных ложек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к же для снижения температуры тела можно приложить к области шеи, спины, подмышек и паха мешочки со ль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филактика теплового уд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сите лёгкую одежду из натуральных материалов (лён, хлопок), это позволит избежать развитие теплового уд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возможности, установите в доме кондицион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йте больше жидкости, особенно в теплое время года, это снизит риск развития теплового уд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икогда не оставляйте машину на солнце. Если всё же это случилось, не сидите в раскаленной машине больше 10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бегайте тяжелой физической нагрузки в жаркое время года. Во время выполнения работы время от времени делайте перерывы на отдых, пейте больше жид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i?id=63095669-42-72&amp;n=21"/>
          <p:cNvPicPr/>
          <p:nvPr/>
        </p:nvPicPr>
        <p:blipFill>
          <a:blip r:embed="rId1"/>
          <a:stretch/>
        </p:blipFill>
        <p:spPr>
          <a:xfrm>
            <a:off x="0" y="-93600"/>
            <a:ext cx="9144000" cy="6951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499920"/>
            <a:ext cx="8229600" cy="22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ечные ож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солнечного ож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крас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пухлость, а иногда и пузыри на кож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овная бо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хорадка (повышение температуры до 38 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лаб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?id=615825154-10-72&amp;n=21"/>
          <p:cNvPicPr/>
          <p:nvPr/>
        </p:nvPicPr>
        <p:blipFill>
          <a:blip r:embed="rId2"/>
          <a:stretch/>
        </p:blipFill>
        <p:spPr>
          <a:xfrm>
            <a:off x="6372360" y="3573360"/>
            <a:ext cx="2028600" cy="28702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ервая помощь при солнечных ожога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мите прохладную ванну или душ с добавлением в воду ½ чашки крахмала, овсянки или пищевой соды, это снимет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носите лосьон Алоэ Вера на поражённую кожу несколько раз в день, при солнечных ожо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при солнечных ожогах на коже появляются волдыри или сыпь, немедленно обратитесь к врачу. Не вскрывайте волды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3:43:24Z</dcterms:created>
  <dc:creator>Лариса</dc:creator>
  <dc:description/>
  <dc:language>en-US</dc:language>
  <cp:lastModifiedBy>LEGION</cp:lastModifiedBy>
  <dcterms:modified xsi:type="dcterms:W3CDTF">2015-05-12T09:01:44Z</dcterms:modified>
  <cp:revision>6</cp:revision>
  <dc:subject/>
  <dc:title>Тепловые и солнечные удары</dc:title>
</cp:coreProperties>
</file>