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965-0930-406D-AF32-2EA151C8C1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FB3F-1EE2-40F6-8B36-60373DDF28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B64-097B-4F13-8DAF-38A74612D6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го уд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514-8A0C-4DF6-AEDB-E3672B3123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мптомы солнечного уда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Легкая степен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бщая слаб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головная бол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тошнот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я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асширение зрач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cc00"/>
                </a:solidFill>
                <a:uFillTx/>
                <a:latin typeface="Calibri"/>
              </a:rPr>
              <a:t>При средней степени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резкая адинам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сильная головная боль с тошнотой и рвото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оглушенност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неуверенность движений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шаткая походк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временами обморочные состоя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учащение пульса и дыхания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кровотечение из нос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— повышение температуры тела до 39 — 40 °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2F0-44EE-49F8-98C2-350FB16B5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олнечном удар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AAD5-BB2D-495E-8BBB-C4E27375E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филактика солнечного уд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у защищайте легким светлым головным убо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длительного пребывания на солнце, на пляж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нахождения на открытых пространствах с прямыми солнечными луч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егкую, светлую одежду, из натуральных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ьзуйтесь зонтом от солнца (светлых оттен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ремя от времени протирайте лицо платком, смоченным в прохладной в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ощущении недомогания обратиться за помощью и предпринять самому возможные 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CF33-F99A-47F3-9002-E65D610444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внимательны и аккуратны при нахождении на прямых солнечных лучах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1966-CBDC-4824-AA04-E7F23CF766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00"/>
                </a:solidFill>
                <a:latin typeface="Calibri"/>
              </a:rPr>
              <a:t>Тепловой удар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0DE-D543-45AA-9A09-3A3BE9396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ичины возникновения теплового уда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ы в условиях высокой влажности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плая и синтетическая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ркая по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яжелая физическая нагру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8F5-3FC4-460A-92BC-33A6EBB59E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имптомы и признаки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температура тела (40 С и выш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сутствие потоотд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тепловом ударе кожа зачастую красн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щен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кое повышение частоты сердечных сок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дороги, галлюцинации, 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0430-42B3-4E4D-9B6B-F1523BEA7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дленно зайдите в прохладное кондиционированное поме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нимите тесную одежду, развяжите галстук, снимите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лучае теплового удара обернитесь влажной простыней или включите вентиля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примите прохладный душ или ван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омендуется выпить 1 литр воды с добавлением 2 чайных ложек с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B4F-7688-40C2-80AE-FE5FAF1887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филактика теплового уда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озможности, установите в доме кондицио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4BE-08A8-4164-8D93-99E4A650E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5B5-98ED-4849-95C6-41DB0906FE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знаки солнечного ож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рас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пухлость, а иногда и пузыри на кож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ловная бо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хорадка (повышение температуры до 38 С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аб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3DEB-2FA1-44E7-BED8-0252A08DB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ая помощь при солнечных ожог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3F9-C472-4253-A602-C558B64CB9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A5D-36D7-492E-A53C-ED84ECB7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240-F651-47C7-9B04-0898C0B8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838-7B0C-4515-AC4D-3F037BD9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313-F80E-438D-B15B-2B713963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07C-03C1-4769-A251-B69EABE4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8C7-C638-47FA-A0C9-A6F1761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CB0-471B-4678-A59D-EFED91AC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E9D-6A66-4ED2-BE6C-520C55A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05-37C6-4752-AD1F-B6D4032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DD6-DF39-4538-A4F0-46883B8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8D0-44AF-486F-B35E-792C2EA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DCA-C461-4129-85B2-F9D8B9E0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ECC0-DC45-42BA-BE6D-FFE4D9F51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?id=58300681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замасцева Лариса Алексеевна- преподаватель-организатор ОБЖ МБОУСОШ №55 им.А.В.Чернова г.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епловые и солнечные уд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?id=491294559-24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лезненное состояние, расстройство работы головного мозга вследствие продолжительного воздействия солнечного света на непокрытую поверхность головы. Это особая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ового уд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Солнечный удар. Описание, симптомы, профилактика и первая помощь при солнечном ударе"/>
          <p:cNvPicPr/>
          <p:nvPr/>
        </p:nvPicPr>
        <p:blipFill>
          <a:blip r:embed="rId2"/>
          <a:stretch/>
        </p:blipFill>
        <p:spPr>
          <a:xfrm>
            <a:off x="900000" y="1268280"/>
            <a:ext cx="3962520" cy="4670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птомы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Легкая степень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бщая слаб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головная бол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тошнот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я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асширение зра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При средней степени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резкая адинам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сильная головная боль с тошнотой и рвото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оглушенност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неуверенность движений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шаткая поход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временами обморочные состоя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учащение пульса и дыхания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кровотечение из н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повышение температуры тела до 39 — 40 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?id=324258498-08-72&amp;n=21"/>
          <p:cNvPicPr/>
          <p:nvPr/>
        </p:nvPicPr>
        <p:blipFill>
          <a:blip r:embed="rId2"/>
          <a:stretch/>
        </p:blipFill>
        <p:spPr>
          <a:xfrm>
            <a:off x="5435640" y="836640"/>
            <a:ext cx="2892240" cy="28922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ом уда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-L-UDGSlE"/>
          <p:cNvPicPr/>
          <p:nvPr/>
        </p:nvPicPr>
        <p:blipFill>
          <a:blip r:embed="rId1"/>
          <a:stretch/>
        </p:blipFill>
        <p:spPr>
          <a:xfrm>
            <a:off x="1258920" y="1197000"/>
            <a:ext cx="6600960" cy="5229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солнечного уд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лову защищайте легким светлым головным убор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длительного пребывания на солнце, на пляж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бегайте нахождения на открытых пространствах с прямыми солнечными луч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горать лучше не лежа, а в движении, солнечные ванны принимать в утренние и вечерние часы и не ранее чем через час после еды. Полезно сочетать их с купа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осите легкую, светлую одежду, из натуральных тка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жаркое время не ешьте слишком плотно. Отдавайте предпочтение кисломолочным продуктам и овощ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держивайте водный баланс в организме (лучше с помощью прохладной воды; 3-х литров в ден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льзуйтесь зонтом от солнца (светлых оттенк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ремя от времени протирайте лицо платком, смоченным в прохладной во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 ощущении недомогания обратиться за помощью и предпринять самому возможны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?id=326405896-04-72&amp;n=21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Будьте внимательны и аккуратны при нахождении на прямых солнечных лучах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48000" y="620280"/>
            <a:ext cx="53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плово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Тепловой удар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это опасное для жизни состояние, которое возникает при воздействии на тело человека повышенной температуры, в условиях повышенной влажности, обезвоживания и нарушения процесса терморегуляции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?id=447937039-43-72&amp;n=21"/>
          <p:cNvPicPr/>
          <p:nvPr/>
        </p:nvPicPr>
        <p:blipFill>
          <a:blip r:embed="rId2"/>
          <a:stretch/>
        </p:blipFill>
        <p:spPr>
          <a:xfrm>
            <a:off x="1116000" y="404640"/>
            <a:ext cx="194472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360" y="4759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чины возникновения теплового уд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сокая температуры в условиях высокой влажности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плая и синтетическая оде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Жаркая по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яжелая физическая нагру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лекарственные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?id=489795115-65-72&amp;n=21"/>
          <p:cNvPicPr/>
          <p:nvPr/>
        </p:nvPicPr>
        <p:blipFill>
          <a:blip r:embed="rId2"/>
          <a:stretch/>
        </p:blipFill>
        <p:spPr>
          <a:xfrm>
            <a:off x="971640" y="0"/>
            <a:ext cx="3184560" cy="2124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9423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мптомы и признаки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ая температура тела (40 С и выш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аж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сутствие пото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тепловом ударе кожа зачастую красн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ащен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кое повышение частоты сердечных сокра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ловная б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дороги, галлюцинации, потеря с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Первая помощь при тепловом ударе в домашних условия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медленно зайдите в прохладное кондиционированное пом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имите тесную одежду, развяжите галстук, снимите обу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лучае теплового удара обернитесь влажной простыней или включите вентиля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есть возможность, примите прохладный душ или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комендуется выпить 1 литр воды с добавлением 2 чайных ложек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к же для снижения температуры тела можно приложить к области шеи, спины, подмышек и паха мешочки со ль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филактика теплового уд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сите лёгкую одежду из натуральных материалов (лён, хлопок), это позволит избежать развитие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возможности, установите в доме кондицион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йте больше жидкости, особенно в теплое время года, это снизит риск развития теплового уд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икогда не оставляйте машину на солнце. Если всё же это случилось, не сидите в раскаленной машине больш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бегайте тяжелой физической нагрузки в жаркое время года. Во время выполнения работы время от времени делайте перерывы на отдых, пейте больше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?id=63095669-42-72&amp;n=21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9992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ечные ож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солнечного ож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рас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пухлость, а иногда и пузыри на кож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хорадка (повышение температуры до 38 С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аб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?id=615825154-10-72&amp;n=21"/>
          <p:cNvPicPr/>
          <p:nvPr/>
        </p:nvPicPr>
        <p:blipFill>
          <a:blip r:embed="rId2"/>
          <a:stretch/>
        </p:blipFill>
        <p:spPr>
          <a:xfrm>
            <a:off x="6372360" y="3573360"/>
            <a:ext cx="2028600" cy="2870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Шаблон (фон) презентации &quot;Желтая рамк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вая помощь при солнечных ожог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ите прохладную ванну или душ с добавлением в воду ½ чашки крахмала, овсянки или пищевой соды, это снимет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носите лосьон Алоэ Вера на поражённую кожу несколько раз в день, при солнечных ож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при солнечных ожогах на коже появляются волдыри или сыпь, немедленно обратитесь к врачу. Не вскрывайте волды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3:43:24Z</dcterms:created>
  <dc:creator>Лариса</dc:creator>
  <dc:description/>
  <dc:language>en-US</dc:language>
  <cp:lastModifiedBy>LEGION</cp:lastModifiedBy>
  <dcterms:modified xsi:type="dcterms:W3CDTF">2015-05-12T09:01:44Z</dcterms:modified>
  <cp:revision>6</cp:revision>
  <dc:subject/>
  <dc:title>Тепловые и солнечные удары</dc:title>
</cp:coreProperties>
</file>