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F285-3110-4480-9F8C-60B0E599F48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Афонькинская СО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C322-B94A-4D03-83CF-DF9A6267B35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66"/>
                </a:solidFill>
                <a:uFillTx/>
                <a:latin typeface="Calibri"/>
              </a:rPr>
              <a:t>Вредные привычки</a:t>
            </a:r>
            <a:r>
              <a:rPr b="0" lang="ru-RU" sz="1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– это ряд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 привычек, которые человек может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 начать приобретать еще в школьные 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годы и от которых потом не может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 избавиться в течение всей жизн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редные привычки серьезно вредят здоровью. Они способствуют быстрому расходованию всего потенциала возможностей человека, преждевременному его старению и приобретению устойчивых заболеваний. К таким привычкам, прежде всего надо отнести курение, употребление алкоголя и наркот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3424-81AB-4575-B352-51A6A4E91C6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Пре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ь- это посягающее на правопорядок общественно опасное деяние, предусмотренное уголовным кодек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выделения организованной преступности из общего противоправного поведения лежат характер и степень организованного взаимодействия нескольких преступников между собой при осуществлении своей пролонгированной криминаль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ая преступность представлена в виде специфической формы социальных связей в обществе, где наблюдается сочетание элементов иерархической структуры на высоких уровнях с более аморфной и гибкой сетевой системой взаимоотношений на более низких уровн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27EA-B64F-428B-81CB-F1D3A57BD45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Calibri"/>
              </a:rPr>
              <a:t>Алкогол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изм - хроническое заболевание, обусловленное систематическим употреблением спиртных напитков. Оно проявляется в физической и психической зависимости от алкоголя, ведущей к социальной и психической деградации личности. Пьянство и алкоголизм как массовые явления- серьезная социальная проблема. Следствием значительного роста потребления спиртных напитков стало заметное сокращение продолжительности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2404-EFFA-46E7-BA2E-D0F2246CAAE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ff"/>
                </a:solidFill>
                <a:uFillTx/>
                <a:latin typeface="Calibri"/>
              </a:rPr>
              <a:t>Нарком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мания- болезнь, характеризующаяся непреодолимым влечением к наркот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тики-это химические вещества синтетического или растительного происхождения, которые оказывают специфическое действие на нервную систему и весь организм человека, приводит к снятию болевых ощущений, изменению настроения, психического и физического тону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AD89-4EC5-4162-ABF5-EFB4A865EDD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f497d"/>
                </a:solidFill>
                <a:uFillTx/>
                <a:latin typeface="Calibri"/>
              </a:rPr>
              <a:t>Кур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ак в Европу попал после открытия Америки Христофором Колумбом в 1492 году. До этого Старый свет не знал такой  вредной привы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ыме одной сигареты содержится до двадцати ядовитых веществ (6 мкг никотина, 1,6 мкг аммиака, 0,03 мкг синильной кислоты, 25 мкг угарного газа).Никотин – сильный яд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ть курить легко, а вот отвыкнуть от него очень трудно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4726-4F38-4CA8-9BE1-A7529604A70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Любая вредная привычка негативно сказывается на здоровье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663D-7D40-401F-A020-C6F47B0E65A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лоняющееся поведение и здоровье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 Рамазанова Айгу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:Горлова Вера Викторо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DCE7-84CF-493D-8D47-B067DC126AD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ff"/>
                </a:solidFill>
                <a:uFillTx/>
                <a:latin typeface="Calibri"/>
              </a:rPr>
              <a:t>Влияние курения на здоровье </a:t>
            </a:r>
            <a:br>
              <a:rPr sz="1800"/>
            </a:br>
            <a:r>
              <a:rPr b="0" lang="ru-RU" sz="1800" spc="-1" strike="noStrike" u="sng">
                <a:solidFill>
                  <a:srgbClr val="ff00ff"/>
                </a:solidFill>
                <a:uFillTx/>
                <a:latin typeface="Calibri"/>
              </a:rPr>
              <a:t>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1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курящих людей уже к 50 годам сосуды становятся неэластичными, хрупкими, тогда как некурящих они бывают такими лишь к 70 годам. Курящие люди в 12 раз чаще заболевают стенокардией, в 3 раза – инфарктом миокарда, в 4 раза – язвой желудка, чем некурящие. Никотин способствует сужению кровеносных сосудов. При длительном курении сосуды приходят в состояние спазмов. В среднем у курящих кровяное давление на 10 мм.рт.ст. выше, чем у некурящих. Курящие люди чаще страдают хроническим бронхи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D86F-91E5-4101-95C1-C7ADE056977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ачный дым оказывает вредное влияние на секрецию желез желудка. Никотин вреден для мозга, сердца и легких. Табачная смола поражает реснитчатый эпителий дыхательных путей, парализуя его защитную функци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дело в том, что в дыме табака есть такие ядовитые вещества, которые усиливают склонность к заболеваниям, хотя последствия курения проявляются спустя несколько лет. Самым вредным из них является бензпирен, который относится к числу веществ, стимулирующих образование раковых опухолей. На 100 тыс. населения заболеваемость раком легких у курящих в 5 раз больше, чем у некуря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B6C0-6AD6-4F88-9613-0742DEC0BBE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f497d"/>
                </a:solidFill>
                <a:uFillTx/>
                <a:latin typeface="Calibri"/>
              </a:rPr>
              <a:t>Влияние алкоголя на здоровье чел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 угнетает продукцию тромбоцитов, а также белых и красных кровяных телец, замедляет циркуляцию крови в сосудах мозга, приводя к постоянному кислородному голоданию его клеток, в результате чего наступает ослабление памяти и медленная психическая деградация. В сосудах развиваются ранние склеротические изменения, и возрастает риск кровоизлияния в мозг. Злоупотребление алкоголем вызывает повышение уровня холестерина в крови, стойкую гипертонию и дистрофию миокарда. Развивается сердечнососудистая недостаточность, алкогольная миопатия. При алкогольной кардиомиопатии поражается сердечная мышца. Постоянное воздействие алкоголя на стенку тонкого кишечника приводит к изменению структуры клеток, и они теряют способность полноценно всасывать питательные вещества и минеральные компоненты, что заканчивается истощением организма алкогол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11DD-D296-443A-8824-2910667BFF3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воспаление желудка и позже кишечника вызывает язвы пищеварительных органов. Печень страдает от алкоголя больше всего: возникает воспалительный процесс- гепатит, а затем и рубцовое перерождение- цирроз. Печень перестает выполнять свою функцию по обеззараживанию токсических продуктов обмена, выработке белков крови и другие важные функции, что приводит к неизбежной смерти больного. Больные, страдающие алкоголизмом, в 10 раз больше подвержены вероятности заболеть диабетом, чем непьющие: алкоголь разрушает поджелудочную железу – орган, продуцирующий инсулин, и глубоко извращает обмен веществ. Пьющий человек почти всегда выглядит старше своих лет: его кожа очень скоро теряет свою эластичность и стареет раньше времени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33CB-1AC1-4942-8A8A-730FA29C914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ff33"/>
                </a:solidFill>
                <a:uFillTx/>
                <a:latin typeface="Calibri"/>
              </a:rPr>
              <a:t>Влияние наркотиков на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мания резко отрицательно влияет на здоровье человека. Дыхание наркомана, как одно из наиважнейших условий жизнеобеспечения, перестает нормально функционировать. Такой защитный механизм организма как кашель тоже отключается у наркомана. Кашель – это естественный способ очистить дыхательные пути человека от мокроты, слизи, гноя, грязи. Влияние наркотиков на сердечнососудистую систему наркомана проявляется все в том же отключении рецепторов, ответственных за давление крови в сосудах, снижая давление крови и замедляя пуль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85C3-A5E3-4EFD-80DB-CC2362F212F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снижается количество полезных веществ, которыми должны насыщаться клетки организма. Кожа, кости, внутренние органы стареют сами собой. Пищеварительная система тоже подвержена влиянию наркотиков. Снижая вкусовые и обонятельные ощущения, наркотики угнетают аппетит наркомана. Тем самым снижая его вес. Сама пища, которую все же съели, усваивается и переваривается не полностью. Вызывая спазм гладких мышц сфинктеров кишечника, наркотики задерживают переход каловых масс из одного отдела кишечника в друг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D17B-648A-41B0-A180-F6AC86A1ACE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выявить виды отклоняющего поведения и охарактеризовать их влияние на здоровье челове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730F-FCBE-4613-A38A-8BA5E18832D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конце своей работы мне бы хотелось сказать, что лучше быть здоровым, сильным и красивым, чем вести нездоровый образ жизни. Так что сделайте правильный выбор, ведь только от вашего решения зависит  ваша жизнь. Не портите ее себе и своим близ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Лично я за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F337-FEAB-4DCF-862C-479D83C878A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ю всем крепкого вам здоровь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2270-AE39-4266-8E4B-242BAA248C9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СПАСИБО ЗА ВНИМАНИЕ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D8FC-561A-400D-8D3A-C69EB46739A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Содерж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ый образ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лоняющееся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тклоняющего п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влияние на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2300-3DAD-4663-9C31-06C5FD596A5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66ff"/>
                </a:solidFill>
                <a:uFillTx/>
                <a:latin typeface="Calibri"/>
              </a:rPr>
              <a:t>Здоровый образ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CEA2-1C67-44D0-830B-53EB97FC6AF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dfd17"/>
                </a:solidFill>
                <a:uFillTx/>
                <a:latin typeface="Calibri"/>
              </a:rPr>
              <a:t>Отклоняющееся </a:t>
            </a:r>
            <a:r>
              <a:rPr b="0" lang="ru-RU" sz="1600" spc="-1" strike="noStrike" u="sng">
                <a:solidFill>
                  <a:srgbClr val="fdfd17"/>
                </a:solidFill>
                <a:uFillTx/>
                <a:latin typeface="Calibri"/>
              </a:rPr>
              <a:t>пове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лоняющееся поведение- поведение индивида или группы, которое не соответствует общепринятым нормам, в результате чего эти нормы ими наруш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E135-2F92-4973-8C32-ED0E90B0EC9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Группы поведенческих деви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1) в зависимости от масштаб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2) по значению последств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3) по субъект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4) по объект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5) по длите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6) по типу нарушаемой нор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3B0E-0DD7-431B-9B76-5F313C6A270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дами отклоняющего поведения являются и вредные привычк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B6C5-4E6A-44F1-A397-3B8B2449760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191A-7B7C-488F-A2BA-95AEDD66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C5A6-6A2A-4CE6-B1A3-E6D9E3EF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ECE3-CC1E-4D58-8115-82D85462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C9CA-1BB2-4E74-B7CC-BC4A8735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E300-52BF-4090-931F-CB5B26A3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A9B3-DF9B-4BAC-9AAD-5C7659FB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788D-4459-43DE-9BB9-94B278BC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B124-E6E9-4CBD-89D4-0B07D397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D402-CC91-448A-B03D-79793008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CFC4-7067-43FD-96DB-1BC10121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5AAE-C865-46E1-AE70-D620561B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3F0F-E2D7-4815-9855-97153968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2780-64FF-465F-9871-BFD7A811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399B-14FF-4402-BBF0-E2EAC6AA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1CA1-7EF6-41AA-BA39-DA5505E1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6219-A49D-4E9C-871C-823EF13B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94DC-4B1F-4FC4-92D7-34906AAD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26EF-4860-4557-A261-8D75AD46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F547-DDEB-4F93-BE8E-C949FA28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BD6-30C7-43EE-A4AA-A90F9B48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CD8-0971-4E3C-B4F1-2B650CF4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2EDA-FF2E-4549-9129-C046A77B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93ED-D716-44B1-9EA1-2C1BEF17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E2E3-DC1B-4213-AC7B-AB07310E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D004-DFC6-475E-8FB8-8B42E09D3E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9A28-6714-4089-B3EF-8787EF4644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ОУ Афонькинская СО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941880" cy="2149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66"/>
                </a:solidFill>
                <a:uFillTx/>
                <a:latin typeface="Comic Sans MS"/>
              </a:rPr>
              <a:t>Вредные привычки</a:t>
            </a: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– это ряд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привычек, которые человек может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начать приобретать еще в школьные 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годы и от которых потом не может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избавиться в течение всей жизн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696080" cy="33130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Вредные привычки серьезно вредят здоровью. Они способствуют быстрому расходованию всего потенциала возможностей человека, преждевременному его старению и приобретению устойчивых заболеваний. К таким привычкам, прежде всего надо отнести курение, употребление алкоголя и наркоти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Преступн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6" descr="преступление"/>
          <p:cNvPicPr/>
          <p:nvPr/>
        </p:nvPicPr>
        <p:blipFill>
          <a:blip r:embed="rId1"/>
          <a:stretch/>
        </p:blipFill>
        <p:spPr>
          <a:xfrm>
            <a:off x="0" y="3716280"/>
            <a:ext cx="3203640" cy="3141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76720" y="1125360"/>
            <a:ext cx="5867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ступность- это посягающее на правопорядок общественно опасное деяние, предусмотренное уголовным кодексо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основе выделения организованной преступности из общего противоправного поведения лежат характер и степень организованного взаимодействия нескольких преступников между собой при осуществлении своей пролонгированной криминальной деятельност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ганизованная преступность представлена в виде специфической формы социальных связей в обществе, где наблюдается сочетание элементов иерархической структуры на высоких уровнях с более аморфной и гибкой сетевой системой взаимоотношений на более низких уровнях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66"/>
                </a:solidFill>
                <a:uFillTx/>
                <a:latin typeface="Comic Sans MS"/>
              </a:rPr>
              <a:t>Алкоголизм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59280" y="980640"/>
            <a:ext cx="608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лкоголизм - хроническое заболевание, обусловленное систематическим употреблением спиртных напитков. Оно проявляется в физической и психической зависимости от алкоголя, ведущей к социальной и психической деградации личности. Пьянство и алкоголизм как массовые явления- серьезная социальная проблема. Следствием значительного роста потребления спиртных напитков стало заметное сокращение продолжительности жиз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9" descr="обрезка алкоголь"/>
          <p:cNvPicPr/>
          <p:nvPr/>
        </p:nvPicPr>
        <p:blipFill>
          <a:blip r:embed="rId1"/>
          <a:stretch/>
        </p:blipFill>
        <p:spPr>
          <a:xfrm>
            <a:off x="0" y="3789360"/>
            <a:ext cx="3419640" cy="30686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9" descr="папа не пе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66ff"/>
                </a:solidFill>
                <a:uFillTx/>
                <a:latin typeface="Comic Sans MS"/>
              </a:rPr>
              <a:t>Наркоман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03280" y="1196640"/>
            <a:ext cx="5940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ркомания- болезнь, характеризующаяся непреодолимым влечением к наркотик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ркотики-это химические вещества синтетического или растительного происхождения, которые оказывают специфическое действие на нервную систему и весь организм человека, приводит к снятию болевых ощущений, изменению настроения, психического и физического тону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Object 9"/>
          <p:cNvGraphicFramePr/>
          <p:nvPr/>
        </p:nvGraphicFramePr>
        <p:xfrm>
          <a:off x="8999640" y="4071960"/>
          <a:ext cx="14436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99640" y="4071960"/>
                    <a:ext cx="1443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Picture 15" descr="обрезка наркотики"/>
          <p:cNvPicPr/>
          <p:nvPr/>
        </p:nvPicPr>
        <p:blipFill>
          <a:blip r:embed="rId3"/>
          <a:stretch/>
        </p:blipFill>
        <p:spPr>
          <a:xfrm>
            <a:off x="0" y="3789360"/>
            <a:ext cx="3492360" cy="30686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drug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Comic Sans MS"/>
              </a:rPr>
              <a:t>Куре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64000" y="1412640"/>
            <a:ext cx="5580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бак в Европу попал после открытия Америки Христофором Колумбом в 1492 году. До этого Старый свет не знал такой  вредной привыч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дыме одной сигареты содержится до двадцати ядовитых веществ (6 мкг никотина, 1,6 мкг аммиака, 0,03 мкг синильной кислоты, 25 мкг угарного газа).Никотин – сильный яд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чать курить легко, а вот отвыкнуть от него очень трудно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14" descr="обрезка сигареты"/>
          <p:cNvPicPr/>
          <p:nvPr/>
        </p:nvPicPr>
        <p:blipFill>
          <a:blip r:embed="rId1"/>
          <a:stretch/>
        </p:blipFill>
        <p:spPr>
          <a:xfrm>
            <a:off x="0" y="3716280"/>
            <a:ext cx="3492360" cy="31417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1227071771_cigaret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2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6728040" cy="17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Любая вредная привычка негативно сказывается на здоровье человек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61" descr="-4"/>
          <p:cNvPicPr/>
          <p:nvPr/>
        </p:nvPicPr>
        <p:blipFill>
          <a:blip r:embed="rId1"/>
          <a:stretch/>
        </p:blipFill>
        <p:spPr>
          <a:xfrm>
            <a:off x="0" y="2205000"/>
            <a:ext cx="3276720" cy="46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222" name="Picture 62" descr="8"/>
          <p:cNvPicPr/>
          <p:nvPr/>
        </p:nvPicPr>
        <p:blipFill>
          <a:blip r:embed="rId2"/>
          <a:stretch/>
        </p:blipFill>
        <p:spPr>
          <a:xfrm>
            <a:off x="3276720" y="2205000"/>
            <a:ext cx="2879640" cy="46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223" name="Picture 64" descr="обж"/>
          <p:cNvPicPr/>
          <p:nvPr/>
        </p:nvPicPr>
        <p:blipFill>
          <a:blip r:embed="rId3"/>
          <a:stretch/>
        </p:blipFill>
        <p:spPr>
          <a:xfrm>
            <a:off x="6156360" y="2205000"/>
            <a:ext cx="2987640" cy="46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03280" y="2349360"/>
            <a:ext cx="6400800" cy="2232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Отклоняющееся поведение и здоровье челове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547280" y="4868640"/>
            <a:ext cx="6032520" cy="110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полнила Рамазанова Айгул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уководитель:Горлова Вера Викторов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556400" cy="14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ff"/>
                </a:solidFill>
                <a:uFillTx/>
                <a:latin typeface="Comic Sans MS"/>
              </a:rPr>
              <a:t>Влияние курения на здоровье </a:t>
            </a:r>
            <a:br>
              <a:rPr sz="4000"/>
            </a:br>
            <a:r>
              <a:rPr b="0" lang="ru-RU" sz="4000" spc="-1" strike="noStrike" u="sng">
                <a:solidFill>
                  <a:srgbClr val="ff00ff"/>
                </a:solidFill>
                <a:uFillTx/>
                <a:latin typeface="Comic Sans MS"/>
              </a:rPr>
              <a:t>челове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2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 курящих людей уже к 50 годам сосуды становятся неэластичными, хрупкими, тогда как некурящих они бывают такими лишь к 70 годам. Курящие люди в 12 раз чаще заболевают стенокардией, в 3 раза – инфарктом миокарда, в 4 раза – язвой желудка, чем некурящие. Никотин способствует сужению кровеносных сосудов. При длительном курении сосуды приходят в состояние спазмов. В среднем у курящих кровяное давление на 10 мм.рт.ст. выше, чем у некурящих. Курящие люди чаще страдают хроническим бронхито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бачный дым оказывает вредное влияние на секрецию желез желудка. Никотин вреден для мозга, сердца и легких. Табачная смола поражает реснитчатый эпителий дыхательных путей, парализуя его защитную функц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дело в том, что в дыме табака есть такие ядовитые вещества, которые усиливают склонность к заболеваниям, хотя последствия курения проявляются спустя несколько лет. Самым вредным из них является бензпирен, который относится к числу веществ, стимулирующих образование раковых опухолей. На 100 тыс. населения заболеваемость раком легких у курящих в 5 раз больше, чем у некурящ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1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7" descr="1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755676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Влияние алкоголя на здоровье челове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лкоголь угнетает продукцию тромбоцитов, а также белых и красных кровяных телец, замедляет циркуляцию крови в сосудах мозга, приводя к постоянному кислородному голоданию его клеток, в результате чего наступает ослабление памяти и медленная психическая деградация. В сосудах развиваются ранние склеротические изменения, и возрастает риск кровоизлияния в мозг. Злоупотребление алкоголем вызывает повышение уровня холестерина в крови, стойкую гипертонию и дистрофию миокарда. Развивается сердечнососудистая недостаточность, алкогольная миопатия. При алкогольной кардиомиопатии поражается сердечная мышца. Постоянное воздействие алкоголя на стенку тонкого кишечника приводит к изменению структуры клеток, и они теряют способность полноценно всасывать питательные вещества и минеральные компоненты, что заканчивается истощением организма алкоголика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стоянное воспаление желудка и позже кишечника вызывает язвы пищеварительных органов. Печень страдает от алкоголя больше всего: возникает воспалительный процесс- гепатит, а затем и рубцовое перерождение- цирроз. Печень перестает выполнять свою функцию по обеззараживанию токсических продуктов обмена, выработке белков крови и другие важные функции, что приводит к неизбежной смерти больного. Больные, страдающие алкоголизмом, в 10 раз больше подвержены вероятности заболеть диабетом, чем непьющие: алкоголь разрушает поджелудочную железу – орган, продуцирующий инсулин, и глубоко извращает обмен веществ. Пьющий человек почти всегда выглядит старше своих лет: его кожа очень скоро теряет свою эластичность и стареет раньше времени. 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x_52678af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5" descr="imag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353440" cy="14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ff33"/>
                </a:solidFill>
                <a:uFillTx/>
                <a:latin typeface="Comic Sans MS"/>
              </a:rPr>
              <a:t>Влияние наркотиков на здоровье челове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solidFill>
            <a:srgbClr val="99ff33"/>
          </a:solidFill>
          <a:ln w="9360">
            <a:solidFill>
              <a:srgbClr val="005400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ркомания резко отрицательно влияет на здоровье человека. Дыхание наркомана, как одно из наиважнейших условий жизнеобеспечения, перестает нормально функционировать. Такой защитный механизм организма как кашель тоже отключается у наркомана. Кашель – это естественный способ очистить дыхательные пути человека от мокроты, слизи, гноя, грязи. Влияние наркотиков на сердечнососудистую систему наркомана проявляется все в том же отключении рецепторов, ответственных за давление крови в сосудах, снижая давление крови и замедляя пульс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ким образом, снижается количество полезных веществ, которыми должны насыщаться клетки организма. Кожа, кости, внутренние органы стареют сами собой. Пищеварительная система тоже подвержена влиянию наркотиков. Снижая вкусовые и обонятельные ощущения, наркотики угнетают аппетит наркомана. Тем самым снижая его вес. Сама пища, которую все же съели, усваивается и переваривается не полностью. Вызывая спазм гладких мышц сфинктеров кишечника, наркотики задерживают переход каловых масс из одного отдела кишечника в друг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265800" cy="525780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Цель: выявить виды отклоняющего поведения и охарактеризовать их влияние на здоровье челове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image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869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 конце своей работы мне бы хотелось сказать, что лучше быть здоровым, сильным и красивым, чем вести нездоровый образ жизни. Так что сделайте правильный выбор, ведь только от вашего решения зависит  ваша жизнь. Не портите ее себе и своим близки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Лично я за здоровый образ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Picture 11" descr="я за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270828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beregite-zdoro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2204640"/>
            <a:ext cx="6913800" cy="3529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Желаю всем крепкого вам здоровья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25856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440400" cy="287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     </a:t>
            </a:r>
            <a:r>
              <a:rPr b="1" lang="ru-RU" sz="6000" spc="-1" strike="noStrike" u="sng">
                <a:solidFill>
                  <a:srgbClr val="703dff"/>
                </a:solidFill>
                <a:uFillTx/>
                <a:latin typeface="Comic Sans MS"/>
              </a:rPr>
              <a:t>СПАСИБО ЗА ВНИМАНИЕ</a:t>
            </a: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200"/>
                </a:solidFill>
                <a:uFillTx/>
                <a:latin typeface="Comic Sans MS"/>
              </a:rPr>
              <a:t>Содержа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7201080" cy="511200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доровый образ жиз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тклоняющееся повед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иды отклоняющего повед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х влияние на здоровье челове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66ff"/>
                </a:solidFill>
                <a:uFillTx/>
                <a:latin typeface="Comic Sans MS"/>
              </a:rPr>
              <a:t>Здоровый образ жиз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17" descr="ris_2"/>
          <p:cNvPicPr/>
          <p:nvPr/>
        </p:nvPicPr>
        <p:blipFill>
          <a:blip r:embed="rId1"/>
          <a:stretch/>
        </p:blipFill>
        <p:spPr>
          <a:xfrm>
            <a:off x="0" y="1268280"/>
            <a:ext cx="8244000" cy="55897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dfd17"/>
                </a:solidFill>
                <a:uFillTx/>
                <a:latin typeface="Comic Sans MS"/>
              </a:rPr>
              <a:t>Отклоняющееся </a:t>
            </a:r>
            <a:r>
              <a:rPr b="0" lang="ru-RU" sz="4800" spc="-1" strike="noStrike" u="sng">
                <a:solidFill>
                  <a:srgbClr val="fdfd17"/>
                </a:solidFill>
                <a:uFillTx/>
                <a:latin typeface="Comic Sans MS"/>
              </a:rPr>
              <a:t>поведе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7623000" cy="4176720"/>
          </a:xfrm>
          <a:prstGeom prst="rect">
            <a:avLst/>
          </a:prstGeom>
          <a:solidFill>
            <a:srgbClr val="fdfd17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тклоняющееся поведение- поведение индивида или группы, которое не соответствует общепринятым нормам, в результате чего эти нормы ими нарушают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" name="Organization Chart 7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77" name="_s1028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15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029"/>
            <p:cNvCxnSpPr>
              <a:stCxn id="181" idx="0"/>
              <a:endCxn id="179" idx="2"/>
            </p:cNvCxnSpPr>
            <p:nvPr/>
          </p:nvCxnSpPr>
          <p:spPr>
            <a:xfrm flipV="1">
              <a:off x="4571280" y="2741760"/>
              <a:ext cx="3960" cy="137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030"/>
            <p:cNvCxnSpPr>
              <a:stCxn id="183" idx="0"/>
              <a:endCxn id="179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15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_s1031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Факторы,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пособствующи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девиации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_s1032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Биологическо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_s1033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Психологическо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_s1034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оциологическо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Группы поведенческих девиац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337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1) в зависимости от масштаб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2) по значению последств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3) по субъекту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4) по объект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5) по длительност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6) по типу нарушаемой норм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2000" y="2637000"/>
            <a:ext cx="6400800" cy="3379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omic Sans MS"/>
              </a:rPr>
              <a:t>Видами отклоняющего поведения являются и вредные привычки челове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83492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5:41:36Z</dcterms:created>
  <dc:creator>User</dc:creator>
  <dc:description/>
  <dc:language>en-US</dc:language>
  <cp:lastModifiedBy>LEGION</cp:lastModifiedBy>
  <dcterms:modified xsi:type="dcterms:W3CDTF">2015-05-12T09:03:12Z</dcterms:modified>
  <cp:revision>33</cp:revision>
  <dc:subject/>
  <dc:title>МОУ Афонькинская СОШ</dc:title>
</cp:coreProperties>
</file>