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2D1E-416D-449E-8AB3-1B4E60F839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Афонькинская СО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442C-D29C-41E2-8EF0-3234DEA627C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Calibri"/>
              </a:rPr>
              <a:t>Вредные привычки</a:t>
            </a:r>
            <a:r>
              <a:rPr b="0" lang="ru-RU" sz="1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– это ряд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привычек, которые человек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начать приобретать еще в школьные 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годы и от которых потом не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избавиться в течение всей жизн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A0D9-3AA1-4CE0-B5D4-17DBCED9007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Пре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F0AD-F31A-432E-B713-5BE14426ADE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B5FC-432D-4D8D-A530-0420CC4006A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alibri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- болезнь, характеризующаяся непреодолимым влечением к нарко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7316-D3C2-4DBE-B7E9-39B2D002F14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ть курить легко, а вот отвыкнуть от него очень трудн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1254-73F6-44AF-89EE-2BF72976AE6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Любая вредная привычка негативно сказывается на здоровь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75B0-EF96-474C-B122-E185B02E934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лоняющееся поведе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Рамазанова Айгу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Горлова Вера Виктор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B300-A40D-4E3C-B5EA-E3775A96D53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Влияние курения на здоровье </a:t>
            </a:r>
            <a:br>
              <a:rPr sz="1800"/>
            </a:b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0384-2C83-4959-AFB0-73D9BF4E96A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9C6E-64AE-4128-9855-671F8C4CEB4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Calibri"/>
              </a:rPr>
              <a:t>Влияние алкоголя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0C5C-AB40-44D8-8638-71531D3E9B3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3CA0-C781-40FF-BE46-AD63EF1DF48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ff33"/>
                </a:solidFill>
                <a:uFillTx/>
                <a:latin typeface="Calibri"/>
              </a:rPr>
              <a:t>Влияние наркотиков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640A-F7AD-4D11-BBF6-F2A609AA7E5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8BA3-C001-4ABE-805D-7098CF001C7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EB70-9A0E-409E-9869-E2723ABFD61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Лично я за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6F42-E588-4210-A5B3-445F7828E13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ю всем крепкого вам здоровь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6021-7A48-4B5B-ADA4-9845CB9E9EA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CBAD-9986-4868-B486-A4A03C8A140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тклоняющего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лияние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C904-9F51-46DF-8715-BFF5E07FD16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ff"/>
                </a:solidFill>
                <a:uFillTx/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9D33-53D4-47EA-B62A-66A49FA62E7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dfd17"/>
                </a:solidFill>
                <a:uFillTx/>
                <a:latin typeface="Calibri"/>
              </a:rPr>
              <a:t>Отклоняющееся </a:t>
            </a:r>
            <a:r>
              <a:rPr b="0" lang="ru-RU" sz="1600" spc="-1" strike="noStrike" u="sng">
                <a:solidFill>
                  <a:srgbClr val="fdfd17"/>
                </a:solidFill>
                <a:uFillTx/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2AB3-F4F6-40F6-941F-DA4AFB4E9CA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Группы поведенческих деви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1) в зависимости от масшта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2) по значению последств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3) по субъек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4) по объек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5) по дли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6) по типу нарушаемой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016F-A5A7-4DBA-B4BA-16153EB0205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ами отклоняющего поведения являются и вредные привычк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2E1C-3DD4-4603-B2F8-69BA1A5455E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EFA-D7FE-4770-A2BB-0E39DF48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775-E4F0-48B5-A550-AC2DC7DA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251-ECCA-4F9B-A487-2979FB16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925-80BD-4094-A18D-D1F247C6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F423-DD1C-4656-9FE2-94B7F059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44EB-4FEC-4CC9-8C28-7662D07B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6BC0-4017-427E-BF01-6662D7F7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5606-86BA-4EEA-83E9-5405D9BF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DF0F-078B-4587-AD88-235B852B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18D4-03D1-4E96-BAA6-5C2B46BB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83B7-4CE7-4EF2-8396-7454F597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E39-1A3E-4372-B97B-45163745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0201-CC92-499A-8222-100DC8B5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56EB-3188-4894-AB16-86B659D0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737D-51EE-430C-B9AC-15C24E5B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BE0F-BA12-4CE2-8E21-016E1EA7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4F1C-9DF3-43D7-B05E-B2177D5C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DE2-4D98-43BF-8CA8-861641AD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7E8-D165-491F-86BF-D62E8151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088-ACF0-4865-A439-6B5F920A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CBC-AC91-4B02-B903-CD2C3F18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CA8-991D-4FA9-AD31-BA681F5D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B28-A4E1-46FF-AC1F-B9EEC519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940-5F65-44E7-9D7E-DB35C5B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3D6F-A0AB-4686-B401-805D36444D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D5FE-AB38-43E8-AA22-717061FFB4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У Афонькинская СО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941880" cy="214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Вредные привычки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– это ряд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привычек, которые человек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начать приобретать еще в школьные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годы и от которых потом не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избавиться в течение всей 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696080" cy="3313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еступ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6" descr="преступление"/>
          <p:cNvPicPr/>
          <p:nvPr/>
        </p:nvPicPr>
        <p:blipFill>
          <a:blip r:embed="rId1"/>
          <a:stretch/>
        </p:blipFill>
        <p:spPr>
          <a:xfrm>
            <a:off x="0" y="3716280"/>
            <a:ext cx="3203640" cy="314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6720" y="1125360"/>
            <a:ext cx="58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Comic Sans MS"/>
              </a:rPr>
              <a:t>Алкоголиз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59280" y="98064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обрезка алкоголь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папа не 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ff"/>
                </a:solidFill>
                <a:uFillTx/>
                <a:latin typeface="Comic Sans MS"/>
              </a:rPr>
              <a:t>Нарком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0328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мания- болезнь, характеризующаяся непреодолимым влечением к наркот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8999640" y="4071960"/>
          <a:ext cx="144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99640" y="4071960"/>
                    <a:ext cx="144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15" descr="обрезка наркотики"/>
          <p:cNvPicPr/>
          <p:nvPr/>
        </p:nvPicPr>
        <p:blipFill>
          <a:blip r:embed="rId3"/>
          <a:stretch/>
        </p:blipFill>
        <p:spPr>
          <a:xfrm>
            <a:off x="0" y="3789360"/>
            <a:ext cx="3492360" cy="30686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dru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Кур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64000" y="1412640"/>
            <a:ext cx="558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ать курить легко, а вот отвыкнуть от него очень трудно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4" descr="обрезка сигареты"/>
          <p:cNvPicPr/>
          <p:nvPr/>
        </p:nvPicPr>
        <p:blipFill>
          <a:blip r:embed="rId1"/>
          <a:stretch/>
        </p:blipFill>
        <p:spPr>
          <a:xfrm>
            <a:off x="0" y="3716280"/>
            <a:ext cx="3492360" cy="3141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1227071771_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728040" cy="17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юбая вредная привычка негативно сказывается на здоровь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61" descr="-4"/>
          <p:cNvPicPr/>
          <p:nvPr/>
        </p:nvPicPr>
        <p:blipFill>
          <a:blip r:embed="rId1"/>
          <a:stretch/>
        </p:blipFill>
        <p:spPr>
          <a:xfrm>
            <a:off x="0" y="2205000"/>
            <a:ext cx="327672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2" name="Picture 62" descr="8"/>
          <p:cNvPicPr/>
          <p:nvPr/>
        </p:nvPicPr>
        <p:blipFill>
          <a:blip r:embed="rId2"/>
          <a:stretch/>
        </p:blipFill>
        <p:spPr>
          <a:xfrm>
            <a:off x="3276720" y="2205000"/>
            <a:ext cx="2879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3" name="Picture 64" descr="обж"/>
          <p:cNvPicPr/>
          <p:nvPr/>
        </p:nvPicPr>
        <p:blipFill>
          <a:blip r:embed="rId3"/>
          <a:stretch/>
        </p:blipFill>
        <p:spPr>
          <a:xfrm>
            <a:off x="6156360" y="2205000"/>
            <a:ext cx="2987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234936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тклоняющееся поведение и здоровье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7280" y="4868640"/>
            <a:ext cx="603252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ла Рамазанова Айгу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ководитель:Горлова Вера Викторо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55640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Влияние курения на здоровье </a:t>
            </a:r>
            <a:br>
              <a:rPr sz="4000"/>
            </a:b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556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лияние алкоголя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x_52678af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35344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ff33"/>
                </a:solidFill>
                <a:uFillTx/>
                <a:latin typeface="Comic Sans MS"/>
              </a:rPr>
              <a:t>Влияние наркотиков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54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5800" cy="52578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imag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ично я за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11" descr="я з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beregite-zdor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6913800" cy="3529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Желаю всем крепкого вам здоровь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5856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440400" cy="287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</a:t>
            </a:r>
            <a:r>
              <a:rPr b="1" lang="ru-RU" sz="6000" spc="-1" strike="noStrike" u="sng">
                <a:solidFill>
                  <a:srgbClr val="703dff"/>
                </a:solidFill>
                <a:uFillTx/>
                <a:latin typeface="Comic Sans MS"/>
              </a:rPr>
              <a:t>СПАСИБО ЗА ВНИМАНИЕ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201080" cy="51120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клоняющееся п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отклоняющего повед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х влияние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ff"/>
                </a:solidFill>
                <a:uFillTx/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7" descr="ris_2"/>
          <p:cNvPicPr/>
          <p:nvPr/>
        </p:nvPicPr>
        <p:blipFill>
          <a:blip r:embed="rId1"/>
          <a:stretch/>
        </p:blipFill>
        <p:spPr>
          <a:xfrm>
            <a:off x="0" y="1268280"/>
            <a:ext cx="8244000" cy="55897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dfd17"/>
                </a:solidFill>
                <a:uFillTx/>
                <a:latin typeface="Comic Sans MS"/>
              </a:rPr>
              <a:t>Отклоняющееся </a:t>
            </a:r>
            <a:r>
              <a:rPr b="0" lang="ru-RU" sz="4800" spc="-1" strike="noStrike" u="sng">
                <a:solidFill>
                  <a:srgbClr val="fdfd17"/>
                </a:solidFill>
                <a:uFillTx/>
                <a:latin typeface="Comic Sans MS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623000" cy="4176720"/>
          </a:xfrm>
          <a:prstGeom prst="rect">
            <a:avLst/>
          </a:prstGeom>
          <a:solidFill>
            <a:srgbClr val="fdfd17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Organization Chart 7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77" name="_s1028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29"/>
            <p:cNvCxnSpPr>
              <a:stCxn id="181" idx="0"/>
              <a:endCxn id="179" idx="2"/>
            </p:cNvCxnSpPr>
            <p:nvPr/>
          </p:nvCxnSpPr>
          <p:spPr>
            <a:xfrm flipV="1">
              <a:off x="4571280" y="2741760"/>
              <a:ext cx="396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3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Факторы,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особствующ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девиации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Псих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Группы поведенческих девиац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33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1) в зависимости от масштаб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2) по значению последств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3) по субъект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4) по объект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5) по длитель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6) по типу нарушаемой норм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2637000"/>
            <a:ext cx="6400800" cy="337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Видами отклоняющего поведения являются и вредные привычки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83492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5:41:36Z</dcterms:created>
  <dc:creator>User</dc:creator>
  <dc:description/>
  <dc:language>en-US</dc:language>
  <cp:lastModifiedBy>LEGION</cp:lastModifiedBy>
  <dcterms:modified xsi:type="dcterms:W3CDTF">2015-05-12T09:03:12Z</dcterms:modified>
  <cp:revision>33</cp:revision>
  <dc:subject/>
  <dc:title>МОУ Афонькинская СОШ</dc:title>
</cp:coreProperties>
</file>