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B8C-03FF-4B63-AF57-3C270C2A7E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Афонькинская СО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C16-8781-458A-94AC-C78DAFCCB34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alibri"/>
              </a:rPr>
              <a:t>Вредные привычки</a:t>
            </a:r>
            <a:r>
              <a:rPr b="0" lang="ru-RU" sz="1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– это ряд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привычек, которые человек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начать приобретать еще в школьные 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годы и от которых потом не может</a:t>
            </a:r>
            <a:br>
              <a:rPr sz="1100"/>
            </a:br>
            <a:r>
              <a:rPr b="0" lang="ru-RU" sz="1100" spc="-1" strike="noStrike">
                <a:solidFill>
                  <a:srgbClr val="000066"/>
                </a:solidFill>
                <a:latin typeface="Calibri"/>
              </a:rPr>
              <a:t> избавиться в течение всей жизн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038B-21BD-42CB-BB18-16F0FAA9CEC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Пре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301C-4FAF-4677-8881-783A18183D0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Calibri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0EB-4EC9-4B85-ACEC-A2F0B838871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Calibri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- болезнь, характеризующаяся непреодолимым влечением к нарко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4AB4-E66A-462A-BA54-D9D821EA157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ть курить легко, а вот отвыкнуть от него очень трудн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7961-735D-416B-83AC-AEB0653458B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Любая вредная привычка негативно сказывается на здоровь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0D72-E6B8-4AB2-9BA8-22821579F74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лоняющееся поведение и здоровье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Рамазанова Айгу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:Горлова Вера Виктор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610-5B12-4C09-B09F-93A1C3B4807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Влияние курения на здоровье </a:t>
            </a:r>
            <a:br>
              <a:rPr sz="1800"/>
            </a:br>
            <a:r>
              <a:rPr b="0" lang="ru-RU" sz="1800" spc="-1" strike="noStrike" u="sng">
                <a:solidFill>
                  <a:srgbClr val="ff00ff"/>
                </a:solidFill>
                <a:uFillTx/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FE89-7B4F-480D-8820-816B1085BC8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CB66-F726-405A-AC27-5A73DC2CF3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Calibri"/>
              </a:rPr>
              <a:t>Влияние алкоголя на здоровье чел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EA7-A79C-479A-A84C-1C51309BBE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E2C9-A6AD-41FE-A27F-D90F28DB23F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ff33"/>
                </a:solidFill>
                <a:uFillTx/>
                <a:latin typeface="Calibri"/>
              </a:rPr>
              <a:t>Влияние наркотиков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3322-4FE0-4D6C-A965-0C8EB134FD3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2594-D930-4764-9A02-FBB85473DEC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3ADD-AB8B-4C48-A2EA-B4F84C32467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Лично я за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5DEB-6D8A-4A02-9622-B873B8C714C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всем крепкого вам здоровь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FFA-E34F-4242-938E-06B296DCABE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1BE9-2367-48DC-8A57-CFDECAF1C59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тклоняющего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лияние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2FF4-21D1-49CF-81FB-79D2E15685A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ff"/>
                </a:solidFill>
                <a:uFillTx/>
                <a:latin typeface="Calibri"/>
              </a:rPr>
              <a:t>Здоровый образ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D687-F5D4-4FD9-9410-D9A7BF05EFD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dfd17"/>
                </a:solidFill>
                <a:uFillTx/>
                <a:latin typeface="Calibri"/>
              </a:rPr>
              <a:t>Отклоняющееся </a:t>
            </a:r>
            <a:r>
              <a:rPr b="0" lang="ru-RU" sz="1600" spc="-1" strike="noStrike" u="sng">
                <a:solidFill>
                  <a:srgbClr val="fdfd17"/>
                </a:solidFill>
                <a:uFillTx/>
                <a:latin typeface="Calibri"/>
              </a:rPr>
              <a:t>по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48CC-3884-4856-A170-3BE75BBA176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Группы поведенческих деви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1) в зависимости от масшта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2) по значению последств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3) по субъек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4) по объек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5) по дли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6) по типу нарушаемой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0C2D-FCB9-4592-ABC9-90FC068346C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ами отклоняющего поведения являются и вредные привычк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27E1-704A-4E8D-9086-74EBDF5966C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3D8-6F35-4419-A7DD-0C253685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5A2-960E-451F-9306-92EACBF9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7FE-E032-49F4-8C51-CBEA0C5B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69D-84D8-4AD0-A13C-3ABDB7C2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87D-43F8-4510-BE0E-A0D447D1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10F2-C573-4975-826E-1AB8B770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4802-37E6-47D4-915E-BDEA6B5E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3081-58F2-4C9F-B533-7DDCFEE0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0CD1-1F1E-47CF-BDBF-A09F9ACF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3DAC-4E6E-4F0C-9ED3-23D59EF1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5F4E-FFCA-48DB-912F-8C4FBE7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A32-62F9-4B46-8CD8-43C2493A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DA26-DBF1-4D91-BB0A-8C70FAED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A4A1-E02B-466F-8BE3-58235003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95E2-4DEB-4EF1-886A-8FE6C4E0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643D-3D3E-46BD-B065-952935D4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3B26-E6D4-417D-B862-EB298093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5C1-B90A-4486-9151-1752317C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227-8A5A-454E-9010-929F70EE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970-6A79-4707-B7C0-C70853EB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C76-D1F9-4266-BA66-063998A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19B-4E80-4F7B-AE1E-70523A2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662-0BF2-4918-9B68-F990699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EE9-4940-4DF8-9166-A5A283D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44E1-F74A-48F2-8023-EC63E6DEF7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FF69-308B-4B83-BBD8-1C02E6430F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У Афонькинская СО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941880" cy="214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Вредные привычки</a:t>
            </a:r>
            <a:r>
              <a:rPr b="0" lang="ru-RU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– это ряд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привычек, которые человек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начать приобретать еще в школьные 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годы и от которых потом не может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избавиться в течение всей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313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omic Sans MS"/>
              </a:rPr>
              <a:t>Вредные привычки серьезно вредят здоровью. Они способствуют быстрому расходованию всего потенциала возможностей человека, преждевременному его старению и приобретению устойчивых заболеваний. К таким привычкам, прежде всего надо отнести курение, употребление алкоголя и наркот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Преступ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преступление"/>
          <p:cNvPicPr/>
          <p:nvPr/>
        </p:nvPicPr>
        <p:blipFill>
          <a:blip r:embed="rId1"/>
          <a:stretch/>
        </p:blipFill>
        <p:spPr>
          <a:xfrm>
            <a:off x="0" y="3716280"/>
            <a:ext cx="3203640" cy="314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76720" y="1125360"/>
            <a:ext cx="58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ступность- это посягающее на правопорядок общественно опасное деяние, предусмотренное уголовным кодекс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снове выделения организованной преступности из общего противоправного поведения лежат характер и степень организованного взаимодействия нескольких преступников между собой при осуществлении своей пролонгированной крими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изованная преступность представлена в виде специфической формы социальных связей в обществе, где наблюдается сочетание элементов иерархической структуры на высоких уровнях с более аморфной и гибкой сетевой системой взаимоотношений на более низких уровня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Comic Sans MS"/>
              </a:rPr>
              <a:t>Алкоголиз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коголизм - хроническое заболевание, обусловленное систематическим употреблением спиртных напитков. Оно проявляется в физической и психической зависимости от алкоголя, ведущей к социальной и психической деградации личности. Пьянство и алкоголизм как массовые явления- серьезная социальная проблема. Следствием значительного роста потребления спиртных напитков стало заметное сокращение продолжительности жи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обрезка алкоголь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папа не 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ff"/>
                </a:solidFill>
                <a:uFillTx/>
                <a:latin typeface="Comic Sans MS"/>
              </a:rPr>
              <a:t>Нарком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0328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мания- болезнь, характеризующаяся непреодолимым влечением к наркоти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котики-это химические вещества синтетического или растительного происхождения, которые оказывают специфическое действие на нервную систему и весь организм человека, приводит к снятию болевых ощущений, изменению настроения, психического и физического тону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8999640" y="4071960"/>
          <a:ext cx="14436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99640" y="4071960"/>
                    <a:ext cx="144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15" descr="обрезка наркотики"/>
          <p:cNvPicPr/>
          <p:nvPr/>
        </p:nvPicPr>
        <p:blipFill>
          <a:blip r:embed="rId3"/>
          <a:stretch/>
        </p:blipFill>
        <p:spPr>
          <a:xfrm>
            <a:off x="0" y="3789360"/>
            <a:ext cx="3492360" cy="30686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dru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64000" y="1412640"/>
            <a:ext cx="558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бак в Европу попал после открытия Америки Христофором Колумбом в 1492 году. До этого Старый свет не знал такой  вредной привы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дыме одной сигареты содержится до двадцати ядовитых веществ (6 мкг никотина, 1,6 мкг аммиака, 0,03 мкг синильной кислоты, 25 мкг угарного газа).Никотин – сильный я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ать курить легко, а вот отвыкнуть от него очень трудно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14" descr="обрезка сигареты"/>
          <p:cNvPicPr/>
          <p:nvPr/>
        </p:nvPicPr>
        <p:blipFill>
          <a:blip r:embed="rId1"/>
          <a:stretch/>
        </p:blipFill>
        <p:spPr>
          <a:xfrm>
            <a:off x="0" y="3716280"/>
            <a:ext cx="3492360" cy="3141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1227071771_cigaret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728040" cy="17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Любая вредная привычка негативно сказывается на здоровь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61" descr="-4"/>
          <p:cNvPicPr/>
          <p:nvPr/>
        </p:nvPicPr>
        <p:blipFill>
          <a:blip r:embed="rId1"/>
          <a:stretch/>
        </p:blipFill>
        <p:spPr>
          <a:xfrm>
            <a:off x="0" y="2205000"/>
            <a:ext cx="327672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2" name="Picture 62" descr="8"/>
          <p:cNvPicPr/>
          <p:nvPr/>
        </p:nvPicPr>
        <p:blipFill>
          <a:blip r:embed="rId2"/>
          <a:stretch/>
        </p:blipFill>
        <p:spPr>
          <a:xfrm>
            <a:off x="3276720" y="2205000"/>
            <a:ext cx="2879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23" name="Picture 64" descr="обж"/>
          <p:cNvPicPr/>
          <p:nvPr/>
        </p:nvPicPr>
        <p:blipFill>
          <a:blip r:embed="rId3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2349360"/>
            <a:ext cx="6400800" cy="2232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Отклоняющееся поведение и здоровье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60325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ла Рамазанова Айгул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Горлова Вера Викторов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556400" cy="14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Влияние курения на здоровье </a:t>
            </a:r>
            <a:br>
              <a:rPr sz="4000"/>
            </a:b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урящих людей уже к 50 годам сосуды становятся неэластичными, хрупкими, тогда как некурящих они бывают такими лишь к 70 годам. Курящие люди в 12 раз чаще заболевают стенокардией, в 3 раза – инфарктом миокарда, в 4 раза – язвой желудка, чем некурящие. Никотин способствует сужению кровеносных сосудов. При длительном курении сосуды приходят в состояние спазмов. В среднем у курящих кровяное давление на 10 мм.рт.ст. выше, чем у некурящих. Курящие люди чаще страдают хроническим бронхит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бачный дым оказывает вредное влияние на секрецию желез желудка. Никотин вреден для мозга, сердца и легких. Табачная смола поражает реснитчатый эпителий дыхательных путей, парализуя его защитную функц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дело в том, что в дыме табака есть такие ядовитые вещества, которые усиливают склонность к заболеваниям, хотя последствия курения проявляются спустя несколько лет. Самым вредным из них является бензпирен, который относится к числу веществ, стимулирующих образование раковых опухолей. На 100 тыс. населения заболеваемость раком легких у курящих в 5 раз больше, чем у некурящ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7556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лияние алкоголя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коголь угнетает продукцию тромбоцитов, а также белых и красных кровяных телец, замедляет циркуляцию крови в сосудах мозга, приводя к постоянному кислородному голоданию его клеток, в результате чего наступает ослабление памяти и медленная психическая деградация. В сосудах развиваются ранние склеротические изменения, и возрастает риск кровоизлияния в мозг. Злоупотребление алкоголем вызывает повышение уровня холестерина в крови, стойкую гипертонию и дистрофию миокарда. Развивается сердечнососудистая недостаточность, алкогольная миопатия. При алкогольной кардиомиопатии поражается сердечная мышца. Постоянное воздействие алкоголя на стенку тонкого кишечника приводит к изменению структуры клеток, и они теряют способность полноценно всасывать питательные вещества и минеральные компоненты, что заканчивается истощением организма алкоголик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оянное воспаление желудка и позже кишечника вызывает язвы пищеварительных органов. Печень страдает от алкоголя больше всего: возникает воспалительный процесс- гепатит, а затем и рубцовое перерождение- цирроз. Печень перестает выполнять свою функцию по обеззараживанию токсических продуктов обмена, выработке белков крови и другие важные функции, что приводит к неизбежной смерти больного. Больные, страдающие алкоголизмом, в 10 раз больше подвержены вероятности заболеть диабетом, чем непьющие: алкоголь разрушает поджелудочную железу – орган, продуцирующий инсулин, и глубоко извращает обмен веществ. Пьющий человек почти всегда выглядит старше своих лет: его кожа очень скоро теряет свою эластичность и стареет раньше времени. 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x_52678af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53440" cy="14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ff33"/>
                </a:solidFill>
                <a:uFillTx/>
                <a:latin typeface="Comic Sans MS"/>
              </a:rPr>
              <a:t>Влияние наркотиков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54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ркомания резко отрицательно влияет на здоровье человека. Дыхание наркомана, как одно из наиважнейших условий жизнеобеспечения, перестает нормально функционировать. Такой защитный механизм организма как кашель тоже отключается у наркомана. Кашель – это естественный способ очистить дыхательные пути человека от мокроты, слизи, гноя, грязи. Влияние наркотиков на сердечнососудистую систему наркомана проявляется все в том же отключении рецепторов, ответственных за давление крови в сосудах, снижая давление крови и замедляя пуль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, снижается количество полезных веществ, которыми должны насыщаться клетки организма. Кожа, кости, внутренние органы стареют сами собой. Пищеварительная система тоже подвержена влиянию наркотиков. Снижая вкусовые и обонятельные ощущения, наркотики угнетают аппетит наркомана. Тем самым снижая его вес. Сама пища, которую все же съели, усваивается и переваривается не полностью. Вызывая спазм гладких мышц сфинктеров кишечника, наркотики задерживают переход каловых масс из одного отдела кишечника в друг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265800" cy="52578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Цель: выявить виды отклоняющего поведения и охарактеризовать их влияние на здоровье челове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imag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869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 конце своей работы мне бы хотелось сказать, что лучше быть здоровым, сильным и красивым, чем вести нездоровый образ жизни. Так что сделайте правильный выбор, ведь только от вашего решения зависит  ваша жизнь. Не портите ее себе и своим близк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о я за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11" descr="я за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beregite-zdoro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6913800" cy="3529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Желаю всем крепкого вам здоровь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585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440400" cy="287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                                           </a:t>
            </a:r>
            <a:r>
              <a:rPr b="1" lang="ru-RU" sz="6000" spc="-1" strike="noStrike" u="sng">
                <a:solidFill>
                  <a:srgbClr val="703dff"/>
                </a:solidFill>
                <a:uFillTx/>
                <a:latin typeface="Comic Sans MS"/>
              </a:rPr>
              <a:t>СПАСИБО ЗА ВНИМАНИЕ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201080" cy="51120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клоняющееся повед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отклоняющего повед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х влияние на здоровье челове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ff"/>
                </a:solidFill>
                <a:uFillTx/>
                <a:latin typeface="Comic Sans MS"/>
              </a:rPr>
              <a:t>Здоровый образ жиз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7" descr="ris_2"/>
          <p:cNvPicPr/>
          <p:nvPr/>
        </p:nvPicPr>
        <p:blipFill>
          <a:blip r:embed="rId1"/>
          <a:stretch/>
        </p:blipFill>
        <p:spPr>
          <a:xfrm>
            <a:off x="0" y="1268280"/>
            <a:ext cx="8244000" cy="55897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dfd17"/>
                </a:solidFill>
                <a:uFillTx/>
                <a:latin typeface="Comic Sans MS"/>
              </a:rPr>
              <a:t>Отклоняющееся </a:t>
            </a:r>
            <a:r>
              <a:rPr b="0" lang="ru-RU" sz="4800" spc="-1" strike="noStrike" u="sng">
                <a:solidFill>
                  <a:srgbClr val="fdfd17"/>
                </a:solidFill>
                <a:uFillTx/>
                <a:latin typeface="Comic Sans MS"/>
              </a:rPr>
              <a:t>поведе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23000" cy="4176720"/>
          </a:xfrm>
          <a:prstGeom prst="rect">
            <a:avLst/>
          </a:prstGeom>
          <a:solidFill>
            <a:srgbClr val="fdfd17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тклоняющееся поведение- поведение индивида или группы, которое не соответствует общепринятым нормам, в результате чего эти нормы ими нарушают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77" name="_s1028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29"/>
            <p:cNvCxnSpPr>
              <a:stCxn id="181" idx="0"/>
              <a:endCxn id="179" idx="2"/>
            </p:cNvCxnSpPr>
            <p:nvPr/>
          </p:nvCxnSpPr>
          <p:spPr>
            <a:xfrm flipV="1">
              <a:off x="4571280" y="2741760"/>
              <a:ext cx="396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3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5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Факторы,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особствующ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девиации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Псих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о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703dff"/>
                </a:solidFill>
                <a:uFillTx/>
                <a:latin typeface="Comic Sans MS"/>
              </a:rPr>
              <a:t>Группы поведенческих девиац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337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1) в зависимости от масштаб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2) по значению последств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3) по субъект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4) по объек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5) по длитель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6) по типу нарушаемой норм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2637000"/>
            <a:ext cx="6400800" cy="337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Видами отклоняющего поведения являются и вредные привычки челове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83492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5:41:36Z</dcterms:created>
  <dc:creator>User</dc:creator>
  <dc:description/>
  <dc:language>en-US</dc:language>
  <cp:lastModifiedBy>LEGION</cp:lastModifiedBy>
  <dcterms:modified xsi:type="dcterms:W3CDTF">2015-05-12T09:03:12Z</dcterms:modified>
  <cp:revision>33</cp:revision>
  <dc:subject/>
  <dc:title>МОУ Афонькинская СОШ</dc:title>
</cp:coreProperties>
</file>