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6.jpeg" ContentType="image/jpeg"/>
  <Override PartName="/ppt/media/image5.wmf" ContentType="image/x-wmf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18.png" ContentType="image/png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5DB4C-2552-4FAF-A61F-3A420FBBED4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У Афонькинская СО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D0E6B-E209-4B49-B64F-C6E625EDE993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66"/>
                </a:solidFill>
                <a:uFillTx/>
                <a:latin typeface="Calibri"/>
              </a:rPr>
              <a:t>Вредные привычки</a:t>
            </a:r>
            <a:r>
              <a:rPr b="0" lang="ru-RU" sz="10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66"/>
                </a:solidFill>
                <a:latin typeface="Calibri"/>
              </a:rPr>
              <a:t>– это ряд</a:t>
            </a:r>
            <a:br>
              <a:rPr sz="1100"/>
            </a:br>
            <a:r>
              <a:rPr b="0" lang="ru-RU" sz="1100" spc="-1" strike="noStrike">
                <a:solidFill>
                  <a:srgbClr val="000066"/>
                </a:solidFill>
                <a:latin typeface="Calibri"/>
              </a:rPr>
              <a:t> привычек, которые человек может</a:t>
            </a:r>
            <a:br>
              <a:rPr sz="1100"/>
            </a:br>
            <a:r>
              <a:rPr b="0" lang="ru-RU" sz="1100" spc="-1" strike="noStrike">
                <a:solidFill>
                  <a:srgbClr val="000066"/>
                </a:solidFill>
                <a:latin typeface="Calibri"/>
              </a:rPr>
              <a:t> начать приобретать еще в школьные </a:t>
            </a:r>
            <a:br>
              <a:rPr sz="1100"/>
            </a:br>
            <a:r>
              <a:rPr b="0" lang="ru-RU" sz="1100" spc="-1" strike="noStrike">
                <a:solidFill>
                  <a:srgbClr val="000066"/>
                </a:solidFill>
                <a:latin typeface="Calibri"/>
              </a:rPr>
              <a:t>годы и от которых потом не может</a:t>
            </a:r>
            <a:br>
              <a:rPr sz="1100"/>
            </a:br>
            <a:r>
              <a:rPr b="0" lang="ru-RU" sz="1100" spc="-1" strike="noStrike">
                <a:solidFill>
                  <a:srgbClr val="000066"/>
                </a:solidFill>
                <a:latin typeface="Calibri"/>
              </a:rPr>
              <a:t> избавиться в течение всей жизн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Вредные привычки серьезно вредят здоровью. Они способствуют быстрому расходованию всего потенциала возможностей человека, преждевременному его старению и приобретению устойчивых заболеваний. К таким привычкам, прежде всего надо отнести курение, употребление алкоголя и наркот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BFF0C-6B19-4ED2-9480-FBA4EA065F53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0504d"/>
                </a:solidFill>
                <a:uFillTx/>
                <a:latin typeface="Calibri"/>
              </a:rPr>
              <a:t>Преступ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ступность- это посягающее на правопорядок общественно опасное деяние, предусмотренное уголовным кодекс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выделения организованной преступности из общего противоправного поведения лежат характер и степень организованного взаимодействия нескольких преступников между собой при осуществлении своей пролонгированной криминальной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ованная преступность представлена в виде специфической формы социальных связей в обществе, где наблюдается сочетание элементов иерархической структуры на высоких уровнях с более аморфной и гибкой сетевой системой взаимоотношений на более низких уровн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17477-0B2D-4745-A35D-7D10D9827909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66"/>
                </a:solidFill>
                <a:uFillTx/>
                <a:latin typeface="Calibri"/>
              </a:rPr>
              <a:t>Алкоголиз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коголизм - хроническое заболевание, обусловленное систематическим употреблением спиртных напитков. Оно проявляется в физической и психической зависимости от алкоголя, ведущей к социальной и психической деградации личности. Пьянство и алкоголизм как массовые явления- серьезная социальная проблема. Следствием значительного роста потребления спиртных напитков стало заметное сокращение продолжительности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E7EED-5891-4A6B-917D-0ADD46B50B9F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ff"/>
                </a:solidFill>
                <a:uFillTx/>
                <a:latin typeface="Calibri"/>
              </a:rPr>
              <a:t>Нарком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комания- болезнь, характеризующаяся непреодолимым влечением к наркотик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котики-это химические вещества синтетического или растительного происхождения, которые оказывают специфическое действие на нервную систему и весь организм человека, приводит к снятию болевых ощущений, изменению настроения, психического и физического тону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FC9A5-9E67-49F5-92E7-6021177A52BE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1f497d"/>
                </a:solidFill>
                <a:uFillTx/>
                <a:latin typeface="Calibri"/>
              </a:rPr>
              <a:t>Кур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бак в Европу попал после открытия Америки Христофором Колумбом в 1492 году. До этого Старый свет не знал такой  вредной привыч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ыме одной сигареты содержится до двадцати ядовитых веществ (6 мкг никотина, 1,6 мкг аммиака, 0,03 мкг синильной кислоты, 25 мкг угарного газа).Никотин – сильный яд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ть курить легко, а вот отвыкнуть от него очень трудно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1E9AC-475E-4C87-A5B4-906BDF0F7A73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Любая вредная привычка негативно сказывается на здоровье челове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CC79F-697D-496A-A74B-E314B5787FA0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клоняющееся поведение и здоровье челове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ла Рамазанова Айгул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:Горлова Вера Викторов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06A43-A15A-4B61-B9C4-92A8648CF6F5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00ff"/>
                </a:solidFill>
                <a:uFillTx/>
                <a:latin typeface="Calibri"/>
              </a:rPr>
              <a:t>Влияние курения на здоровье </a:t>
            </a:r>
            <a:br>
              <a:rPr sz="1800"/>
            </a:br>
            <a:r>
              <a:rPr b="0" lang="ru-RU" sz="1800" spc="-1" strike="noStrike" u="sng">
                <a:solidFill>
                  <a:srgbClr val="ff00ff"/>
                </a:solidFill>
                <a:uFillTx/>
                <a:latin typeface="Calibri"/>
              </a:rPr>
              <a:t>челове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1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курящих людей уже к 50 годам сосуды становятся неэластичными, хрупкими, тогда как некурящих они бывают такими лишь к 70 годам. Курящие люди в 12 раз чаще заболевают стенокардией, в 3 раза – инфарктом миокарда, в 4 раза – язвой желудка, чем некурящие. Никотин способствует сужению кровеносных сосудов. При длительном курении сосуды приходят в состояние спазмов. В среднем у курящих кровяное давление на 10 мм.рт.ст. выше, чем у некурящих. Курящие люди чаще страдают хроническим бронхит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9FD1B-950C-43CA-8FB9-57CD65BF25B8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бачный дым оказывает вредное влияние на секрецию желез желудка. Никотин вреден для мозга, сердца и легких. Табачная смола поражает реснитчатый эпителий дыхательных путей, парализуя его защитную функцию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дело в том, что в дыме табака есть такие ядовитые вещества, которые усиливают склонность к заболеваниям, хотя последствия курения проявляются спустя несколько лет. Самым вредным из них является бензпирен, который относится к числу веществ, стимулирующих образование раковых опухолей. На 100 тыс. населения заболеваемость раком легких у курящих в 5 раз больше, чем у некурящ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A980F-BA88-4958-B9B9-3814A51E2714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1f497d"/>
                </a:solidFill>
                <a:uFillTx/>
                <a:latin typeface="Calibri"/>
              </a:rPr>
              <a:t>Влияние алкоголя на здоровье челове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коголь угнетает продукцию тромбоцитов, а также белых и красных кровяных телец, замедляет циркуляцию крови в сосудах мозга, приводя к постоянному кислородному голоданию его клеток, в результате чего наступает ослабление памяти и медленная психическая деградация. В сосудах развиваются ранние склеротические изменения, и возрастает риск кровоизлияния в мозг. Злоупотребление алкоголем вызывает повышение уровня холестерина в крови, стойкую гипертонию и дистрофию миокарда. Развивается сердечнососудистая недостаточность, алкогольная миопатия. При алкогольной кардиомиопатии поражается сердечная мышца. Постоянное воздействие алкоголя на стенку тонкого кишечника приводит к изменению структуры клеток, и они теряют способность полноценно всасывать питательные вещества и минеральные компоненты, что заканчивается истощением организма алкоголи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3F9A1-13AD-41A2-B3AD-0572A2D945FE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оянное воспаление желудка и позже кишечника вызывает язвы пищеварительных органов. Печень страдает от алкоголя больше всего: возникает воспалительный процесс- гепатит, а затем и рубцовое перерождение- цирроз. Печень перестает выполнять свою функцию по обеззараживанию токсических продуктов обмена, выработке белков крови и другие важные функции, что приводит к неизбежной смерти больного. Больные, страдающие алкоголизмом, в 10 раз больше подвержены вероятности заболеть диабетом, чем непьющие: алкоголь разрушает поджелудочную железу – орган, продуцирующий инсулин, и глубоко извращает обмен веществ. Пьющий человек почти всегда выглядит старше своих лет: его кожа очень скоро теряет свою эластичность и стареет раньше времени.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99A96-2536-4D0D-AE46-A10394D37806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cff33"/>
                </a:solidFill>
                <a:uFillTx/>
                <a:latin typeface="Calibri"/>
              </a:rPr>
              <a:t>Влияние наркотиков на здоровье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комания резко отрицательно влияет на здоровье человека. Дыхание наркомана, как одно из наиважнейших условий жизнеобеспечения, перестает нормально функционировать. Такой защитный механизм организма как кашель тоже отключается у наркомана. Кашель – это естественный способ очистить дыхательные пути человека от мокроты, слизи, гноя, грязи. Влияние наркотиков на сердечнососудистую систему наркомана проявляется все в том же отключении рецепторов, ответственных за давление крови в сосудах, снижая давление крови и замедляя пуль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86F45-59CD-432A-9AB2-55121E52D334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, снижается количество полезных веществ, которыми должны насыщаться клетки организма. Кожа, кости, внутренние органы стареют сами собой. Пищеварительная система тоже подвержена влиянию наркотиков. Снижая вкусовые и обонятельные ощущения, наркотики угнетают аппетит наркомана. Тем самым снижая его вес. Сама пища, которую все же съели, усваивается и переваривается не полностью. Вызывая спазм гладких мышц сфинктеров кишечника, наркотики задерживают переход каловых масс из одного отдела кишечника в друг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9053F-D366-45D6-9C9A-9E271A1505A4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: выявить виды отклоняющего поведения и охарактеризовать их влияние на здоровье человек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A575C-46A5-4522-AD0D-048D5D5EA9DF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 конце своей работы мне бы хотелось сказать, что лучше быть здоровым, сильным и красивым, чем вести нездоровый образ жизни. Так что сделайте правильный выбор, ведь только от вашего решения зависит  ваша жизнь. Не портите ее себе и своим близк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Лично я за здоровый образ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7043-6A00-4C26-84F1-86C771E0AE71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лаю всем крепкого вам здоровь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1CFE4-604A-4F6C-B4B2-AF94907B41B4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СПАСИБО ЗА ВНИМАНИЕ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5D3E1-3623-4EB8-829A-1502A8FEF8B2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</a:rPr>
              <a:t>Содерж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оровый образ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лоняющееся п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отклоняющего по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влияние на здоровье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C457B-E7EA-4381-B0D8-94D64B958153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66ff"/>
                </a:solidFill>
                <a:uFillTx/>
                <a:latin typeface="Calibri"/>
              </a:rPr>
              <a:t>Здоровый образ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90D74-C96E-405A-AE68-8C23DCD79B84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dfd17"/>
                </a:solidFill>
                <a:uFillTx/>
                <a:latin typeface="Calibri"/>
              </a:rPr>
              <a:t>Отклоняющееся </a:t>
            </a:r>
            <a:r>
              <a:rPr b="0" lang="ru-RU" sz="1600" spc="-1" strike="noStrike" u="sng">
                <a:solidFill>
                  <a:srgbClr val="fdfd17"/>
                </a:solidFill>
                <a:uFillTx/>
                <a:latin typeface="Calibri"/>
              </a:rPr>
              <a:t>повед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лоняющееся поведение- поведение индивида или группы, которое не соответствует общепринятым нормам, в результате чего эти нормы ими нарушаю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C4F66-D346-43B0-850C-B9865594FB61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Группы поведенческих деви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80"/>
                </a:solidFill>
                <a:latin typeface="Calibri"/>
              </a:rPr>
              <a:t>1) в зависимости от масштаба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80"/>
                </a:solidFill>
                <a:latin typeface="Calibri"/>
              </a:rPr>
              <a:t>2) по значению последстви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80"/>
                </a:solidFill>
                <a:latin typeface="Calibri"/>
              </a:rPr>
              <a:t>3) по субъекту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80"/>
                </a:solidFill>
                <a:latin typeface="Calibri"/>
              </a:rPr>
              <a:t>4) по объект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80"/>
                </a:solidFill>
                <a:latin typeface="Calibri"/>
              </a:rPr>
              <a:t>5) по длительно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80"/>
                </a:solidFill>
                <a:latin typeface="Calibri"/>
              </a:rPr>
              <a:t>6) по типу нарушаемой нор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28436-4CEC-46D2-BB94-F5E2984CF19A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идами отклоняющего поведения являются и вредные привычки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155AC-4F89-43F4-B8CC-4290C8228C7A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EFD8-5AAA-49C3-9BD2-49C3FD8B1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A7F4-846D-4C56-80A5-D0F4180FA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12B4-C791-4F12-AFF4-BAD5818FB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2DD0-A88E-4A7A-B1E3-9ABB85BF1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7495E-3694-4AD8-B4B3-FDFE4B0EC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DBE70-15F8-4D4E-B720-8A6B9913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926D6-F395-46AF-9D15-6954A80E5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5AB55-E894-44DD-9832-25994445E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3C410-DACD-46EB-8D8D-CA9FDBBE6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429D6-7D05-4D01-9ED5-881E5FB5F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40BB3-4C39-49DE-A611-27AF1792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80DB-360F-4033-9E92-F7BC657DA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93122-0671-4F8E-8B37-79EC7D70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699CD-0CF5-4427-B8B1-5F00BEB2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85E46-8970-41BB-94CC-DA3D7E8E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7ADB1-3903-4E65-A2C8-A0E43542F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D02E2-545C-4012-B9C9-C5733A6D3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2F3B-1FB2-4568-AA95-55D7CA53D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39C3-0F49-4C5B-BB77-1A2963E42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AD77-5516-4CBA-9749-453A51BDD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C371-EC02-4ABC-94DC-F7EA25352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ABB8-D48C-4B4E-85E6-E88E545C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5758-ABC6-423D-970C-1D280EF5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E571-CEC7-491C-8B42-1236698A7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A1EFC-2263-4D9C-B31F-F016CFB99C0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38811-E3BF-410C-BB7A-7C5575DF969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МОУ Афонькинская СОШ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941880" cy="2149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66"/>
                </a:solidFill>
                <a:uFillTx/>
                <a:latin typeface="Comic Sans MS"/>
              </a:rPr>
              <a:t>Вредные привычки</a:t>
            </a:r>
            <a:r>
              <a:rPr b="0" lang="ru-RU" sz="20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– это ряд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 привычек, которые человек может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 начать приобретать еще в школьные 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годы и от которых потом не может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 избавиться в течение всей жизн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11280" y="2133360"/>
            <a:ext cx="7696080" cy="331308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omic Sans MS"/>
              </a:rPr>
              <a:t>Вредные привычки серьезно вредят здоровью. Они способствуют быстрому расходованию всего потенциала возможностей человека, преждевременному его старению и приобретению устойчивых заболеваний. К таким привычкам, прежде всего надо отнести курение, употребление алкоголя и наркотиков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omic Sans MS"/>
              </a:rPr>
              <a:t>Преступност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5" name="Picture 6" descr="преступление"/>
          <p:cNvPicPr/>
          <p:nvPr/>
        </p:nvPicPr>
        <p:blipFill>
          <a:blip r:embed="rId1"/>
          <a:stretch/>
        </p:blipFill>
        <p:spPr>
          <a:xfrm>
            <a:off x="0" y="3716280"/>
            <a:ext cx="3203640" cy="31417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276720" y="1125360"/>
            <a:ext cx="58672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еступность- это посягающее на правопорядок общественно опасное деяние, предусмотренное уголовным кодексом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 основе выделения организованной преступности из общего противоправного поведения лежат характер и степень организованного взаимодействия нескольких преступников между собой при осуществлении своей пролонгированной криминальной деятельности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рганизованная преступность представлена в виде специфической формы социальных связей в обществе, где наблюдается сочетание элементов иерархической структуры на высоких уровнях с более аморфной и гибкой сетевой системой взаимоотношений на более низких уровнях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0066"/>
                </a:solidFill>
                <a:uFillTx/>
                <a:latin typeface="Comic Sans MS"/>
              </a:rPr>
              <a:t>Алкоголизм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59280" y="980640"/>
            <a:ext cx="608472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лкоголизм - хроническое заболевание, обусловленное систематическим употреблением спиртных напитков. Оно проявляется в физической и психической зависимости от алкоголя, ведущей к социальной и психической деградации личности. Пьянство и алкоголизм как массовые явления- серьезная социальная проблема. Следствием значительного роста потребления спиртных напитков стало заметное сокращение продолжительности жизн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Picture 9" descr="обрезка алкоголь"/>
          <p:cNvPicPr/>
          <p:nvPr/>
        </p:nvPicPr>
        <p:blipFill>
          <a:blip r:embed="rId1"/>
          <a:stretch/>
        </p:blipFill>
        <p:spPr>
          <a:xfrm>
            <a:off x="0" y="3789360"/>
            <a:ext cx="3419640" cy="306864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9" descr="папа не пе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66ff"/>
                </a:solidFill>
                <a:uFillTx/>
                <a:latin typeface="Comic Sans MS"/>
              </a:rPr>
              <a:t>Наркомания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203280" y="1196640"/>
            <a:ext cx="594036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ркомания- болезнь, характеризующаяся непреодолимым влечением к наркотика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ркотики-это химические вещества синтетического или растительного происхождения, которые оказывают специфическое действие на нервную систему и весь организм человека, приводит к снятию болевых ощущений, изменению настроения, психического и физического тонус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6" name="Object 9"/>
          <p:cNvGraphicFramePr/>
          <p:nvPr/>
        </p:nvGraphicFramePr>
        <p:xfrm>
          <a:off x="8999640" y="4071960"/>
          <a:ext cx="14436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99640" y="4071960"/>
                    <a:ext cx="14436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8" name="Picture 15" descr="обрезка наркотики"/>
          <p:cNvPicPr/>
          <p:nvPr/>
        </p:nvPicPr>
        <p:blipFill>
          <a:blip r:embed="rId3"/>
          <a:stretch/>
        </p:blipFill>
        <p:spPr>
          <a:xfrm>
            <a:off x="0" y="3789360"/>
            <a:ext cx="3492360" cy="306864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5" descr="drug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0000"/>
                </a:solidFill>
                <a:uFillTx/>
                <a:latin typeface="Comic Sans MS"/>
              </a:rPr>
              <a:t>Курение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564000" y="1412640"/>
            <a:ext cx="5580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абак в Европу попал после открытия Америки Христофором Колумбом в 1492 году. До этого Старый свет не знал такой  вредной привычк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дыме одной сигареты содержится до двадцати ядовитых веществ (6 мкг никотина, 1,6 мкг аммиака, 0,03 мкг синильной кислоты, 25 мкг угарного газа).Никотин – сильный яд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чать курить легко, а вот отвыкнуть от него очень трудно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4" name="Picture 14" descr="обрезка сигареты"/>
          <p:cNvPicPr/>
          <p:nvPr/>
        </p:nvPicPr>
        <p:blipFill>
          <a:blip r:embed="rId1"/>
          <a:stretch/>
        </p:blipFill>
        <p:spPr>
          <a:xfrm>
            <a:off x="0" y="3716280"/>
            <a:ext cx="3492360" cy="314172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5" descr="1227071771_cigarett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5" descr="2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6728040" cy="172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Любая вредная привычка негативно сказывается на здоровье человека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1" name="Picture 61" descr="-4"/>
          <p:cNvPicPr/>
          <p:nvPr/>
        </p:nvPicPr>
        <p:blipFill>
          <a:blip r:embed="rId1"/>
          <a:stretch/>
        </p:blipFill>
        <p:spPr>
          <a:xfrm>
            <a:off x="0" y="2205000"/>
            <a:ext cx="3276720" cy="465300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pic>
        <p:nvPicPr>
          <p:cNvPr id="222" name="Picture 62" descr="8"/>
          <p:cNvPicPr/>
          <p:nvPr/>
        </p:nvPicPr>
        <p:blipFill>
          <a:blip r:embed="rId2"/>
          <a:stretch/>
        </p:blipFill>
        <p:spPr>
          <a:xfrm>
            <a:off x="3276720" y="2205000"/>
            <a:ext cx="2879640" cy="465300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pic>
        <p:nvPicPr>
          <p:cNvPr id="223" name="Picture 64" descr="обж"/>
          <p:cNvPicPr/>
          <p:nvPr/>
        </p:nvPicPr>
        <p:blipFill>
          <a:blip r:embed="rId3"/>
          <a:stretch/>
        </p:blipFill>
        <p:spPr>
          <a:xfrm>
            <a:off x="6156360" y="2205000"/>
            <a:ext cx="2987640" cy="465300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03280" y="2349360"/>
            <a:ext cx="6400800" cy="2232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Отклоняющееся поведение и здоровье человек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547280" y="4868640"/>
            <a:ext cx="6032520" cy="110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ыполнила Рамазанова Айгуль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уководитель:Горлова Вера Викторовн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7556400" cy="1436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00ff"/>
                </a:solidFill>
                <a:uFillTx/>
                <a:latin typeface="Comic Sans MS"/>
              </a:rPr>
              <a:t>Влияние курения на здоровье </a:t>
            </a:r>
            <a:br>
              <a:rPr sz="4000"/>
            </a:br>
            <a:r>
              <a:rPr b="0" lang="ru-RU" sz="4000" spc="-1" strike="noStrike" u="sng">
                <a:solidFill>
                  <a:srgbClr val="ff00ff"/>
                </a:solidFill>
                <a:uFillTx/>
                <a:latin typeface="Comic Sans MS"/>
              </a:rPr>
              <a:t>челове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2060640"/>
            <a:ext cx="9144000" cy="47973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2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 курящих людей уже к 50 годам сосуды становятся неэластичными, хрупкими, тогда как некурящих они бывают такими лишь к 70 годам. Курящие люди в 12 раз чаще заболевают стенокардией, в 3 раза – инфарктом миокарда, в 4 раза – язвой желудка, чем некурящие. Никотин способствует сужению кровеносных сосудов. При длительном курении сосуды приходят в состояние спазмов. В среднем у курящих кровяное давление на 10 мм.рт.ст. выше, чем у некурящих. Курящие люди чаще страдают хроническим бронхитом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абачный дым оказывает вредное влияние на секрецию желез желудка. Никотин вреден для мозга, сердца и легких. Табачная смола поражает реснитчатый эпителий дыхательных путей, парализуя его защитную функцию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се дело в том, что в дыме табака есть такие ядовитые вещества, которые усиливают склонность к заболеваниям, хотя последствия курения проявляются спустя несколько лет. Самым вредным из них является бензпирен, который относится к числу веществ, стимулирующих образование раковых опухолей. На 100 тыс. населения заболеваемость раком легких у курящих в 5 раз больше, чем у некурящих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1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7" descr="1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78920" y="333000"/>
            <a:ext cx="755676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0000"/>
                </a:solidFill>
                <a:uFillTx/>
                <a:latin typeface="Comic Sans MS"/>
              </a:rPr>
              <a:t>Влияние алкоголя на здоровье челове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2060640"/>
            <a:ext cx="9144000" cy="4797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Алкоголь угнетает продукцию тромбоцитов, а также белых и красных кровяных телец, замедляет циркуляцию крови в сосудах мозга, приводя к постоянному кислородному голоданию его клеток, в результате чего наступает ослабление памяти и медленная психическая деградация. В сосудах развиваются ранние склеротические изменения, и возрастает риск кровоизлияния в мозг. Злоупотребление алкоголем вызывает повышение уровня холестерина в крови, стойкую гипертонию и дистрофию миокарда. Развивается сердечнососудистая недостаточность, алкогольная миопатия. При алкогольной кардиомиопатии поражается сердечная мышца. Постоянное воздействие алкоголя на стенку тонкого кишечника приводит к изменению структуры клеток, и они теряют способность полноценно всасывать питательные вещества и минеральные компоненты, что заканчивается истощением организма алкоголика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стоянное воспаление желудка и позже кишечника вызывает язвы пищеварительных органов. Печень страдает от алкоголя больше всего: возникает воспалительный процесс- гепатит, а затем и рубцовое перерождение- цирроз. Печень перестает выполнять свою функцию по обеззараживанию токсических продуктов обмена, выработке белков крови и другие важные функции, что приводит к неизбежной смерти больного. Больные, страдающие алкоголизмом, в 10 раз больше подвержены вероятности заболеть диабетом, чем непьющие: алкоголь разрушает поджелудочную железу – орган, продуцирующий инсулин, и глубоко извращает обмен веществ. Пьющий человек почти всегда выглядит старше своих лет: его кожа очень скоро теряет свою эластичность и стареет раньше времени. 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6" descr="x_52678af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5" descr="imag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353440" cy="14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ccff33"/>
                </a:solidFill>
                <a:uFillTx/>
                <a:latin typeface="Comic Sans MS"/>
              </a:rPr>
              <a:t>Влияние наркотиков на здоровье челове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4724280"/>
          </a:xfrm>
          <a:prstGeom prst="rect">
            <a:avLst/>
          </a:prstGeom>
          <a:solidFill>
            <a:srgbClr val="99ff33"/>
          </a:solidFill>
          <a:ln w="9360">
            <a:solidFill>
              <a:srgbClr val="005400"/>
            </a:solidFill>
            <a:miter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ркомания резко отрицательно влияет на здоровье человека. Дыхание наркомана, как одно из наиважнейших условий жизнеобеспечения, перестает нормально функционировать. Такой защитный механизм организма как кашель тоже отключается у наркомана. Кашель – это естественный способ очистить дыхательные пути человека от мокроты, слизи, гноя, грязи. Влияние наркотиков на сердечнососудистую систему наркомана проявляется все в том же отключении рецепторов, ответственных за давление крови в сосудах, снижая давление крови и замедляя пульс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аким образом, снижается количество полезных веществ, которыми должны насыщаться клетки организма. Кожа, кости, внутренние органы стареют сами собой. Пищеварительная система тоже подвержена влиянию наркотиков. Снижая вкусовые и обонятельные ощущения, наркотики угнетают аппетит наркомана. Тем самым снижая его вес. Сама пища, которую все же съели, усваивается и переваривается не полностью. Вызывая спазм гладких мышц сфинктеров кишечника, наркотики задерживают переход каловых масс из одного отдела кишечника в друго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6265800" cy="5257800"/>
          </a:xfrm>
          <a:prstGeom prst="rect">
            <a:avLst/>
          </a:prstGeom>
          <a:solidFill>
            <a:srgbClr val="703d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Цель: выявить виды отклоняющего поведения и охарактеризовать их влияние на здоровье человека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5" descr="image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486900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В конце своей работы мне бы хотелось сказать, что лучше быть здоровым, сильным и красивым, чем вести нездоровый образ жизни. Так что сделайте правильный выбор, ведь только от вашего решения зависит  ваша жизнь. Не портите ее себе и своим близки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     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Лично я за здоровый образ жизн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4" name="Picture 11" descr="я за"/>
          <p:cNvPicPr/>
          <p:nvPr/>
        </p:nvPicPr>
        <p:blipFill>
          <a:blip r:embed="rId1"/>
          <a:stretch/>
        </p:blipFill>
        <p:spPr>
          <a:xfrm>
            <a:off x="0" y="4149720"/>
            <a:ext cx="9144000" cy="2708280"/>
          </a:xfrm>
          <a:prstGeom prst="rect">
            <a:avLst/>
          </a:prstGeom>
          <a:ln w="0">
            <a:noFill/>
          </a:ln>
        </p:spPr>
      </p:pic>
      <p:sp>
        <p:nvSpPr>
          <p:cNvPr id="255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5" descr="beregite-zdorov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42560" y="2204640"/>
            <a:ext cx="6913800" cy="35290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omic Sans MS"/>
              </a:rPr>
              <a:t>Желаю всем крепкого вам здоровья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1258560" y="585432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03280" y="1196640"/>
            <a:ext cx="6440400" cy="2879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                                                       </a:t>
            </a:r>
            <a:r>
              <a:rPr b="1" lang="ru-RU" sz="6000" spc="-1" strike="noStrike" u="sng">
                <a:solidFill>
                  <a:srgbClr val="703dff"/>
                </a:solidFill>
                <a:uFillTx/>
                <a:latin typeface="Comic Sans MS"/>
              </a:rPr>
              <a:t>СПАСИБО ЗА ВНИМАНИЕ</a:t>
            </a: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b200"/>
                </a:solidFill>
                <a:uFillTx/>
                <a:latin typeface="Comic Sans MS"/>
              </a:rPr>
              <a:t>Содержание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55280" y="981000"/>
            <a:ext cx="7201080" cy="5112000"/>
          </a:xfrm>
          <a:prstGeom prst="rect">
            <a:avLst/>
          </a:prstGeom>
          <a:solidFill>
            <a:srgbClr val="00b200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Здоровый образ жизн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Отклоняющееся повед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иды отклоняющего повед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Их влияние на здоровье челове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66ff"/>
                </a:solidFill>
                <a:uFillTx/>
                <a:latin typeface="Comic Sans MS"/>
              </a:rPr>
              <a:t>Здоровый образ жизн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17" descr="ris_2"/>
          <p:cNvPicPr/>
          <p:nvPr/>
        </p:nvPicPr>
        <p:blipFill>
          <a:blip r:embed="rId1"/>
          <a:stretch/>
        </p:blipFill>
        <p:spPr>
          <a:xfrm>
            <a:off x="0" y="1268280"/>
            <a:ext cx="8244000" cy="558972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dfd17"/>
                </a:solidFill>
                <a:uFillTx/>
                <a:latin typeface="Comic Sans MS"/>
              </a:rPr>
              <a:t>Отклоняющееся </a:t>
            </a:r>
            <a:r>
              <a:rPr b="0" lang="ru-RU" sz="4800" spc="-1" strike="noStrike" u="sng">
                <a:solidFill>
                  <a:srgbClr val="fdfd17"/>
                </a:solidFill>
                <a:uFillTx/>
                <a:latin typeface="Comic Sans MS"/>
              </a:rPr>
              <a:t>поведение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4000" y="1413000"/>
            <a:ext cx="7623000" cy="4176720"/>
          </a:xfrm>
          <a:prstGeom prst="rect">
            <a:avLst/>
          </a:prstGeom>
          <a:solidFill>
            <a:srgbClr val="fdfd17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Отклоняющееся поведение- поведение индивида или группы, которое не соответствует общепринятым нормам, в результате чего эти нормы ими нарушаютс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6" name="Organization Chart 7"/>
          <p:cNvGrpSpPr/>
          <p:nvPr/>
        </p:nvGrpSpPr>
        <p:grpSpPr>
          <a:xfrm>
            <a:off x="0" y="0"/>
            <a:ext cx="9143280" cy="6856200"/>
            <a:chOff x="0" y="0"/>
            <a:chExt cx="9143280" cy="6856200"/>
          </a:xfrm>
        </p:grpSpPr>
        <p:cxnSp>
          <p:nvCxnSpPr>
            <p:cNvPr id="177" name="_s1028"/>
            <p:cNvCxnSpPr>
              <a:stCxn id="178" idx="0"/>
              <a:endCxn id="179" idx="2"/>
            </p:cNvCxnSpPr>
            <p:nvPr/>
          </p:nvCxnSpPr>
          <p:spPr>
            <a:xfrm flipV="1" rot="16200000">
              <a:off x="5485320" y="1827360"/>
              <a:ext cx="1371960" cy="3200760"/>
            </a:xfrm>
            <a:prstGeom prst="bentConnector3">
              <a:avLst>
                <a:gd name="adj1" fmla="val 158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0" name="_s1029"/>
            <p:cNvCxnSpPr>
              <a:stCxn id="181" idx="0"/>
              <a:endCxn id="179" idx="2"/>
            </p:cNvCxnSpPr>
            <p:nvPr/>
          </p:nvCxnSpPr>
          <p:spPr>
            <a:xfrm flipV="1">
              <a:off x="4571280" y="2741760"/>
              <a:ext cx="3960" cy="1371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2" name="_s1030"/>
            <p:cNvCxnSpPr>
              <a:stCxn id="183" idx="0"/>
              <a:endCxn id="179" idx="2"/>
            </p:cNvCxnSpPr>
            <p:nvPr/>
          </p:nvCxnSpPr>
          <p:spPr>
            <a:xfrm flipH="1" flipV="1" rot="5400000">
              <a:off x="2285280" y="1827360"/>
              <a:ext cx="1371960" cy="3200760"/>
            </a:xfrm>
            <a:prstGeom prst="bentConnector3">
              <a:avLst>
                <a:gd name="adj1" fmla="val 158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9" name="_s1031"/>
            <p:cNvSpPr/>
            <p:nvPr/>
          </p:nvSpPr>
          <p:spPr>
            <a:xfrm>
              <a:off x="3200040" y="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Факторы, 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способствующие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девиации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_s1032"/>
            <p:cNvSpPr/>
            <p:nvPr/>
          </p:nvSpPr>
          <p:spPr>
            <a:xfrm>
              <a:off x="0" y="411372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Биологическое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" name="_s1033"/>
            <p:cNvSpPr/>
            <p:nvPr/>
          </p:nvSpPr>
          <p:spPr>
            <a:xfrm>
              <a:off x="3200040" y="411372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Психологическое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_s1034"/>
            <p:cNvSpPr/>
            <p:nvPr/>
          </p:nvSpPr>
          <p:spPr>
            <a:xfrm>
              <a:off x="6400440" y="411372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Социологическое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703dff"/>
                </a:solidFill>
                <a:uFillTx/>
                <a:latin typeface="Comic Sans MS"/>
              </a:rPr>
              <a:t>Группы поведенческих девиаци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42920" y="1844280"/>
            <a:ext cx="73375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9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1) в зависимости от масштаба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spcBef>
                <a:spcPts val="9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2) по значению последствий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spcBef>
                <a:spcPts val="9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3) по субъекту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spcBef>
                <a:spcPts val="9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4) по объекту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spcBef>
                <a:spcPts val="9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5) по длительност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6) по типу нарушаемой нормы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32000" y="2637000"/>
            <a:ext cx="6400800" cy="33796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Comic Sans MS"/>
              </a:rPr>
              <a:t>Видами отклоняющего поведения являются и вредные привычки человек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834920" y="585432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6T15:41:36Z</dcterms:created>
  <dc:creator>User</dc:creator>
  <dc:description/>
  <dc:language>en-US</dc:language>
  <cp:lastModifiedBy>LEGION</cp:lastModifiedBy>
  <dcterms:modified xsi:type="dcterms:W3CDTF">2015-05-12T09:03:12Z</dcterms:modified>
  <cp:revision>33</cp:revision>
  <dc:subject/>
  <dc:title>МОУ Афонькинская СОШ</dc:title>
</cp:coreProperties>
</file>