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.jpeg" ContentType="image/jpeg"/>
  <Override PartName="/ppt/media/image42.png" ContentType="image/png"/>
  <Override PartName="/ppt/media/image2.jpeg" ContentType="image/jpe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D9E3-4F04-4821-B295-C3BF88D259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robnaya-vypivka-privodit-detej-k-alkogolizmu" TargetMode="External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ие и плохи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6EAD-C7BD-4047-9687-45F71AE54A48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а — это характерная форма поведения человека, которая в определённых условиях приобретает характер потребности. Если привычка оказывает негативное воздействие на организм человека, на его здоровье, разрушает его жизнь — это вредная привыч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A9C3-6941-409F-8FE8-9E40F846973B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чему сохраняютс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ривычки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вредные привычки имеют характер зависимости, то есть человек знает о вреде привычки, но не может от неё избавиться из-за того, что она приносит кратковременное удовольствие или облег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редные привычки сохраняются, потому что человек не подозревает о своей привычке либо не считает её вредной (во всяком случае, для себ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6863-F48F-4937-B0FF-FD9955F24238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дыхание дыма препаратов, преимущественно растительного происхождения, тлеющих в потоке вдыхаемого воздуха, с целью насыщения организма содержащимися в них активными веществами путём их возгонки и последующего всасывания в лёгких и дыхательных путях. Как правило, применяется для употребления курительных смесей, обладающих наркотическими свойствами (табак, гашиш, марихуана, опиум, крэк и т. п.) благодаря быстрому поступлению насыщенной психоактивными веществами крови в головной 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304D-0B07-4577-B72C-2DC0D9B217EE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чины, по которым подросток впервые попробовал алкоголь, могут быть разными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 подачи родителе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или в компании сверс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 не стоит недооценивать вред алкоголя для молодого организма, даже если он пока ограничивается только пивом или баночными коктей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CFA2-732B-4A68-A204-DE529528D470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дар в моз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держащийся в алкогольных напитках этанол, он же этиловый спирт, влияет на головной мозг, который в подростковом возрасте находится на стадии структурных и функциональных изменении, поэтому особенно уязвим для влияния химически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ступает задержка развития мышления, нарушается выработка нравственных и этических норм, могут угаснуть уже проявившиеся способности. Под действием алкоголя подросток буквально тупеет: и интеллектуально и эмоционально. А недостаточно зрелый мозг подростка быстрее формирует зависимость от 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469E-FAFA-44E0-A44F-356A32ACDFBE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дар в жив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чень подростка разрушается под действием алкоголя гораздо быстрее, чем у взрослого человека, ведь, механизмы работы ферментов в печени еще не сформированы оконч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лкоголь приводит к жировому перерождению клеток печени и нарушению синтез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тамино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ферментов, белкового и углеводного об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блюдаются и сбои в работе желудочно-кишечного тракта — под действием алкоголя изменяются свойства и количество желудочного сока, нарушается работа поджелудочной железы, что может привести не только к панкреатиту, но и к диаб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аже самое легкое пиво — сильное мочегонное средство. И, если его употреблять регулярно, из организма вымываются минеральные и питательные вещества, потеря которых для растущего организма подростка может оказаться невосполни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 сладкие слабоалкогольные коктейли в баночках, очень популярные в подростковой среде — настоящая гремучая смесь из сахара, красителя и спирта. Которая, помимо дозы алкоголя, поставляет в организм подростка избыточное количество калорий. Нередко в таких баночках содержится и кофеин, негативно влияющий на нервную и сердечно-сосудистую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3A8B-5668-4127-8398-A835113DFC35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Удар по будуще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ексуальные контакты без контрацепции в подростковой среде чаще всего случаются именно «по пьяни». Подобные случайные связи могут привести к заражению инфекциями, передающимся половым путем, гепатиту В и С, ВИЧ-инфицированию. Нередко незащищенный секс может стать причиной ранней беременности у девочек, аборта и следующих за ним гинекологическим пробле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 ост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 закончивший свое формирование организм очень болезненно отвечает на поступающий в него этанол. Нарушается деятельность сердечно-сосудистой системы: появляются тахикардия, перепады артериальн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ммунная система перестает полноценно выполнять свои функции: употребляющий алкоголь подросток становится очень восприимчив к инфекционным заболеваниям. И не только простудным — среди выпивающих молодых людей нередко встречаются инфекции мочевыводящих путей и почек и хронические воспалительные заболевания дыхательных путей, нередко осложняющиеся еще и кур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5686-CC8A-4433-A9EB-175C43133CB8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научиться формировать у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ебя хорошие привычки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ставь режим дня и строго выполняй ег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икогда не приходи на занятия, не подготовившись к ни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учи себя доводить начатое дело до конц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ждое дело выполняй качественно, относись  добросовестно к выполнению любого поруч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Научись самообладанию, установи самоконтроль за своими мыслями, действиями и поступ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2C6E-FE4D-41AC-A938-4987143BF685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я жизн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0656-A4DD-479E-9A2A-FB41BCFADF8B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ивы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ычка — это приобретённая манера. Она имеет пассивный характер и возникает в результате повторения действий, которые постепенно становятся бессознательными и механическими. Чтобы возникла привычка, важна заинтересованность личности: мы никогда не привыкаем полностью к неприятной нам вещи, но зато охотно привыкаем к вещи приятн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B7BB-0504-4620-A323-C78B6008C4AD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вычки формируются в повседневной жизни и разрушаются с большим трудом. Постоянное повторение некоторых действий становится для человека потребностью, и он уже не представляет себя без этой привыч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ычка — вторая натура (Аристотель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Ничто так не нуждается в исправлении, как чужие привычки (Марк Твен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Чем больше привычек, тем меньше свободы (Эммануил Кант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Привычка есть привычка, её не выбросишь за окошко, а можно только вежливенько, со ступеньки на ступеньку, свести с лестницы (Марк Твен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2690-EB58-4AB4-89F3-48F1B04D6538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бывают привы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и бывают полезными и вредными, положительными и отрицательными, нейтральными, неприятными, пагубными, надоедливыми, просто раздражаю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7AA8-A60D-48DA-B226-D99520165276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кольны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вы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к чтению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уратное выполнение домашнего зад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ное отношение к школьным принадлежностя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режима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а класть вещи на свои мес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здорового образа жи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9008-B3D6-4BD6-95D1-94187E36880B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F3D7-B4B7-420F-BCA3-6E596866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DEE-706B-42EF-8389-7290368E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5AB5-F873-44BC-AE25-218BA547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CBCF-52BF-4FD4-805C-44F2F383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8233-411B-4813-9EC6-B6272CE8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50B7-F3C9-44FB-963C-651CBE21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637A-30FA-4D8F-BDF3-5881483B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A0EF-BDDE-4D18-BE1A-79931DA7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292A-C189-4897-8098-96BA4C23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D96D-E7DA-419E-AC6B-7560AD9D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636E-580D-40DC-8BB6-D911FCD4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434B-260A-4964-963C-11DA131E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6636-72EA-4071-BF36-84683220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3659-355C-4FAA-AC47-9104D980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AFE8-5C36-45AE-9AC1-C9DE8C11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4669-8B55-4242-92FB-BFEB27F6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B7BF-2F3D-461C-A656-A6415454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D97-32C0-4268-BE7F-3515C5AE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79A4-7C2C-448F-9655-922ECE7A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40EE-09EE-40A6-BA04-8F24D3E9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7D0-5C0B-48A0-BACD-171AE373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8BF-381C-4761-B0F3-F6088F46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6F23-C532-4107-A7FA-079DD4DC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E6E-8D65-4623-A84F-8244F909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54EE-9523-4500-AAD7-804F4F93F79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E21F-8073-4943-AF24-98A5292900A5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260&amp;cf=277&amp;is=0&amp;type=al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60&amp;cf=61&amp;is=0&amp;type=all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robnaya-vypivka-privodit-detej-k-alkogolizmu" TargetMode="External"/><Relationship Id="rId2" Type="http://schemas.openxmlformats.org/officeDocument/2006/relationships/hyperlink" Target="http://www.takzdorovo.ru/privychki/glavnoe/kak-alkogol-vliyaet-na-organizm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80&amp;cf=80&amp;is=0&amp;type=all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glavnoe/kogda-gazirovka-ne-bezobidna" TargetMode="External"/><Relationship Id="rId2" Type="http://schemas.openxmlformats.org/officeDocument/2006/relationships/hyperlink" Target="http://www.takzdorovo.ru/pitanie/zhidkij-sahar" TargetMode="External"/><Relationship Id="rId3" Type="http://schemas.openxmlformats.org/officeDocument/2006/relationships/hyperlink" Target="http://www.takzdorovo.ru/pitanie/amerikanskie-vlasti-vzyalis-za-energetiki" TargetMode="External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yanye-podrostki-zabyvaut-predohranyatsya" TargetMode="External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180&amp;cf=187&amp;is=0&amp;type=all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260&amp;cf=277&amp;is=0&amp;type=al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0&amp;cf=1&amp;is=0&amp;type=al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hyperlink" Target="http://go.mail.ru/frame.html?q=%F5%EE%F0%EE%F8%E8%E5%20%E8%20%E2%F0%E5%E4%ED%FB%E5%20%EF%F0%E8%E2%FB%F7%EA%E8&amp;rch=e&amp;jsa=1&amp;sf=100&amp;cf=118&amp;is=0&amp;type=all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go.mail.ru/frame.html?q=%F5%EE%F0%EE%F8%E8%E5%20%E8%20%E2%F0%E5%E4%ED%FB%E5%20%EF%F0%E8%E2%FB%F7%EA%E8&amp;rch=e&amp;jsa=1&amp;sf=60&amp;cf=63&amp;is=0&amp;type=all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go.mail.ru/frame.html?q=%F5%EE%F0%EE%F8%E8%E5%20%E8%20%E2%F0%E5%E4%ED%FB%E5%20%EF%F0%E8%E2%FB%F7%EA%E8&amp;rch=e&amp;jsa=1&amp;sf=360&amp;cf=360&amp;is=0&amp;type=all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60&amp;cf=74&amp;is=0&amp;type=all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go.mail.ru/frame.html?q=%F5%EE%F0%EE%F8%E8%E5%20%E8%20%E2%F0%E5%E4%ED%FB%E5%20%EF%F0%E8%E2%FB%F7%EA%E8&amp;rch=e&amp;jsa=1&amp;sf=420&amp;cf=433&amp;is=0&amp;type=all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go.mail.ru/frame.html?q=%F5%EE%F0%EE%F8%E8%E5%20%E8%20%E2%F0%E5%E4%ED%FB%E5%20%EF%F0%E8%E2%FB%F7%EA%E8&amp;rch=e&amp;jsa=1&amp;sf=260&amp;cf=279&amp;is=0&amp;type=all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Хорошие и плохие привычк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Picture 4" descr="00000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2852640"/>
            <a:ext cx="2306880" cy="180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ascadeFoto"/>
          <p:cNvPicPr/>
          <p:nvPr/>
        </p:nvPicPr>
        <p:blipFill>
          <a:blip r:embed="rId3"/>
          <a:stretch/>
        </p:blipFill>
        <p:spPr>
          <a:xfrm>
            <a:off x="1476360" y="328464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Вредные привычки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Привычка — это характерная форма поведения человека, которая в определённых условиях приобретает характер потребности. Если привычка оказывает негативное воздействие на организм человека, на его здоровье, разрушает его жизнь — это вредная привычка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4" descr="1236090889_Obama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797360"/>
            <a:ext cx="2011320" cy="1684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Почему сохраняются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 привычки?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Многие вредные привычки имеют характер зависимости, то есть человек знает о вреде привычки, но не может от неё избавиться из-за того, что она приносит кратковременное удовольствие или облегчение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Некоторые вредные привычки сохраняются, потому что человек не подозревает о своей привычке либо не считает её вредной (во всяком случае, для себя)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036880" cy="16174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Verdana"/>
              </a:rPr>
              <a:t>Курение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5256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 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дыхание дыма препаратов, преимущественно растительного происхождения, тлеющих в потоке вдыхаемого воздуха, с целью насыщения организма содержащимися в них активными веществами путём их возгонки и последующего всасывания в лёгких и дыхательных путях. Как правило, применяется для употребления курительных смесей, обладающих наркотическими свойствами (табак, гашиш, марихуана, опиум, крэк и т. п.) благодаря быстрому поступлению насыщенной психоактивными веществами крови в головной моз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19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1996920" cy="29955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лкогол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Причины, по которым подросток впервые попробовал алкоголь, могут быть разными: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с подачи родителей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 или в компании сверстников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Но не стоит недооценивать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вред алкоголя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 для молодого организма, даже если он пока ограничивается только пивом или баночными коктейлями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5" descr="Вред алкоголя для  молодого организма"/>
          <p:cNvPicPr/>
          <p:nvPr/>
        </p:nvPicPr>
        <p:blipFill>
          <a:blip r:embed="rId3"/>
          <a:stretch/>
        </p:blipFill>
        <p:spPr>
          <a:xfrm>
            <a:off x="3780000" y="378936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Verdana"/>
              </a:rPr>
              <a:t>Удар в мозг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Verdana"/>
              </a:rPr>
              <a:t>Содержащийся в алкогольных напитках этанол, он же этиловый спирт, влияет на головной мозг, который в подростковом возрасте находится на стадии структурных и функциональных изменении, поэтому особенно уязвим для влияния химических веществ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Verdana"/>
              </a:rPr>
              <a:t>Наступает задержка развития мышления, нарушается выработка нравственных и этических норм, могут угаснуть уже проявившиеся способности. Под действием алкоголя подросток буквально тупеет: и интеллектуально и эмоционально. А недостаточно зрелый мозг подростка быстрее формирует зависимость от алкоголя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Picture 5" descr="16142179_12520464_yepikmo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5229360"/>
            <a:ext cx="2005200" cy="11523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229600" cy="70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 u="sng">
                <a:solidFill>
                  <a:srgbClr val="ffffff"/>
                </a:solidFill>
                <a:uFillTx/>
                <a:latin typeface="Verdana"/>
              </a:rPr>
              <a:t>Удар в живот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Печень подростка разрушается под действием алкоголя гораздо быстрее, чем у взрослого человека, ведь, механизмы работы ферментов в печени еще не сформированы окончательно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Алкоголь приводит к жировому перерождению клеток печени и нарушению синтеза </a:t>
            </a: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витаминов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ферментов, белкового и углеводного обмена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Наблюдаются и сбои в работе желудочно-кишечного тракта — под действием алкоголя изменяются свойства и количество желудочного сока, нарушается работа поджелудочной железы, что может привести не только к панкреатиту, но и к диабету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Даже самое легкое пиво — сильное мочегонное средство. И, если его употреблять регулярно, из организма вымываются минеральные и питательные вещества, потеря которых для растущего организма подростка может оказаться невосполнимой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А сладкие слабоалкогольные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коктейли в баночках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очень популярные в подростковой среде — настоящая гремучая смесь из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сахара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красителя и спирта. Которая, помимо дозы алкоголя, поставляет в организм подростка избыточное количество калорий. Нередко в таких баночках содержится и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кофеин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негативно влияющий на нервную и сердечно-сосудистую системы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4"/>
          <a:stretch/>
        </p:blipFill>
        <p:spPr>
          <a:xfrm>
            <a:off x="7596360" y="907920"/>
            <a:ext cx="1390320" cy="9334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Удар по будущем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Сексуальные контакты </a:t>
            </a:r>
            <a:r>
              <a:rPr b="0" lang="ru-RU" sz="15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без контрацепции</a:t>
            </a: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 в подростковой среде чаще всего случаются именно «по пьяни». Подобные случайные связи могут привести к заражению инфекциями, передающимся половым путем, гепатиту В и С, ВИЧ-инфицированию. Нередко незащищенный секс может стать причиной ранней беременности у девочек, аборта и следующих за ним гинекологическим проблемам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ffffff"/>
                </a:solidFill>
                <a:uFillTx/>
                <a:latin typeface="Verdana"/>
              </a:rPr>
              <a:t>Все остальное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Не закончивший свое формирование организм очень болезненно отвечает на поступающий в него этанол. Нарушается деятельность сердечно-сосудистой системы: появляются тахикардия, перепады артериального давления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Иммунная система перестает полноценно выполнять свои функции: употребляющий алкоголь подросток становится очень восприимчив к инфекционным заболеваниям. И не только простудным — среди выпивающих молодых людей нередко встречаются инфекции мочевыводящих путей и почек и хронические воспалительные заболевания дыхательных путей, нередко осложняющиеся еще и курением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1428840" cy="1009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3"/>
          <a:stretch/>
        </p:blipFill>
        <p:spPr>
          <a:xfrm>
            <a:off x="3419640" y="5300640"/>
            <a:ext cx="1936440" cy="129528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5759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Как научиться формировать у 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себя хорошие привычки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1. Составь режим дня и строго выполняй его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2. Никогда не приходи на занятия, не подготовившись к ним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3. Приучи себя доводить начатое дело до конца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4. Каждое дело выполняй качественно, относись  добросовестно к выполнению любого поручения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5. Научись самообладанию, установи самоконтроль за своими мыслями, действиями и поступками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19" descr="52079108_1260103944_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18900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8" descr="00000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60280"/>
            <a:ext cx="2346120" cy="1833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" descr=""/>
          <p:cNvPicPr/>
          <p:nvPr/>
        </p:nvPicPr>
        <p:blipFill>
          <a:blip r:embed="rId3"/>
          <a:stretch/>
        </p:blipFill>
        <p:spPr>
          <a:xfrm>
            <a:off x="250920" y="1844640"/>
            <a:ext cx="2479680" cy="20494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Твоя жизнь…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22" descr=""/>
          <p:cNvPicPr/>
          <p:nvPr/>
        </p:nvPicPr>
        <p:blipFill>
          <a:blip r:embed="rId4"/>
          <a:stretch/>
        </p:blipFill>
        <p:spPr>
          <a:xfrm>
            <a:off x="1547640" y="4076640"/>
            <a:ext cx="2713320" cy="204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4" descr=""/>
          <p:cNvPicPr/>
          <p:nvPr/>
        </p:nvPicPr>
        <p:blipFill>
          <a:blip r:embed="rId5"/>
          <a:stretch/>
        </p:blipFill>
        <p:spPr>
          <a:xfrm>
            <a:off x="3492360" y="1844640"/>
            <a:ext cx="2156040" cy="1625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5" descr=""/>
          <p:cNvPicPr/>
          <p:nvPr/>
        </p:nvPicPr>
        <p:blipFill>
          <a:blip r:embed="rId6"/>
          <a:stretch/>
        </p:blipFill>
        <p:spPr>
          <a:xfrm>
            <a:off x="5651640" y="3645000"/>
            <a:ext cx="2587320" cy="258768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Что такое привычка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Привычка — это приобретённая манера. Она имеет пассивный характер и возникает в результате повторения действий, которые постепенно становятся бессознательными и механическими. Чтобы возникла привычка, важна заинтересованность личности: мы никогда не привыкаем полностью к неприятной нам вещи, но зато охотно привыкаем к вещи приятной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66280" y="259920"/>
            <a:ext cx="8001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Привычки формируются в повседневной жизни и разрушаются с большим трудом. Постоянное повторение некоторых действий становится для человека потребностью, и он уже не представляет себя без этой привычки.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•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ивычка — вторая натура (Аристотель)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• Ничто так не нуждается в исправлении, как чужие привычки (Марк Твен)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• Чем больше привычек, тем меньше свободы (Эммануил Кант)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• Привычка есть привычка, её не выбросишь за окошко, а можно только вежливенько, со ступеньки на ступеньку, свести с лестницы (Марк Твен). 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Picture 5" descr="pivichki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1916280"/>
            <a:ext cx="1523880" cy="11905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Какие бывают привычки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вычки бывают полезными и вредными, положительными и отрицательными, нейтральными, неприятными, пагубными, надоедливыми, просто раздражающими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305080" cy="2108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6588000" y="549360"/>
            <a:ext cx="2000520" cy="3011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276720" y="333360"/>
            <a:ext cx="2800080" cy="2109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4"/>
          <a:stretch/>
        </p:blipFill>
        <p:spPr>
          <a:xfrm>
            <a:off x="468360" y="3500280"/>
            <a:ext cx="2673360" cy="201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5"/>
          <a:stretch/>
        </p:blipFill>
        <p:spPr>
          <a:xfrm>
            <a:off x="3492360" y="2781360"/>
            <a:ext cx="2533680" cy="190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6"/>
          <a:stretch/>
        </p:blipFill>
        <p:spPr>
          <a:xfrm>
            <a:off x="5724360" y="4437000"/>
            <a:ext cx="2832120" cy="20019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001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любовь к чтению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куратное выполнение домашнего задани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ережное отношение к школьным принадлежностям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блюдение режима дн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вычка класть вещи на свои мес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блюдение здорового образа жизни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2451240" cy="1692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Школьные 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привычки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843280" y="476280"/>
            <a:ext cx="1863720" cy="2496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1666800" cy="251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rec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620640"/>
            <a:ext cx="2825640" cy="2100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ojireni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3284640"/>
            <a:ext cx="2070360" cy="1785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s000137_6744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03640" y="3429000"/>
            <a:ext cx="2227320" cy="1865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9"/>
          <a:stretch/>
        </p:blipFill>
        <p:spPr>
          <a:xfrm>
            <a:off x="5940360" y="4221000"/>
            <a:ext cx="273204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10"/>
          <a:stretch/>
        </p:blipFill>
        <p:spPr>
          <a:xfrm>
            <a:off x="1908000" y="5229360"/>
            <a:ext cx="952560" cy="14094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76c894cd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97000"/>
            <a:ext cx="2166840" cy="216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4044-0771%5B159079%5D(209x220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981000"/>
            <a:ext cx="2019240" cy="212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5"/>
          <a:stretch/>
        </p:blipFill>
        <p:spPr>
          <a:xfrm>
            <a:off x="971640" y="4221000"/>
            <a:ext cx="2555640" cy="1851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6"/>
          <a:stretch/>
        </p:blipFill>
        <p:spPr>
          <a:xfrm>
            <a:off x="3203640" y="404640"/>
            <a:ext cx="2814480" cy="2106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7"/>
          <a:stretch/>
        </p:blipFill>
        <p:spPr>
          <a:xfrm>
            <a:off x="4788000" y="3716280"/>
            <a:ext cx="2828880" cy="21319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3124080" cy="1665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76280"/>
            <a:ext cx="2432160" cy="234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4"/>
          <a:stretch/>
        </p:blipFill>
        <p:spPr>
          <a:xfrm>
            <a:off x="3635280" y="333360"/>
            <a:ext cx="1982880" cy="2720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5"/>
          <a:stretch/>
        </p:blipFill>
        <p:spPr>
          <a:xfrm>
            <a:off x="6084720" y="836640"/>
            <a:ext cx="2408400" cy="1797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6"/>
          <a:stretch/>
        </p:blipFill>
        <p:spPr>
          <a:xfrm>
            <a:off x="5867280" y="3141720"/>
            <a:ext cx="2678400" cy="1830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7"/>
          <a:stretch/>
        </p:blipFill>
        <p:spPr>
          <a:xfrm>
            <a:off x="3276720" y="4941720"/>
            <a:ext cx="2428920" cy="161928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34:28Z</dcterms:created>
  <dc:creator>User</dc:creator>
  <dc:description/>
  <dc:language>en-US</dc:language>
  <cp:lastModifiedBy>LEGION</cp:lastModifiedBy>
  <dcterms:modified xsi:type="dcterms:W3CDTF">2015-05-12T09:03:44Z</dcterms:modified>
  <cp:revision>8</cp:revision>
  <dc:subject/>
  <dc:title>Хорошие и плохие привычки</dc:title>
</cp:coreProperties>
</file>