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jpeg" ContentType="image/jpeg"/>
  <Override PartName="/ppt/media/image3.jpeg" ContentType="image/jpeg"/>
  <Override PartName="/ppt/media/image42.png" ContentType="image/png"/>
  <Override PartName="/ppt/media/image2.jpeg" ContentType="image/jpeg"/>
  <Override PartName="/ppt/media/image11.png" ContentType="image/png"/>
  <Override PartName="/ppt/media/image19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CFAC-1A3F-4403-B370-BE2286F5B90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hyperlink" Target="http://www.takzdorovo.ru/privychki/probnaya-vypivka-privodit-detej-k-alkogolizmu" TargetMode="External"/><Relationship Id="rId2" Type="http://schemas.openxmlformats.org/officeDocument/2006/relationships/slide" Target="../slides/slide13.xml"/><Relationship Id="rId3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ие и плохие 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660D-764D-48B0-ABD3-7A052887AFCA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ые 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ычка — это характерная форма поведения человека, которая в определённых условиях приобретает характер потребности. Если привычка оказывает негативное воздействие на организм человека, на его здоровье, разрушает его жизнь — это вредная привычк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968E-270A-484A-A7DF-726606B3D6E3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чему сохраняютс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ривычки?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вредные привычки имеют характер зависимости, то есть человек знает о вреде привычки, но не может от неё избавиться из-за того, что она приносит кратковременное удовольствие или облег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вредные привычки сохраняются, потому что человек не подозревает о своей привычке либо не считает её вредной (во всяком случае, для себ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5331-8227-4B59-8079-DA3474CA4345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дыхание дыма препаратов, преимущественно растительного происхождения, тлеющих в потоке вдыхаемого воздуха, с целью насыщения организма содержащимися в них активными веществами путём их возгонки и последующего всасывания в лёгких и дыхательных путях. Как правило, применяется для употребления курительных смесей, обладающих наркотическими свойствами (табак, гашиш, марихуана, опиум, крэк и т. п.) благодаря быстрому поступлению насыщенной психоактивными веществами крови в головной моз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87A9-AF2C-4D43-8E35-30754D3799F7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лкого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чины, по которым подросток впервые попробовал алкоголь, могут быть разными: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с подачи родителей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или в компании сверст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 не стоит недооценивать вред алкоголя для молодого организма, даже если он пока ограничивается только пивом или баночными коктей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4753-82E8-49D7-91E1-BF5F465AD319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дар в моз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держащийся в алкогольных напитках этанол, он же этиловый спирт, влияет на головной мозг, который в подростковом возрасте находится на стадии структурных и функциональных изменении, поэтому особенно уязвим для влияния химически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ступает задержка развития мышления, нарушается выработка нравственных и этических норм, могут угаснуть уже проявившиеся способности. Под действием алкоголя подросток буквально тупеет: и интеллектуально и эмоционально. А недостаточно зрелый мозг подростка быстрее формирует зависимость от алког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C44F-4B76-48AB-883C-BDDA653092A9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дар в жив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чень подростка разрушается под действием алкоголя гораздо быстрее, чем у взрослого человека, ведь, механизмы работы ферментов в печени еще не сформированы окончатель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лкоголь приводит к жировому перерождению клеток печени и нарушению синтез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таминов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ферментов, белкового и углеводного обме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блюдаются и сбои в работе желудочно-кишечного тракта — под действием алкоголя изменяются свойства и количество желудочного сока, нарушается работа поджелудочной железы, что может привести не только к панкреатиту, но и к диаб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аже самое легкое пиво — сильное мочегонное средство. И, если его употреблять регулярно, из организма вымываются минеральные и питательные вещества, потеря которых для растущего организма подростка может оказаться невосполни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 сладкие слабоалкогольные коктейли в баночках, очень популярные в подростковой среде — настоящая гремучая смесь из сахара, красителя и спирта. Которая, помимо дозы алкоголя, поставляет в организм подростка избыточное количество калорий. Нередко в таких баночках содержится и кофеин, негативно влияющий на нервную и сердечно-сосудистую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9AAC-2216-494C-ADFC-B34FF259A77D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Удар по будущем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ексуальные контакты без контрацепции в подростковой среде чаще всего случаются именно «по пьяни». Подобные случайные связи могут привести к заражению инфекциями, передающимся половым путем, гепатиту В и С, ВИЧ-инфицированию. Нередко незащищенный секс может стать причиной ранней беременности у девочек, аборта и следующих за ним гинекологическим проблем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се ост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 закончивший свое формирование организм очень болезненно отвечает на поступающий в него этанол. Нарушается деятельность сердечно-сосудистой системы: появляются тахикардия, перепады артериального д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ммунная система перестает полноценно выполнять свои функции: употребляющий алкоголь подросток становится очень восприимчив к инфекционным заболеваниям. И не только простудным — среди выпивающих молодых людей нередко встречаются инфекции мочевыводящих путей и почек и хронические воспалительные заболевания дыхательных путей, нередко осложняющиеся еще и кур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B860-22E5-40C0-921C-EECFBBFE71F0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научиться формировать у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ебя хорошие привычки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оставь режим дня и строго выполняй его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икогда не приходи на занятия, не подготовившись к ним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иучи себя доводить начатое дело до конц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ждое дело выполняй качественно, относись  добросовестно к выполнению любого поруч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Научись самообладанию, установи самоконтроль за своими мыслями, действиями и поступ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D0BD-D990-4C10-BE5D-9F181EB99091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я жизн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2C39-13EB-41B1-A605-F39F43387E4E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привыч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вычка — это приобретённая манера. Она имеет пассивный характер и возникает в результате повторения действий, которые постепенно становятся бессознательными и механическими. Чтобы возникла привычка, важна заинтересованность личности: мы никогда не привыкаем полностью к неприятной нам вещи, но зато охотно привыкаем к вещи приятно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495D-5D3D-43FD-B9D5-E4D75DA92E0D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ивычки формируются в повседневной жизни и разрушаются с большим трудом. Постоянное повторение некоторых действий становится для человека потребностью, и он уже не представляет себя без этой привычк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ычка — вторая натура (Аристотель)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Ничто так не нуждается в исправлении, как чужие привычки (Марк Твен)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Чем больше привычек, тем меньше свободы (Эммануил Кант)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Привычка есть привычка, её не выбросишь за окошко, а можно только вежливенько, со ступеньки на ступеньку, свести с лестницы (Марк Твен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6E96-02AB-474F-A09C-6DD17D8F4EC5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бывают привыч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ычки бывают полезными и вредными, положительными и отрицательными, нейтральными, неприятными, пагубными, надоедливыми, просто раздражающ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CC5F-9AA8-421E-A70E-FF66F66C5C2B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кольны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выч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вь к чтению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куратное выполнение домашнего зад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жное отношение к школьным принадлежностя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ение режима д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ычка класть вещи на свои мес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ение здорового образа жизн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27D6-192A-40EF-B9FB-1CD00A65DE4C}" type="slidenum">
              <a:rPr b="0" i="1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4F8B-071E-4B42-B554-1209E795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BB7C-4040-402B-8151-E542BB1A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C15B-9013-43C8-943F-75EAE7E2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4DED-E57A-49AB-853D-F8632529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44D0-7BA1-4821-9EF6-FCFCD4B5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D36E-6602-4CB2-9524-28B1C42B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A4F1-5D0A-4AE0-9A0E-AEA8CE93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742F-BE1C-4F7B-900A-9408757A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5B81-7A22-47D4-B283-384E2323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EEFA-E57E-4457-8F51-02CD48C5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DD6E-3E3F-4A98-A2EA-B2E79852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3704-111E-49BF-85F6-5BC6D77F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5C88-59A1-428B-9656-3A09621A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38D5-6E2E-438B-BCB8-8AA28525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29CE-9D18-417B-A75F-070813D0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7CF9-0F08-45C5-AF99-132D2F6E5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CD42-DA6E-4A71-83F5-6F89F8688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FD3E-62F0-4299-9E4F-F2D6BD9E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EA25-D58D-496A-B895-63E9339B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A0C4-86BA-487E-9A4D-B100060F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B129-951D-4EDB-B7E5-71F2531D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5755-765B-4BF3-85C4-75055BF8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CAA8-D7DA-4C78-A4F3-8FF7D1C5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AA0F-72B0-418B-913E-A47EBA27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E45C-27E2-4744-92CA-D1CA629DF43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94C0-3322-4C58-9263-7845067782EC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260&amp;cf=277&amp;is=0&amp;type=all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60&amp;cf=61&amp;is=0&amp;type=all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akzdorovo.ru/privychki/probnaya-vypivka-privodit-detej-k-alkogolizmu" TargetMode="External"/><Relationship Id="rId2" Type="http://schemas.openxmlformats.org/officeDocument/2006/relationships/hyperlink" Target="http://www.takzdorovo.ru/privychki/glavnoe/kak-alkogol-vliyaet-na-organizm" TargetMode="External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80&amp;cf=80&amp;is=0&amp;type=all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akzdorovo.ru/privychki/glavnoe/kogda-gazirovka-ne-bezobidna" TargetMode="External"/><Relationship Id="rId2" Type="http://schemas.openxmlformats.org/officeDocument/2006/relationships/hyperlink" Target="http://www.takzdorovo.ru/pitanie/zhidkij-sahar" TargetMode="External"/><Relationship Id="rId3" Type="http://schemas.openxmlformats.org/officeDocument/2006/relationships/hyperlink" Target="http://www.takzdorovo.ru/pitanie/amerikanskie-vlasti-vzyalis-za-energetiki" TargetMode="External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takzdorovo.ru/privychki/pyanye-podrostki-zabyvaut-predohranyatsya" TargetMode="External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180&amp;cf=187&amp;is=0&amp;type=all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260&amp;cf=277&amp;is=0&amp;type=all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0&amp;cf=1&amp;is=0&amp;type=al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hyperlink" Target="http://go.mail.ru/frame.html?q=%F5%EE%F0%EE%F8%E8%E5%20%E8%20%E2%F0%E5%E4%ED%FB%E5%20%EF%F0%E8%E2%FB%F7%EA%E8&amp;rch=e&amp;jsa=1&amp;sf=100&amp;cf=118&amp;is=0&amp;type=all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go.mail.ru/frame.html?q=%F5%EE%F0%EE%F8%E8%E5%20%E8%20%E2%F0%E5%E4%ED%FB%E5%20%EF%F0%E8%E2%FB%F7%EA%E8&amp;rch=e&amp;jsa=1&amp;sf=60&amp;cf=63&amp;is=0&amp;type=all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go.mail.ru/frame.html?q=%F5%EE%F0%EE%F8%E8%E5%20%E8%20%E2%F0%E5%E4%ED%FB%E5%20%EF%F0%E8%E2%FB%F7%EA%E8&amp;rch=e&amp;jsa=1&amp;sf=360&amp;cf=360&amp;is=0&amp;type=all" TargetMode="External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F5%EE%F0%EE%F8%E8%E5%20%E8%20%E2%F0%E5%E4%ED%FB%E5%20%EF%F0%E8%E2%FB%F7%EA%E8&amp;rch=e&amp;jsa=1&amp;sf=60&amp;cf=74&amp;is=0&amp;type=all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go.mail.ru/frame.html?q=%F5%EE%F0%EE%F8%E8%E5%20%E8%20%E2%F0%E5%E4%ED%FB%E5%20%EF%F0%E8%E2%FB%F7%EA%E8&amp;rch=e&amp;jsa=1&amp;sf=420&amp;cf=433&amp;is=0&amp;type=all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go.mail.ru/frame.html?q=%F5%EE%F0%EE%F8%E8%E5%20%E8%20%E2%F0%E5%E4%ED%FB%E5%20%EF%F0%E8%E2%FB%F7%EA%E8&amp;rch=e&amp;jsa=1&amp;sf=260&amp;cf=279&amp;is=0&amp;type=all" TargetMode="External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Хорошие и плохие привычк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Picture 4" descr="00000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2852640"/>
            <a:ext cx="2306880" cy="1801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CascadeFoto"/>
          <p:cNvPicPr/>
          <p:nvPr/>
        </p:nvPicPr>
        <p:blipFill>
          <a:blip r:embed="rId3"/>
          <a:stretch/>
        </p:blipFill>
        <p:spPr>
          <a:xfrm>
            <a:off x="1476360" y="328464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Вредные привычки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Привычка — это характерная форма поведения человека, которая в определённых условиях приобретает характер потребности. Если привычка оказывает негативное воздействие на организм человека, на его здоровье, разрушает его жизнь — это вредная привычка.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4" descr="1236090889_Obama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4797360"/>
            <a:ext cx="2011320" cy="16844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Почему сохраняются</a:t>
            </a:r>
            <a:br>
              <a:rPr sz="3400"/>
            </a:b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 привычки?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Многие вредные привычки имеют характер зависимости, то есть человек знает о вреде привычки, но не может от неё избавиться из-за того, что она приносит кратковременное удовольствие или облегчение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Некоторые вредные привычки сохраняются, потому что человек не подозревает о своей привычке либо не считает её вредной (во всяком случае, для себя)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036880" cy="16174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Verdana"/>
              </a:rPr>
              <a:t>Курение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5256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 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дыхание дыма препаратов, преимущественно растительного происхождения, тлеющих в потоке вдыхаемого воздуха, с целью насыщения организма содержащимися в них активными веществами путём их возгонки и последующего всасывания в лёгких и дыхательных путях. Как правило, применяется для употребления курительных смесей, обладающих наркотическими свойствами (табак, гашиш, марихуана, опиум, крэк и т. п.) благодаря быстрому поступлению насыщенной психоактивными веществами крови в головной мозг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Picture 19" descr=""/>
          <p:cNvPicPr/>
          <p:nvPr/>
        </p:nvPicPr>
        <p:blipFill>
          <a:blip r:embed="rId1"/>
          <a:stretch/>
        </p:blipFill>
        <p:spPr>
          <a:xfrm>
            <a:off x="6156360" y="2421000"/>
            <a:ext cx="1996920" cy="29955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Алкогол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Причины, по которым подросток впервые попробовал алкоголь, могут быть разными: </a:t>
            </a:r>
            <a:r>
              <a:rPr b="0" lang="ru-RU" sz="19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с подачи родителей</a:t>
            </a: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 или в компании сверстников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Но не стоит недооценивать </a:t>
            </a:r>
            <a:r>
              <a:rPr b="0" lang="ru-RU" sz="19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вред алкоголя</a:t>
            </a: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 для молодого организма, даже если он пока ограничивается только пивом или баночными коктейлями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1" name="Picture 5" descr="Вред алкоголя для  молодого организма"/>
          <p:cNvPicPr/>
          <p:nvPr/>
        </p:nvPicPr>
        <p:blipFill>
          <a:blip r:embed="rId3"/>
          <a:stretch/>
        </p:blipFill>
        <p:spPr>
          <a:xfrm>
            <a:off x="3780000" y="378936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Verdana"/>
              </a:rPr>
              <a:t>Удар в мозг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ffff"/>
                </a:solidFill>
                <a:latin typeface="Verdana"/>
              </a:rPr>
              <a:t>Содержащийся в алкогольных напитках этанол, он же этиловый спирт, влияет на головной мозг, который в подростковом возрасте находится на стадии структурных и функциональных изменении, поэтому особенно уязвим для влияния химических веществ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ffff"/>
                </a:solidFill>
                <a:latin typeface="Verdana"/>
              </a:rPr>
              <a:t>Наступает задержка развития мышления, нарушается выработка нравственных и этических норм, могут угаснуть уже проявившиеся способности. Под действием алкоголя подросток буквально тупеет: и интеллектуально и эмоционально. А недостаточно зрелый мозг подростка быстрее формирует зависимость от алкоголя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4" name="Picture 5" descr="16142179_12520464_yepikmo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5229360"/>
            <a:ext cx="2005200" cy="115236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229600" cy="70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 u="sng">
                <a:solidFill>
                  <a:srgbClr val="ffffff"/>
                </a:solidFill>
                <a:uFillTx/>
                <a:latin typeface="Verdana"/>
              </a:rPr>
              <a:t>Удар в живот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Печень подростка разрушается под действием алкоголя гораздо быстрее, чем у взрослого человека, ведь, механизмы работы ферментов в печени еще не сформированы окончательно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Алкоголь приводит к жировому перерождению клеток печени и нарушению синтеза </a:t>
            </a:r>
            <a:r>
              <a:rPr b="1" lang="ru-RU" sz="1900" spc="-1" strike="noStrike">
                <a:solidFill>
                  <a:srgbClr val="ffffff"/>
                </a:solidFill>
                <a:latin typeface="Verdana"/>
              </a:rPr>
              <a:t>витаминов</a:t>
            </a: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, ферментов, белкового и углеводного обмена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Наблюдаются и сбои в работе желудочно-кишечного тракта — под действием алкоголя изменяются свойства и количество желудочного сока, нарушается работа поджелудочной железы, что может привести не только к панкреатиту, но и к диабету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Даже самое легкое пиво — сильное мочегонное средство. И, если его употреблять регулярно, из организма вымываются минеральные и питательные вещества, потеря которых для растущего организма подростка может оказаться невосполнимой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А сладкие слабоалкогольные </a:t>
            </a:r>
            <a:r>
              <a:rPr b="0" lang="ru-RU" sz="19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коктейли в баночках</a:t>
            </a: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, очень популярные в подростковой среде — настоящая гремучая смесь из </a:t>
            </a:r>
            <a:r>
              <a:rPr b="0" lang="ru-RU" sz="19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сахара</a:t>
            </a: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, красителя и спирта. Которая, помимо дозы алкоголя, поставляет в организм подростка избыточное количество калорий. Нередко в таких баночках содержится и </a:t>
            </a:r>
            <a:r>
              <a:rPr b="0" lang="ru-RU" sz="1900" spc="-1" strike="noStrike" u="sng">
                <a:solidFill>
                  <a:srgbClr val="ffcc00"/>
                </a:solidFill>
                <a:uFillTx/>
                <a:latin typeface="Verdana"/>
                <a:hlinkClick r:id="rId3"/>
              </a:rPr>
              <a:t>кофеин</a:t>
            </a:r>
            <a:r>
              <a:rPr b="1" i="1" lang="ru-RU" sz="1900" spc="-1" strike="noStrike">
                <a:solidFill>
                  <a:srgbClr val="ffffff"/>
                </a:solidFill>
                <a:latin typeface="Verdana"/>
              </a:rPr>
              <a:t>, негативно влияющий на нервную и сердечно-сосудистую системы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4"/>
          <a:stretch/>
        </p:blipFill>
        <p:spPr>
          <a:xfrm>
            <a:off x="7596360" y="907920"/>
            <a:ext cx="1390320" cy="93348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Verdana"/>
              </a:rPr>
              <a:t>Удар по будущем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Verdana"/>
              </a:rPr>
              <a:t>Сексуальные контакты </a:t>
            </a:r>
            <a:r>
              <a:rPr b="0" lang="ru-RU" sz="15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без контрацепции</a:t>
            </a:r>
            <a:r>
              <a:rPr b="1" i="1" lang="ru-RU" sz="1500" spc="-1" strike="noStrike">
                <a:solidFill>
                  <a:srgbClr val="ffffff"/>
                </a:solidFill>
                <a:latin typeface="Verdana"/>
              </a:rPr>
              <a:t> в подростковой среде чаще всего случаются именно «по пьяни». Подобные случайные связи могут привести к заражению инфекциями, передающимся половым путем, гепатиту В и С, ВИЧ-инфицированию. Нередко незащищенный секс может стать причиной ранней беременности у девочек, аборта и следующих за ним гинекологическим проблемам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ffffff"/>
                </a:solidFill>
                <a:uFillTx/>
                <a:latin typeface="Verdana"/>
              </a:rPr>
              <a:t>Все остальное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Verdana"/>
              </a:rPr>
              <a:t>Не закончивший свое формирование организм очень болезненно отвечает на поступающий в него этанол. Нарушается деятельность сердечно-сосудистой системы: появляются тахикардия, перепады артериального давления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Verdana"/>
              </a:rPr>
              <a:t>Иммунная система перестает полноценно выполнять свои функции: употребляющий алкоголь подросток становится очень восприимчив к инфекционным заболеваниям. И не только простудным — среди выпивающих молодых людей нередко встречаются инфекции мочевыводящих путей и почек и хронические воспалительные заболевания дыхательных путей, нередко осложняющиеся еще и курением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2"/>
          <a:stretch/>
        </p:blipFill>
        <p:spPr>
          <a:xfrm>
            <a:off x="6588000" y="189000"/>
            <a:ext cx="1428840" cy="1009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3"/>
          <a:stretch/>
        </p:blipFill>
        <p:spPr>
          <a:xfrm>
            <a:off x="3419640" y="5300640"/>
            <a:ext cx="1936440" cy="129528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5759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Как научиться формировать у </a:t>
            </a:r>
            <a:br>
              <a:rPr sz="3400"/>
            </a:b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себя хорошие привычки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99cc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1. Составь режим дня и строго выполняй его.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2. Никогда не приходи на занятия, не подготовившись к ним.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3. Приучи себя доводить начатое дело до конца.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4. Каждое дело выполняй качественно, относись  добросовестно к выполнению любого поручения.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5. Научись самообладанию, установи самоконтроль за своими мыслями, действиями и поступками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19" descr="52079108_1260103944_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18900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8" descr="00000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60280"/>
            <a:ext cx="2346120" cy="1833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0" descr=""/>
          <p:cNvPicPr/>
          <p:nvPr/>
        </p:nvPicPr>
        <p:blipFill>
          <a:blip r:embed="rId3"/>
          <a:stretch/>
        </p:blipFill>
        <p:spPr>
          <a:xfrm>
            <a:off x="250920" y="1844640"/>
            <a:ext cx="2479680" cy="20494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Твоя жизнь…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22" descr=""/>
          <p:cNvPicPr/>
          <p:nvPr/>
        </p:nvPicPr>
        <p:blipFill>
          <a:blip r:embed="rId4"/>
          <a:stretch/>
        </p:blipFill>
        <p:spPr>
          <a:xfrm>
            <a:off x="1547640" y="4076640"/>
            <a:ext cx="2713320" cy="2043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4" descr=""/>
          <p:cNvPicPr/>
          <p:nvPr/>
        </p:nvPicPr>
        <p:blipFill>
          <a:blip r:embed="rId5"/>
          <a:stretch/>
        </p:blipFill>
        <p:spPr>
          <a:xfrm>
            <a:off x="3492360" y="1844640"/>
            <a:ext cx="2156040" cy="1625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5" descr=""/>
          <p:cNvPicPr/>
          <p:nvPr/>
        </p:nvPicPr>
        <p:blipFill>
          <a:blip r:embed="rId6"/>
          <a:stretch/>
        </p:blipFill>
        <p:spPr>
          <a:xfrm>
            <a:off x="5651640" y="3645000"/>
            <a:ext cx="2587320" cy="258768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Что такое привычка?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Привычка — это приобретённая манера. Она имеет пассивный характер и возникает в результате повторения действий, которые постепенно становятся бессознательными и механическими. Чтобы возникла привычка, важна заинтересованность личности: мы никогда не привыкаем полностью к неприятной нам вещи, но зато охотно привыкаем к вещи приятной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66280" y="259920"/>
            <a:ext cx="8001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Привычки формируются в повседневной жизни и разрушаются с большим трудом. Постоянное повторение некоторых действий становится для человека потребностью, и он уже не представляет себя без этой привычки. 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•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ивычка — вторая натура (Аристотель);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• Ничто так не нуждается в исправлении, как чужие привычки (Марк Твен);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• Чем больше привычек, тем меньше свободы (Эммануил Кант);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• Привычка есть привычка, её не выбросишь за окошко, а можно только вежливенько, со ступеньки на ступеньку, свести с лестницы (Марк Твен). 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0" name="Picture 5" descr="pivichki-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1916280"/>
            <a:ext cx="1523880" cy="11905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Какие бывают привычки?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Привычки бывают полезными и вредными, положительными и отрицательными, нейтральными, неприятными, пагубными, надоедливыми, просто раздражающими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2305080" cy="2108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6588000" y="549360"/>
            <a:ext cx="2000520" cy="3011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3276720" y="333360"/>
            <a:ext cx="2800080" cy="2109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4"/>
          <a:stretch/>
        </p:blipFill>
        <p:spPr>
          <a:xfrm>
            <a:off x="468360" y="3500280"/>
            <a:ext cx="2673360" cy="2013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5"/>
          <a:stretch/>
        </p:blipFill>
        <p:spPr>
          <a:xfrm>
            <a:off x="3492360" y="2781360"/>
            <a:ext cx="2533680" cy="190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6"/>
          <a:stretch/>
        </p:blipFill>
        <p:spPr>
          <a:xfrm>
            <a:off x="5724360" y="4437000"/>
            <a:ext cx="2832120" cy="20019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8001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любовь к чтению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аккуратное выполнение домашнего задания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бережное отношение к школьным принадлежностям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облюдение режима дн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ивычка класть вещи на свои мест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облюдение здорового образа жизни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5580000" y="549360"/>
            <a:ext cx="2451240" cy="1692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Школьные </a:t>
            </a:r>
            <a:br>
              <a:rPr sz="3400"/>
            </a:br>
            <a:r>
              <a:rPr b="0" lang="ru-RU" sz="3400" spc="-1" strike="noStrike">
                <a:solidFill>
                  <a:srgbClr val="ffffff"/>
                </a:solidFill>
                <a:latin typeface="Verdana"/>
              </a:rPr>
              <a:t>привычки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2843280" y="476280"/>
            <a:ext cx="1863720" cy="2496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1666800" cy="251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rec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8720" y="620640"/>
            <a:ext cx="2825640" cy="2100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ojireni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9640" y="3284640"/>
            <a:ext cx="2070360" cy="1785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s000137_67442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03640" y="3429000"/>
            <a:ext cx="2227320" cy="1865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"/>
          <p:cNvPicPr/>
          <p:nvPr/>
        </p:nvPicPr>
        <p:blipFill>
          <a:blip r:embed="rId9"/>
          <a:stretch/>
        </p:blipFill>
        <p:spPr>
          <a:xfrm>
            <a:off x="5940360" y="4221000"/>
            <a:ext cx="2732040" cy="1828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10"/>
          <a:stretch/>
        </p:blipFill>
        <p:spPr>
          <a:xfrm>
            <a:off x="1908000" y="5229360"/>
            <a:ext cx="952560" cy="14094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76c894cd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197000"/>
            <a:ext cx="2166840" cy="2166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4044-0771%5B159079%5D(209x220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981000"/>
            <a:ext cx="2019240" cy="2125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5"/>
          <a:stretch/>
        </p:blipFill>
        <p:spPr>
          <a:xfrm>
            <a:off x="971640" y="4221000"/>
            <a:ext cx="2555640" cy="1851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6"/>
          <a:stretch/>
        </p:blipFill>
        <p:spPr>
          <a:xfrm>
            <a:off x="3203640" y="404640"/>
            <a:ext cx="2814480" cy="2106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/>
          <p:cNvPicPr/>
          <p:nvPr/>
        </p:nvPicPr>
        <p:blipFill>
          <a:blip r:embed="rId7"/>
          <a:stretch/>
        </p:blipFill>
        <p:spPr>
          <a:xfrm>
            <a:off x="4788000" y="3716280"/>
            <a:ext cx="2828880" cy="213192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611280" y="3213000"/>
            <a:ext cx="3124080" cy="1665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476280"/>
            <a:ext cx="2432160" cy="2340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4"/>
          <a:stretch/>
        </p:blipFill>
        <p:spPr>
          <a:xfrm>
            <a:off x="3635280" y="333360"/>
            <a:ext cx="1982880" cy="2720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"/>
          <p:cNvPicPr/>
          <p:nvPr/>
        </p:nvPicPr>
        <p:blipFill>
          <a:blip r:embed="rId5"/>
          <a:stretch/>
        </p:blipFill>
        <p:spPr>
          <a:xfrm>
            <a:off x="6084720" y="836640"/>
            <a:ext cx="2408400" cy="1797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6"/>
          <a:stretch/>
        </p:blipFill>
        <p:spPr>
          <a:xfrm>
            <a:off x="5867280" y="3141720"/>
            <a:ext cx="2678400" cy="1830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7"/>
          <a:stretch/>
        </p:blipFill>
        <p:spPr>
          <a:xfrm>
            <a:off x="3276720" y="4941720"/>
            <a:ext cx="2428920" cy="161928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6:34:28Z</dcterms:created>
  <dc:creator>User</dc:creator>
  <dc:description/>
  <dc:language>en-US</dc:language>
  <cp:lastModifiedBy>LEGION</cp:lastModifiedBy>
  <dcterms:modified xsi:type="dcterms:W3CDTF">2015-05-12T09:03:44Z</dcterms:modified>
  <cp:revision>8</cp:revision>
  <dc:subject/>
  <dc:title>Хорошие и плохие привычки</dc:title>
</cp:coreProperties>
</file>