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42.png" ContentType="image/png"/>
  <Override PartName="/ppt/media/image2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3B54-14A3-433E-8DAF-73C217CB42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е и плохи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06FB-B109-4B3F-96D9-91B553BE1F2A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B686-79A0-4B7F-BAFC-A3F7869830B9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чему сохраняют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ивычки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E343-F13A-43F7-AA5C-8023E3C78739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C43A-D1D1-4A12-AD5E-2FFB00795C51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 подачи родителе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или в компании сверс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 не стоит недооценивать вред алкоголя для молодого организма, даже если он пока ограничивается только пивом или баночными коктей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CCD5-5FA5-4038-95B8-902C523EF4F0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4DB6-3633-45E9-A63D-DAF744E0B84D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жив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лкоголь приводит к жировому перерождению клеток печени и нарушению синте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тамино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ферментов, белкового и углевод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 сладкие слабоалкогольные коктейли в баночках, очень популярные в подростковой среде — настоящая гремучая смесь из сахара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кофеин, негативно влияющий на нервную и сердечно-сосудистую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68B6-D763-48C8-8772-B3ED39E688CD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Удар по будуще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ксуальные контакты без контрацепции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6396-7100-4E0E-B428-601BBFA8AB99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научиться формировать 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бя хорошие привычк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ставь режим дня и строго выполняй е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когда не приходи на занятия, не подготовившись к ни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учи себя доводить начатое дело до конц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4383-D3C4-4431-9833-7C0D72A4A297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я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C785-1D9E-497C-BA18-5B271C93D336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D066-1DFE-4C73-B67D-707865BD7F03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а — вторая натура (Аристотель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D976-0510-45A2-9B22-A7DB8A3C8E15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бывают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A020-876E-422F-B3D4-8646D52F847A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ьн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к чтен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е выполнение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ное отношение к школьным принадлежност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класть вещи на свои ме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дорового образа жи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E3B5-B6EB-43C5-8259-8627FE3D3118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802-8977-4314-85F3-F2A64D99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1CB-A7F2-46F2-96EF-3883E5BC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C5A-65A5-480B-9BCA-C646F4DB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175-D871-4662-A87F-95A34897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AA44-B15B-4BD0-8550-E8210494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07B8-A1CB-4162-90D8-5BD95697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4AF3-4A0A-4D65-8926-E2D13E72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E146-010B-4B34-9451-ECAFCB65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EBFE-29E6-40B5-9AD6-06480519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98B8-199E-4B87-BE0F-F054E9E8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CA4A-3A68-49AC-9AD6-D646ADAC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0F5-D10A-4F8A-903A-E373BFCB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FBC3-5575-4920-A9AF-A9597193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3EC3-6913-41A2-B009-DDD32A5F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4D19-DFB3-45E6-8C21-9D21633F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E5C2-5E21-4A03-85EF-B1D3906A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FD16-7653-48D3-9CDB-E9ACE2B2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2E4-1C93-4906-A91D-319B3C45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9B5-22F7-4770-80D2-E01F5EE5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3E2-9B33-4056-9285-B47AB9DE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DDB-923F-4B0F-B47E-3DB1EC6C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268-F0B6-4405-8348-7A450AE0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BFF-4EA0-45F7-8A35-549DBA5C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010-ED01-48F0-9263-D2DB1671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5AA8-1120-4665-8F70-005FFF01854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31B1-DEDD-44FC-AF63-4B406A8C54FB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61&amp;is=0&amp;type=all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hyperlink" Target="http://www.takzdorovo.ru/privychki/glavnoe/kak-alkogol-vliyaet-na-organizm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80&amp;cf=80&amp;is=0&amp;type=all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glavnoe/kogda-gazirovka-ne-bezobidna" TargetMode="External"/><Relationship Id="rId2" Type="http://schemas.openxmlformats.org/officeDocument/2006/relationships/hyperlink" Target="http://www.takzdorovo.ru/pitanie/zhidkij-sahar" TargetMode="External"/><Relationship Id="rId3" Type="http://schemas.openxmlformats.org/officeDocument/2006/relationships/hyperlink" Target="http://www.takzdorovo.ru/pitanie/amerikanskie-vlasti-vzyalis-za-energetiki" TargetMode="External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yanye-podrostki-zabyvaut-predohranyatsya" TargetMode="Externa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180&amp;cf=187&amp;is=0&amp;type=all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0&amp;cf=1&amp;is=0&amp;type=al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go.mail.ru/frame.html?q=%F5%EE%F0%EE%F8%E8%E5%20%E8%20%E2%F0%E5%E4%ED%FB%E5%20%EF%F0%E8%E2%FB%F7%EA%E8&amp;rch=e&amp;jsa=1&amp;sf=100&amp;cf=118&amp;is=0&amp;type=all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go.mail.ru/frame.html?q=%F5%EE%F0%EE%F8%E8%E5%20%E8%20%E2%F0%E5%E4%ED%FB%E5%20%EF%F0%E8%E2%FB%F7%EA%E8&amp;rch=e&amp;jsa=1&amp;sf=60&amp;cf=63&amp;is=0&amp;type=all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go.mail.ru/frame.html?q=%F5%EE%F0%EE%F8%E8%E5%20%E8%20%E2%F0%E5%E4%ED%FB%E5%20%EF%F0%E8%E2%FB%F7%EA%E8&amp;rch=e&amp;jsa=1&amp;sf=360&amp;cf=360&amp;is=0&amp;type=all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74&amp;is=0&amp;type=all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go.mail.ru/frame.html?q=%F5%EE%F0%EE%F8%E8%E5%20%E8%20%E2%F0%E5%E4%ED%FB%E5%20%EF%F0%E8%E2%FB%F7%EA%E8&amp;rch=e&amp;jsa=1&amp;sf=420&amp;cf=433&amp;is=0&amp;type=all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go.mail.ru/frame.html?q=%F5%EE%F0%EE%F8%E8%E5%20%E8%20%E2%F0%E5%E4%ED%FB%E5%20%EF%F0%E8%E2%FB%F7%EA%E8&amp;rch=e&amp;jsa=1&amp;sf=260&amp;cf=279&amp;is=0&amp;type=all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Хорошие и плохие привычк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852640"/>
            <a:ext cx="2306880" cy="180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ascadeFoto"/>
          <p:cNvPicPr/>
          <p:nvPr/>
        </p:nvPicPr>
        <p:blipFill>
          <a:blip r:embed="rId3"/>
          <a:stretch/>
        </p:blipFill>
        <p:spPr>
          <a:xfrm>
            <a:off x="1476360" y="328464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Вредные привычки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4" descr="1236090889_Obama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797360"/>
            <a:ext cx="2011320" cy="1684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очему сохраняются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 привычки?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036880" cy="161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Курение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256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19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996920" cy="2995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лкогол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с подачи родителей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или в компании сверстников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о не стоит недооценивать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вред алкоголя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для молодого организма, даже если он пока ограничивается только пивом или баночными коктейлями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5" descr="Вред алкоголя для  молодого организма"/>
          <p:cNvPicPr/>
          <p:nvPr/>
        </p:nvPicPr>
        <p:blipFill>
          <a:blip r:embed="rId3"/>
          <a:stretch/>
        </p:blipFill>
        <p:spPr>
          <a:xfrm>
            <a:off x="3780000" y="37893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Verdana"/>
              </a:rPr>
              <a:t>Удар в мозг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5" descr="16142179_12520464_yepikmo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5229360"/>
            <a:ext cx="2005200" cy="11523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ffffff"/>
                </a:solidFill>
                <a:uFillTx/>
                <a:latin typeface="Verdana"/>
              </a:rPr>
              <a:t>Удар в живот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лкоголь приводит к жировому перерождению клеток печени и нарушению синтеза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итаминов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ферментов, белкового и углеводного обмена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 сладкие слабоалкогольные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коктейли в баночках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очень популярные в подростковой среде — настоящая гремучая смесь из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сахара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кофеин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негативно влияющий на нервную и сердечно-сосудистую системы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7596360" y="907920"/>
            <a:ext cx="1390320" cy="9334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Удар по будущем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Сексуальные контакты </a:t>
            </a:r>
            <a:r>
              <a:rPr b="0" lang="ru-RU" sz="15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без контрацепции</a:t>
            </a: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ffff"/>
                </a:solidFill>
                <a:uFillTx/>
                <a:latin typeface="Verdana"/>
              </a:rPr>
              <a:t>Все остальное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1428840" cy="100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936440" cy="1295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7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Как научиться формировать у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себя хорошие привычки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1. Составь режим дня и строго выполняй его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2. Никогда не приходи на занятия, не подготовившись к ним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3. Приучи себя доводить начатое дело до конца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9" descr="52079108_1260103944_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18900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60280"/>
            <a:ext cx="2346120" cy="183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2479680" cy="2049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Твоя жизнь…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22" descr=""/>
          <p:cNvPicPr/>
          <p:nvPr/>
        </p:nvPicPr>
        <p:blipFill>
          <a:blip r:embed="rId4"/>
          <a:stretch/>
        </p:blipFill>
        <p:spPr>
          <a:xfrm>
            <a:off x="1547640" y="4076640"/>
            <a:ext cx="2713320" cy="20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"/>
          <p:cNvPicPr/>
          <p:nvPr/>
        </p:nvPicPr>
        <p:blipFill>
          <a:blip r:embed="rId5"/>
          <a:stretch/>
        </p:blipFill>
        <p:spPr>
          <a:xfrm>
            <a:off x="3492360" y="1844640"/>
            <a:ext cx="2156040" cy="1625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"/>
          <p:cNvPicPr/>
          <p:nvPr/>
        </p:nvPicPr>
        <p:blipFill>
          <a:blip r:embed="rId6"/>
          <a:stretch/>
        </p:blipFill>
        <p:spPr>
          <a:xfrm>
            <a:off x="5651640" y="3645000"/>
            <a:ext cx="2587320" cy="2587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Что такое привычка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259920"/>
            <a:ext cx="8001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•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вычка — вторая натура (Аристотель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5" descr="pivichki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916280"/>
            <a:ext cx="1523880" cy="11905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Какие бывают привычки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305080" cy="2108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2000520" cy="3011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2800080" cy="210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2673360" cy="201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5"/>
          <a:stretch/>
        </p:blipFill>
        <p:spPr>
          <a:xfrm>
            <a:off x="3492360" y="2781360"/>
            <a:ext cx="2533680" cy="190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6"/>
          <a:stretch/>
        </p:blipFill>
        <p:spPr>
          <a:xfrm>
            <a:off x="5724360" y="4437000"/>
            <a:ext cx="2832120" cy="20019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001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юбовь к чтению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куратное выполнение домашнего задани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ережное отношение к школьным принадлежностя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режима дн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вычка класть вещи на свои мес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здорового образа жизн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2451240" cy="169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Школьные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ривычки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1863720" cy="249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666800" cy="251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re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620640"/>
            <a:ext cx="2825640" cy="21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ojiren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284640"/>
            <a:ext cx="207036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s000137_6744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03640" y="3429000"/>
            <a:ext cx="2227320" cy="1865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9"/>
          <a:stretch/>
        </p:blipFill>
        <p:spPr>
          <a:xfrm>
            <a:off x="5940360" y="4221000"/>
            <a:ext cx="273204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10"/>
          <a:stretch/>
        </p:blipFill>
        <p:spPr>
          <a:xfrm>
            <a:off x="1908000" y="5229360"/>
            <a:ext cx="952560" cy="1409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76c894cd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97000"/>
            <a:ext cx="2166840" cy="21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4044-0771%5B159079%5D(209x220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981000"/>
            <a:ext cx="2019240" cy="212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5"/>
          <a:stretch/>
        </p:blipFill>
        <p:spPr>
          <a:xfrm>
            <a:off x="971640" y="4221000"/>
            <a:ext cx="2555640" cy="185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6"/>
          <a:stretch/>
        </p:blipFill>
        <p:spPr>
          <a:xfrm>
            <a:off x="3203640" y="404640"/>
            <a:ext cx="2814480" cy="210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7"/>
          <a:stretch/>
        </p:blipFill>
        <p:spPr>
          <a:xfrm>
            <a:off x="4788000" y="3716280"/>
            <a:ext cx="2828880" cy="21319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3124080" cy="1665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76280"/>
            <a:ext cx="2432160" cy="23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3635280" y="333360"/>
            <a:ext cx="198288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5"/>
          <a:stretch/>
        </p:blipFill>
        <p:spPr>
          <a:xfrm>
            <a:off x="6084720" y="836640"/>
            <a:ext cx="2408400" cy="179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6"/>
          <a:stretch/>
        </p:blipFill>
        <p:spPr>
          <a:xfrm>
            <a:off x="5867280" y="3141720"/>
            <a:ext cx="2678400" cy="1830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2428920" cy="161928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34:28Z</dcterms:created>
  <dc:creator>User</dc:creator>
  <dc:description/>
  <dc:language>en-US</dc:language>
  <cp:lastModifiedBy>LEGION</cp:lastModifiedBy>
  <dcterms:modified xsi:type="dcterms:W3CDTF">2015-05-12T09:03:44Z</dcterms:modified>
  <cp:revision>8</cp:revision>
  <dc:subject/>
  <dc:title>Хорошие и плохие привычки</dc:title>
</cp:coreProperties>
</file>