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4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6.wmf" ContentType="image/x-wmf"/>
  <Override PartName="/ppt/media/image19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</p:sldMasterIdLst>
  <p:notesMasterIdLst>
    <p:notesMasterId r:id="rId58"/>
  </p:notes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notesMaster" Target="notesMasters/notesMaster1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dt" idx="1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ftr" idx="1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 type="sldNum" idx="1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5B86-9A90-4D87-A197-530C5D749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" Target="../slides/slide22.xml"/><Relationship Id="rId7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" Target="../slides/slide23.xml"/><Relationship Id="rId5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net196.soes.ru/" TargetMode="External"/><Relationship Id="rId2" Type="http://schemas.openxmlformats.org/officeDocument/2006/relationships/hyperlink" Target="http://www.bestreferat.ru/" TargetMode="External"/><Relationship Id="rId3" Type="http://schemas.openxmlformats.org/officeDocument/2006/relationships/hyperlink" Target="http://www.baby.com.ua/" TargetMode="External"/><Relationship Id="rId4" Type="http://schemas.openxmlformats.org/officeDocument/2006/relationships/hyperlink" Target="http://www.le-mon.ru/" TargetMode="External"/><Relationship Id="rId5" Type="http://schemas.openxmlformats.org/officeDocument/2006/relationships/hyperlink" Target="http://www.add.net.ru/" TargetMode="External"/><Relationship Id="rId6" Type="http://schemas.openxmlformats.org/officeDocument/2006/relationships/hyperlink" Target="http://www.med.resourse.ru/" TargetMode="External"/><Relationship Id="rId7" Type="http://schemas.openxmlformats.org/officeDocument/2006/relationships/hyperlink" Target="http://www.djv.ru/" TargetMode="External"/><Relationship Id="rId8" Type="http://schemas.openxmlformats.org/officeDocument/2006/relationships/slide" Target="../slides/slide24.xml"/><Relationship Id="rId9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" Target="../slides/slide5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5C44-B853-4C39-9C16-E875FE5717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диктивное поведение учащих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блемы диагностики склонности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 вредным привы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Какие бывают аддик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фармакологические (химические)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висимость от психоактивных веществ (ПА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субстанциональные –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пище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висимости говорят сами з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FBF2-C689-4D79-BF35-F125CA169B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33399"/>
                </a:solidFill>
                <a:latin typeface="Arial"/>
              </a:rPr>
              <a:t>Какие вещества, предметы или действия могут быть предметом аддикции 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ки, алкоголь, таба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артные игры(включая компьютер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е прослушивание ритмичной музы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ABB0-F0A3-4008-95CF-713A75AC1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когольная адди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Одна из форм фармакологических или химически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6089-B7E9-4E43-A5BA-5A9586591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4215"/>
                </a:solidFill>
                <a:latin typeface="Arial"/>
              </a:rPr>
              <a:t>Наркотическая аддикц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ые состояния, характеризующиеся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ческой и физ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и, настоятельно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ой потре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вторном потреблении П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ми призн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 или лекар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обладают 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го действи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ую нерв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имулируют, вы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йфорию, изменяют восприятие окружающего мир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EB94-568F-4D99-95D0-5CAA8AA24E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карственная аддик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дром, развивающийся при употреблении психотроп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; характеризуется патал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ческой потребностью в при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х веществ для того, чт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жать развития абстин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психических нарушени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я дискомфорта, возника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х при прекращении их при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при введении антагон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х веществ. К ним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медрол, феназепам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3837-52C3-44B9-A11B-C60D50B37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абако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табака - один из наиболее распространенных ви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мании, охватывающий большое количество люде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ийся поэтому бытовой наркоманией. Дымящая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арета доставляет привычному курильщику удоволь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стро ощущается потребность в курени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я пищи, во время выпивки, при отриц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ях и во время напряженной работы. При этом с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ыхаемый никотин не оказывает какого-либо положи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го действия на организм. Сигарета является больше отв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ющим фактором:переключение сознания на неё помог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двинуть неприятные мысли, прервать тяжел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курение облегчает контакт между людьми, явл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ся хорошим предлогом для знаком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B477-02BC-41E0-B3B9-3651EC7E64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кси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комания развивается в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употреблением лекар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 и веществ, не отнес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ркотическим, но также измен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щих психическое состоя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и его поведение. Диап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 с токсиколог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м очень широк – от м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нтов (аналгетики, транквил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ры, снотворные, стимуля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до технических раствор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редств бытов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6052-4A10-4F09-AAA4-0AD7A85B8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ерение лишить себя жизни, повышенный риск со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ния самоубийства. Эта форма отклоняющегося пове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я пассивного типа является способом ухода от не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ых проблем.Идея может стать навязчивой и прев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ься в аддикцию. Суициды в большей степени характ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 для высокоразвитых стран, и сегодня существует т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ция к увеличению их числа. Суицид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ременные циклы: весенне -летний пик и осенн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й спад. Количество самоубийств возрастает во в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 и снижается в среду-четверг.Чаще совершаются в во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 после 55 и до 20 лет.Соотношение между мужч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енщинами-самоубийцами примерно 4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5ABE-EF26-4C88-A4F3-0BC9E24F9D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уд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голизм, в отличие от мно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зависимостей,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одобряемой адди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самом деле трудоголик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личность с определенными психологическими проб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и.Трудоголиком может стать и лентяй, дни и н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иживающий на работе во время домашних неуря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ом психологического дискомфорта, психолог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кой травмы чаще всего бывает реально пережи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мнимый страх:боязнь неудачи, страх перед одино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ом или, напротив, боязнь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1238-9EE6-4B86-8738-276893827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ищевы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им относятся такие пс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ческие расстройства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имия (перееда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рексия (добров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пищи)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ая зависимость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 только перееда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лодание,но и завис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вкуса:от вкуса коф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лада, сливок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C10F-4090-4A33-A1AE-45C1A7F9ED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могут нами закрыться, мы ими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.П.Аста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3ADF-B638-4517-A742-F5FCFFF61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громания и компьютер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проблем соврем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новая для педагог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–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громания и  компь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ерная зависимост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ув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ьютерными играми, интерне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ми, игровыми автоматами, азартными иг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омания – увлечение или болезнь? Психиатры ут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дают – игромания лечится, но бороться с зависим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на ранней стадии.Болезнь начинается с привяз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к компьютерным играм, которая превращ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алогию.Игра – это взаимодействие. И не важно с кем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юдьми, компьютером или же с самим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495F-1B4B-4BA3-92A2-7393D0444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Проблемы компьютер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68DC-3082-4A1E-B328-87A15EE82D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амятка для родителей по использованию компьютера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играть в компьютерные игры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аждые 20-30 минут работы на компьютере необходимо делать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работать на компьютере более 1,5-2 часов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8FBD-4B99-42B3-849A-CB7B38BEB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Компьютер-мясорубка для информации. 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Компьютер-это резонатор того интеллекта,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с которым человек к нему обращ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какие именно Интернет - сайты посещает ваш реб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B5E1-1EDF-4D57-BB36-8398DF922D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0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4698-07A5-406F-888C-82D11DA027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 воспитать у ребенка положительные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Перв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научить ребенка осознавать, что без неё жизнь превращается в катастроф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Второ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Треть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0FF0-1A65-4680-AC6E-7B1C7E45A3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Четвертое правило.</a:t>
            </a:r>
            <a:r>
              <a:rPr b="0" lang="ru-RU" sz="1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Пят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E823-807F-40D2-B51C-FDC31E67BC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Желаем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 преодолении вредных привы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зависимостей ( аддикци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воспитании положи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мысл притягивает, комплекс толкает».(Франк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-это не притяжение, это тол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кание изнутри собственным страхом подростк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м перед реальностью.Помогите ребен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ься от своих страх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2DBE-B9BF-4CE4-86EC-2AD159CF0F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Что такое привы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1ED-F11E-4951-AE9E-09EDDA9230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Юм Давид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Э.А.Севрус (Ворохов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B654-E735-452A-9530-DC68D5F7A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Так ли безобидны детские «безобидные»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о лжи?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едничество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сивость?                     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вчивость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в азартные игры?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цельное гуляние?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мобильными телефо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жание героям фильм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японскими мультик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эротическим рисункам и фильм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92A4-3381-467A-B741-C0FEB1FB12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диктивное поведени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уть аддиктивного поведения заключ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ли видах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F181-4BE6-469C-AE31-2E3FA10E9B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99"/>
                </a:solidFill>
                <a:latin typeface="Arial"/>
              </a:rPr>
              <a:t>Что происходит с психикой человека, склонного к аддикц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EB83-917B-4D7A-8CB6-4FDD331C6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то склонен к аддикция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FD46-9DE7-49D9-8B96-564380936F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С чем связано аддиктивное        по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9297-510C-48B9-860B-7B41C04AA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B07D-BE63-426B-B3FF-75C3BF0E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47EC-1397-42C5-B6E7-A35BDE1C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FE4EC-2167-4A30-B2C9-9D4D3AF4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B47E5-9927-4113-8F89-2667907B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3D24C1-4051-40E3-BA27-F4653F65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CFCB2-953E-4133-BDEF-4BD84041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0970F-9A34-4C04-B199-9C9FCC50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5D742-2A81-4F87-9695-26F5A752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F3651-4E64-4524-81C5-DABC5401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85B9C-58BA-4731-8FC4-F68985CB4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CBC3E-4BB8-46C9-9CEE-D3B2856B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0B78B-896D-49C8-912A-AF47C3D47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BE4-EA4A-4708-85DE-2A1AA848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0727F-B830-4545-8FF2-E5141273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77CC7-A48C-4D5F-90D7-FC4D62C4B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3C26E-2C91-414A-9F4C-B167BC6A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6FF1D-1B42-4C55-AF4E-8530278E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C76A0-58AA-40F7-A504-F4EEE308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0F77E-D25A-44DC-8BC3-BFB1C30A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DDDAF-3CCC-4206-BEB4-CE4DFA20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732C4-C021-4696-BD2A-96EE4C1E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0B111-A357-4CA5-A172-B78C2041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ABDFA-2C5D-4103-805A-5540C9F3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AF7-7A59-4C74-B3ED-0690F75C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A82C2-E3E2-4D6B-A284-716087E8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59469-7072-42CA-A82A-A220B023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B7F32-EEBC-473E-A692-B0465D9F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688CF-87A5-4713-85B3-4B2BEF77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9C63A-0763-42F4-81ED-3524A908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A6360F-568A-4A5D-8F17-48D427AA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C3A8F-42A0-4DEC-80D9-BB8FCD03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56BEB-42D1-45A2-A293-3935F47C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DD929-0BBB-4217-974A-903FB5B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23847-9673-4052-BEA4-BF47CDB8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CD58-08E1-48AE-9658-C2B44348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F69F5-83A3-4FC9-92F6-90D49E29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2C806-C387-4DE8-80F7-B1162BF0D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02DD3-23C3-4DDA-AA46-17CB2538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4041F-8695-454C-9DEE-198833F2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C4C7D-6456-45D2-A618-38FB4076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20A76-0B9C-41F2-999E-FE6B8AD8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C7B2F-2E37-4A77-B48C-4AD5B288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C1F76-6ED1-4CD8-8374-93DA3026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AA9992-20B9-4E98-97B1-FC24E706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352C9-2DEB-4EFE-838E-23F37D8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E2EC-4C99-4E00-946F-6547031C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5C6F8-9041-4708-8F23-83B4D2F9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55E66-33B3-4B1D-924C-75E26C2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CFC20-ABF6-4E0C-AADD-A7E0DC8C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EF92C-EECC-48C9-8558-8404458B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7ACD7-9932-45A2-9134-D889CC81C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F5830-2E19-47B9-96A7-9B6FC7E2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9D9F4-4DA7-4DF8-970E-F9899D5C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05AE4-7D59-4A0F-90E5-F2FB8560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93A87-836C-40B2-903D-DE88B5D0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93B7F-D19F-4E81-9C3F-4249B59A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6F4A-5F94-4D3B-8EA3-61C2F902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5FD4B-CC1D-4FF0-9782-2D396855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3D588-D968-46F9-8B01-1B20676D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BF26E-42B9-41CA-B5A7-789D160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A2FDB0-5C34-4097-B0AA-A5BDD848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7E36F-2610-431F-BFE8-96D1CB18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C0C64-A2A7-472D-BEA3-886893F4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14453-1D86-4C15-8640-A60ED9CD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4D4368-3FF7-476D-97FD-97649CED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E3A95-2397-4756-9A4D-B7BBB838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11AEE-7DE9-4943-8EBD-A048A3D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4B27-7175-4B67-B6B8-B67B11C3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B09CE-438C-4FCF-A5EE-4B62DF74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60B728-3DDC-4A5C-BF84-B9DBB182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91215-97CC-41B8-8CC7-F38CB348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4B5D7-F25F-4757-BC2C-76C8F996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81F82-6686-447A-B9B1-148CE0B8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B2AD6-1557-48FE-87AE-9A722F7C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0DE119-FF99-4F34-B6EB-2075C9F7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41CBF-4D9C-42A4-9408-C13D1159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EB2EF-42F5-48B6-BBDA-563A2000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E09B9-AE12-46FB-ABBB-932BDB0C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8A56-47E3-45B5-AC81-12D0E8BB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978FE0-C81F-4591-B60F-E07372E1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4C0AD-59F6-4825-B998-6CE069A5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38922C-13F5-45C2-97A6-83BB949D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37F0D-4121-4702-B6AA-A8E0F3F5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500A57-9FBE-40A8-81AD-9198FA0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9C8AE-86C5-451A-87CC-6979340B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E6D165-3138-4049-ACAB-B1510FE0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7E680-A0CB-4206-A8B8-E6B64C7A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847791-7C3D-44A9-956C-54202B5D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D2B60-22CE-4CAC-A076-69995F1A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A8BC-576D-470A-8D7A-7C7FF679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6E0C2-BB82-494C-A6D3-AC3DAD61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2E9D36-89D8-462B-81AA-FC2428D3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F635BA-30AD-4E83-A1BD-E0BD327F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40E8D2-79D0-4C10-9F90-06B9D005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F8903-FA85-4D0F-B255-B6FA102D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6C0F5D-EBFA-4A88-9451-A6461F1E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3F813D-6C13-4A7E-B1BB-3992A45F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3E0E9-4B10-4B8E-9AF5-5F81A5A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A226C9-FA5A-4058-8E53-AB4B7C38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BDBFE-1BAD-4E7C-9870-9F51EE91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6C73-68B1-4346-B3F1-C5C19A7A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9F7DB4-0F69-4F76-8CC9-336FE449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C15B3-AFEF-4810-A055-70628CA3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0BEA6-271B-4FB4-AD5B-565E1156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0B8FC-05A4-41EA-A45A-6ADDCE6A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E2AD5D-9AF1-48ED-9CE7-A5261479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F80F76-919C-448A-91C5-9F6572FE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F2520-8D25-4BAF-BB7F-E40E61AF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388C4-385F-4171-91CD-63822DB5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CD68B2-49CF-45D7-BEF4-1EFB6BD0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AA8AA0-3AE2-4D6E-8AAB-C5EA5AF9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E7A-0ADE-48CE-904A-71091B2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EFBA-EEED-4028-BE91-A75996B2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746DA-2BCE-410E-8501-514C28B9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3B57C-4E45-47A8-B220-B7EAD2B3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067717-9836-4F2C-80EC-AC90057E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AD193-6640-42E7-9DE3-35277358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325E44-8E80-414F-B1D1-3BB14193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55683-2773-418C-9E9A-58E07FA2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E804A-9A9C-44DF-BD71-DB045350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89D17C-F855-4720-A9ED-B542993F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1EB69-445E-4CB8-84A7-A099EE77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328015-C9C9-438A-A60C-CF8147B7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43F0-FB6C-4B32-9365-C4905277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2EFCDE-FEAC-4806-BF9E-079ED30B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4AA84-2E2F-4E24-9643-D13BD38B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A5F0A-4173-4DB8-B4EA-A0ED426A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327FED-F615-46EF-9A24-FC4094FA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D9C587-C741-4B8E-B611-683EF740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8932DF-04CB-4B67-A33B-C9A777D6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B855C-C761-477D-82BC-8451D4CE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4A360-86C1-4D03-B751-CD8212C3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21D266-8386-4E60-A5BE-06CF2FF6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259F0F-4F68-45C0-A591-1F2A58E9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29FA-63BB-46B7-AD17-37ED80A0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B35FA9-A6CE-4189-AEDC-EB7D434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FC036-8B63-4A11-965F-C20BF94E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D16A27-845F-4C0A-8145-70C44A76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1C6560-00A1-4988-AC74-4DE14700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B31A9-C08F-4818-B8FC-F441AFC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1B3C54-C333-46ED-BC20-79B7B5F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5E66BC-2C21-40A9-B1BE-81BE623C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0A0556-1A1F-4B4A-9698-08E102B4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DFA16-6BBE-4E5A-8584-971B80E8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069DE9-124B-4BF8-B783-50C8BDEDE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DBDD-9AD7-4FBD-8326-74996F9C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9E14BA-A21F-4077-B23A-328F2CC5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25AAA-E472-43C2-8D10-63ED2CC6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4318E-0CCB-44CE-A479-2890CDC8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714735-F729-418F-B0A9-EC0957CD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72326-17F9-46FD-A0B5-4F128C47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80BE8-201B-4A32-938E-B101CCDE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92C638-AD35-4942-9ED2-48B2F44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B7E438-4D0B-4589-A100-E69389DE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8A373A-540D-4A38-BC42-51240B02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148E4-2EB8-4CA1-B245-CD081339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E318-8314-4EDC-8885-47CCD5262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5CAFB7-8FC4-498D-BCAF-95CEABEC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59E99-12E1-4CBC-BF91-28B86DDF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08C98D-5D60-427D-BBCA-E312237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1BE835-06E1-4DC1-ABCB-5283FECF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E81CB1-0B9F-40B9-B953-374E5343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C01BE7-2EC8-40E5-8B94-03459F2E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2239C5-1EA5-4CC5-93CC-D8E28F1C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FB4CC-68A7-451C-80C0-B58C33D7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ABAC37-BE6A-4CEC-8AEC-EDFE0713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6131F-C979-4420-AAEE-B48EE586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2CBC-44B6-4184-9062-AEE12082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19A78D-9DFC-4178-A228-2272768B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D72408-DA91-4C70-B6A8-626F1365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1DAC13-C347-4133-B1EB-817A132B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B23A5F-F7FD-42D9-AE8B-5E34ABF1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087282-A44B-41FF-B727-60782165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46481-A43D-4B92-B2B1-D3D860AC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1D29A8-52B5-4F0A-BB4C-B147C584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AC125F-AA04-4EDE-9536-EF234BEC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2BCF79-A992-4B62-A440-B8072E03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2F5C37-493F-44B0-A40A-3A1FFAAB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5C4BD-8A4C-418A-8565-DC343326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CE2772-768B-4AF1-8C72-A8C014DB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EAC3CB-DD94-4D42-BA98-D1123001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C1E52F-A2FB-49FA-BDB2-EBBFB3CC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C03B50-202F-4ECE-8F3A-6B970662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87BA3B-21C3-4330-BE7A-431EF603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CFEF90-D107-4976-8BCA-3248F3B2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E224DB-07F5-4C49-800E-816D5760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311151-5968-4D5F-88F3-1B169EB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5BC3FB-21B6-430E-9942-0F45A812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DF4C9A-FD59-4DF6-A107-ECB6041C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54557-1FDF-4725-9727-55B9809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AB289C-C29A-448E-B3DD-E78DEEA4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C7D161-0C24-4C20-BBD7-6037BB79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3D0344-6A97-4BCA-A1B3-09903674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DD38B5-298C-4D5A-933C-676F886E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5E8337-B86E-4E36-8C42-EBC637D5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F295DE-ACD5-4E4E-8439-AAFAF265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F0FCE6-6DAA-418F-9324-2F5FB540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D6F670-DB3C-4D43-8225-E31850616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3613D4-4551-41F0-987A-F72035C3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36173E-9766-494C-8C30-F512392E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CBB2F-8864-425F-9E4C-4F629F57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BDF0CB-0FC1-46E0-BD0F-7279966D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24081B-461E-4BCC-B1E9-B5A81EBA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18094E-E0AA-493F-ADDE-C74C24EE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D3F47B-9ECB-4B0B-974E-19352B47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3C1B7E-1141-4B5C-93B4-4DC27B43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444E52-A737-455D-B655-0B77CC65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5550F9-DFB2-4F3B-B3B6-E817F77C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00C54F-4101-4906-9C36-C56341B6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57295B-87D7-4B44-964A-1294E15B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CA1F82-6B45-4B04-8167-7807D67B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456F7-1D29-40FA-A724-035708F6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261F73-8267-47CD-BD79-9ECB634E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6F3D2E-19AB-4E79-8F46-6D3BFA1E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38EE58-8B4E-47A1-B8DB-8A2D641D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EC81DF-3D11-49C3-BD44-A6F72565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C03D96-28A4-4397-86F3-013FADFC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D4415B-5465-4476-B0D7-66BB9EA1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78FD54-1BBD-4081-9EF4-5F7DC306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94CD5D-654C-4A26-B7DE-6B55BFDE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787CB5-9443-4F26-A4F8-253F1167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6AF3FF5-B750-4788-9AA9-BFAB7CE5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3E2-D6C4-4950-AF5E-0D683068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DA4AB-73C5-4BF6-998C-FC7859AA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294682-B644-433E-8B81-69AEFC39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A363CD-59EF-4F7A-BAC9-3738C24D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493054B-ADA9-4D47-8E75-BA7FE052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780A7D-BF87-40B3-8868-7B9BA757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E2FE8E-E6FE-446A-A1E8-64D7739D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76CD3D-6811-47E9-9701-77A24007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948904-3427-46D4-904B-BA8C4700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0D15DC-2268-4B2B-8CE2-CDFAA6DE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318FC7-28F6-4E30-9E39-3F5EE265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FC3D83-8645-45C9-B2C4-A59119B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8D45-BB93-4B4E-A8BA-EE79AFB0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2595DD-C8AE-43F8-A7C8-482847D6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13818F-4030-41F0-9E85-22BB5590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6A4511-BFB2-4F6C-ACBD-1F7A69DC3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836F0A-4A54-4F5E-99AB-64850F20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14CBFC-F6C8-4571-A5BC-BDE528F6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2D2C77-6B52-4837-8763-11E2728D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CABBD5-CCB0-4FB1-A482-81346637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CEF4C9-F859-4A69-B4A2-64084269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B01618-CA58-492C-8DF4-DC523996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5D3265-DFB2-4FEE-B5B6-577648B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9021B-02B2-4FC3-92F1-DE2CCCD4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0447A2-0679-4F6B-B540-04B44676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B2299A-78C2-4957-844D-C8889181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7F3E0D-E26B-4249-B912-E796AE50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3BF7A1-CC71-408B-958F-260C07D1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8CD1FB-FB21-483C-AB7D-54617DC4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AB168E-2278-4BEB-866D-3499E5C9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5EA671-B98A-4150-A201-21A40E95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BD4B63-D0B3-4C4E-BA07-6867133F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404B9D-2393-41B8-8F72-32DF0813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F26298-791D-44B4-B08B-5412ABD6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B91AA-8BD4-4A68-B78B-03E25FF1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0745BA-C63A-4E3D-B905-F7AC180A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0F77B4-5804-4058-90F2-79A2EE48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DB9FA3-5BC8-415F-BB48-A95F81D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F7CF64-3357-4925-94F7-BDBEDA92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9D7138-3F83-42B5-AB96-3BEBDE6B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F56E43-ADCA-42F5-96C6-2B53B93B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819611-42C4-44FF-A40F-507810B2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6346D4-5ECF-4715-A161-23EF568F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58ECB8-97F0-41D8-B3D3-075AC3E1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0AD7CC-7416-4B14-9E2F-3BD9DC5C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1B5E-916F-4AD1-B1EF-02B94372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17C3CF-207D-4B34-8C46-07178CF1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295678-D28E-4B78-98CE-AA86E899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E009503-AD26-4234-A0CD-6B2A9A3E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611D75-973B-42D0-98FA-6201BACE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C9AED9-917D-4C43-BE25-EA50AC29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907A83-3022-46B4-A907-CD0BE1B8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AEC3F0-E399-4F20-AB12-FB0ED380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9D36F2-D9B8-455D-B451-BAA63150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667106-A08A-43ED-B559-2E09B065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0FB51F-E55A-448D-A1CA-E7DCF449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46B54-D460-4CD5-AFCC-97392709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C6597F-24D3-4448-A849-79CFC806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1C14BF-DF65-4A61-8B4D-2D6DAB89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E592BD-B6D7-45DE-9839-83C8262D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9AA68B0-771C-4AB3-9269-FB359923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DDA03A-3626-4BE9-B621-1892B58F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9AD2D1-ECD0-4BC5-8436-952B3833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2DF8DC-BA92-4918-A8E7-7D8A5628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5E0467-6397-40C4-BD3C-E9A22935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96162C-174E-451F-A318-84DD3808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1BB1E8-DAD2-4644-A9F0-01ACF9C34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C005-8199-4273-8F07-F4DA5517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08AA751-8B51-4560-BF85-CB65A21C3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0F15EA-0D69-41CE-BC82-5A8706F3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54D284-C137-4C2C-87DF-55665E29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EBCA25F-C293-4049-B00B-D18B1F6A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712B54-1475-466E-B5EF-B9D6467E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270E15-BB37-4450-9AAD-29D75879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3B80B9-AAC2-4F32-BFF5-76092840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0D22A9-D466-441C-A004-F27E3518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33597C-678A-4269-8EC3-83D59B98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674DB6-CB8A-48F8-9E04-317FAD82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EF51F-FFBD-405E-84CE-5CB4BB5A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C6EF7D-6479-4EFE-9D14-3F775C75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E4A0BB-405C-49FE-8CF9-7A77638F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0E21FA4-D03E-4C9F-A48B-54550565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4FC9BF-A851-41EA-804C-6B8FCC47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DCA4513-7B37-4847-B161-AD91C013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D286EB-7CD9-4D1B-95D0-9A5B3B64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EC8C40-F7A2-41CA-9A48-BAF637DA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2141D7-17BA-4DD4-8CDE-B769AD57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593449-0A61-4A35-AC70-0A15FF74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D48E8A-1299-4B16-89EF-FA043B3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7A733-E422-47FC-9EE6-6EA02886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BC0E7F-3CD6-4924-BACF-AA2509EC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67B7DB-9883-44C8-9D71-20B23768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DA3C8C-68B4-478A-855F-E935F37F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EA4B2B-F8DA-4BB2-8379-7D68C698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50175A-C438-4509-8365-AA714359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B36AE4-B638-4F07-9BB7-8B76FE52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ABEB0D-1A69-4684-B27C-3F695E9A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0605C2-23DC-4876-9DE8-100EE068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ED6F07D-16C3-434C-B205-6D9E39E2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D10B79-FB90-4C76-8F1E-FFC27E30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8D5E2-C373-4282-BD7E-FBCA37FBC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165707-FB02-4FA6-BBC1-0962E99A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4A3F6F-3271-4297-9C22-A9AE93A1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1157FC-37FD-47DE-82D1-93C369E0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7E96EA-B19A-4616-A5B7-6A038812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DBC097-B61C-45E7-A9BC-5A9EC2A2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6D6BA7-CB61-47E4-8E3B-2986FECD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23BF09-EDE5-4EFD-97ED-CB595CAB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94D3D9-DB3E-48A6-9E5A-8CCBAA5D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D91874-0456-4F82-880E-234B98E0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35CE927-3760-42AB-8267-F8694929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D5F-6D9A-4098-BF1B-0FAEE913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C6B52-4D00-4134-B92B-6C5D47F9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B372F2-FDEC-4482-AEEA-F5510EBB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E833A1-BC58-430B-BCBC-B8BA2315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95B74C-2B57-4DDE-B729-E5E72F6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4C5602-9D5D-4F40-A2E4-1D2FA180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06DA51-5101-4D93-9279-39587F7C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76FEB2-3204-4F29-896B-3DEBFFCD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E044A7-4756-4BFE-A702-BB9E380F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570E90-36B9-4BB7-9631-6FE6E6EA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45ADB9-DBBA-4945-8ACD-9787FB3D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DE78FA-6FA3-41C7-8E5F-C38DC2E6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80D5-6014-4251-9507-B08AE255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6B1EC3-12D4-46FA-A234-AB9270F5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FD69BD-34BF-4CAB-8C1F-B86D1A20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92C5FED-9F08-4534-8711-B236F2C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06DF07-8D05-4996-83D5-75ADA5B8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0941C7-EEBD-424B-9049-33030761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89D6A5-94E6-407D-A8C6-0813EE74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9B24FC-9306-4C9A-BCA9-261FA552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4294AF-0B5C-4DBB-A62C-F2B42D80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4C23C0-96A5-4D41-A58A-E86C23F1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BA8F8A2-F2BE-49A1-8CB9-D3C43906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1E63-9BCD-4D22-94E6-7CD21065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08731FD-62DE-46AD-9181-310A6B54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153E50-CD1D-49CF-A0A7-2BDE52BC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FF6CA3-0F2D-4FDE-97F7-ADA4A18C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0DA6E4F-1DEB-4D21-A488-7E3F1F6A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12F34F-7472-4CCB-ADE8-7ABD2873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FA915F-5B3D-46F6-BCD7-67E5818E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470DEA-05DA-41DE-B15A-5FF7B7BD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046225-943F-408D-BEED-8CE4F06D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3255B8-DE2C-4FEB-846B-C0F89CBD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D43AE3-8AEF-41C4-A87B-6EB5E80A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9F778-2320-4ACD-A098-3335F2D2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13A3A9-35ED-4BB4-9FED-E3180DAC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F27BB4-0C4A-49AD-ADBF-7AC23D0FF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4C49A9-9092-4CF6-BF09-2E08F76F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AF07EA-862F-43BA-B5D9-73FD35A7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BC89CD-2F2E-47CF-8183-9C2C17BB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71BB4F-972A-4D6C-A507-9ECDD99A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8B87561-CBF2-47FA-9AD2-90C4C623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861752-7CEB-4A2A-8358-64588AB5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4089CA-720E-45D8-B204-C8976F52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970582-9A87-4524-871E-6AE7021B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C2B09-E02D-49BC-A55E-AA835111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453967-3021-49CE-9675-916ACB6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B4F660A-210E-4C69-8C64-19383475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C7603B-8704-4DBC-B067-C4E6E9D9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B4A2BAD-96A1-44DA-91C9-4FFC613B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23BC57-BD3A-46D6-A58F-D8408E9F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FA3BDCB-BACB-4CC4-A66C-6ED5D346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4FD9D9E-9D16-4733-AD2D-02BFD3F7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F10315-5B6D-46F9-A92E-F6D11DD7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7FE98F-EF22-4125-A801-F27DB252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1EF4C8-BB54-4FE6-809C-CC38E2B9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9FE7-52EE-45DF-88C6-49E04586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D4067E-4D09-447F-9828-4244A8BC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3E7C652-B081-4356-BE3D-26A4DCC1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EA35EAD-E9A2-4587-B8B3-AB6355EF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4180B5-42F5-4D5B-9021-C7D343C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0C900F-D3FA-43ED-8AC9-59BE4610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0AAA02-10D7-449C-B7D6-B7B17406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9609B01-2AF9-4E4E-A4F4-50246A93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9ABE87-FE8D-4315-8D29-BD57E186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632588A-885A-455A-927E-8809CA96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FCA4AC-62B9-430F-8AE1-57356D99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A7BE-8EB0-4C7F-9275-B608CEBA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9FB9A7E-1704-472F-90CE-D37440DB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931BE6-993F-41CD-8E80-F653E415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ABC0DD-ED5D-4BD6-A3A4-15E9431B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66820B-5701-456D-A42B-95D30D9D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E86A49-34AF-4606-9068-602ADA92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E52122-E73B-4669-AF0D-F87A4273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6A75C4-9B6F-42CE-81FE-B0259780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D54AA17-70F4-47F1-ACE3-BC8DAA09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A46814-CE9C-4DC8-9A2B-4AFE153D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6539F1-40E1-47BC-8EB5-0AFBF960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4308-84AE-406E-BA10-AA26B691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2A3C84-D6D3-4F1A-BC87-0010A831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653E7F-092E-4CE4-9A87-EEA9B492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F2C0893-381C-4615-90E9-D8730999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A0E510F-D920-4C17-A91D-7F95ADD2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02390AA-332B-4C03-A63A-1FE37127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7E7BF9-F2FD-4C30-9487-70DA40C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1F6C1EE-7D36-4A0C-A0E1-7E835FE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9CF815-323D-4239-96F8-73D54F0D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7390C4-FA19-4C3F-B30C-01A59A29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0EC1348-9CDF-4277-B491-DF42DFD4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194B2-3C97-4B33-B37C-B386AB51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C041F00-B754-4BA3-9002-5BE28ED0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3C67A8A-71C0-4AA2-91E3-415083A8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719A49-B2AE-4DE5-A6AD-65A07B5A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05F2CFD-26D0-4AE5-9D9D-E9F81244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6F68E6-C41E-4408-8D6A-A45818D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5465BB-C7BF-40FE-B291-7BB4EF49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2868DEA-66BC-4D1E-93FE-50AB53F2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32B62D-680A-48E3-AFE6-0A8CE6ED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B40DEF-AB5D-46ED-B495-9EFE963F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B5FCEA-4EE0-4A4C-83A5-397586EB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2BE5C-B36E-430C-8DAB-4EC133A2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5110AC3-58A1-4C76-8EE8-F03A7611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7AA4E59-6A47-4B25-8D00-58541E13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4D36C8E-702D-415C-BDF0-BA7A20AD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9BE38B-74B0-4499-B561-8C2CAA00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76164F-19D1-499D-AB84-D9CFF05C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A1F260-227C-4EEC-B11F-F2DFD865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B707716-4889-4802-B8B1-57B31327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B4CF4B9-2366-46D8-842F-667A06CD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A363612-2D45-4F4D-BBC1-B850357D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DFAAD8F-BDC8-4B33-8544-CE8A082A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BBB-B3FB-4FB3-99F1-87BC0AFC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AA5AA-808A-476B-A14F-93BF77F5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81CB82-636F-4430-9107-7EF0EBB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3721B9B-8605-4A53-95B6-5082FA98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7367FA-F474-493D-9CA6-F7D97381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961D4F1-7231-496F-B5F8-2210D9C6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3B04A99-8A4E-4CAF-B637-DDF3A9AF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C152B4-27AB-4F49-A959-43AAA50A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E198610-4F13-4496-9DFA-EC498324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0155E29-9230-4ABB-A82A-7BED6B7A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6DA4BE-FD5E-4F38-A4FD-13253F1D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4FD93E6-DB68-44CD-9343-C33D1563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23600-041D-402C-8C66-E4256770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6C79842-04A5-4D63-862E-F0CD6EEB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947E796-3161-41A2-8525-9E8B6CC4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F550867-A795-4615-B972-60BC5657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8D87724-98B2-489E-B577-8C756F47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5FD4CA6-470E-496A-8361-9D0A5BE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3BAA314-3940-4BE8-95D0-A176F068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39D6FFC-CEFA-4049-A41C-CB95B967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ADC86D1-E1FB-47DF-8432-F242D7C0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759BF4B-1BEE-4F45-870A-96EF8BE6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8100D3F-958F-431C-BBA4-F88D8410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93105-8082-4E90-B3FE-20C0B3AE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33C686E-E668-414A-BD0F-848AA5EC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F7BEAFD-2192-4424-88D8-1AEC0CED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09611FA-B4B9-4824-A362-A9246CA8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B188897-8B10-4584-A568-2919143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C8992C6-6DCD-480C-B633-7B6ED67B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FD5BA7-A9E6-4005-8CE1-D70925946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9CEA967-4D59-4D5C-B5AC-CCB387C3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EB4987E-D792-45A7-9EF9-E36B870FF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DE5405F-BFE9-43D8-A01C-6A1AE61C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EE83888-323F-4B6B-95A3-05298BFF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44B8C-45BB-4F5D-8BFF-025C4933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F798BF9-8608-4C36-AEAF-E017D834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72E36B3-96F9-4951-B17C-CB1737E9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46319C-8EDF-4DC3-9600-DADA409E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040D644-6F5B-4B52-94CF-0EC8802C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3EA4474-3554-4391-B6E8-910C071D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BE11F9-97B3-4575-B577-F8510184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506BC23-89B5-4FC9-BDEB-C63760B7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9B5C9A7-9F55-48C4-9C6F-DD8473AD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D512A45-50C3-4703-9130-71115149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667D84-E99A-4FFD-8110-1F0BC896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9F691-CBCF-4500-9F54-53BAD084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85F0CC0-2661-4657-A9AC-0460913F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CD09478-3DA1-436A-BC0D-01E00A79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0537D5-51E7-4881-815C-B7C2AFC8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38BB85F-A98A-4914-9770-30E6C918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FE60EEF-C863-41CA-927E-28078950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75429BC-77B3-4CF3-8084-54AA4BC4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2901AB8-C467-4836-BB84-5244ED8F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A0097DE-9E75-42C8-A331-B0682017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FC9AC7D-C426-4114-A52F-B07F5EF6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043AD8F-8198-419E-BAFB-A6DDD266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6A1F5-117E-4AFF-98FB-31F74312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EFE88F-8DDE-4E96-8E27-8CA13878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17E960-2D3F-44BF-9F02-4CDB9408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DC9C28B-0762-4CF5-AC87-FDAF5387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AD410AA-2210-4117-81C1-40617FD6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CD2ABA-230D-45D6-8879-0EBB2D2B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BC908A-EF58-4F20-A29F-5E533D55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E3EEEBE-3EB0-45A3-8DC3-835C3991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E3CF1D-8B4A-482F-AA7F-BEC1A9A9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390F666-1702-4DA5-8573-0D9FBBC4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204072D-ED50-4FED-B97D-4E0F62F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D4330-7939-4378-919E-5034682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295FB5-B9F8-4094-AB91-FE17F617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048A5F6-84B7-4C26-86B2-02CB8319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F6AC0F5-6D75-41D6-B60D-E950D45F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30650B-9D28-4666-A15A-736F68A2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4F5BFC0-67D4-4FAE-9E36-18A3C447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D15393-3568-4268-8B32-32F28DEA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344F483-DDB1-4C86-B468-C01CFB49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B6DC043-CB62-4D6B-85F4-B9C00744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46B4011-8D78-43AA-A1DE-C3F8B4E8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1723A3B-B778-49A7-B53E-C8F588DA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8E5AB-B442-4A1E-A59F-8BCBB62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F837448-AD8D-433F-84DA-9EE0893F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74062A8-B17D-492B-A2F0-97884783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77DE75-E3AA-4793-B218-29B2582D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E3F5F92-A6A5-4390-9EC3-EDEBAD18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5149AA-BE7E-4A1D-BC75-B5833FDA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66E871-FB21-45EF-9AD1-9E5A9734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0DF9DD-4973-4E09-8BBF-166F1F9F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2973E65-7791-4BB0-97F9-AA1E0730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7AF6EE9-A07E-4D5E-8926-CFF87787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4AC288E-781D-4906-A814-90F9F7FC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FD2C8-B507-49C3-844F-6B92B365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97E71E-111A-44ED-BEF2-2600A7A1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7EB3844-D09C-43E8-A7A1-40035DD1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ED6E47A-C719-415D-BA99-5FD780E9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9701C2-121B-4633-A066-9F58BF80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6F93BE2-7062-444F-947D-96EBA59A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B8E037-248E-4207-AA7F-03A2868A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D7CFE7-8C40-45EE-9B50-155A6A01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CE44B27-C253-478E-BE04-50643388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F8A7030-FEAE-4737-B2C7-3985A12A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978CEA8-CAE1-47A6-8BF5-FBBA311A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73FD8-0177-4FFD-8359-0180C47F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33C26D7-ED24-42E8-8ECB-197BECA3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EB4957D-2333-43B2-A2CC-5EC765A7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70F44A8-3952-4948-BCFD-21AEF63F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468F24-A3E8-4B96-84A9-EAD30EDC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5C959B5-3DA6-4422-9410-913C111F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46333F7-0389-44B5-8BB9-C592BF07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C0D6E67-F3A1-434B-B8C2-FAFC04A0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448F146-1F2C-4380-B27F-B7E9221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DB64D63-C2BE-4BE0-A412-99AC7A7D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603383B-130C-4865-925F-44C057E6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577-B84A-43DF-9B69-DB83A3D0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4A859-912B-426F-B8C4-18B91F99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B6F5026-61E7-42BF-90E0-4896E86F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24CA425-7067-4D61-BA6E-6EB807C6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DC92D19-73BB-405E-92E4-76682A4B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110A25E-8D4F-444F-A911-79717388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EFB5DAB-04ED-4E64-B27C-3AA24CD8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FFF150E-9D66-44FA-A658-B9522306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97ECD6-DBBB-4F42-BEAB-B5987278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11AB1CE-8642-4F57-B01F-1F72D5E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AE71BC9-A9A3-4AE2-9858-007BDA23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767AC57-FE11-47B0-A3FD-FE85449D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55C7-A0EA-4D23-992F-98F657B0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55E3A36-2623-4F1A-97D8-B2DC45E1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59CBDE5-F27E-4A5A-9A6E-F3245030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B53D09A-1082-4F59-A657-1E6EFA115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CED27BB-2752-459A-BB80-A725DCC7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7ED9C08-2E81-4994-8C3D-B3A15C04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1E8EF36-9065-420E-B9D2-F54F4298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EF93840-1E20-4BBB-97DA-5446D238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9A3096-A1C1-43B0-9A77-ACDFF768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5DAA60F-EC77-4413-A781-4B73CA78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D72A4C4-6A53-4DBB-B208-3329EFF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741CC-6AF3-4802-8ACB-069B10AF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EFC1FE4-B523-4482-A84A-F8DFDEB7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4915217-0865-4FDA-9F51-74322913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CD1D9AE-A082-48CB-BCB3-E05C4CF3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BE57D6D-1346-4F2E-8B90-B58D4FB5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AE0344C-ECF5-40D9-825D-5DD8C9C4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D353D97-ABDC-4344-85A5-310BA58C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18A1FCE-6024-41F8-BF79-7C1E67CC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862438-51C2-4D12-AAF7-465A4411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C866DB2-E364-42CC-A4DC-9B97ECCC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B5D4838-C541-42DD-99A8-64B3CEC0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4D53-DA49-4C86-93B9-F4CF6A17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5B20279-98E9-4EEC-B5E8-740E9832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FB11B63-D6F9-4DA3-9DC8-EFDCB1E4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0F152B4-DCB5-4F23-A9B2-11F9AF6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4528BB-CD2C-49DB-8E65-DA66820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B7D8C8-E39A-4BEC-BB91-A4B031CD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8B956E-D221-4555-8A00-F2224C53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BFEE97-1994-41EF-B1A8-BA0EAAAF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8056CC9-0192-4F13-A7A3-CD703DF2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E04885F-EBED-4642-8781-41F69E75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F04C098-B6FD-4662-9715-4B020ECC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C1457-8789-4D24-A13F-E9275AE8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2651894-5A12-4092-8F54-80FB30E0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745B190-5420-4A56-B0D1-5910232A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8BCD3F5-CD89-4A3D-9856-C71E8E8A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A75889E-0809-4ED9-9B28-DF37345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38C3F2D-872E-4886-80F4-CAB25DEE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51F67E8-3C2E-47E7-B4A3-6E97428F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D2165A49-6916-49E9-9579-081965A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E0C585F-2996-4827-A165-72B89628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622ED68-FA60-4FB3-BD24-B5B915E9B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3026DCD-500E-4047-958B-F7574C9F4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74FA4-BE33-4449-9944-996DCA33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51FBA10-C177-4711-AFAD-6395C2CF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710B265-8CBB-45DF-9629-3C21D834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5740DD7-0001-47F2-A62C-CF17838C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3A9CE3A-F2B2-4BE5-BACA-0CA5F812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CE18570-A014-422A-88E9-35873D6B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7E355C0-F61B-4EDE-BD8B-E0695605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7D83033-CF19-495A-BAC4-EFDE3863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CF1B90B-607E-4DCA-A3D2-ABC2372C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5CC9828-F26E-49C1-9A38-BF009E54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89AC9D1-78BE-4877-8036-7E82E39C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0718D-5784-45E3-A6AB-EA582D90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F988196-EB87-4628-9107-2F67E99B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7C3CE1C-5681-4E90-AF60-F1A43DE5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65D4201-3EDA-4506-AC77-86EC7B6C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9AD362B-498C-46AB-B554-6159DBB2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9F41C22-6D6F-4D4E-B962-36EE146B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1A044AE-D965-4580-B69C-8784D0477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6C2AC7A-F193-4533-AA22-B926DAC3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8AC3B45-74E0-4D82-82BD-EA81E9A4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4113106-10C4-48C8-A898-91649FF3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CD99DFF-181D-4162-AFF1-8D43F38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250E2-D6FB-44DF-9A16-5D0D28B4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31825A6-A212-454F-ACA6-A91974A0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54DEB35-82CF-4BB0-88E1-992D312C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25E8247-6263-4E7A-BA3C-DEAC59C6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94539-A655-4737-AF46-E2B94897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84918-F604-4548-8AEF-CBBF0CCD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97AD-8186-439F-9B0A-6DFB3EE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08B14-64FA-402C-BC94-96779AED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09BBC-ED1C-4E81-9637-547DA8BB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AECFB-B95C-4BDE-8088-F2264219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CB76A-B137-47AF-B12D-6CDFF91F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C7115-A94E-437D-A02E-12EEFE2F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26181-39F3-4725-A409-CB797BD2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9C519-9FD6-4B6B-80B6-EA2332C2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FF1AD-9191-44A4-B7C0-A2E98495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FA7CC-9D01-4F43-B48E-F58D0577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673B-476E-4046-95AA-57FD881D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EA2E-B908-48E8-B413-826ADCA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EA8B2-1147-41ED-9074-5133F2B1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09864-1505-48EC-8A3D-651AD138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DB031-2427-479F-AB3F-E928383A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62872-B397-407E-9740-97CE0E6D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C61FB-B87E-491E-AFFF-72E26455C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BE034-C61F-4BF1-84C7-786B2117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C4F14-FCFD-42A1-A744-36142653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1F891-0352-4EDD-BAB6-63E97C3A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AAE48-3AE3-4C5C-BBCA-181017ED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1777A-A783-452C-BEDA-107C2CC1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2AF-A28D-408C-B120-02337944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DE125-08F3-465F-A329-0DCEDEDD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6706C-BDFA-4845-9E0B-A2B3C2BB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CB2AA-EB99-4E7D-AA09-55E5723D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F32BF-D573-4A75-8490-F261D8D6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50863-3EF9-4D57-95F4-0274D90F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4A8EE-9ACF-4B46-9F0C-AC3A2AD8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770A5-C0DE-4713-BD17-198E1F54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F83AF-7B8D-4C90-9485-ED594E37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0DA0A-C5F0-42A4-AFB6-B22219FC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E5B45-08D2-4E66-8803-03B5B3DA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C037-BAA9-4FC3-B86D-EFB184DFBCB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5F1F-ACB7-4538-AC5E-7CA58087995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545D-7517-4711-8134-521E10D989E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298B-705C-49EF-BA87-098FD121BA4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BF91-D5BE-4F7E-9393-BC4760E9FD9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85A0-7035-4F54-B7C8-C2BF479F8D4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DDBB-7656-49E3-96D7-FE158B529DC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D903-FCF5-43B0-9933-608752A1101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B865-BD8C-4214-922E-23AB258B303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4D35-E31E-4294-94F4-8AFED7E0CE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05FF-E9E1-4C91-A8EB-0AB7D20E806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A4D0-9CF9-4EBF-8ABA-93B7B6C7A84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89A0-C152-4059-A5A7-E028AA38446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64EC-22B6-48AA-93FE-C30B6D6202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F2AD-C0E7-4692-A35F-BE9325D899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6A31-590E-4803-AB1A-5504C1A159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1478-F8F6-456D-A89D-4AD6409373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9E1D-1A97-4D18-B128-23F163676A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4E4D-A697-49A4-9942-EC0B222D66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2FEF-A9AB-4AB6-9E5D-FF158BE200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C28C-D56E-4ADD-9BD4-04A3ABB816E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4E2E-0097-4F57-81B8-6ABDB4B060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7220-8A51-4618-BF73-1DF200E727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C398-3551-4EB5-AE8C-7F33E8CA30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8346-48C1-453F-A6BD-7791FB6FF3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7D24-B815-4DE8-97C0-16BC7189F1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3732-4609-47DA-BF28-BAA808B1AE2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2C4A-C4D7-462C-A1EE-A43551F0D9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F7DE-AB70-4702-9ACB-2D628C504FD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DC37-B44D-4173-B112-05A67FA1D06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E8AE-4167-42A8-BB79-FC5B4FD8ED3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EB81-F82F-4255-8BC2-A8664148A66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6D9C-A00D-45CE-A619-4B44BE05F14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8881-1C93-4FC1-8944-B9C803CEF8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FDD2-605C-42CE-9C93-FCC71F5A0A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EA2E-0999-483C-9911-BF07F489F7F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290A-4573-44DC-B9D4-E5BA9ADE36C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8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8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grpSp>
        <p:nvGrpSpPr>
          <p:cNvPr id="188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9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12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9D52-F2A0-41D8-BF86-3C6D8F81781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96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33984-0356-4A21-9346-E77AF4C840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D25-01DB-4242-9E54-622D467D93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603F-80EB-4329-9077-6C865ABD23C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1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8A49-1486-471A-9353-C9066BCB0BA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186D-6D71-4FBF-815B-E578AE42906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0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0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50A1-A1AD-4880-88F4-3F8C16F41A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D0EA-9000-4989-9FEF-C784B2DA32A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7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EB02-DB4D-45E2-9FB4-A7BAC31D787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CF2F-605F-4778-B2F0-8D5FCDF05F9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8983-51ED-491E-BC8E-6FCCA2B371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A5C5-718A-4431-919F-19D479A1FC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4E31-1945-4D7D-A668-4BC68DB1E65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7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6E31-44A2-4C8E-A3DE-982D56CC0D7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ED0B-33AA-4F0E-87BB-46DC5C5045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6C95-DCAF-4C85-B467-1FF6CBE625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774D-9BB5-4A9E-A972-D99B4677825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C0D2-3097-4373-9DFA-947FB645CB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4445-AB30-43BD-96C1-87B4446BF9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t196.soes.ru/" TargetMode="External"/><Relationship Id="rId3" Type="http://schemas.openxmlformats.org/officeDocument/2006/relationships/hyperlink" Target="http://www.bestreferat.ru/" TargetMode="External"/><Relationship Id="rId4" Type="http://schemas.openxmlformats.org/officeDocument/2006/relationships/hyperlink" Target="http://www.baby.com.ua/" TargetMode="External"/><Relationship Id="rId5" Type="http://schemas.openxmlformats.org/officeDocument/2006/relationships/hyperlink" Target="http://www.le-mon.ru/" TargetMode="External"/><Relationship Id="rId6" Type="http://schemas.openxmlformats.org/officeDocument/2006/relationships/hyperlink" Target="http://www.add.net.ru/" TargetMode="External"/><Relationship Id="rId7" Type="http://schemas.openxmlformats.org/officeDocument/2006/relationships/hyperlink" Target="http://www.med.resourse.ru/" TargetMode="External"/><Relationship Id="rId8" Type="http://schemas.openxmlformats.org/officeDocument/2006/relationships/hyperlink" Target="http://www.djv.ru/" TargetMode="External"/><Relationship Id="rId9" Type="http://schemas.openxmlformats.org/officeDocument/2006/relationships/image" Target="../media/image2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Аддиктивное поведение учащихся,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блемы диагностики склонности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 вредным привыч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 advTm="15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2936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Какие бывают аддикц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фармакологические (химические)-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зависимость от психоактивных веществ (ПАВ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субстанциональные –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пищевые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зависимости говорят сами за себ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c0000"/>
                </a:solidFill>
                <a:latin typeface="Verdana"/>
              </a:rPr>
              <a:t>Какие вещества, предметы или действия могут быть предметом аддикции 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котики, алкоголь, таба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зартные игры(включая компьютерны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ительное прослушивание ритмичной музы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55560" y="477720"/>
            <a:ext cx="77788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Алкогольная аддикция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34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Одна из форм фармакологических или химических зависимост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5ffff"/>
                </a:solidFill>
                <a:latin typeface="Verdana"/>
              </a:rPr>
              <a:t>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AutoShape 5"/>
          <p:cNvSpPr/>
          <p:nvPr/>
        </p:nvSpPr>
        <p:spPr>
          <a:xfrm>
            <a:off x="3995640" y="2421000"/>
            <a:ext cx="4584960" cy="3595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4067280" y="2492280"/>
            <a:ext cx="4392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В основе алкогольной зависим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ти лежит употребление спирт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держащих напитков. Алкогол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является пищевым продуктом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или входит в них, не являяс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запрещенным как, например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аркотики. Алкоголь не изменя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ет, а кристаллизует текуще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стояние: если вам грустно, то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употребление алкоголя не под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имет ваше настроение,а, наоб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рот, его еще больше ухудшит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885" name="Picture 9" descr="image002"/>
          <p:cNvPicPr/>
          <p:nvPr/>
        </p:nvPicPr>
        <p:blipFill>
          <a:blip r:embed="rId2"/>
          <a:stretch/>
        </p:blipFill>
        <p:spPr>
          <a:xfrm>
            <a:off x="755640" y="2708280"/>
            <a:ext cx="2752560" cy="3240000"/>
          </a:xfrm>
          <a:prstGeom prst="rect">
            <a:avLst/>
          </a:prstGeom>
          <a:ln w="0">
            <a:noFill/>
          </a:ln>
        </p:spPr>
      </p:pic>
      <p:sp>
        <p:nvSpPr>
          <p:cNvPr id="28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2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90480" y="318600"/>
            <a:ext cx="78408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4215"/>
                </a:solidFill>
                <a:latin typeface="Verdana"/>
              </a:rPr>
              <a:t>Наркотическая аддикция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зненные состояния, характеризующиеся явл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ой и физическ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исимости, настоятельной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преодолимой потре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овторном потреблении П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тическими призн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а ил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обладают спосо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ого действи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ую нервную сист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имулируют, вызыва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йфорию, изменяют восприятие окружающего мира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9" name="Picture 6" descr="image004"/>
          <p:cNvPicPr/>
          <p:nvPr/>
        </p:nvPicPr>
        <p:blipFill>
          <a:blip r:embed="rId2"/>
          <a:stretch/>
        </p:blipFill>
        <p:spPr>
          <a:xfrm>
            <a:off x="4788000" y="20606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28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0960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Лекарственная аддикция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8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ндром, развивающийся при употреблении психотро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; характеризуется патал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ческой потребностью в при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х веществ для того, чт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бежать развития абстинен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психических нарушени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я дискомфорта, возника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их при прекращении их при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при введении антагон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х веществ. К ним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медрол, феназепам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3" name="Picture 5" descr="image006"/>
          <p:cNvPicPr/>
          <p:nvPr/>
        </p:nvPicPr>
        <p:blipFill>
          <a:blip r:embed="rId2"/>
          <a:stretch/>
        </p:blipFill>
        <p:spPr>
          <a:xfrm>
            <a:off x="611280" y="2276640"/>
            <a:ext cx="3247920" cy="3686040"/>
          </a:xfrm>
          <a:prstGeom prst="rect">
            <a:avLst/>
          </a:prstGeom>
          <a:ln w="0">
            <a:noFill/>
          </a:ln>
        </p:spPr>
      </p:pic>
      <p:sp>
        <p:nvSpPr>
          <p:cNvPr id="2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абакокур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ение табака - один из наиболее распространенных ви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мании, охватывающий большое количество люде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щийся поэтому бытовой наркоманией. Дымящая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арета доставляет привычному курильщику удоволь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остро ощущается потребность в курении посл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ятия пищи, во время выпивки, при отрица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ях и во время напряженной работы. При этом с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ыхаемый никотин не оказывает какого-либо положитель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го действия на организм. Сигарета является больше отв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ющим фактором:переключение сознания на неё помог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одвинуть неприятные мысли, прервать тяжелую раб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е курение облегчает контакт между людьми, явл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тся хорошим предлогом для знаком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7" name="Picture 4" descr="10023"/>
          <p:cNvPicPr/>
          <p:nvPr/>
        </p:nvPicPr>
        <p:blipFill>
          <a:blip r:embed="rId2"/>
          <a:stretch/>
        </p:blipFill>
        <p:spPr>
          <a:xfrm>
            <a:off x="5508720" y="40464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5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5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7900"/>
                            </p:stCondLst>
                            <p:childTnLst>
                              <p:par>
                                <p:cTn id="5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100"/>
                            </p:stCondLst>
                            <p:childTnLst>
                              <p:par>
                                <p:cTn id="5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890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490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60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30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220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оксикома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ксикомания развивается в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потреблением лекарств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ств и веществ, не отнес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аркотическим, но также измен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ющих психическое состоя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ка и его поведение. Диапаз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 с токсикологичес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йствием очень широк – от мед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ментов (аналгетики, транквил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оры, снотворные, стимуля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р.) до технических раствор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редств бытовой хим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1" name="Picture 8" descr="image008"/>
          <p:cNvPicPr/>
          <p:nvPr/>
        </p:nvPicPr>
        <p:blipFill>
          <a:blip r:embed="rId2"/>
          <a:stretch/>
        </p:blipFill>
        <p:spPr>
          <a:xfrm>
            <a:off x="5651640" y="1628640"/>
            <a:ext cx="2895480" cy="4324320"/>
          </a:xfrm>
          <a:prstGeom prst="rect">
            <a:avLst/>
          </a:prstGeom>
          <a:ln w="0">
            <a:noFill/>
          </a:ln>
        </p:spPr>
      </p:pic>
      <p:sp>
        <p:nvSpPr>
          <p:cNvPr id="2902" name="AutoShape 9"/>
          <p:cNvSpPr/>
          <p:nvPr/>
        </p:nvSpPr>
        <p:spPr>
          <a:xfrm>
            <a:off x="6516720" y="357336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72" h="21600">
                <a:moveTo>
                  <a:pt x="14141" y="14281"/>
                </a:moveTo>
                <a:lnTo>
                  <a:pt x="14141" y="12323"/>
                </a:lnTo>
                <a:cubicBezTo>
                  <a:pt x="14141" y="11496"/>
                  <a:pt x="14472" y="10800"/>
                  <a:pt x="15073" y="10800"/>
                </a:cubicBezTo>
                <a:cubicBezTo>
                  <a:pt x="16204" y="10800"/>
                  <a:pt x="17101" y="9434"/>
                  <a:pt x="17101" y="7849"/>
                </a:cubicBezTo>
                <a:cubicBezTo>
                  <a:pt x="17101" y="5534"/>
                  <a:pt x="15247" y="3794"/>
                  <a:pt x="13036" y="3794"/>
                </a:cubicBezTo>
                <a:cubicBezTo>
                  <a:pt x="10825" y="3794"/>
                  <a:pt x="9154" y="5534"/>
                  <a:pt x="9154" y="7849"/>
                </a:cubicBezTo>
                <a:lnTo>
                  <a:pt x="11008" y="7849"/>
                </a:lnTo>
                <a:cubicBezTo>
                  <a:pt x="11008" y="6709"/>
                  <a:pt x="11931" y="5821"/>
                  <a:pt x="13036" y="5821"/>
                </a:cubicBezTo>
                <a:cubicBezTo>
                  <a:pt x="14141" y="5821"/>
                  <a:pt x="15073" y="6709"/>
                  <a:pt x="15073" y="7849"/>
                </a:cubicBezTo>
                <a:cubicBezTo>
                  <a:pt x="15073" y="8589"/>
                  <a:pt x="14603" y="9320"/>
                  <a:pt x="14141" y="9320"/>
                </a:cubicBezTo>
                <a:cubicBezTo>
                  <a:pt x="13036" y="9320"/>
                  <a:pt x="11931" y="10800"/>
                  <a:pt x="11931" y="12323"/>
                </a:cubicBezTo>
                <a:lnTo>
                  <a:pt x="11931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9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0000"/>
            </a:gs>
            <a:gs pos="100000">
              <a:srgbClr val="ffd5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уици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ерение лишить себя жизни, повышенный риск со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ния самоубийства. Эта форма отклоняющегося повед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я пассивного типа является способом ухода от нера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мых проблем.Идея может стать навязчивой и превра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ться в аддикцию. Суициды в большей степени характ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ы для высокоразвитых стран, и сегодня существует т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ция к увеличению их числа. Суицидная 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временные циклы: весенне -летний пик и осенн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имний спад. Количество самоубийств возрастает во вто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 и снижается в среду-четверг.Чаще совершаются в во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те после 55 и до 20 лет.Соотношение между мужчин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женщинами-самоубийцами примерно 4: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Трудоголиз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голизм, в отличие от мно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их зависимосте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одобряемой адди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а самом деле трудоголик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личность с определенными психологическими проб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и.Трудоголиком может стать и лентяй, дни и но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иживающий на работе во время домашних неуряд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психологического дискомфорта, психолог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ской травмы чаще всего бывает реально пережит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мнимый страх:боязнь неудачи, страх перед одиноч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ом или, напротив, боязнь об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9" name="Picture 6" descr="image012"/>
          <p:cNvPicPr/>
          <p:nvPr/>
        </p:nvPicPr>
        <p:blipFill>
          <a:blip r:embed="rId2"/>
          <a:stretch/>
        </p:blipFill>
        <p:spPr>
          <a:xfrm>
            <a:off x="5508720" y="549360"/>
            <a:ext cx="3267000" cy="2438280"/>
          </a:xfrm>
          <a:prstGeom prst="rect">
            <a:avLst/>
          </a:prstGeom>
          <a:ln w="0">
            <a:noFill/>
          </a:ln>
        </p:spPr>
      </p:pic>
      <p:sp>
        <p:nvSpPr>
          <p:cNvPr id="29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7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7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2600"/>
                            </p:stCondLst>
                            <p:childTnLst>
                              <p:par>
                                <p:cTn id="7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8200"/>
                            </p:stCondLst>
                            <p:childTnLst>
                              <p:par>
                                <p:cTn id="7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Пищевые зависим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8182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 такие пс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ические расстройства к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лимия (переедание)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орексия (доброво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пищи).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ищевая зависимос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е только переедание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ание,но и зависим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 вкуса:от вкуса коф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околада, слив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3" name="Picture 8" descr="image010"/>
          <p:cNvPicPr/>
          <p:nvPr/>
        </p:nvPicPr>
        <p:blipFill>
          <a:blip r:embed="rId2"/>
          <a:stretch/>
        </p:blipFill>
        <p:spPr>
          <a:xfrm>
            <a:off x="4500720" y="1052640"/>
            <a:ext cx="3981240" cy="2666880"/>
          </a:xfrm>
          <a:prstGeom prst="rect">
            <a:avLst/>
          </a:prstGeom>
          <a:ln w="0">
            <a:noFill/>
          </a:ln>
        </p:spPr>
      </p:pic>
      <p:pic>
        <p:nvPicPr>
          <p:cNvPr id="2914" name="Picture 9" descr="image014"/>
          <p:cNvPicPr/>
          <p:nvPr/>
        </p:nvPicPr>
        <p:blipFill>
          <a:blip r:embed="rId3"/>
          <a:stretch/>
        </p:blipFill>
        <p:spPr>
          <a:xfrm>
            <a:off x="684360" y="3716280"/>
            <a:ext cx="3981240" cy="2666880"/>
          </a:xfrm>
          <a:prstGeom prst="rect">
            <a:avLst/>
          </a:prstGeom>
          <a:ln w="0">
            <a:noFill/>
          </a:ln>
        </p:spPr>
      </p:pic>
      <p:sp>
        <p:nvSpPr>
          <p:cNvPr id="29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могут нами закрыться, мы ими нико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.П.Астаф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9" name="Picture 4" descr="j0284916"/>
          <p:cNvPicPr/>
          <p:nvPr/>
        </p:nvPicPr>
        <p:blipFill>
          <a:blip r:embed="rId1"/>
          <a:stretch/>
        </p:blipFill>
        <p:spPr>
          <a:xfrm>
            <a:off x="1187280" y="3429000"/>
            <a:ext cx="3657600" cy="2419200"/>
          </a:xfrm>
          <a:prstGeom prst="rect">
            <a:avLst/>
          </a:prstGeom>
          <a:ln w="0">
            <a:noFill/>
          </a:ln>
        </p:spPr>
      </p:pic>
      <p:sp>
        <p:nvSpPr>
          <p:cNvPr id="2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Игромания и 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й из проблем современ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го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новая для педаг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–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игромания и  компь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терная зависимость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ув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ьютерными играми, интернет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ями, игровыми автоматами, азартными игр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мания – увлечение или болезнь? Психиатры ут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ают – игромания лечится, но бороться с зависим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на ранней стадии.Болезнь начинается с привяза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ти к компьютерным играм, которая превращается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алогию.Игра – это взаимодействие. И не важно с ке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людьми, компьютером или же с самим соб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8" name="Picture 6" descr="image016"/>
          <p:cNvPicPr/>
          <p:nvPr/>
        </p:nvPicPr>
        <p:blipFill>
          <a:blip r:embed="rId2"/>
          <a:stretch/>
        </p:blipFill>
        <p:spPr>
          <a:xfrm>
            <a:off x="5435640" y="1052640"/>
            <a:ext cx="3238560" cy="2523960"/>
          </a:xfrm>
          <a:prstGeom prst="rect">
            <a:avLst/>
          </a:prstGeom>
          <a:ln w="0">
            <a:noFill/>
          </a:ln>
        </p:spPr>
      </p:pic>
      <p:sp>
        <p:nvSpPr>
          <p:cNvPr id="29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8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8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9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9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9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9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9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5300"/>
                            </p:stCondLst>
                            <p:childTnLst>
                              <p:par>
                                <p:cTn id="9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роблемы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1" name="Picture 9" descr="image018"/>
          <p:cNvPicPr/>
          <p:nvPr/>
        </p:nvPicPr>
        <p:blipFill>
          <a:blip r:embed="rId2"/>
          <a:stretch/>
        </p:blipFill>
        <p:spPr>
          <a:xfrm>
            <a:off x="468360" y="90792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2922" name="Text Box 10"/>
          <p:cNvSpPr/>
          <p:nvPr/>
        </p:nvSpPr>
        <p:spPr>
          <a:xfrm>
            <a:off x="395280" y="981000"/>
            <a:ext cx="87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терии, определяющие начало компьютерной 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исимости: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еспричинные частые и резкие перепады настроения       от подавленного до эйфорически-приподнятого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болезненная и неадекватная реакция на критику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арастающая оппозиционность к родителям, друзьям, значительное эмоциональное отчуждени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удшение памяти, внимания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снижение успеваемости, прогулы занятий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од от участия в делах, которые ранее были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тересны, отказ от хобби, любимого дела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опажа из дома ценностей или денег, проявлени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ужих вещей, денежные долги ребенка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оявляющаяся изворотливость, лживость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еопрятность, неряшливость не характерные ране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иступы депрессии, страха, тревоги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амятка для родителей по использованию компьютера ребен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играть в компьютерные игры перед сн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каждые 20-30 минут работы на компьютере необходимо делать переры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работать на компьютере более 1,5-2 часов в сут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930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Компьютер-мясорубка для информации. 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Компьютер-это резонатор того интеллекта,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с которым человек к нему обра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какие именно Интернет - сайты посещает ваш ребен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9" name="Picture 4" descr="j0195384"/>
          <p:cNvPicPr/>
          <p:nvPr/>
        </p:nvPicPr>
        <p:blipFill>
          <a:blip r:embed="rId5"/>
          <a:stretch/>
        </p:blipFill>
        <p:spPr>
          <a:xfrm>
            <a:off x="611280" y="333360"/>
            <a:ext cx="2144520" cy="2190600"/>
          </a:xfrm>
          <a:prstGeom prst="rect">
            <a:avLst/>
          </a:prstGeom>
          <a:ln w="0">
            <a:noFill/>
          </a:ln>
        </p:spPr>
      </p:pic>
      <p:sp>
        <p:nvSpPr>
          <p:cNvPr id="2930" name="Text Box 5"/>
          <p:cNvSpPr/>
          <p:nvPr/>
        </p:nvSpPr>
        <p:spPr>
          <a:xfrm>
            <a:off x="6732720" y="126828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В.Г.Кротов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6" name="chimes.wav"/>
      </p:stSnd>
    </p:sndAc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8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4" name="Picture 4" descr="j0205466"/>
          <p:cNvPicPr/>
          <p:nvPr/>
        </p:nvPicPr>
        <p:blipFill>
          <a:blip r:embed="rId9"/>
          <a:stretch/>
        </p:blipFill>
        <p:spPr>
          <a:xfrm>
            <a:off x="395280" y="270828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29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0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2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ак воспитать у ребенка положительные привы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Перв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научить ребенка осознавать, что без неё жизнь превращается в катастроф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Второ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Треть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5" name="chimes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566640" y="404640"/>
            <a:ext cx="8182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Четвертое правило.</a:t>
            </a:r>
            <a:r>
              <a:rPr b="0" lang="ru-RU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Пят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2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2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        </a:t>
            </a: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Желаем успех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 преодолении вредных привыч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зависимостей ( аддикций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воспитании положитель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привыч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мысл притягивает, комплекс толкает».(Франк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исимость-это не притяжение, это толк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кание изнутри собственным страхом подростка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хом перед реальностью.Помогите ребен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авиться от своих страхов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3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8" dur="2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1" dur="1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Что такое привычк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376"/>
            </a:gs>
            <a:gs pos="50000">
              <a:srgbClr val="ffd5ff"/>
            </a:gs>
            <a:gs pos="100000">
              <a:srgbClr val="7663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2400"/>
            </a:b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Юм Дав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Э.А.Севрус (Ворохов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l"/>
    <p:sndAc>
      <p:stSnd>
        <p:snd r:embed="rId6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Так ли безобидны детские «безобидные» привыч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о лжи?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бедничество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ксивость?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ывчивость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в азартные игр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льное гуляние?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мобильными телефон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ажание героям фильм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японскими мульти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 к эротическим рисункам и фильм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Picture 6" descr="j0286034"/>
          <p:cNvPicPr/>
          <p:nvPr/>
        </p:nvPicPr>
        <p:blipFill>
          <a:blip r:embed="rId12"/>
          <a:stretch/>
        </p:blipFill>
        <p:spPr>
          <a:xfrm>
            <a:off x="7451640" y="404640"/>
            <a:ext cx="919080" cy="8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0" name="AutoShape 7"/>
          <p:cNvSpPr/>
          <p:nvPr/>
        </p:nvSpPr>
        <p:spPr>
          <a:xfrm>
            <a:off x="4572000" y="1989000"/>
            <a:ext cx="4332240" cy="2156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Если вовремя не обрати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внимания на эти «безобид-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ные» привычки, ребенок 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может стать зависимым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и мы получим личнос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 девиантным поведением.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r"/>
    <p:sndAc>
      <p:stSnd>
        <p:snd r:embed="rId1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ддиктивное поведение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уть аддиктивного поведения заключа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или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Что происходит с психикой человека, склонного к аддикци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Picture 10" descr="j0302953"/>
          <p:cNvPicPr/>
          <p:nvPr/>
        </p:nvPicPr>
        <p:blipFill>
          <a:blip r:embed="rId1"/>
          <a:stretch/>
        </p:blipFill>
        <p:spPr>
          <a:xfrm>
            <a:off x="7093080" y="836640"/>
            <a:ext cx="1263600" cy="1770120"/>
          </a:xfrm>
          <a:prstGeom prst="rect">
            <a:avLst/>
          </a:prstGeom>
          <a:ln w="0">
            <a:noFill/>
          </a:ln>
        </p:spPr>
      </p:pic>
      <p:sp>
        <p:nvSpPr>
          <p:cNvPr id="28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40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Кто склонен к аддикциям?</a:t>
            </a:r>
            <a:br>
              <a:rPr sz="4800"/>
            </a:b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С чем связано аддиктивное        поведение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3:06:43Z</dcterms:created>
  <dc:creator>Сарахман И.Д.</dc:creator>
  <dc:description/>
  <dc:language>en-US</dc:language>
  <cp:lastModifiedBy>LEGION</cp:lastModifiedBy>
  <dcterms:modified xsi:type="dcterms:W3CDTF">2015-05-12T09:04:39Z</dcterms:modified>
  <cp:revision>52</cp:revision>
  <dc:subject/>
  <dc:title>Аддиктивное поведение учащихс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