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27.wmf" ContentType="image/x-wmf"/>
  <Override PartName="/ppt/media/image24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6.wmf" ContentType="image/x-wmf"/>
  <Override PartName="/ppt/media/image19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31.png" ContentType="image/png"/>
  <Override PartName="/ppt/media/image1.png" ContentType="image/png"/>
  <Override PartName="/ppt/media/image13.jpeg" ContentType="image/jpeg"/>
  <Override PartName="/ppt/media/image14.jpeg" ContentType="image/jpeg"/>
  <Override PartName="/ppt/media/image20.jpeg" ContentType="image/jpeg"/>
  <Override PartName="/ppt/media/chimes.wav" ContentType="audio/x-wav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</p:sldMasterIdLst>
  <p:notesMasterIdLst>
    <p:notesMasterId r:id="rId58"/>
  </p:notesMasterIdLst>
  <p:sldIdLst>
    <p:sldId id="256" r:id="rId59"/>
    <p:sldId id="257" r:id="rId60"/>
    <p:sldId id="258" r:id="rId61"/>
    <p:sldId id="259" r:id="rId62"/>
    <p:sldId id="260" r:id="rId63"/>
    <p:sldId id="261" r:id="rId64"/>
    <p:sldId id="262" r:id="rId65"/>
    <p:sldId id="263" r:id="rId66"/>
    <p:sldId id="264" r:id="rId67"/>
    <p:sldId id="265" r:id="rId68"/>
    <p:sldId id="266" r:id="rId69"/>
    <p:sldId id="267" r:id="rId70"/>
    <p:sldId id="268" r:id="rId71"/>
    <p:sldId id="269" r:id="rId72"/>
    <p:sldId id="270" r:id="rId73"/>
    <p:sldId id="271" r:id="rId74"/>
    <p:sldId id="272" r:id="rId75"/>
    <p:sldId id="273" r:id="rId76"/>
    <p:sldId id="274" r:id="rId77"/>
    <p:sldId id="275" r:id="rId78"/>
    <p:sldId id="276" r:id="rId79"/>
    <p:sldId id="277" r:id="rId80"/>
    <p:sldId id="278" r:id="rId81"/>
    <p:sldId id="279" r:id="rId82"/>
    <p:sldId id="280" r:id="rId83"/>
    <p:sldId id="281" r:id="rId84"/>
    <p:sldId id="282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notesMaster" Target="notesMasters/notesMaster1.xml"/><Relationship Id="rId59" Type="http://schemas.openxmlformats.org/officeDocument/2006/relationships/slide" Target="slides/slide1.xml"/><Relationship Id="rId60" Type="http://schemas.openxmlformats.org/officeDocument/2006/relationships/slide" Target="slides/slide2.xml"/><Relationship Id="rId61" Type="http://schemas.openxmlformats.org/officeDocument/2006/relationships/slide" Target="slides/slide3.xml"/><Relationship Id="rId62" Type="http://schemas.openxmlformats.org/officeDocument/2006/relationships/slide" Target="slides/slide4.xml"/><Relationship Id="rId63" Type="http://schemas.openxmlformats.org/officeDocument/2006/relationships/slide" Target="slides/slide5.xml"/><Relationship Id="rId64" Type="http://schemas.openxmlformats.org/officeDocument/2006/relationships/slide" Target="slides/slide6.xml"/><Relationship Id="rId65" Type="http://schemas.openxmlformats.org/officeDocument/2006/relationships/slide" Target="slides/slide7.xml"/><Relationship Id="rId66" Type="http://schemas.openxmlformats.org/officeDocument/2006/relationships/slide" Target="slides/slide8.xml"/><Relationship Id="rId67" Type="http://schemas.openxmlformats.org/officeDocument/2006/relationships/slide" Target="slides/slide9.xml"/><Relationship Id="rId68" Type="http://schemas.openxmlformats.org/officeDocument/2006/relationships/slide" Target="slides/slide10.xml"/><Relationship Id="rId69" Type="http://schemas.openxmlformats.org/officeDocument/2006/relationships/slide" Target="slides/slide11.xml"/><Relationship Id="rId70" Type="http://schemas.openxmlformats.org/officeDocument/2006/relationships/slide" Target="slides/slide12.xml"/><Relationship Id="rId71" Type="http://schemas.openxmlformats.org/officeDocument/2006/relationships/slide" Target="slides/slide13.xml"/><Relationship Id="rId72" Type="http://schemas.openxmlformats.org/officeDocument/2006/relationships/slide" Target="slides/slide14.xml"/><Relationship Id="rId73" Type="http://schemas.openxmlformats.org/officeDocument/2006/relationships/slide" Target="slides/slide15.xml"/><Relationship Id="rId74" Type="http://schemas.openxmlformats.org/officeDocument/2006/relationships/slide" Target="slides/slide16.xml"/><Relationship Id="rId75" Type="http://schemas.openxmlformats.org/officeDocument/2006/relationships/slide" Target="slides/slide17.xml"/><Relationship Id="rId76" Type="http://schemas.openxmlformats.org/officeDocument/2006/relationships/slide" Target="slides/slide18.xml"/><Relationship Id="rId77" Type="http://schemas.openxmlformats.org/officeDocument/2006/relationships/slide" Target="slides/slide19.xml"/><Relationship Id="rId78" Type="http://schemas.openxmlformats.org/officeDocument/2006/relationships/slide" Target="slides/slide20.xml"/><Relationship Id="rId79" Type="http://schemas.openxmlformats.org/officeDocument/2006/relationships/slide" Target="slides/slide21.xml"/><Relationship Id="rId80" Type="http://schemas.openxmlformats.org/officeDocument/2006/relationships/slide" Target="slides/slide22.xml"/><Relationship Id="rId81" Type="http://schemas.openxmlformats.org/officeDocument/2006/relationships/slide" Target="slides/slide23.xml"/><Relationship Id="rId82" Type="http://schemas.openxmlformats.org/officeDocument/2006/relationships/slide" Target="slides/slide24.xml"/><Relationship Id="rId83" Type="http://schemas.openxmlformats.org/officeDocument/2006/relationships/slide" Target="slides/slide25.xml"/><Relationship Id="rId84" Type="http://schemas.openxmlformats.org/officeDocument/2006/relationships/slide" Target="slides/slide26.xml"/><Relationship Id="rId85" Type="http://schemas.openxmlformats.org/officeDocument/2006/relationships/slide" Target="slides/slide27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 type="dt" idx="16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5"/>
          <p:cNvSpPr>
            <a:spLocks noGrp="1"/>
          </p:cNvSpPr>
          <p:nvPr>
            <p:ph type="ftr" idx="17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6"/>
          <p:cNvSpPr>
            <a:spLocks noGrp="1"/>
          </p:cNvSpPr>
          <p:nvPr>
            <p:ph type="sldNum" idx="17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8BC9-D72E-4A6F-B294-1ACA9BF65D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" Target="../slides/slide22.xml"/><Relationship Id="rId7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" Target="../slides/slide23.xml"/><Relationship Id="rId5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hyperlink" Target="http://www.net196.soes.ru/" TargetMode="External"/><Relationship Id="rId2" Type="http://schemas.openxmlformats.org/officeDocument/2006/relationships/hyperlink" Target="http://www.bestreferat.ru/" TargetMode="External"/><Relationship Id="rId3" Type="http://schemas.openxmlformats.org/officeDocument/2006/relationships/hyperlink" Target="http://www.baby.com.ua/" TargetMode="External"/><Relationship Id="rId4" Type="http://schemas.openxmlformats.org/officeDocument/2006/relationships/hyperlink" Target="http://www.le-mon.ru/" TargetMode="External"/><Relationship Id="rId5" Type="http://schemas.openxmlformats.org/officeDocument/2006/relationships/hyperlink" Target="http://www.add.net.ru/" TargetMode="External"/><Relationship Id="rId6" Type="http://schemas.openxmlformats.org/officeDocument/2006/relationships/hyperlink" Target="http://www.med.resourse.ru/" TargetMode="External"/><Relationship Id="rId7" Type="http://schemas.openxmlformats.org/officeDocument/2006/relationships/hyperlink" Target="http://www.djv.ru/" TargetMode="External"/><Relationship Id="rId8" Type="http://schemas.openxmlformats.org/officeDocument/2006/relationships/slide" Target="../slides/slide24.xml"/><Relationship Id="rId9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" Target="../slides/slide25.xml"/><Relationship Id="rId5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" Target="../slides/slide26.xml"/><Relationship Id="rId4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3.gif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3.gif"/><Relationship Id="rId8" Type="http://schemas.openxmlformats.org/officeDocument/2006/relationships/image" Target="../media/image33.gif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slide" Target="../slides/slide5.xml"/><Relationship Id="rId1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5D74-ECB6-401B-933A-652F3FB1A7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ддиктивное поведение учащих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блемы диагностики склонности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 вредным привыч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Какие бывают аддик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того посредством чего осуществляется уход из реальности выделяются зависим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фармакологические (химические)-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зависимость от психоактивных веществ (ПА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субстанциональные –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эмоциональные (секс- и любовные зависимости), трудо-  или работоголизм, компьютерные и игорные зависимости и многие друг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пищевые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ависимости говорят сами за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D8A1-FE58-4D5D-AF64-DDBCED513F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333399"/>
                </a:solidFill>
                <a:latin typeface="Arial"/>
              </a:rPr>
              <a:t>Какие вещества, предметы или действия могут быть предметом аддикции 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ки, алкоголь, таба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артные игры(включая компьютерны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ое прослушивание ритмичной музы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погружение в какой-либо вид деятельности с отказом от жизненно важных обязанностей человека (хобби, работа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, предметы и явления окружающей действительности, вызывающие различные эмоциональные состоя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3706-AA46-4936-8B4D-1AA7DF9042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лкогольная адди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5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e5ffff"/>
                </a:solidFill>
                <a:latin typeface="Arial"/>
              </a:rPr>
              <a:t>Одна из форм фармакологических или химических зависим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5ffff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AEB2-408A-49B3-AC35-0E7E989E9A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4215"/>
                </a:solidFill>
                <a:latin typeface="Arial"/>
              </a:rPr>
              <a:t>Наркотическая аддикци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нные состояния, характеризующиеся яв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ической и физиче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и, настоятельно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одолимой потре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вторном потреблении П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ческими призн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а или лекар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обладают спосо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ого действия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ую нервную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тимулируют, вызыва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йфорию, изменяют восприятие окружающего мира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91FC-6921-4EFF-9E66-FF8219365A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Лекарственная аддикци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дром, развивающийся при употреблении психотроп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; характеризуется патал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ческой потребностью в при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х веществ для того, чт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жать развития абстин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психических нарушений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я дискомфорта, возникаю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их при прекращении их при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при введении антагон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х веществ. К ним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медрол, феназепам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D0C4-0358-49BB-BCDD-45D42DEBB6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абакоку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 табака - один из наиболее распространенных ви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мании, охватывающий большое количество людей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ийся поэтому бытовой наркоманией. Дымящая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арета доставляет привычному курильщику удоволь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остро ощущается потребность в курении пос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я пищи, во время выпивки, при отрицате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ях и во время напряженной работы. При этом с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дыхаемый никотин не оказывает какого-либо положите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го действия на организм. Сигарета является больше отвл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ющим фактором:переключение сознания на неё помог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двинуть неприятные мысли, прервать тяжелую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курение облегчает контакт между людьми, явля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тся хорошим предлогом для знаком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165B-789C-445B-B3E5-2FA3B19806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оксико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ксикомания развивается в связ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употреблением лекарств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 и веществ, не отнес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аркотическим, но также изменя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щих психическое состоя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 и его поведение. Диапаз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 с токсикологическ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м очень широк – от ме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ентов (аналгетики, транквил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оры, снотворные, стимуля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) до технических раствор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редств бытовой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C88A-3E33-425C-81A1-9A1263C055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иц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ерение лишить себя жизни, повышенный риск сов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ния самоубийства. Эта форма отклоняющегося повед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я пассивного типа является способом ухода от не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мых проблем.Идея может стать навязчивой и превр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ься в аддикцию. Суициды в большей степени характ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 для высокоразвитых стран, и сегодня существует т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ция к увеличению их числа. Суицид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временные циклы: весенне -летний пик и осенн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ний спад. Количество самоубийств возрастает во вто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 и снижается в среду-четверг.Чаще совершаются в во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 после 55 и до 20 лет.Соотношение между мужчи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женщинами-самоубийцами примерно 4: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0442-CEB8-4B29-B39E-EDEEDE608A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рудого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голизм, в отличие от мног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х зависимостей, явля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одобряемой адди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на самом деле трудоголик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личность с определенными психологическими пробл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ми.Трудоголиком может стать и лентяй, дни и но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иживающий на работе во время домашних неуряд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ом психологического дискомфорта, психолог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ской травмы чаще всего бывает реально пережит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мнимый страх:боязнь неудачи, страх перед одиноч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вом или, напротив, боязнь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FB8C-189D-4B08-B0F6-D149AB8AC4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ищевые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им относятся такие пс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ческие расстройства к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имия (переедание)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рексия (доброво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пищи).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евая зависимость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 только переедание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лодание,но и завис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вкуса:от вкуса коф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колада, сливок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EAAE-240F-41A2-8DE1-64B7AD13B9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И – это наш суд на миру, наше зеркало, в котором совесть, ум, честность, опрятность нашу – все наголо вид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и могут нами закрыться, мы ими никог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.П.Астафь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C15E-3DB5-4C78-B508-D77CCE96EB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громания и компьютерная завис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проблем соврем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новая для педагог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–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игромания и  компью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терная зависимость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ув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ьютерными играми, интерне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ми, игровыми автоматами, азартными иг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омания – увлечение или болезнь? Психиатры утв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дают – игромания лечится, но бороться с зависим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на ранней стадии.Болезнь начинается с привяз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ти к компьютерным играм, которая превращае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алогию.Игра – это взаимодействие. И не важно с кем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людьми, компьютером или же с самим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D206-D8B4-4EDE-A3B4-996B8DE12C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Проблемы компьютер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9B9C-823C-4A27-B06C-54BC70E615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Памятка для родителей по использованию компьютера ребе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родители могли контролировать использование ребенком компьютера, они сами должны хотя бы на элементарном уровне уметь им пользов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должен играть в компьютерные игры перед с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каждые 20-30 минут работы на компьютере необходимо делать переры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должен работать на компьютере более 1,5-2 часов в су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ок посещает компьютерный клуб, родители должны знать, в каком клубе (зале) он бывает и с кем там общ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4AE1-1780-49CC-A909-4046A1256D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Компьютер-мясорубка для информации. </a:t>
            </a:r>
            <a:br>
              <a:rPr sz="1100"/>
            </a:b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                      Компьютер-это резонатор того интеллекта,</a:t>
            </a:r>
            <a:br>
              <a:rPr sz="1100"/>
            </a:b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                      с которым человек к нему обращаетс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должны контролировать приобретение ребенком компьютерных дисков с играми, чтобы они не причинили вреда детскому здоровью и псих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ок использует компьютер безответственно, необходимо ввести пароль, чтобы сделать невозможным доступ без разрешения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ируйте какие именно Интернет - сайты посещает ваш ребе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F1F9-2F50-4199-AA0C-875D9BEFAB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дробно о методах и приемах профилактики компьютерной зависимости можно ознакомиться на Интернет – сайт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et196.soes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estReferat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baby.com.u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e-Mon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dd.net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ed.resourse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DJV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дите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0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C46B-2CAB-4FA1-86D6-FA446F3E2E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ак воспитать у ребенка положительные привыч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Первое правило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научить ребенка осознавать, что без неё жизнь превращается в катастроф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Второе прави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бенок должен научиться никогда не давать себе поблажки в проявлении той или иной привычки. Необходимо создать условия для исправления плохих привычек, даже если для этого необходимо проявить твердость и жестк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Третье прави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обходимо учить ребенка использовать любую возможность для проявления положительной привычки. Тренировка в  положительных привычках приводит к их закреплению и привычки становятся «второй натуро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130B-CB71-4F6B-83A8-AFB168C5D0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ccff"/>
                </a:solidFill>
                <a:latin typeface="Arial"/>
              </a:rPr>
              <a:t>Четвертое правило.</a:t>
            </a:r>
            <a:r>
              <a:rPr b="0" lang="ru-RU" sz="12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бесконечно говорить обладателю плохой привычки, что он - её хозяин. Бесконечные проповеди и нравоучения озлобляют        учащихся. Многие учащиеся и так прекрасно знают, что у них есть плохие привычки. Надо быть среди учащихся очень авторитетным человеком, чтобы они стали прислушиваться к взрослым и хотели исправить свои привы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ccff"/>
                </a:solidFill>
                <a:latin typeface="Arial"/>
              </a:rPr>
              <a:t>Пятое правило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явления положительных привычек взрослый ( классный руководитель, родитель) должен создавать условия. Если классный руководитель знает, что большинство учащихся курит, необходимо организовать встречи с врачами, людьми, преодолевшими пристрастие к курению, смотреть фильмы, участвовать и организовывать акции и т.п. Однако для того чтобы так строить работу, надо знать, какие вредные привычки стали частью образа жизни ваших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892B-DF94-4137-9303-9E5288F314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0"/>
                </a:solidFill>
                <a:latin typeface="Arial"/>
              </a:rPr>
              <a:t>Желаем усп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 преодолении вредных привы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и зависимостей ( аддикций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и воспитании положите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привыч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мысл притягивает, комплекс толкает».(Франк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-это не притяжение, это толк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кание изнутри собственным страхом подростк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м перед реальностью.Помогите ребен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авиться от своих страх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D076-D4A2-4472-B619-6BAAE1901F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Что такое привыч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 – это капитал, приобретаемый       в ходе постоянных упражнений. Их надо сначала накопить, а потом жить на проценты с этого капитал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жемс,амер.психол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EAC7-A223-44CD-919F-8755C4C557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3399"/>
                </a:solidFill>
                <a:latin typeface="Arial"/>
              </a:rPr>
              <a:t>Начиная разговор о вредных привычках и зависимостях с подростками или родителями, воспользуйтесь следующими известными афоризмами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 - вторая натура.»                                            (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Цицерон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уководителем в жизни является не разум, а привычка. Лишь она понуждает ум во всех случаях предполагать, что будущее соответствует прошлому.»                   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Юм Давид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, эта вторая натура, оказывается для большинства людей их единственной натурой.»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Ромен Роллан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и превращают обязанности в удовольствия, а удовольствия в обязанности.»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Э.А.Севрус (Ворохов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я вторая половина человеческой жизни составляется обыкновенно из одних только накопленных в первую половину привычек.»                                                           (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Достоевский Ф.М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C0EE-874D-494E-AD8E-14697FB05C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Так ли безобидны детские «безобидные» привыч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ость ко лжи?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бедничество?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сивость?                      </a:t>
            </a:r>
            <a:r>
              <a:rPr b="0" i="1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ывчивость?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ы в азартные игры?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цельное гуляние?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ечение мобильными телефон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жание героям фильм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ечение японскими мультик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к эротическим рисункам и фильма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6AD1-C449-4EEA-AFEF-DF421884A5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диктивное поведение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лонность  подростка  к приобретению вредных привыче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агубная склонность к чему-ли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уть аддиктивного поведения заключаетс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тремлении изменить своё психическое состо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посредством приёма некоторых веществ или фиксацией внимания на определенных предме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или видах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AC64-2D6E-4E6A-B5A6-FD4C794461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99"/>
                </a:solidFill>
                <a:latin typeface="Arial"/>
              </a:rPr>
              <a:t>Что происходит с психикой человека, склонного к аддикци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употребления ПАВ, привязанность к предмету или действию сопровождается развитием интенсивных эмоций, принимает такие размеры, что начинает управлять жизнью человека, лишает его воли к противодействию адди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7BF5-C99F-4A95-9AC7-30AC3DDEE9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то склонен к аддикциям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с низкой переносимостью психологических затруднений, плохо адаптирующиеся к быстрой смене жизненных обстоятельств, стремящиеся в связи с этим быстрее и проще достичь психофизиологического комф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9D43-066C-4AFB-B62E-81D28A7491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С чем связано аддиктивное        повед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желанием человека уйти из реальной жизни путем изменения своего сознания. Аддикция становится средством бегства от проблем. Для самозащиты, люди с аддиктивным поведением используют механизм, называемый в психологии «мышлением по желанию», т.е. они считают реальным лишь то, что соответствует их желаниям. В итоге нарушаются межличностные отношения, человек отчуждается от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96F8-C137-4084-B64F-F35FA9F06B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1F1-B76B-4A8B-8A4D-34F9000B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BA14-D736-482F-ABA6-E678CE51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68F1F-9F9F-42EA-BACD-6026959C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84FFD-3E4B-4674-96F3-9F283F9E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69D9A-0849-4061-9B40-DB06842C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050CE-57AC-436F-8E7E-4B87DD91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67807-43AA-478D-9B40-BFE581CA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B7186-BDB3-4B87-AE77-510A6F58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E5AE1-DEE2-4B46-8A7A-CFB81958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6236E-9893-4C54-BA09-064E8C3B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61346-A767-4A91-B003-154E4421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D04FB-CE47-4F34-82DD-415E56D0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5FE-0267-4759-B232-64D8603F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C43F7-F11D-4730-9BDF-3A2BBC9C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8C1D1-CD36-44B6-A8FE-4B47373D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912B1-F321-49D7-B27F-B311160C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FFC0D-5288-4942-BA4B-B75E9588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90B50-9F44-4C13-B3C8-B39D55D5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37F3B-A332-4FE4-AEB7-5D8F954F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B4A6B-74BA-48BD-BDCC-7CEEB835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AAB11-937D-44B1-953D-D2AD6594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F2D41-259A-408A-A437-30611525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CAA6E-B202-4D1E-83D7-EBE31914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532-B52D-43CA-BABF-BA40A060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F6D72-C787-43ED-ADA0-4CB3BD57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A07E5-CDA0-4637-BAFF-EEF81F13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BE39E-563F-47D8-82F6-2D8A90C8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A9FCA-BA94-4634-ABD7-CB820A1E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DEB47-2336-43A1-9BC3-BB308037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DA8C9-82DA-47B0-BFF2-459A5287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934B3-3A0D-483C-844B-536E3BD6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43AEC-E60B-4494-8569-7140F85D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5C9C7-A4DB-4AA7-A492-0213579C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B33D1-9BBE-458A-BDFA-33369654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4EB7-05D4-4322-A92A-CB8247AC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BB194-5081-4309-83D1-931FA668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2E248-F68E-472B-B01F-617BAA40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04BEB-F663-428B-8EF9-4F2BFC2A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A14BC-B341-45FC-B9EE-BBD15017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EE6F7-84BA-42C9-8180-ED2DBBF4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2BB8F-054C-46B9-B4F8-CCB69B08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7B095-151C-431A-BCC3-E79CC5E1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9749B-E654-4EF3-9BAF-BFA654D6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08D1D-AEB3-416E-BD16-802BC520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1935A-9384-4C7D-88E1-A54B7D4F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35B8-D0E6-40D7-8ED7-F2A297CF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354E8-D165-43B2-BE12-3D3295F2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AD925-197E-4104-AF71-391E8E52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4DE34-4C5F-4FDF-B08A-730A3DD5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615A0-E920-46BE-980D-DD61CDB3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ABC1B-14C7-4556-BE93-98C2925F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7B50E-754B-4871-B406-EE74B852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4B697-B281-4A9D-A767-30074FD5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BFE35-E35B-4486-A4D2-25E50C73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20636-B1A4-4F34-B102-E97EAA0B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67F42-24C7-4CE3-A36D-349FAF19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97C7-7306-4918-9F40-27F5C3D1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41A37-C3D7-440D-A9C0-8ADC65C5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86060-946B-400F-930D-25AA074E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3B0C6-5D63-463E-97AE-9F3B7DE1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BB1B5-3FB5-4AB7-83A2-71696262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714910-067B-4CDE-AE2E-4B9E584E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09200-9E99-41FB-A69C-5AA542CD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B8704-2525-4A77-850A-3424A6A9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AA578-6012-400F-9A58-A8D68CE7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37E8B2-CB3E-461B-9ADE-5408E62B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9BD645-D0A4-47D1-91C4-33B88194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7BE0-EC79-47A8-BDFD-EC2C086C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99BE86-D987-448F-82CA-ED004485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490E27-1F27-4C9E-8A64-436D3588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2AE6ED-6B4C-4E5E-9FF1-92B53B57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13A258-D8CD-4EDB-83F3-B2F2AB0B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4C076B-9149-4340-9F76-B9008EAC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6C2133-4FF5-4854-AA96-ADC91DFC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832FAD-3747-4DAB-92CC-D8FD3470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841C4F-7AFB-45AF-A46E-0F3176E6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2A164D-8C94-4CAC-B578-01D2B625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C883D9-DC29-4623-B9C5-17C61DA6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BFC9-E4D9-4B30-ABD1-C7E3E383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013D92-44BE-46A1-A57A-733F69EF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451A3-14C5-4C5A-BCEF-0C6CD386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2A6281-FB21-4834-BCB7-83247C1E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9E5AEC-3F72-4DEF-96C0-889E9624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BA9C0-5221-4051-8874-958E0D37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A7605B-FF7B-4C1A-8BC6-CF671E10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93565D-BBD3-4F40-BFE4-7837E58A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6F41A0-B4A5-4F38-8FA0-D7B3DF1F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590566-C0C7-44C7-BC86-EBF2450C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E0DDC7-ABA0-4003-9C83-2349A5D6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15AB-926B-4C73-A984-FCC45A1C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2F7342-C2D4-4CA0-A486-37CC420F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43919A-097A-4FB5-922D-0A32BDF3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9F80AA-0EEB-46ED-9726-DCCE8944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5A3D3D-1379-466C-829A-9708303B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39599E-2A79-4931-A015-6C26919E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A3DB2B-2AC6-4B29-BE79-060E7308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1CD519-879C-4F24-8A5B-C3F4F555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4C6DEA-F610-4D75-8795-453BD956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B889D1-AA95-43F5-B96F-2E263957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124DEB-7DC8-4613-BC7F-3EC64B73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DBED-FEE4-49A4-BBF8-F2B8F9EF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B5FB36-A69A-4118-B3DE-F04FAE0F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17C63A-7DDA-4AA1-854A-D6CD45AE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35AFE7-5E09-4CE1-83B3-2497A32E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CC7F4D-0EAD-4FAA-A8E9-7A41C149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6E1A37-61ED-4FE5-8F36-EFD01EB7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F6D291-2E3C-472F-9514-AD1285AF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635263-10D9-4C7E-A57B-9F4331BC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1BD013-2EF2-423E-832B-15385BFF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FDB832-9056-4857-BFA4-50964E09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800B80-B0C8-4C7E-B445-0CA20CD4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AEF-6958-4434-8B77-2AA9185D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BE0B-2B80-4527-94B7-17061D3B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97F56B-6913-4D7F-BA46-52949930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EA7D70-829E-4B9F-8B8E-B0512DD1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D0A00A-56A6-474E-BAB0-D14A91C9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B7D086-AC7A-4E6E-8CAB-C1E9CC45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953E8C-6DB3-4C68-815A-59755B8A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88BD2F-7F52-4740-AF34-67B820F7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32933E-6BAC-4F05-8296-4DCE6E3E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1825B3-AE61-472C-A772-CFCF398D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D50AA3-9E01-4086-A10F-A9FFC124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64228A-7142-4C25-BF16-E3ADDA44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3FB0-677A-4D20-9A1A-A7924CC3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3F77C6-C8C1-41A0-96FA-9C94D313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CD93B4-810D-445E-9076-D5D1A104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679AD0-A6B5-49A6-9822-782F54B4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D87B1A-F4C8-48D0-8C76-3C5BFEB7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ACFD8B-0F24-4F04-ABE7-1660503F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57088C-D4F7-403A-AA16-1057026D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BDD83F-8A77-4F59-9F59-EDD3EA62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F32BEE-FA49-458A-9185-482B0BC0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0E6DAF-2C78-4696-AFD2-D87FEA5D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DADC9D-2B40-44F2-871A-9EA0B7F8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CD6D-E5A5-417A-B224-BAC8E469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EA6239-099B-4CB1-82F2-0FFB39FF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960C1B-E0D2-4138-B122-967F0129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0E072B-A338-4E9D-8D44-4BC090E3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5A96EC-8247-4B2E-8F6B-947B0F7B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187637-E1B7-4FF6-BB79-D507BD45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4670E3-91B9-40F5-9C91-D33F6A69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B09020-4A6D-41E1-9CA1-A2E43F64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EFA40B-7027-405F-8599-3C907240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487074-73FA-4116-9142-27D0ABB3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D3F906-6048-47C6-A8FC-11DB0157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2863-E476-429A-9EE0-4C426248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ED4C45-7CEF-4C1B-983D-FF8A1C79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AF59F5-D2D1-43AF-9F35-E677B9AB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FF65AE-FE8C-4FA9-A69A-1C02B48B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113B7D-3838-4084-A805-1669A4F0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0C0B12-0768-43FD-AD1B-B70419FB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CE8BD2-1A97-4DAE-901A-48C491CC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E019D2-1F06-4446-AF86-8252548B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033541-1CF5-4626-8408-C098D995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A00C09-6920-47C1-8444-71783CEC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D9610B-B257-409F-AABC-FF0ADE1D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043A-C017-48CE-BC3F-9FA5B982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DA7DD0-5C19-43C4-BEAD-82CD5C40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CA7C89-3239-4E1A-AE08-EB0C325A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4587EE-BBDC-464F-917B-CBABCEC7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1D0299-38B1-434F-B5D8-FBAB2473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825D1D-52FD-4DA2-8C83-14D02DD2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6DE14C-7B8D-483C-BDB7-A499FB35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59C7F2-6704-466B-BE88-A0A51458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D88807-5867-48A7-ACF6-E3E6587D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BDD49A-3387-4F6F-A063-942DEFC2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532268-4953-416B-888F-11BA6C47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4E1E2-F770-4BD8-BB93-BDA20C12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D9CC87-7CFA-4EAB-A11C-BD0C54D4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954D06-E17D-4549-8A6A-584C8C81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A0B353-9CCD-4974-A156-AACF4792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E00572-1E57-4A86-BE35-1F71B923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76C5AD-2D53-4EEE-B44F-1BB9499E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0FF562-B431-42B7-8587-874FBF64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2B8701-1F5A-477E-BE82-2AF0CE94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EABA4C-C695-4E39-A850-8FE09139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EC60CE-1D7F-4C03-972F-14C84ACF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E2CC8F-F856-4ABA-986E-EF74E0B5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B612F-440D-40AB-89C3-6A3ABAE3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D7C228-F5E5-4C31-8653-6B2BF4B0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A45380-D5FA-4563-847A-23832682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D9A059-E2C4-44F2-881A-79FAC89D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5338C1-A2D8-43A8-8E3F-C8F4C76C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ABB0CE-560D-4D50-9878-A714B038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BC42B8-B6A7-4EDD-AE1A-AD08759E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0C5201-F183-4BE3-A4B5-85C3CA97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3ECD7B-FF7E-4D0B-B46C-7B5358A7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D787E8-7105-4AEB-B52A-D80B7F10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208F5F-6BB0-493F-AF5C-A786B540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9751-EB3F-433B-9EBD-6AC7A262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F704D5-8F77-44B0-A601-528AFDA0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F274C4-3EF8-47C9-A1E8-8A705462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3989B0-875B-47B9-AD28-4CB1AE66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DE1B41-F2CF-4B50-B6A0-B4A75857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957B7B-CBC4-408A-BC54-0EBF712C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F5D330-EFBD-46C5-8929-08541B36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DCFE59-97BA-4A13-B6CF-012E5F09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D7DA9D-A854-4725-95A1-6A9A48C2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21CBC3-8298-4F42-B101-419BF1F9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B7D2D0-D556-4154-93A4-6A9E8BDB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B45F8-532E-4EA0-B427-582E4A10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C5050A-616E-4CAC-8877-E91946A9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722704-F520-4499-8A83-94551F63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5EE8A4-7D00-4432-AC05-C43DA975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E7E0F7-EA6A-41FC-AEFC-362E9A20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AF5929-2852-4ABC-9868-16F15E07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822BD6-3B87-47C9-B5A5-3A73B9DD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FE78F2-FE26-4905-B7E5-668ED434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300631-8220-47B4-AB78-0EB83DCC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15DF5E-D7E9-417E-BBF5-8338F8A8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5431FF-74B5-4845-82C3-06D569A4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01F1D-4DEF-4B5C-A576-6EE5BD89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CAB6DD-4009-41C0-A33E-82729A51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9D9BA7-7262-4B58-BC13-87180C4D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38025F-AEAD-4022-A366-A2A04A37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97782B-FDB4-425C-B9C7-FC6C2814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3D13E4-3B8B-4DEE-9746-5DABB46A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D621AC-823E-44D7-826C-6D26E45D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313F2C-D55D-4578-BA9A-18921136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E81A60-4D7E-4EC0-A3D1-32BEAF44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6043E8-616B-4842-B435-31A7BE3D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7A2525-B32A-4E7D-B140-237567F6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C46-4CA9-49E4-BCAB-0B189509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2CC9A-02AD-4793-9456-6979B4A9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7833AC-D7D0-4523-A948-12C094A0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4EB2BD-B184-42FB-B455-619F763D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4BFEB4-E2C3-4D3F-8A43-D0E40981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DC7D7D-17A1-45AB-98B6-9AA5C801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2FF880-9495-4213-B78C-CAA28378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D35091-413D-498E-A8D7-2026D63C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9E7AA3-626D-4A49-89FE-1850C9FE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806109-121D-4713-82AA-765D5EB7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43F7D9-13FC-4918-B8C2-F1FB8D27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FF87A2-C237-4941-8492-510BE7FE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F6ED4-9F9C-4459-A053-85413D68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8AB465-BC6A-4071-AA57-E7D3D709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D0BBDA-6709-4ACD-8DB2-C8AF1675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5A363B-03C5-4388-8E23-A0DDCC8A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99D291-DE16-4937-8AA2-9638FD86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4EECD6-CBDB-4584-BFC9-F882CE30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3F85B4-6CB0-4843-B76E-3FFBA7A5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113A67-16BC-46A9-980D-7AC751AA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00D04F-4C69-4D02-BA31-6871C7E8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5D44F0-F4F5-4CE5-9174-540C3F7D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6EDB2F-33C7-4FA7-AEC3-612C6894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FC6EF-66AF-45E1-A2B3-FB3E3943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05CC16-A9AB-498A-9DDB-0C08D14E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E8AA32-AD82-43A6-BE64-D4F9F0DA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F280D2-66A9-485A-9F3A-3909B678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3DE238-DF17-4F5F-A5D9-77ABB704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304DF8-EC7A-4AC3-93AD-E17E58DA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398327-CFE8-4426-8C6D-4A96AD22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FFCA09-20B4-4CF7-B371-46ECAF77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4EABDB-DDCC-4311-B0D4-8824283F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942B39-89F2-49B5-9092-471B5EEF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1B880B-548F-46F6-918B-AAF099CA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5DB2F-6E06-4C2E-AC65-793A834B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A8191C-CFF9-4B04-A042-16781895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E47CF6-54DF-4087-B15D-3CD8200D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FF2244-B928-49E4-AEAC-E2B4E222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5AF0B1-034D-484A-B500-8748E16C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866A51-D166-484A-8F7C-BCCFBE7C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32BC69-C6EB-4A6E-A287-AAB6468A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9F5F5F-DF51-4944-BEE2-CAEEFBC6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0517F7-0D14-46D7-88AE-8E974E6B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4648AD-8BF7-411C-8613-82684E81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690935-9CEB-4C16-BFA1-08539353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E5D4F-7B5F-4B43-A95F-4609B0B2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531338-B569-442D-AD5B-B8B33357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AC865E-AF57-47DB-90F8-1B8472A8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E79DC5-EF1F-4B5F-8829-13174EA7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7D312B-69CF-4696-8B35-0CC10177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E1F1E9-F193-478F-85BD-EEAD9759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9599FD-DD1A-49A1-BAB3-912FDAAB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E8ACA5-6078-42E5-A64C-80F770CD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99036F-0FF9-41D2-984E-A75F3FCA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25ED39-52A8-46D5-B2BF-67A27D67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1095C1-0D4B-4875-AE64-B6CB0F4D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D96E5-9D55-44F3-9764-5179756A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9A6300-EEF7-47E3-B876-D98A87CD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FBA1FB-09DC-4DC6-81C1-CA2D4B33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680DAA-1589-4F2B-8AA5-B9FE6BD2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F0049F-09B4-46A1-9562-051552E6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95B9AD-32E2-44C2-B889-502F91F0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4C727D-91A7-4730-B719-4B7DDAE1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D7229A-8EF8-4C0A-9C11-68AB4977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B7E702-4714-4A50-A07B-984E3419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48B802-510F-42ED-907A-2E98C754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C28EDC-680F-4E13-A606-2104D6ED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5FDB0-C7BB-48B4-8400-3DCFD8A7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6833FB-F641-43A6-9FCD-7F873B6A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1CC99D-1139-4E54-A4C5-0AC55D00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1BC0CE-06D3-4547-A80C-A1D5495B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E4A976-49D9-4088-9CC2-4FA98560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1BFF02-7FA9-4AAD-B571-8B965BB4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E55C0B-1E7F-4D65-83A7-6792CCBB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72E4B5-B7D6-43C1-A454-0FD578BA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47CD84-2919-437F-8BC8-96150159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B1D4FF-BCAB-4BA7-A416-A0F167CB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8205CA-70FE-4B5C-A605-3D48D14D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42D16-2A00-40E9-847C-BBE7129D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2160A7-B3F9-4E76-B083-5E8B2110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D09ADF-315C-4E6F-9E73-74E713AA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2B104F-184B-478A-9669-2D2D62F9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12CE25-4D55-495B-8CBE-95680B1C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789D87-843D-4644-8457-CEE6201C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54E8A9-B78D-4540-BD04-363523BE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6DF39B-A4DA-4F03-A96B-F0CA3986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F657A8-7E59-41D5-A8F6-2FFEA284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54DD31-B2C7-430E-8A4B-9122EB99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55410B-7F85-4864-9A7F-C8E06847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19E58-328D-4ECD-8B4E-E570FB06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E507F9-738A-418C-9040-F1FC61D3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96F8E2-2B8E-425D-A8CD-6119D212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6FABAF-EC94-46BC-B51E-CB62DBFC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AABA79-2FCF-49F8-8C83-527EE9D6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297764-C8B8-4448-8351-10B90283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BAC34A6-0B4F-4BB9-8BAC-3B28FE7F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FADE3E0-3D71-49F1-BF1F-69FA843F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651E209-DD37-4E82-ABB9-AF83854A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803CBC7-BE39-4644-A52E-2ABC81AD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7E0EAF-87CF-4999-B657-FFCC2AA7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2F002-9930-477D-965C-2D4E6434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2A1297-26D2-4F2F-A586-67B392BB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36831F-00D0-47D2-8902-D15A6B30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F8BDFD-CDCC-4E60-9834-17C6D182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19D02CB-3FC2-4FF4-B497-F78C7D2C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86677D-E7A1-4862-9940-4F62FE45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F677B35-C21E-4378-92E1-EE46B8E0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5943DE-EF32-4D81-BEB5-E9E8BCE6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C28ECD-FCD5-47C0-AAD9-F6860F32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8E4A98-A298-4F76-BED7-9963AFC7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58780D3-BB6C-4E2F-B628-289C34C2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F326-CE28-4C72-B428-97498D7E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D7D1A-2D28-449A-A560-D1C28A08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DF1ED43-3514-4294-B38D-778A695A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A74413C-4A4E-4E9B-9F57-FFF4FC05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A327DF6-58AA-41D7-926A-4BF5F973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99A3AC7-8EE8-4632-B097-B7F55A80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EE82883-AA92-4047-8855-6E04EE13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A61A17-6558-4FA3-AD0E-BDCFD145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18D6FA-2651-4843-A060-66278A3D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2455B02-4DC3-425A-AFE5-920981A6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5F70D7-5229-49A9-AD7B-9BD51474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F49D3F9-DF70-4D3D-A7A1-B4377BF2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DFFDD-4779-4974-AD52-389DDD26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A65EB02-CE26-4B13-BC2F-F68486C4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637529-8A7A-4F10-960F-1677694D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5381ED5-B5F3-4CDD-86F7-8A1B97B6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793436B-11AC-46E7-BE00-2D571E22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38762EA-DCEA-4106-9D5B-2E4C4B5C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BAA6A5-E461-44F2-B3C3-9693BD1C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BF8C62D-4518-43EA-ACC3-A95D79AA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E232753-645A-4D55-937F-7D7668D4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5B2D7D-7E84-4EDE-B02A-EC004C46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8D4068B-65F4-4635-8A9B-4D2FCB4F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B3800-D41A-4053-A7FB-54383397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9AAA618-2A82-4691-93CA-AE267AC6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55AE175-DE46-4EDB-845E-E1BE6DC9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1211DC-E346-4DE5-B185-483D2ED7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401F08F-8409-4025-97EC-CD35A343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C80DF53-AF22-4ECA-92BA-B8BF14C5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4C590A9-0A64-454E-A20A-4FAC47B7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09B1AA-2FC5-4EF3-B1B8-190DC7A7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69070C-0AC1-4B65-AC9F-2C00A77F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0D887D2-A387-4E80-99FB-9048AE03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541252-6BA5-401A-B787-25AB3B2F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7AD13-232F-4315-86A1-8D8E55E0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94E8B84-FB56-45EB-BBB7-DF834B52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4CE879-213F-4D6C-8524-DE1DAE8B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96336F-68D3-47EA-9BC9-00C77F7D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B1AE29D-FA51-42CE-A069-9837173C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C172C5E-71A2-4027-8027-3458C652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8E644F1-9B60-40E6-953C-368665AF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B1980A1-49A8-47B4-B2FA-AD1F5C0F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77D41E1-A555-4AE5-AE72-B781543F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9EFCC7D-131D-467E-AEEF-45AE3044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979F5D-9CA6-4800-A27A-82F61279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3EDAD-702C-4761-8D3F-548321A5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B186934-0D9C-43F6-A62D-D5D65B0B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A094F13-48B7-4F03-82D3-8DF4F6A3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7384D75-C2FF-4C3A-B912-8EF09F95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8E6348-8ADF-40C0-A080-8B52EACA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0459687-1481-43CC-85E9-D4573FBB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A62C6F5-104B-4C9D-9738-204CE21F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30BE95A-C971-4550-882B-7EE7CF07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D4A1C0B-4B78-4897-93C4-4586701D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AB50EBB-33D7-4736-AE83-E4E65456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126B4E9-30F1-4D1E-8D15-62F99917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38047-5652-46A7-A055-19E36C2C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690B37-35A3-4F82-B77D-262A7F2E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494000D-A485-4071-8F63-AD91217E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53876FC-05B7-4DBC-957E-EF885B8C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20B0B0D-7477-4F90-9224-20C9D623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59C617F-DF96-4A57-85EA-AAE4910E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7F517AD-DC80-4A15-B29B-7E04C5C0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96FF076-63CA-4CFE-A595-149DEDFE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5DDF739-816F-4E4D-A9F0-7EF3F871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E68CE36-646A-4FFD-BF9E-912DCBA3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FA26D0B-EB40-42AA-8CE7-E5FA902D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D9170-2723-4768-A4AB-0264CA88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BB5946D-6BC7-46B1-8A6A-5B4335AD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463EDFD-2A63-4037-AD1F-413DA98C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668D570-F371-4317-B071-3E0D4C38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DF1972E-E9DC-47A1-A808-4D5A217A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B34DC85-0D38-43E4-B46B-4FFC984F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3F27CFE-950E-4B9F-8D2F-83B34565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68D1836-9C22-4834-A2EE-9729FA5E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4BE6F1A-1187-47DB-A801-C2001D7B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0F20252-10AC-445E-ABC5-D6A964A6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4FDE6F8-5E48-481C-B85C-7388795C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16DFE-0B01-43D7-9B6E-641CD450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F97F1B8-F127-4BE3-9CCA-D55D27D8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955D484-40FB-4AC9-9975-791E9A5B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C4FCD7D-5F8E-4965-9935-424A5B72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47344EE-20AB-4195-A21B-3CB1318C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215CBD4-13EF-49E1-82A8-109FCD62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1CB0FA5-C79E-4516-B34F-9BD97303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50DF6C9-5A20-4785-8E87-B1C1107B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0B1AFF8-FBFA-4F36-98A4-1B673F84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7FD29D3-A217-4E6C-ACD5-845335E5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A6D4EF9-3163-484F-8859-B95BFE31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39BC0-6C07-426A-BF3E-70867BB0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176B958-CDB8-408F-A725-F38B2199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7DADD20-CF61-4D78-9206-936B27B3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AEACAD2-CF8F-4B27-83CA-1FB7D601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471FC2A-41D1-4477-B8CF-F2EBD74E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6658E5C-AC26-4742-B5B7-EB2C25F3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1B1FD4B-4737-4E66-B57C-30601FE6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581ADFB-B6B2-4A17-BEAE-B86E5EDC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FDE649D-21D3-418A-88C1-DA233765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BE7F53C-92B9-4F91-8C17-0109803F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9335637-F0FA-4592-8B80-44E9BCB9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C1E11-F978-4DE1-AB5D-E859A014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35CC52F-AA9C-474E-A233-5E908FD0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3289631-3886-4446-A554-DBA8E097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4110638-0AC4-4207-8BE3-0CE5B65B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A9E22FF-56A2-46DB-86B8-A8F525E1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5F71304-A29E-4206-A2F7-7A823AA3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91BCF1C-4AEE-4A06-AFA3-7FAD5939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62508C7-1104-4578-8B4A-FFB50856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B95BB29-F874-4900-8CD3-5C07F466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2041B28-DAB0-4B93-A96C-481BA330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CD62BA2-F53F-4A05-97F0-91555261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C25-72DC-4A30-96F1-53606932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844E3-B133-4A84-BAE3-20128601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6BE44BC-9AD8-4203-AD62-D1FEE426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14BDD7E-402E-445A-AED6-6DA57977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6D76A68-530B-42F2-899B-0B930801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9D63278-E821-41AF-B020-C8763C74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65EDFA7-3940-4BAA-844E-CA0CFC20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EB90CD3-BD48-46AD-BDD3-C5F1CED7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F8E07A1-8149-4ABD-ABA6-435D4DF2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EA1C2A4-8B68-4429-8A67-DE2B9DE5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CBE4334-6483-422F-9794-4D027D49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BCD3E6A-E617-411C-B70A-ADBAC807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03354-572F-4638-96FC-04B9F6C6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D171239-36FA-4E42-B6CA-F8FB796A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1B83841-6191-4220-A221-647D4A06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9466477-D729-45D0-9F64-81FE1295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9B64EA3-BC04-4994-BD70-87B72955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39381A9-9D8D-4147-9801-6C824832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E27A51D-E71D-4EF0-AAE3-B871F1EA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227D669-9EC4-4D3A-98F6-C60F2B1C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FE3A971-2BBD-42B4-85DB-C2142B87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0DE78AC-E4D7-4C9E-8143-2C9A114F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A8B601B-5948-4717-886A-A6D7BB87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9FEBD-E728-472B-B4D0-9CC1DAD2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2180CB4-A9E7-4C9A-97BD-82735057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8542044-373D-430E-81CC-0E69225D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A48B3D4-C538-4F6C-9A06-A326318F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66A9EAE-DB4C-46EC-B771-2C22530F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4F26519-47E7-4E8F-9797-E01C5276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F4EDD91-0AE8-4153-A6A6-E7E97AEA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A52BD83-19CB-4CF0-B130-E3D3A8CE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AD71C80-F670-4541-8946-18472F9B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20E3D3A-89A4-47C9-969A-BA4155D0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2FA67AE-9F4F-4249-B709-539CB172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87D06-8AF8-4494-A7B5-1D2DC0BD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91875D3-550F-43B5-9D0C-6EE8A0EC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49062C5-4C8C-42EF-B38B-2639215E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3A80A45-A135-424B-8890-EA8D6F49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F830C2C-65C5-4F58-9A2E-EB5927E8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3FDA7F0-FC41-4348-A494-2354D21D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B134CEF-E767-48E8-A2E8-74CE0FD7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1936F98-B1FF-44A3-BE9F-9B3F1D00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517665D-B1A3-4CE5-B16E-83C0892C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C091C67-920F-4823-921F-6F15ACB7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9A236E8-19B4-492F-9B6D-AD2C15A6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B0F35-48AD-4B21-9103-C04BD0B3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DCFA294-9D19-4D16-9188-4ED52260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E1C77FA-C476-4741-A44C-C436865D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7EC1321-5162-4356-AD9B-B49DA959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539E2D-2F0E-45A0-90D2-BC470E26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E22360D-45D9-41B3-B563-38E02E77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00F3036-1066-4D05-B58C-1CA72F53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9EEC170-D185-477A-A927-41962184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DBC667-B964-435A-83BD-321E0AE4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4028C0B-C43B-45C1-A8E6-2D5174EE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D3FEB7C-2A4E-4027-B792-D3CB7D9F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49629-E149-4BCA-B0D6-B7ABD34C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BCD35C7-3399-471E-BFF4-37AC3F50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6C60916-B6D8-439B-9459-3CC05E40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E466FAF-34AD-4CA9-80D7-2F458298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E585CFE-57BE-46AB-8970-F70060BA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DF20EAB-B536-4117-856D-DFB688DE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F74FD03-16F7-4402-B973-DB975E06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94D3B13-C475-42E4-B7CD-64E3E856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419AACB-8F60-4C21-95DF-CC08EA4B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29B0E06-E57E-43E9-893E-17DB5C08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E1AA6A7-A171-4835-A87A-D5892195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C7FB3-6CBD-4D69-859B-91B6F7A7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3121503-8659-40E7-B474-E4C8A7AE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F1AC7F2-ECC0-42ED-B152-609A234B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BE3702C-F1D4-448E-9BB7-09106511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C8F8636-DC6F-4FF6-AFEC-226A40D0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B6BD6E2-4AA8-47E3-B803-A6630E96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FEEC7F7-07CF-4823-A9C6-66E9C313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09A48C2-390C-45B4-99DB-6597AF93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DF8C3DE-0A8E-486D-ABD5-6DCF2AFC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B7EB867-E7FD-444C-85E5-C35E87CB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2251774-0ABB-4E0E-989E-FD06769B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16FB0-410C-48FA-AEFB-B3CBAE02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1A230B2-003D-499B-9FDE-70623750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0ABB017-8CEF-4CD0-8909-CB42DE0E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4A2019B-4657-4553-8A14-9291D941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3F1F8B9-AD5F-485F-886B-E5CF2E11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9106910-F60B-4ABC-8647-0B3A2218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9ABF1E9-16EB-4B3D-B65A-07902939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CE1826D-F271-4CC8-ADA3-5BC73366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08957A9-2B60-4C56-938D-B5EEB172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9B495DD-C72F-4EC6-8E1D-2EBAE3AB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670CB60-B24C-42EC-8FF2-F607F7C7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F093C-FA75-457C-827E-FBDB4ABD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E08091C-DDEB-48F2-B501-374AC09A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5CFBDE3-E98F-4189-9410-A729E2CA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6682C02-EEBC-4EAB-9B92-FD4DE0B0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73DD7E4-9627-4F23-B8EE-B4F6410B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2C44087-9F22-436A-92DC-93416449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9229A9B-AE37-486D-AD29-BD05A0EB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77FD02F-F5D1-4826-A98B-401EB06F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6F096B5-2750-4265-B2B9-4EFDFD20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04BF7CA-1086-4E45-9817-C03815C5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53DAAED-53CB-4984-815A-60757C6A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BE3F7-32FE-4126-9441-E5335B37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8A21035-42FC-492D-98E6-041C8E7E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87E842B-5A59-474A-8793-ADFFC6CF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8E1FD7F-B977-47FE-A7FA-C7D959CD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25EF68A-E573-4BE2-B674-B7316A1C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1468FAF-28B3-4E15-8684-E10A8813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5511BFA-1447-482A-A3B3-D398634A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AFC33E3-E547-4390-8906-457E15A8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15E176F-41C1-43B7-B120-8E439C1C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98273E9-F364-40D1-96A5-0264C45D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702869B-8785-4A90-802C-A24D008B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C98-AB00-4730-A0EF-194D54DD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18EA5-27F0-4503-B283-FE32532C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33F7214-B1AA-49B9-9002-DB534FC7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3CF5EDB-766A-467D-B190-B2A13431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67C3935-A838-4054-A4D5-4F94CB2B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E7AB9DF-74CC-4832-8E11-589858B5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12A66A5-07EF-4449-8450-2D3932D3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5E7C421-5CA8-4D0A-A39A-979A1AB0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8652752-559A-4C7F-9A24-11C5D6C6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3F5C489-30F0-4F38-886D-8AA3749C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5857E19-FE46-48FB-9201-CE532B2C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3B2C0F6-0698-46BF-8A17-51D05974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F1847-9BB1-4BBF-8DD4-B4EBACEA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97B9178-6329-4326-87B9-81F1FF32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0E3D6B7-B8A9-468C-BE2A-F365F792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234AACE-A172-4535-A8F6-6A42031E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812877F-56F0-456F-ABB2-FF2F0F33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4F8C5CC-53E3-40DC-83AF-4C13914D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D614BD3-ED67-4D08-9ED1-D92AE1DB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B811B57-CF9B-49A5-A53D-52945958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70094F1-3E9D-49F8-9580-B968CA9A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74C7A8C-733B-4974-A6C3-FF149857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5360F5E-42A2-4C90-8CE1-AAFFAA61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9DC93-9A63-42D2-9577-071A81E4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A6A9D4A-0BFC-4A32-BF2B-D8AE7A72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A68F783-2006-4A89-9500-50CA61FB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99EC85E-BB04-4878-956E-230F6680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E28531E-4948-49D9-8E92-92B8B03A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9A63BB6-38E9-4EBC-9A55-FF7D98ED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E4850FB-3EA9-4596-96BA-34896264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9CACDED-FB6D-42EE-AD07-385680E7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DBA0155-1310-4278-A662-F9145FDB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C168969-8A9B-42E3-B568-0DE86231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7CB0319-F675-43EC-8476-8BC2006B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0D100-87F5-4FB3-BC03-32D5C243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2C06BEA-72D5-4150-8E89-B6E28EC8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C949FED-0D7A-4A0A-9B60-7F916D6D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89BDFB9-0FE5-42B3-BFAC-133FAB20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0A802C8-E239-428F-88EE-3AE3235B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E55ACAC-8B7F-42A3-B3DD-C3C073E7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A81D763-4D42-464A-B741-4E064EA1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534A691-2A69-42DF-945C-609FD2C9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4D85327-AB00-47A1-A5B7-8858CF2B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39978A8-DBD7-4C23-9A21-601B04F3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9534F7F-AA04-4CB7-AE7F-59FBA7FE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43F69-91E8-42F5-B102-A4D1DBE6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BF4A35B-FE44-4D9E-86EE-8B2E6654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A821D3C-3579-466F-918C-ED206561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6AD7500-0E12-4224-9176-4FE59396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AD4A7B9-4F7B-488A-934E-46BF080E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1FB1245-0856-421A-ABD0-546B1D5D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EAE93F6-A783-4D38-9600-24F72A8E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469F148-16CA-4A9B-A96D-29485277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5CB0E3D-A6E0-48B6-99FB-C4AB3BB9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AE2917D-5A31-4D54-AF61-B1B90BE3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2EE7C17-6BED-4B7C-B858-E0CEA4D8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C3B52-0B9F-46AD-A73A-627814EB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63004FD-63FC-4235-B016-45B340F4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3802B04-58CA-4D83-8A1E-5867FE13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A6152A3-7FF2-4B80-A9AC-80C5C125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79C0C44-AE64-47D6-818B-780FA8B4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3C1D481-FB56-4944-A90B-99156060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8066D5B-ED83-4862-B6CA-9D6C25D3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C2C7C9D-493F-4D9D-84EB-BD38CB40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5C83B25-D51D-4E5D-AB12-5479E5FF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7B0F6EE-BE3C-459F-BF23-4C64CBFB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209E371-1F05-4EEF-B3D5-09E61CE5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13D83-4BEE-475A-BB01-3F6C6E1C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21E30B3-BAF3-454A-AA2A-65D79E64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64177D5-DB1B-4955-85A5-190C2E19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236BC21-8137-4D61-9C2C-2D742163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5D90CC8-512C-4813-A0EF-9525C58F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221A7A1-CC12-4C23-934A-0B329B6E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C5916FC-5715-4BE4-A3FD-72F9DA40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A827D25-C715-467E-ACF5-9B9F74D3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D9ACA65-BCD5-4888-B29B-D29F341A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3260931-0395-4F5A-81BB-C2EC7278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5A26FE0-01DC-465D-B57E-45D6BB32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50D6A-C49D-4877-B618-05835A7F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E02FAB8-0796-498D-A3DC-1ABFA5C7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14DD359-5C94-4DAB-A259-3D2BF811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B1F8BBE-BAD1-4296-B84A-53962E48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067AC-E2D1-4380-9344-0B95FD69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DF483-07D8-4795-8F8D-A116E5A6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A3E9-F600-4319-A84C-58202D1E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93C49-B432-463A-B479-C8016CE4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1D6AC-ED75-498E-A23C-50589F02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D4E60-39E3-47B7-95B5-30AEE8F9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8522B-EA41-4522-A88D-C17AC0A0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A1542-2470-42B2-A9F7-D22E5B47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D07F1-FDB7-48A5-AF8A-F65F089E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50185-829D-4F29-BAE1-E065E060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DE42C-B180-4840-B9ED-AD1853D4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908CE-CBD7-4419-A705-B3221EC3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03E88-7DB5-4319-BB1D-D76E7B67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A627-0196-4758-A267-42A68C7E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CE262-87EC-4730-98C6-FD74B291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C7223-CE26-414A-A744-DC0EDEBB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05AE3-C369-4AD6-83CC-225B5B8C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DEDF6-F918-472E-B261-D5CFB94A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FE5CC-7700-4233-9F7F-206A2F60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D46B9-13BD-4735-A362-0379231C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43A6B-09DC-4E57-A9FA-BD99DED2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3E749-CE86-4412-81AE-31B633C3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A8841-5B50-4EE3-BF3B-4C82A76B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8F5E7-DCA3-43BB-BBA1-6C421243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40F3-5127-4FDA-A526-E35EA1A8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2A738-2C67-4563-AF02-1D1FEE1B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6F3A6-6402-4F49-BFFE-E75F0E9A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08075-C0D2-41B5-A493-97A1E165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E7032-D29C-4685-AC7D-DCD0A8D6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EE884-DC7C-4E89-AD66-F47D06D5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1CF37-0CB2-4F12-B27D-10CE29DC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3C87C-01AB-486E-9946-FD63611E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C6025-B32D-43A9-A9CC-557ECFB4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DEC7C-DC84-46FE-91F1-3BA37333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B2716-1DCD-4980-8189-65F26A66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BAB5-738B-4F53-B47C-F50E4567E56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3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274e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3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1B49-C952-40BE-974B-A62ABDD1319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2139-2F8B-49D5-AC80-A3598DDCED5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2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52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7770-9D49-499D-AB24-1FD6649A935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6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56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8F64-FC00-47E9-83C9-1A5BB481C04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0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1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3883-E0E0-4C5B-8902-3574ADECCB6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5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D78A-D377-490C-847E-1FAFDB83CAD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9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9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B827-C3BB-4FDD-8AEF-75378A7B209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4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74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2E3C-F407-4998-AEE0-24CA1DEB5F2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8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78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B7DA-8E10-44EE-8AD0-B41DB058F1D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83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17BD-1886-4F84-BF87-F1DC7A7BFC0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6516-6CEB-4A02-A354-6E86C092799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7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87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54BE-03D3-419C-9D75-7D1807A9490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1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2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5F04-9F35-4003-A740-09B3DB60A8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6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6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6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944A-0F69-4F17-A05F-841EDDC127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0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0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1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C446-FE54-4AE2-9B01-1112DF87E74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5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5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5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A4AF-3D55-4A91-9781-2B4C68605D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9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9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0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9C4C-2522-4ADC-A793-655C2A62D7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4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4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4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8973-D53C-4935-9B3E-B71D16C409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8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8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9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302E-DAFE-433F-966E-442AF3AA30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23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3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3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F456-DB51-477D-9F78-81D723EA61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27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7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8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75B9-EB11-483D-B902-38EBB5F268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AA6B-37F1-4B19-8E05-EDE23689D7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2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2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2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F057-1A82-4035-AF9B-E614DA7A03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6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6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7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2FB8-2653-4D34-93C0-7E9ED279D8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9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9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0FF3-829D-49AF-93D4-B7517ED730A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9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506F-B2FC-4351-822C-430DF9FBB5E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9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 type="dt" idx="10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0497-B2FD-4FEB-9A4A-04A0D6A41D2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10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7B99-9B6E-411B-A70F-F13DEC35347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dt" idx="10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0ECB-6237-45FD-B038-9C78FA5F23E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 type="dt" idx="10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0FA5-0C26-422F-906D-75342BB42ED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dt" idx="1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C451-7FAE-40B9-8476-BBD6DA915BC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 type="dt" idx="1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677C-B4C8-4D62-B36B-973FDF99991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CD88-982E-4688-9988-F29345D008B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5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 type="dt" idx="1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8410-BD6E-44AD-B417-B1E311235AE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dt" idx="1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DA9F-E585-4154-B5DA-D42A9FD82AA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 type="dt" idx="1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36CD-F92E-4D1C-AB8B-FB33772F6E6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8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88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grpSp>
        <p:nvGrpSpPr>
          <p:cNvPr id="188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8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89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 type="dt" idx="12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 type="ftr" idx="12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 type="sldNum" idx="12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DAA1-F529-4216-8AD4-323A3C954C7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193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93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965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 type="dt" idx="1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1603-CA05-4DF3-94A3-1EDA57C31D8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00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0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1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4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5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6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7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8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9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0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3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4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7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8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2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3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4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5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6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7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9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0653-5D77-48E9-931B-8E38E0062D6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08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8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5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8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9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0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1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2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3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4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7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8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1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2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6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7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8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9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0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1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3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 type="dt" idx="1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376A-6F9D-4FB9-A6E1-5A634B57F6B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15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15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5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5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3902-956C-4067-BD6C-5085216C378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23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3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6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6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B11E-1F4D-4E02-9B73-D33D038AABF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30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0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7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0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1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2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3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4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5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6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9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0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3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4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8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9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0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1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2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3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5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 type="dt" idx="1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D438-DA19-4ACB-ABD1-F7AA7D6C221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7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7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7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8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A6AA-86FE-4F72-A2D2-BD36FB1473C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37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7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1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4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5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6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7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8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9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0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3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4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7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8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2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3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4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5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6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7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9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 type="dt" idx="1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DB9C-81B5-4F9C-9EC8-136C8138B2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45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45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5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8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9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0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1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2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3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4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7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8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1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2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6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7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8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9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0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1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3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 type="dt" idx="1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87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D3D4-4DA4-425D-9034-281069B9AD0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52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52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 type="dt" idx="15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9E0F-481D-4364-B6A5-EDFA52D2F9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60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60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3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3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 type="dt" idx="1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34CE-46AB-4F1E-801E-0722976A791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67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67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7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0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1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2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3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4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5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6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9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0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3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4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8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9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0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1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2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3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5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9DCF-DF28-4F51-A366-892171E238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7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7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8408-D3CE-4416-BE42-316062E3CCF6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 type="dt" idx="16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00" name="PlaceHolder 4"/>
          <p:cNvSpPr>
            <a:spLocks noGrp="1"/>
          </p:cNvSpPr>
          <p:nvPr>
            <p:ph type="ftr" idx="1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5"/>
          <p:cNvSpPr>
            <a:spLocks noGrp="1"/>
          </p:cNvSpPr>
          <p:nvPr>
            <p:ph type="sldNum" idx="16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D500-C1F7-45A0-950F-0A385EC179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A6E2-15EE-429B-A0D8-5FCEC379B9F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FE8C-6604-45B5-958D-FDC9F340D3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304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4D0E-46DA-4B64-9EA8-97F20F1678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8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F945-DAC7-4DA7-B521-49B7617BDD2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net196.soes.ru/" TargetMode="External"/><Relationship Id="rId3" Type="http://schemas.openxmlformats.org/officeDocument/2006/relationships/hyperlink" Target="http://www.bestreferat.ru/" TargetMode="External"/><Relationship Id="rId4" Type="http://schemas.openxmlformats.org/officeDocument/2006/relationships/hyperlink" Target="http://www.baby.com.ua/" TargetMode="External"/><Relationship Id="rId5" Type="http://schemas.openxmlformats.org/officeDocument/2006/relationships/hyperlink" Target="http://www.le-mon.ru/" TargetMode="External"/><Relationship Id="rId6" Type="http://schemas.openxmlformats.org/officeDocument/2006/relationships/hyperlink" Target="http://www.add.net.ru/" TargetMode="External"/><Relationship Id="rId7" Type="http://schemas.openxmlformats.org/officeDocument/2006/relationships/hyperlink" Target="http://www.med.resourse.ru/" TargetMode="External"/><Relationship Id="rId8" Type="http://schemas.openxmlformats.org/officeDocument/2006/relationships/hyperlink" Target="http://www.djv.ru/" TargetMode="External"/><Relationship Id="rId9" Type="http://schemas.openxmlformats.org/officeDocument/2006/relationships/image" Target="../media/image28.wm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52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Аддиктивное поведение учащихся,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роблемы диагностики склонности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 вредным привычк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 advTm="15000">
    <p:wedg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92936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i="1" lang="ru-RU" sz="3800" spc="-1" strike="noStrike">
                <a:solidFill>
                  <a:srgbClr val="cc0000"/>
                </a:solidFill>
                <a:latin typeface="Verdana"/>
              </a:rPr>
              <a:t>Какие бывают аддикции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В зависимости от того посредством чего осуществляется уход из реальности выделяются зависимости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фармакологические (химические)-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зависимость от психоактивных веществ (ПАВ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субстанциональные –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эмоциональные (секс- и любовные зависимости), трудо-  или работоголизм, компьютерные и игорные зависимости и многие другие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пищевые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зависимости говорят сами за себя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cc0000"/>
                </a:solidFill>
                <a:latin typeface="Verdana"/>
              </a:rPr>
              <a:t>Какие вещества, предметы или действия могут быть предметом аддикции 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ркотики, алкоголь, табак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зартные игры(включая компьютерные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лительное прослушивание ритмичной музык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лное погружение в какой-либо вид деятельности с отказом от жизненно важных обязанностей человека (хобби, работа и т.д.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юди, предметы и явления окружающей действительности, вызывающие различные эмоциональные состоя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hecker dir="vert"/>
    <p:sndAc>
      <p:stSnd>
        <p:snd r:embed="rId1" name="chimes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0" fill="hold"/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0" fill="hold"/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0" fill="hold"/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0" fill="hold"/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55560" y="477720"/>
            <a:ext cx="777888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c0000"/>
                </a:solidFill>
                <a:latin typeface="Verdana"/>
              </a:rPr>
              <a:t>     </a:t>
            </a:r>
            <a:r>
              <a:rPr b="1" i="1" lang="ru-RU" sz="3900" spc="-1" strike="noStrike">
                <a:solidFill>
                  <a:srgbClr val="cc0000"/>
                </a:solidFill>
                <a:latin typeface="Verdana"/>
              </a:rPr>
              <a:t>Алкогольная аддикция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23640" y="1846440"/>
            <a:ext cx="856908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2347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5ffff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e5ffff"/>
                </a:solidFill>
                <a:latin typeface="Verdana"/>
              </a:rPr>
              <a:t>Одна из форм фармакологических или химических зависимосте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34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e5ffff"/>
                </a:solidFill>
                <a:latin typeface="Verdana"/>
              </a:rPr>
              <a:t>                  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234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AutoShape 5"/>
          <p:cNvSpPr/>
          <p:nvPr/>
        </p:nvSpPr>
        <p:spPr>
          <a:xfrm>
            <a:off x="3995640" y="2421000"/>
            <a:ext cx="4584960" cy="3595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84" name="Text Box 8"/>
          <p:cNvSpPr/>
          <p:nvPr/>
        </p:nvSpPr>
        <p:spPr>
          <a:xfrm>
            <a:off x="4067280" y="2492280"/>
            <a:ext cx="43923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В основе алкогольной зависим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ти лежит употребление спирт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одержащих напитков. Алкоголь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является пищевым продуктом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или входит в них, не являясь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запрещенным как, например,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наркотики. Алкоголь не изменя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ет, а кристаллизует текущее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остояние: если вам грустно, то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употребление алкоголя не под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нимет ваше настроение,а, наоб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рот, его еще больше ухудшит.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2885" name="Picture 9" descr="image002"/>
          <p:cNvPicPr/>
          <p:nvPr/>
        </p:nvPicPr>
        <p:blipFill>
          <a:blip r:embed="rId2"/>
          <a:stretch/>
        </p:blipFill>
        <p:spPr>
          <a:xfrm>
            <a:off x="755640" y="2708280"/>
            <a:ext cx="2752560" cy="3240000"/>
          </a:xfrm>
          <a:prstGeom prst="rect">
            <a:avLst/>
          </a:prstGeom>
          <a:ln w="0">
            <a:noFill/>
          </a:ln>
        </p:spPr>
      </p:pic>
      <p:sp>
        <p:nvSpPr>
          <p:cNvPr id="28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2000"/>
                                        <p:tgtEl>
                                          <p:spTgt spid="2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690480" y="318600"/>
            <a:ext cx="78408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4215"/>
                </a:solidFill>
                <a:latin typeface="Verdana"/>
              </a:rPr>
              <a:t>Наркотическая аддикция-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олезненные состояния, характеризующиеся явления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сихической и физическо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висимости, настоятельной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преодолимой потребн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повторном потреблении П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котическими призна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а или лекарств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торые обладают способн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ецифического действия 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альную нервную систем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тимулируют, вызывают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йфорию, изменяют восприятие окружающего мира и т.п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9" name="Picture 6" descr="image004"/>
          <p:cNvPicPr/>
          <p:nvPr/>
        </p:nvPicPr>
        <p:blipFill>
          <a:blip r:embed="rId2"/>
          <a:stretch/>
        </p:blipFill>
        <p:spPr>
          <a:xfrm>
            <a:off x="4788000" y="206064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28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3" name="chimes.wav"/>
      </p:stSnd>
    </p:sndAc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1000"/>
                                        <p:tgtEl>
                                          <p:spTgt spid="2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68000" y="596520"/>
            <a:ext cx="809604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Лекарственная аддикция-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82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ндром, развивающийся при употреблении психотроп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; характеризуется патало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ческой потребностью в прием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х веществ для того, чт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бежать развития абстиненц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и психических нарушений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стояния дискомфорта, возникаю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щих при прекращении их прие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бо при введении антагонис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их веществ. К ним относя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медрол, феназепам и т.п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3" name="Picture 5" descr="image006"/>
          <p:cNvPicPr/>
          <p:nvPr/>
        </p:nvPicPr>
        <p:blipFill>
          <a:blip r:embed="rId2"/>
          <a:stretch/>
        </p:blipFill>
        <p:spPr>
          <a:xfrm>
            <a:off x="611280" y="2276640"/>
            <a:ext cx="3247920" cy="3686040"/>
          </a:xfrm>
          <a:prstGeom prst="rect">
            <a:avLst/>
          </a:prstGeom>
          <a:ln w="0">
            <a:noFill/>
          </a:ln>
        </p:spPr>
      </p:pic>
      <p:sp>
        <p:nvSpPr>
          <p:cNvPr id="2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vert"/>
    <p:sndAc>
      <p:stSnd>
        <p:snd r:embed="rId3" name="chimes.wav"/>
      </p:stSnd>
    </p:sndAc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10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4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4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4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4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46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47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8400"/>
                            </p:stCondLst>
                            <p:childTnLst>
                              <p:par>
                                <p:cTn id="4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4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5400"/>
                            </p:stCondLst>
                            <p:childTnLst>
                              <p:par>
                                <p:cTn id="4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4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42100"/>
                            </p:stCondLst>
                            <p:childTnLst>
                              <p:par>
                                <p:cTn id="5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Табакокуре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рение табака - один из наиболее распространенных вид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комании, охватывающий большое количество людей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ющийся поэтому бытовой наркоманией. Дымящаяс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гарета доставляет привычному курильщику удоволь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обенно остро ощущается потребность в курении посл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нятия пищи, во время выпивки, при отрицательны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моциях и во время напряженной работы. При этом са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дыхаемый никотин не оказывает какого-либо положитель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го действия на организм. Сигарета является больше отвл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ющим фактором:переключение сознания на неё помог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одвинуть неприятные мысли, прервать тяжелую рабо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вместное курение облегчает контакт между людьми, явля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тся хорошим предлогом для знаком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7" name="Picture 4" descr="10023"/>
          <p:cNvPicPr/>
          <p:nvPr/>
        </p:nvPicPr>
        <p:blipFill>
          <a:blip r:embed="rId2"/>
          <a:stretch/>
        </p:blipFill>
        <p:spPr>
          <a:xfrm>
            <a:off x="5508720" y="40464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28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vert"/>
    <p:sndAc>
      <p:stSnd>
        <p:snd r:embed="rId3" name="chimes.wav"/>
      </p:stSnd>
    </p:sndAc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5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52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5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53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5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5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37900"/>
                            </p:stCondLst>
                            <p:childTnLst>
                              <p:par>
                                <p:cTn id="5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43100"/>
                            </p:stCondLst>
                            <p:childTnLst>
                              <p:par>
                                <p:cTn id="55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8900"/>
                            </p:stCondLst>
                            <p:childTnLst>
                              <p:par>
                                <p:cTn id="5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4900"/>
                            </p:stCondLst>
                            <p:childTnLst>
                              <p:par>
                                <p:cTn id="5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600"/>
                            </p:stCondLst>
                            <p:childTnLst>
                              <p:par>
                                <p:cTn id="5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66300"/>
                            </p:stCondLst>
                            <p:childTnLst>
                              <p:par>
                                <p:cTn id="5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72200"/>
                            </p:stCondLst>
                            <p:childTnLst>
                              <p:par>
                                <p:cTn id="5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Токсикома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ксикомания развивается в связ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употреблением лекарств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ств и веществ, не отнес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наркотическим, но также изменя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ющих психическое состоян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ловека и его поведение. Диапазо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 с токсикологически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йствием очень широк – от мед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ментов (аналгетики, транквил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торы, снотворные, стимуля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др.) до технических растворител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средств бытовой хим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1" name="Picture 8" descr="image008"/>
          <p:cNvPicPr/>
          <p:nvPr/>
        </p:nvPicPr>
        <p:blipFill>
          <a:blip r:embed="rId2"/>
          <a:stretch/>
        </p:blipFill>
        <p:spPr>
          <a:xfrm>
            <a:off x="5651640" y="1628640"/>
            <a:ext cx="2895480" cy="4324320"/>
          </a:xfrm>
          <a:prstGeom prst="rect">
            <a:avLst/>
          </a:prstGeom>
          <a:ln w="0">
            <a:noFill/>
          </a:ln>
        </p:spPr>
      </p:pic>
      <p:sp>
        <p:nvSpPr>
          <p:cNvPr id="2902" name="AutoShape 9"/>
          <p:cNvSpPr/>
          <p:nvPr/>
        </p:nvSpPr>
        <p:spPr>
          <a:xfrm>
            <a:off x="6516720" y="357336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072" h="21600">
                <a:moveTo>
                  <a:pt x="14141" y="14281"/>
                </a:moveTo>
                <a:lnTo>
                  <a:pt x="14141" y="12323"/>
                </a:lnTo>
                <a:cubicBezTo>
                  <a:pt x="14141" y="11496"/>
                  <a:pt x="14472" y="10800"/>
                  <a:pt x="15073" y="10800"/>
                </a:cubicBezTo>
                <a:cubicBezTo>
                  <a:pt x="16204" y="10800"/>
                  <a:pt x="17101" y="9434"/>
                  <a:pt x="17101" y="7849"/>
                </a:cubicBezTo>
                <a:cubicBezTo>
                  <a:pt x="17101" y="5534"/>
                  <a:pt x="15247" y="3794"/>
                  <a:pt x="13036" y="3794"/>
                </a:cubicBezTo>
                <a:cubicBezTo>
                  <a:pt x="10825" y="3794"/>
                  <a:pt x="9154" y="5534"/>
                  <a:pt x="9154" y="7849"/>
                </a:cubicBezTo>
                <a:lnTo>
                  <a:pt x="11008" y="7849"/>
                </a:lnTo>
                <a:cubicBezTo>
                  <a:pt x="11008" y="6709"/>
                  <a:pt x="11931" y="5821"/>
                  <a:pt x="13036" y="5821"/>
                </a:cubicBezTo>
                <a:cubicBezTo>
                  <a:pt x="14141" y="5821"/>
                  <a:pt x="15073" y="6709"/>
                  <a:pt x="15073" y="7849"/>
                </a:cubicBezTo>
                <a:cubicBezTo>
                  <a:pt x="15073" y="8589"/>
                  <a:pt x="14603" y="9320"/>
                  <a:pt x="14141" y="9320"/>
                </a:cubicBezTo>
                <a:cubicBezTo>
                  <a:pt x="13036" y="9320"/>
                  <a:pt x="11931" y="10800"/>
                  <a:pt x="11931" y="12323"/>
                </a:cubicBezTo>
                <a:lnTo>
                  <a:pt x="11931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0" dur="10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2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2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2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2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2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2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2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2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29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9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29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20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9" dur="20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0000"/>
            </a:gs>
            <a:gs pos="100000">
              <a:srgbClr val="ffd5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Суици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мерение лишить себя жизни, повышенный риск сов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ения самоубийства. Эта форма отклоняющегося повед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ия пассивного типа является способом ухода от нераз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имых проблем.Идея может стать навязчивой и превра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ться в аддикцию. Суициды в большей степени характ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ы для высокоразвитых стран, и сегодня существует тен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нция к увеличению их числа. Суицидная актив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еет временные циклы: весенне -летний пик и осенн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имний спад. Количество самоубийств возрастает во вто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ик и снижается в среду-четверг.Чаще совершаются в воз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те после 55 и до 20 лет.Соотношение между мужчин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женщинами-самоубийцами примерно 4: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1" name="chimes.wav"/>
      </p:stSnd>
    </p:sndAc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1000"/>
                                        <p:tgtEl>
                                          <p:spTgt spid="2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1000"/>
                                        <p:tgtEl>
                                          <p:spTgt spid="2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1000"/>
                                        <p:tgtEl>
                                          <p:spTgt spid="2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1000"/>
                                        <p:tgtEl>
                                          <p:spTgt spid="2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1000"/>
                                        <p:tgtEl>
                                          <p:spTgt spid="2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1000"/>
                                        <p:tgtEl>
                                          <p:spTgt spid="2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1000"/>
                                        <p:tgtEl>
                                          <p:spTgt spid="29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29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1000"/>
                                        <p:tgtEl>
                                          <p:spTgt spid="29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1000"/>
                                        <p:tgtEl>
                                          <p:spTgt spid="29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Трудоголиз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удоголизм, в отличие от многи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ругих зависимостей, являе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циально-одобряемой аддикци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 на самом деле трудоголик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личность с определенными психологическими пробл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ми.Трудоголиком может стать и лентяй, дни и ноч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сиживающий на работе во время домашних неурядиц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ом психологического дискомфорта, психолог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ской травмы чаще всего бывает реально пережиты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и мнимый страх:боязнь неудачи, страх перед одиноч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вом или, напротив, боязнь общ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9" name="Picture 6" descr="image012"/>
          <p:cNvPicPr/>
          <p:nvPr/>
        </p:nvPicPr>
        <p:blipFill>
          <a:blip r:embed="rId2"/>
          <a:stretch/>
        </p:blipFill>
        <p:spPr>
          <a:xfrm>
            <a:off x="5508720" y="549360"/>
            <a:ext cx="3267000" cy="2438280"/>
          </a:xfrm>
          <a:prstGeom prst="rect">
            <a:avLst/>
          </a:prstGeom>
          <a:ln w="0">
            <a:noFill/>
          </a:ln>
        </p:spPr>
      </p:pic>
      <p:sp>
        <p:nvSpPr>
          <p:cNvPr id="29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vert"/>
    <p:sndAc>
      <p:stSnd>
        <p:snd r:embed="rId3" name="chimes.wav"/>
      </p:stSnd>
    </p:sndAc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3" dur="1000"/>
                                        <p:tgtEl>
                                          <p:spTgt spid="2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7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7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76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31700"/>
                            </p:stCondLst>
                            <p:childTnLst>
                              <p:par>
                                <p:cTn id="7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37400"/>
                            </p:stCondLst>
                            <p:childTnLst>
                              <p:par>
                                <p:cTn id="7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2600"/>
                            </p:stCondLst>
                            <p:childTnLst>
                              <p:par>
                                <p:cTn id="7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48200"/>
                            </p:stCondLst>
                            <p:childTnLst>
                              <p:par>
                                <p:cTn id="7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Пищевые зависимост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566640" y="1773360"/>
            <a:ext cx="818208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ним относятся такие пс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ические расстройства ка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улимия (переедание)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орексия (доброво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каз от пищи).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ищевая зависимость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не только переедание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лодание,но и зависим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 вкуса:от вкуса кофе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околада, сливок и т.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3" name="Picture 8" descr="image010"/>
          <p:cNvPicPr/>
          <p:nvPr/>
        </p:nvPicPr>
        <p:blipFill>
          <a:blip r:embed="rId2"/>
          <a:stretch/>
        </p:blipFill>
        <p:spPr>
          <a:xfrm>
            <a:off x="4500720" y="1052640"/>
            <a:ext cx="3981240" cy="2666880"/>
          </a:xfrm>
          <a:prstGeom prst="rect">
            <a:avLst/>
          </a:prstGeom>
          <a:ln w="0">
            <a:noFill/>
          </a:ln>
        </p:spPr>
      </p:pic>
      <p:pic>
        <p:nvPicPr>
          <p:cNvPr id="2914" name="Picture 9" descr="image014"/>
          <p:cNvPicPr/>
          <p:nvPr/>
        </p:nvPicPr>
        <p:blipFill>
          <a:blip r:embed="rId3"/>
          <a:stretch/>
        </p:blipFill>
        <p:spPr>
          <a:xfrm>
            <a:off x="684360" y="3716280"/>
            <a:ext cx="3981240" cy="2666880"/>
          </a:xfrm>
          <a:prstGeom prst="rect">
            <a:avLst/>
          </a:prstGeom>
          <a:ln w="0">
            <a:noFill/>
          </a:ln>
        </p:spPr>
      </p:pic>
      <p:sp>
        <p:nvSpPr>
          <p:cNvPr id="29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vert"/>
    <p:sndAc>
      <p:stSnd>
        <p:snd r:embed="rId4" name="chimes.wav"/>
      </p:stSnd>
    </p:sndAc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8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8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8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8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8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8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ЕТИ – это наш суд на миру, наше зеркало, в котором совесть, ум, честность, опрятность нашу – все наголо вид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ети могут нами закрыться, мы ими никог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.П.Астафье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9" name="Picture 4" descr="j0284916"/>
          <p:cNvPicPr/>
          <p:nvPr/>
        </p:nvPicPr>
        <p:blipFill>
          <a:blip r:embed="rId1"/>
          <a:stretch/>
        </p:blipFill>
        <p:spPr>
          <a:xfrm>
            <a:off x="1187280" y="3429000"/>
            <a:ext cx="3657600" cy="2419200"/>
          </a:xfrm>
          <a:prstGeom prst="rect">
            <a:avLst/>
          </a:prstGeom>
          <a:ln w="0">
            <a:noFill/>
          </a:ln>
        </p:spPr>
      </p:pic>
      <p:sp>
        <p:nvSpPr>
          <p:cNvPr id="28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Игромания и компьютерная зависим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ой из проблем современно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формационного обще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ется новая для педагог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а – </a:t>
            </a: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игромания и  компью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терная зависимость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ув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ьютерными играми, интернет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ями, игровыми автоматами, азартными игр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омания – увлечение или болезнь? Психиатры утв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дают – игромания лечится, но бороться с зависим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ужно на ранней стадии.Болезнь начинается с привязан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сти к компьютерным играм, которая превращается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алогию.Игра – это взаимодействие. И не важно с кем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людьми, компьютером или же с самим собо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8" name="Picture 6" descr="image016"/>
          <p:cNvPicPr/>
          <p:nvPr/>
        </p:nvPicPr>
        <p:blipFill>
          <a:blip r:embed="rId2"/>
          <a:stretch/>
        </p:blipFill>
        <p:spPr>
          <a:xfrm>
            <a:off x="5435640" y="1052640"/>
            <a:ext cx="3238560" cy="2523960"/>
          </a:xfrm>
          <a:prstGeom prst="rect">
            <a:avLst/>
          </a:prstGeom>
          <a:ln w="0">
            <a:noFill/>
          </a:ln>
        </p:spPr>
      </p:pic>
      <p:sp>
        <p:nvSpPr>
          <p:cNvPr id="29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10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8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8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89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8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90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9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33400"/>
                            </p:stCondLst>
                            <p:childTnLst>
                              <p:par>
                                <p:cTn id="9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9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9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49800"/>
                            </p:stCondLst>
                            <p:childTnLst>
                              <p:par>
                                <p:cTn id="9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55300"/>
                            </p:stCondLst>
                            <p:childTnLst>
                              <p:par>
                                <p:cTn id="9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Проблемы компьютерной зависим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1" name="Picture 9" descr="image018"/>
          <p:cNvPicPr/>
          <p:nvPr/>
        </p:nvPicPr>
        <p:blipFill>
          <a:blip r:embed="rId2"/>
          <a:stretch/>
        </p:blipFill>
        <p:spPr>
          <a:xfrm>
            <a:off x="468360" y="907920"/>
            <a:ext cx="8064360" cy="5183280"/>
          </a:xfrm>
          <a:prstGeom prst="rect">
            <a:avLst/>
          </a:prstGeom>
          <a:ln w="0">
            <a:noFill/>
          </a:ln>
        </p:spPr>
      </p:pic>
      <p:sp>
        <p:nvSpPr>
          <p:cNvPr id="2922" name="Text Box 10"/>
          <p:cNvSpPr/>
          <p:nvPr/>
        </p:nvSpPr>
        <p:spPr>
          <a:xfrm>
            <a:off x="395280" y="981000"/>
            <a:ext cx="8748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ритерии, определяющие начало компьютерной 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зависимости: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беспричинные частые и резкие перепады настроения       от подавленного до эйфорически-приподнятого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болезненная и неадекватная реакция на критику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нарастающая оппозиционность к родителям, друзьям, значительное эмоциональное отчуждение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ухудшение памяти, внимания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снижение успеваемости, прогулы занятий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уход от участия в делах, которые ранее были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нтересны, отказ от хобби, любимого дела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ропажа из дома ценностей или денег, проявление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чужих вещей, денежные долги ребенка,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оявляющаяся изворотливость, лживость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неопрятность, неряшливость не характерные ранее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риступы депрессии, страха, тревоги.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3" name="chimes.wav"/>
      </p:stSnd>
    </p:sndAc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0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574200" y="404280"/>
            <a:ext cx="8001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Памятка для родителей по использованию компьютера ребенк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того, чтобы родители могли контролировать использование ребенком компьютера, они сами должны хотя бы на элементарном уровне уметь им пользова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не должен играть в компьютерные игры перед сн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рез каждые 20-30 минут работы на компьютере необходимо делать переры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не должен работать на компьютере более 1,5-2 часов в сут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ребенок посещает компьютерный клуб, родители должны знать, в каком клубе (зале) он бывает и с кем там общае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dissolve/>
    <p:sndAc>
      <p:stSnd>
        <p:snd r:embed="rId7" name="chimes.wav"/>
      </p:stSnd>
    </p:sndAc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0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0" fill="hold"/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0" fill="hold"/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0" fill="hold"/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0" fill="hold"/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0" fill="hold"/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0" fill="hold"/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0" fill="hold"/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0" fill="hold"/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8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0" fill="hold"/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0" fill="hold"/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99308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Компьютер-мясорубка для информации. </a:t>
            </a:r>
            <a:br>
              <a:rPr sz="2000"/>
            </a:b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                      Компьютер-это резонатор того интеллекта,</a:t>
            </a:r>
            <a:br>
              <a:rPr sz="2000"/>
            </a:b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                      с которым человек к нему обращае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                                             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дители должны контролировать приобретение ребенком компьютерных дисков с играми, чтобы они не причинили вреда детскому здоровью и психи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ребенок использует компьютер безответственно, необходимо ввести пароль, чтобы сделать невозможным доступ без разрешения родител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какие именно Интернет - сайты посещает ваш ребен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9" name="Picture 4" descr="j0195384"/>
          <p:cNvPicPr/>
          <p:nvPr/>
        </p:nvPicPr>
        <p:blipFill>
          <a:blip r:embed="rId5"/>
          <a:stretch/>
        </p:blipFill>
        <p:spPr>
          <a:xfrm>
            <a:off x="611280" y="333360"/>
            <a:ext cx="2144520" cy="2190600"/>
          </a:xfrm>
          <a:prstGeom prst="rect">
            <a:avLst/>
          </a:prstGeom>
          <a:ln w="0">
            <a:noFill/>
          </a:ln>
        </p:spPr>
      </p:pic>
      <p:sp>
        <p:nvSpPr>
          <p:cNvPr id="2930" name="Text Box 5"/>
          <p:cNvSpPr/>
          <p:nvPr/>
        </p:nvSpPr>
        <p:spPr>
          <a:xfrm>
            <a:off x="6732720" y="126828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В.Г.Кротов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6" name="chimes.wav"/>
      </p:stSnd>
    </p:sndAc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0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0" fill="hold"/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0" fill="hold"/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0" fill="hold"/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0" fill="hold"/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0" fill="hold"/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0" fill="hold"/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0" fill="hold"/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0" fill="hold"/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Подробно о методах и приемах профилактики компьютерной зависимости можно ознакомиться на Интернет – сайтах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net196.soes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BestReferat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baby.com.ua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www.Le-Mon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add.net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www.med.resourse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www.DJV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www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одител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spcBef>
                <a:spcPts val="8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4" name="Picture 4" descr="j0205466"/>
          <p:cNvPicPr/>
          <p:nvPr/>
        </p:nvPicPr>
        <p:blipFill>
          <a:blip r:embed="rId9"/>
          <a:stretch/>
        </p:blipFill>
        <p:spPr>
          <a:xfrm>
            <a:off x="395280" y="270828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29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10" name="chimes.wav"/>
      </p:stSnd>
    </p:sndAc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nodeType="clickEffect" fill="hold">
                      <p:stCondLst>
                        <p:cond delay="0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9" dur="2000"/>
                                        <p:tgtEl>
                                          <p:spTgt spid="2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0" fill="hold"/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0" fill="hold"/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0" fill="hold"/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0" fill="hold"/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6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574200" y="260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Как воспитать у ребенка положительные привычк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24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Первое правило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бходимо научить ребенка осознавать, что без неё жизнь превращается в катастроф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Второе правил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Ребенок должен научиться никогда не давать себе поблажки в проявлении той или иной привычки. Необходимо создать условия для исправления плохих привычек, даже если для этого необходимо проявить твердость и жестк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Третье правил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Необходимо учить ребенка использовать любую возможность для проявления положительной привычки. Тренировка в  положительных привычках приводит к их закреплению и привычки становятся «второй натурой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5" name="chimes.wav"/>
      </p:stSnd>
    </p:sndAc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0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0" fill="hold"/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0" fill="hold"/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0" fill="hold"/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0" fill="hold"/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0" fill="hold"/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0" fill="hold"/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b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574200" y="-306720"/>
            <a:ext cx="80010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566640" y="404640"/>
            <a:ext cx="8182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Verdana"/>
              </a:rPr>
              <a:t>Четвертое правило.</a:t>
            </a:r>
            <a:r>
              <a:rPr b="0" lang="ru-RU" sz="2000" spc="-1" strike="noStrike">
                <a:solidFill>
                  <a:srgbClr val="00cc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льзя бесконечно говорить обладателю плохой привычки, что он - её хозяин. Бесконечные проповеди и нравоучения озлобляют        учащихся. Многие учащиеся и так прекрасно знают, что у них есть плохие привычки. Надо быть среди учащихся очень авторитетным человеком, чтобы они стали прислушиваться к взрослым и хотели исправить свои привыч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Verdana"/>
              </a:rPr>
              <a:t>Пятое правило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проявления положительных привычек взрослый ( классный руководитель, родитель) должен создавать условия. Если классный руководитель знает, что большинство учащихся курит, необходимо организовать встречи с врачами, людьми, преодолевшими пристрастие к курению, смотреть фильмы, участвовать и организовывать акции и т.п. Однако для того чтобы так строить работу, надо знать, какие вредные привычки стали частью образа жизни ваших дет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2"/>
    <p:sndAc>
      <p:stSnd>
        <p:snd r:embed="rId3" name="chimes.wav"/>
      </p:stSnd>
    </p:sndAc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2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8" dur="2000" fill="hold"/>
                                        <p:tgtEl>
                                          <p:spTgt spid="2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0"/>
                </a:solidFill>
                <a:latin typeface="Verdana"/>
              </a:rPr>
              <a:t>        </a:t>
            </a:r>
            <a:r>
              <a:rPr b="1" i="1" lang="ru-RU" sz="4000" spc="-1" strike="noStrike">
                <a:solidFill>
                  <a:srgbClr val="fffff0"/>
                </a:solidFill>
                <a:latin typeface="Verdana"/>
              </a:rPr>
              <a:t>Желаем успех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в преодолении вредных привыче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и зависимостей ( аддикций 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и воспитании положительны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привыче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Смысл притягивает, комплекс толкает».(Франкл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висимость-это не притяжение, это толк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кание изнутри собственным страхом подростка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ахом перед реальностью.Помогите ребенк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бавиться от своих страхов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3"/>
    <p:sndAc>
      <p:stSnd>
        <p:snd r:embed="rId2" name="chimes.wav"/>
      </p:stSnd>
    </p:sndAc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0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10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1000"/>
                                        <p:tgtEl>
                                          <p:spTgt spid="2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1000"/>
                                        <p:tgtEl>
                                          <p:spTgt spid="2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1000"/>
                                        <p:tgtEl>
                                          <p:spTgt spid="2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1000"/>
                                        <p:tgtEl>
                                          <p:spTgt spid="2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1000"/>
                                        <p:tgtEl>
                                          <p:spTgt spid="2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1000"/>
                                        <p:tgtEl>
                                          <p:spTgt spid="2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1000"/>
                                        <p:tgtEl>
                                          <p:spTgt spid="2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1000"/>
                                        <p:tgtEl>
                                          <p:spTgt spid="2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1000"/>
                                        <p:tgtEl>
                                          <p:spTgt spid="29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1000"/>
                                        <p:tgtEl>
                                          <p:spTgt spid="29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8" dur="20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1" dur="10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00"/>
                </a:solidFill>
                <a:latin typeface="Arial"/>
              </a:rPr>
              <a:t>Что такое привычк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ивычка – это капитал, приобретаемый       в ходе постоянных упражнений. Их надо сначала накопить, а потом жить на проценты с этого капитала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жемс,амер.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med">
    <p:zoom dir="out"/>
    <p:sndAc>
      <p:stSnd>
        <p:snd r:embed="rId1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94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6376"/>
            </a:gs>
            <a:gs pos="50000">
              <a:srgbClr val="ffd5ff"/>
            </a:gs>
            <a:gs pos="100000">
              <a:srgbClr val="7663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Начиная разговор о вредных привычках и зависимостях с подростками или родителями, воспользуйтесь следующими известными афоризмами:</a:t>
            </a:r>
            <a:br>
              <a:rPr sz="2400"/>
            </a:br>
            <a:endParaRPr b="1" lang="en-US" sz="2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205848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вычка - вторая натура.»                                           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ицер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1302"/>
                </a:solidFill>
                <a:latin typeface="Arial"/>
              </a:rPr>
              <a:t>«Руководителем в жизни является не разум, а привычка. Лишь она понуждает ум во всех случаях предполагать, что будущее соответствует прошлому.»                                             </a:t>
            </a:r>
            <a:r>
              <a:rPr b="0" i="1" lang="ru-RU" sz="1800" spc="-1" strike="noStrike">
                <a:solidFill>
                  <a:srgbClr val="7c1302"/>
                </a:solidFill>
                <a:latin typeface="Arial"/>
              </a:rPr>
              <a:t>(Юм Дав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вычка, эта вторая натура, оказывается для большинства людей их единственной натурой.»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Ромен Ролл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1302"/>
                </a:solidFill>
                <a:latin typeface="Arial"/>
              </a:rPr>
              <a:t>«Привычки превращают обязанности в удовольствия, а удовольствия в обязанности.»                      </a:t>
            </a:r>
            <a:r>
              <a:rPr b="0" i="1" lang="ru-RU" sz="1800" spc="-1" strike="noStrike">
                <a:solidFill>
                  <a:srgbClr val="7c1302"/>
                </a:solidFill>
                <a:latin typeface="Arial"/>
              </a:rPr>
              <a:t>(Э.А.Севрус (Ворохов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ся вторая половина человеческой жизни составляется обыкновенно из одних только накопленных в первую половину привычек.»                                                          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стоевский Ф.М.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over dir="l"/>
    <p:sndAc>
      <p:stSnd>
        <p:snd r:embed="rId6" name="chime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20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Так ли безобидны детские «безобидные» привычк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онность ко лжи?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бедничество?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ксивость?                      </a:t>
            </a: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бывчивость?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ы в азартные игры?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сцельное гуляние?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лечение мобильными телефон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ражание героям фильмов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лечение японскими мультик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ес к эротическим рисункам и фильма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9" name="Picture 6" descr="j0286034"/>
          <p:cNvPicPr/>
          <p:nvPr/>
        </p:nvPicPr>
        <p:blipFill>
          <a:blip r:embed="rId12"/>
          <a:stretch/>
        </p:blipFill>
        <p:spPr>
          <a:xfrm>
            <a:off x="7451640" y="404640"/>
            <a:ext cx="919080" cy="8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60" name="AutoShape 7"/>
          <p:cNvSpPr/>
          <p:nvPr/>
        </p:nvSpPr>
        <p:spPr>
          <a:xfrm>
            <a:off x="4572000" y="1989000"/>
            <a:ext cx="4332240" cy="2156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Если вовремя не обратить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внимания на эти «безобид-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ные» привычки, ребенок 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может стать зависимым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и мы получим личность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с девиантным поведением.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over dir="r"/>
    <p:sndAc>
      <p:stSnd>
        <p:snd r:embed="rId13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2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2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ддиктивное поведение -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клонность  подростка  к приобретению вредных привыч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губная склонность к чему-либ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Суть аддиктивного поведения заключаетс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стремлении изменить своё психическое 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посредством приёма некоторых веществ или фиксацией внимания на определенных предме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или видах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2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2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Garamond"/>
              </a:rPr>
              <a:t>Что происходит с психикой человека, склонного к аддикции?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цесс употребления ПАВ, привязанность к предмету или действию сопровождается развитием интенсивных эмоций, принимает такие размеры, что начинает управлять жизнью человека, лишает его воли к противодействию аддик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7" name="Picture 10" descr="j0302953"/>
          <p:cNvPicPr/>
          <p:nvPr/>
        </p:nvPicPr>
        <p:blipFill>
          <a:blip r:embed="rId1"/>
          <a:stretch/>
        </p:blipFill>
        <p:spPr>
          <a:xfrm>
            <a:off x="7093080" y="836640"/>
            <a:ext cx="1263600" cy="1770120"/>
          </a:xfrm>
          <a:prstGeom prst="rect">
            <a:avLst/>
          </a:prstGeom>
          <a:ln w="0">
            <a:noFill/>
          </a:ln>
        </p:spPr>
      </p:pic>
      <p:sp>
        <p:nvSpPr>
          <p:cNvPr id="28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9408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Garamond"/>
              </a:rPr>
              <a:t>Кто склонен к аддикциям?</a:t>
            </a:r>
            <a:br>
              <a:rPr sz="4800"/>
            </a:br>
            <a:endParaRPr b="0" lang="en-US" sz="4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юди с низкой переносимостью психологических затруднений, плохо адаптирующиеся к быстрой смене жизненных обстоятельств, стремящиеся в связи с этим быстрее и проще достичь психофизиологического комфор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10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С чем связано аддиктивное        поведение?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желанием человека уйти из реальной жизни путем изменения своего сознания. Аддикция становится средством бегства от проблем. Для самозащиты, люди с аддиктивным поведением используют механизм, называемый в психологии «мышлением по желанию», т.е. они считают реальным лишь то, что соответствует их желаниям. В итоге нарушаются межличностные отношения, человек отчуждается от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2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3:06:43Z</dcterms:created>
  <dc:creator>Сарахман И.Д.</dc:creator>
  <dc:description/>
  <dc:language>en-US</dc:language>
  <cp:lastModifiedBy>LEGION</cp:lastModifiedBy>
  <dcterms:modified xsi:type="dcterms:W3CDTF">2015-05-12T09:04:39Z</dcterms:modified>
  <cp:revision>52</cp:revision>
  <dc:subject/>
  <dc:title>Аддиктивное поведение учащихс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