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52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56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57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7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48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49.xml" ContentType="application/vnd.openxmlformats-officedocument.theme+xml"/>
  <Override PartName="/ppt/theme/theme45.xml" ContentType="application/vnd.openxmlformats-officedocument.theme+xml"/>
  <Override PartName="/ppt/theme/theme46.xml" ContentType="application/vnd.openxmlformats-officedocument.theme+xml"/>
  <Override PartName="/ppt/theme/theme50.xml" ContentType="application/vnd.openxmlformats-officedocument.theme+xml"/>
  <Override PartName="/ppt/theme/theme13.xml" ContentType="application/vnd.openxmlformats-officedocument.theme+xml"/>
  <Override PartName="/ppt/theme/theme51.xml" ContentType="application/vnd.openxmlformats-officedocument.theme+xml"/>
  <Override PartName="/ppt/theme/theme52.xml" ContentType="application/vnd.openxmlformats-officedocument.theme+xml"/>
  <Override PartName="/ppt/theme/theme41.xml" ContentType="application/vnd.openxmlformats-officedocument.theme+xml"/>
  <Override PartName="/ppt/theme/theme39.xml" ContentType="application/vnd.openxmlformats-officedocument.theme+xml"/>
  <Override PartName="/ppt/theme/theme53.xml" ContentType="application/vnd.openxmlformats-officedocument.theme+xml"/>
  <Override PartName="/ppt/theme/theme42.xml" ContentType="application/vnd.openxmlformats-officedocument.theme+xml"/>
  <Override PartName="/ppt/theme/theme54.xml" ContentType="application/vnd.openxmlformats-officedocument.theme+xml"/>
  <Override PartName="/ppt/theme/theme43.xml" ContentType="application/vnd.openxmlformats-officedocument.theme+xml"/>
  <Override PartName="/ppt/theme/theme55.xml" ContentType="application/vnd.openxmlformats-officedocument.theme+xml"/>
  <Override PartName="/ppt/theme/theme44.xml" ContentType="application/vnd.openxmlformats-officedocument.theme+xml"/>
  <Override PartName="/ppt/theme/theme56.xml" ContentType="application/vnd.openxmlformats-officedocument.theme+xml"/>
  <Override PartName="/ppt/theme/theme40.xml" ContentType="application/vnd.openxmlformats-officedocument.theme+xml"/>
  <Override PartName="/ppt/theme/theme38.xml" ContentType="application/vnd.openxmlformats-officedocument.theme+xml"/>
  <Override PartName="/ppt/theme/theme37.xml" ContentType="application/vnd.openxmlformats-officedocument.theme+xml"/>
  <Override PartName="/ppt/theme/theme36.xml" ContentType="application/vnd.openxmlformats-officedocument.theme+xml"/>
  <Override PartName="/ppt/theme/theme35.xml" ContentType="application/vnd.openxmlformats-officedocument.theme+xml"/>
  <Override PartName="/ppt/theme/theme34.xml" ContentType="application/vnd.openxmlformats-officedocument.theme+xml"/>
  <Override PartName="/ppt/theme/theme33.xml" ContentType="application/vnd.openxmlformats-officedocument.theme+xml"/>
  <Override PartName="/ppt/theme/theme32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_rels/slideLayout527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100.xml.rels" ContentType="application/vnd.openxmlformats-package.relationships+xml"/>
  <Override PartName="/ppt/slideLayouts/slideLayout295.xml" ContentType="application/vnd.openxmlformats-officedocument.presentationml.slideLayout+xml"/>
  <Override PartName="/ppt/slideLayouts/slideLayout509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527.xml" ContentType="application/vnd.openxmlformats-officedocument.presentationml.slideLayout+xml"/>
  <Override PartName="/ppt/media/image28.wmf" ContentType="image/x-wmf"/>
  <Override PartName="/ppt/media/image30.png" ContentType="image/png"/>
  <Override PartName="/ppt/media/image27.wmf" ContentType="image/x-wmf"/>
  <Override PartName="/ppt/media/image24.jpeg" ContentType="image/jpeg"/>
  <Override PartName="/ppt/media/image22.jpeg" ContentType="image/jpeg"/>
  <Override PartName="/ppt/media/image4.jpeg" ContentType="image/jpeg"/>
  <Override PartName="/ppt/media/image25.jpeg" ContentType="image/jpeg"/>
  <Override PartName="/ppt/media/image32.png" ContentType="image/png"/>
  <Override PartName="/ppt/media/image6.wmf" ContentType="image/x-wmf"/>
  <Override PartName="/ppt/media/image19.jpeg" ContentType="image/jpeg"/>
  <Override PartName="/ppt/media/image15.gif" ContentType="image/gif"/>
  <Override PartName="/ppt/media/image7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33.gif" ContentType="image/gif"/>
  <Override PartName="/ppt/media/image18.jpeg" ContentType="image/jpeg"/>
  <Override PartName="/ppt/media/image2.jpeg" ContentType="image/jpeg"/>
  <Override PartName="/ppt/media/image23.jpeg" ContentType="image/jpeg"/>
  <Override PartName="/ppt/media/image16.jpeg" ContentType="image/jpeg"/>
  <Override PartName="/ppt/media/image31.png" ContentType="image/png"/>
  <Override PartName="/ppt/media/image1.png" ContentType="image/png"/>
  <Override PartName="/ppt/media/image13.jpeg" ContentType="image/jpeg"/>
  <Override PartName="/ppt/media/image14.jpeg" ContentType="image/jpeg"/>
  <Override PartName="/ppt/media/image20.jpeg" ContentType="image/jpeg"/>
  <Override PartName="/ppt/media/chimes.wav" ContentType="audio/x-wav"/>
  <Override PartName="/ppt/media/image29.png" ContentType="image/png"/>
  <Override PartName="/ppt/media/image2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</p:sldMasterIdLst>
  <p:notesMasterIdLst>
    <p:notesMasterId r:id="rId58"/>
  </p:notesMasterIdLst>
  <p:sldIdLst>
    <p:sldId id="256" r:id="rId59"/>
    <p:sldId id="257" r:id="rId60"/>
    <p:sldId id="258" r:id="rId61"/>
    <p:sldId id="259" r:id="rId62"/>
    <p:sldId id="260" r:id="rId63"/>
    <p:sldId id="261" r:id="rId64"/>
    <p:sldId id="262" r:id="rId65"/>
    <p:sldId id="263" r:id="rId66"/>
    <p:sldId id="264" r:id="rId67"/>
    <p:sldId id="265" r:id="rId68"/>
    <p:sldId id="266" r:id="rId69"/>
    <p:sldId id="267" r:id="rId70"/>
    <p:sldId id="268" r:id="rId71"/>
    <p:sldId id="269" r:id="rId72"/>
    <p:sldId id="270" r:id="rId73"/>
    <p:sldId id="271" r:id="rId74"/>
    <p:sldId id="272" r:id="rId75"/>
    <p:sldId id="273" r:id="rId76"/>
    <p:sldId id="274" r:id="rId77"/>
    <p:sldId id="275" r:id="rId78"/>
    <p:sldId id="276" r:id="rId79"/>
    <p:sldId id="277" r:id="rId80"/>
    <p:sldId id="278" r:id="rId81"/>
    <p:sldId id="279" r:id="rId82"/>
    <p:sldId id="280" r:id="rId83"/>
    <p:sldId id="281" r:id="rId84"/>
    <p:sldId id="282" r:id="rId8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notesMaster" Target="notesMasters/notesMaster1.xml"/><Relationship Id="rId59" Type="http://schemas.openxmlformats.org/officeDocument/2006/relationships/slide" Target="slides/slide1.xml"/><Relationship Id="rId60" Type="http://schemas.openxmlformats.org/officeDocument/2006/relationships/slide" Target="slides/slide2.xml"/><Relationship Id="rId61" Type="http://schemas.openxmlformats.org/officeDocument/2006/relationships/slide" Target="slides/slide3.xml"/><Relationship Id="rId62" Type="http://schemas.openxmlformats.org/officeDocument/2006/relationships/slide" Target="slides/slide4.xml"/><Relationship Id="rId63" Type="http://schemas.openxmlformats.org/officeDocument/2006/relationships/slide" Target="slides/slide5.xml"/><Relationship Id="rId64" Type="http://schemas.openxmlformats.org/officeDocument/2006/relationships/slide" Target="slides/slide6.xml"/><Relationship Id="rId65" Type="http://schemas.openxmlformats.org/officeDocument/2006/relationships/slide" Target="slides/slide7.xml"/><Relationship Id="rId66" Type="http://schemas.openxmlformats.org/officeDocument/2006/relationships/slide" Target="slides/slide8.xml"/><Relationship Id="rId67" Type="http://schemas.openxmlformats.org/officeDocument/2006/relationships/slide" Target="slides/slide9.xml"/><Relationship Id="rId68" Type="http://schemas.openxmlformats.org/officeDocument/2006/relationships/slide" Target="slides/slide10.xml"/><Relationship Id="rId69" Type="http://schemas.openxmlformats.org/officeDocument/2006/relationships/slide" Target="slides/slide11.xml"/><Relationship Id="rId70" Type="http://schemas.openxmlformats.org/officeDocument/2006/relationships/slide" Target="slides/slide12.xml"/><Relationship Id="rId71" Type="http://schemas.openxmlformats.org/officeDocument/2006/relationships/slide" Target="slides/slide13.xml"/><Relationship Id="rId72" Type="http://schemas.openxmlformats.org/officeDocument/2006/relationships/slide" Target="slides/slide14.xml"/><Relationship Id="rId73" Type="http://schemas.openxmlformats.org/officeDocument/2006/relationships/slide" Target="slides/slide15.xml"/><Relationship Id="rId74" Type="http://schemas.openxmlformats.org/officeDocument/2006/relationships/slide" Target="slides/slide16.xml"/><Relationship Id="rId75" Type="http://schemas.openxmlformats.org/officeDocument/2006/relationships/slide" Target="slides/slide17.xml"/><Relationship Id="rId76" Type="http://schemas.openxmlformats.org/officeDocument/2006/relationships/slide" Target="slides/slide18.xml"/><Relationship Id="rId77" Type="http://schemas.openxmlformats.org/officeDocument/2006/relationships/slide" Target="slides/slide19.xml"/><Relationship Id="rId78" Type="http://schemas.openxmlformats.org/officeDocument/2006/relationships/slide" Target="slides/slide20.xml"/><Relationship Id="rId79" Type="http://schemas.openxmlformats.org/officeDocument/2006/relationships/slide" Target="slides/slide21.xml"/><Relationship Id="rId80" Type="http://schemas.openxmlformats.org/officeDocument/2006/relationships/slide" Target="slides/slide22.xml"/><Relationship Id="rId81" Type="http://schemas.openxmlformats.org/officeDocument/2006/relationships/slide" Target="slides/slide23.xml"/><Relationship Id="rId82" Type="http://schemas.openxmlformats.org/officeDocument/2006/relationships/slide" Target="slides/slide24.xml"/><Relationship Id="rId83" Type="http://schemas.openxmlformats.org/officeDocument/2006/relationships/slide" Target="slides/slide25.xml"/><Relationship Id="rId84" Type="http://schemas.openxmlformats.org/officeDocument/2006/relationships/slide" Target="slides/slide26.xml"/><Relationship Id="rId85" Type="http://schemas.openxmlformats.org/officeDocument/2006/relationships/slide" Target="slides/slide27.xml"/><Relationship Id="rId8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8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0" name="PlaceHolder 2"/>
          <p:cNvSpPr>
            <a:spLocks noGrp="1"/>
          </p:cNvSpPr>
          <p:nvPr>
            <p:ph type="dt" idx="16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3" name="PlaceHolder 5"/>
          <p:cNvSpPr>
            <a:spLocks noGrp="1"/>
          </p:cNvSpPr>
          <p:nvPr>
            <p:ph type="ftr" idx="17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4" name="PlaceHolder 6"/>
          <p:cNvSpPr>
            <a:spLocks noGrp="1"/>
          </p:cNvSpPr>
          <p:nvPr>
            <p:ph type="sldNum" idx="17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0C24A-6903-4F3F-8EE4-6CD2E4DC69A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6.png"/><Relationship Id="rId5" Type="http://schemas.openxmlformats.org/officeDocument/2006/relationships/image" Target="../media/image26.png"/><Relationship Id="rId6" Type="http://schemas.openxmlformats.org/officeDocument/2006/relationships/slide" Target="../slides/slide22.xml"/><Relationship Id="rId7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slide" Target="../slides/slide23.xml"/><Relationship Id="rId5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hyperlink" Target="http://www.net196.soes.ru/" TargetMode="External"/><Relationship Id="rId2" Type="http://schemas.openxmlformats.org/officeDocument/2006/relationships/hyperlink" Target="http://www.bestreferat.ru/" TargetMode="External"/><Relationship Id="rId3" Type="http://schemas.openxmlformats.org/officeDocument/2006/relationships/hyperlink" Target="http://www.baby.com.ua/" TargetMode="External"/><Relationship Id="rId4" Type="http://schemas.openxmlformats.org/officeDocument/2006/relationships/hyperlink" Target="http://www.le-mon.ru/" TargetMode="External"/><Relationship Id="rId5" Type="http://schemas.openxmlformats.org/officeDocument/2006/relationships/hyperlink" Target="http://www.add.net.ru/" TargetMode="External"/><Relationship Id="rId6" Type="http://schemas.openxmlformats.org/officeDocument/2006/relationships/hyperlink" Target="http://www.med.resourse.ru/" TargetMode="External"/><Relationship Id="rId7" Type="http://schemas.openxmlformats.org/officeDocument/2006/relationships/hyperlink" Target="http://www.djv.ru/" TargetMode="External"/><Relationship Id="rId8" Type="http://schemas.openxmlformats.org/officeDocument/2006/relationships/slide" Target="../slides/slide24.xml"/><Relationship Id="rId9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slide" Target="../slides/slide25.xml"/><Relationship Id="rId5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slide" Target="../slides/slide26.xml"/><Relationship Id="rId4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2.png"/><Relationship Id="rId3" Type="http://schemas.openxmlformats.org/officeDocument/2006/relationships/image" Target="../media/image32.png"/><Relationship Id="rId4" Type="http://schemas.openxmlformats.org/officeDocument/2006/relationships/image" Target="../media/image32.png"/><Relationship Id="rId5" Type="http://schemas.openxmlformats.org/officeDocument/2006/relationships/image" Target="../media/image32.png"/><Relationship Id="rId6" Type="http://schemas.openxmlformats.org/officeDocument/2006/relationships/slide" Target="../slides/slide4.xml"/><Relationship Id="rId7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image" Target="../media/image33.gif"/><Relationship Id="rId3" Type="http://schemas.openxmlformats.org/officeDocument/2006/relationships/image" Target="../media/image33.gif"/><Relationship Id="rId4" Type="http://schemas.openxmlformats.org/officeDocument/2006/relationships/image" Target="../media/image33.gif"/><Relationship Id="rId5" Type="http://schemas.openxmlformats.org/officeDocument/2006/relationships/image" Target="../media/image33.gif"/><Relationship Id="rId6" Type="http://schemas.openxmlformats.org/officeDocument/2006/relationships/image" Target="../media/image33.gif"/><Relationship Id="rId7" Type="http://schemas.openxmlformats.org/officeDocument/2006/relationships/image" Target="../media/image33.gif"/><Relationship Id="rId8" Type="http://schemas.openxmlformats.org/officeDocument/2006/relationships/image" Target="../media/image33.gif"/><Relationship Id="rId9" Type="http://schemas.openxmlformats.org/officeDocument/2006/relationships/image" Target="../media/image33.gif"/><Relationship Id="rId10" Type="http://schemas.openxmlformats.org/officeDocument/2006/relationships/image" Target="../media/image33.gif"/><Relationship Id="rId11" Type="http://schemas.openxmlformats.org/officeDocument/2006/relationships/slide" Target="../slides/slide5.xml"/><Relationship Id="rId1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71E27-11C5-4A0A-B7CC-98930304DBE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9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Аддиктивное поведение учащихся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проблемы диагностики склонности учащих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к вредным привычка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ru-RU" sz="1200" spc="-1" strike="noStrike">
                <a:solidFill>
                  <a:srgbClr val="333399"/>
                </a:solidFill>
                <a:latin typeface="Arial"/>
              </a:rPr>
              <a:t>Какие бывают аддикци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зависимости от того посредством чего осуществляется уход из реальности выделяются зависимост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1200" spc="-1" strike="noStrike">
                <a:solidFill>
                  <a:srgbClr val="333399"/>
                </a:solidFill>
                <a:latin typeface="Arial"/>
              </a:rPr>
              <a:t>- фармакологические (химические)-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зависимость от психоактивных веществ (ПАВ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1200" spc="-1" strike="noStrike">
                <a:solidFill>
                  <a:srgbClr val="333399"/>
                </a:solidFill>
                <a:latin typeface="Arial"/>
              </a:rPr>
              <a:t>- субстанциональные –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эмоциональные (секс- и любовные зависимости), трудо-  или работоголизм, компьютерные и игорные зависимости и многие други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1200" spc="-1" strike="noStrike">
                <a:solidFill>
                  <a:srgbClr val="333399"/>
                </a:solidFill>
                <a:latin typeface="Arial"/>
              </a:rPr>
              <a:t>- пищевые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зависимости говорят сами за себ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2F5C2-2FC1-45FB-9C64-7780206D931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333399"/>
                </a:solidFill>
                <a:latin typeface="Arial"/>
              </a:rPr>
              <a:t>Какие вещества, предметы или действия могут быть предметом аддикции 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ркотики, алкоголь, табак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зартные игры(включая компьютерные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ительное прослушивание ритмичной музык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ное погружение в какой-либо вид деятельности с отказом от жизненно важных обязанностей человека (хобби, работа и т.д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юди, предметы и явления окружающей действительности, вызывающие различные эмоциональные состоя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7B026-0F52-4066-B416-512F55CB6DF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Алкогольная аддик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5ffff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e5ffff"/>
                </a:solidFill>
                <a:latin typeface="Arial"/>
              </a:rPr>
              <a:t>Одна из форм фармакологических или химических зависимост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e5ffff"/>
                </a:solidFill>
                <a:latin typeface="Arial"/>
              </a:rPr>
              <a:t>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999CA-DC6B-440A-A545-0651D514A02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4215"/>
                </a:solidFill>
                <a:latin typeface="Arial"/>
              </a:rPr>
              <a:t>Наркотическая аддикция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езненные состояния, характеризующиеся явления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сихической и физическо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висимости, настоятельной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преодолимой потребность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повторном потреблении ПА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ркотическими признают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щества или лекарства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торые обладают способность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ецифического действия 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тральную нервную систем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стимулируют, вызываю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йфорию, изменяют восприятие окружающего мира и т.п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05D7B-7B1A-4985-83DB-AA9ED57C8A5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Лекарственная аддикция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ндром, развивающийся при употреблении психотроп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ществ; характеризуется патало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ческой потребностью в прием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ких веществ для того, чтоб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бежать развития абстиненц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ли психических нарушений 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ояния дискомфорта, возникаю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щих при прекращении их прие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бо при введении антагонис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их веществ. К ним относятс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медрол, феназепам и т.п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47670-C383-4810-B3DA-67BBE0A231C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Табакокур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урение табака - один из наиболее распространенных вид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ркомании, охватывающий большое количество людей 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вляющийся поэтому бытовой наркоманией. Дымящаяс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гарета доставляет привычному курильщику удовольств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енно остро ощущается потребность в курении посл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ятия пищи, во время выпивки, при отрицательны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моциях и во время напряженной работы. При этом са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дыхаемый никотин не оказывает какого-либо положитель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го действия на организм. Сигарета является больше отвле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ющим фактором:переключение сознания на неё помога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одвинуть неприятные мысли, прервать тяжелую работ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местное курение облегчает контакт между людьми, явля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тся хорошим предлогом для знаком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1A897-9685-447E-94CD-DF2C10B3388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Токсиком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ксикомания развивается в связ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употреблением лекарствен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едств и веществ, не отнесен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наркотическим, но также изменя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ющих психическое состоя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ловека и его поведение. Диапазо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ществ с токсикологически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йствием очень широк – от меди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ментов (аналгетики, транквили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торы, снотворные, стимулято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др.) до технических растворител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средств бытовой хим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0BA54-1306-4AC9-A974-407CC6E0864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уици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мерение лишить себя жизни, повышенный риск совер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ения самоубийства. Эта форма отклоняющегося поведе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ия пассивного типа является способом ухода от нераз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шимых проблем.Идея может стать навязчивой и превра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иться в аддикцию. Суициды в большей степени характер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ы для высокоразвитых стран, и сегодня существует тен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нция к увеличению их числа. Суицидная актив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еет временные циклы: весенне -летний пик и осенне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имний спад. Количество самоубийств возрастает во втор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ик и снижается в среду-четверг.Чаще совершаются в воз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те после 55 и до 20 лет.Соотношение между мужчин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женщинами-самоубийцами примерно 4: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7FF5C-6277-40BA-AD60-53A2016EB9A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Трудогол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оголизм, в отличие от многи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ругих зависимостей, являет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циально-одобряемой аддикци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 на самом деле трудоголик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личность с определенными психологическими пробле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ми.Трудоголиком может стать и лентяй, дни и ноч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сиживающий на работе во время домашних неурядиц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чником психологического дискомфорта, психологи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ской травмы чаще всего бывает реально пережиты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ли мнимый страх:боязнь неудачи, страх перед одиноче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вом или, напротив, боязнь общ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90763-F2CB-4C63-85A1-4B2B38BAEF0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Пищевые зависим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ним относятся такие пси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ические расстройства ка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улимия (переедание) 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орексия (добровольн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каз от пищи).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ищевая зависимость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не только переедание 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лодание,но и зависим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 вкуса:от вкуса кофе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околада, сливок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C5841-C5C6-4434-9418-0837729EE42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ДЕТИ – это наш суд на миру, наше зеркало, в котором совесть, ум, честность, опрятность нашу – все наголо вида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Дети могут нами закрыться, мы ими никог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В.П.Астафье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1E626-24A7-4460-A2D7-0CFC909AC91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Игромания и компьютерная зависим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дной из проблем современно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онного обще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вляется новая для педагог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блема – </a:t>
            </a:r>
            <a:r>
              <a:rPr b="0" i="1" lang="ru-RU" sz="1200" spc="-1" strike="noStrike">
                <a:solidFill>
                  <a:srgbClr val="333399"/>
                </a:solidFill>
                <a:latin typeface="Arial"/>
              </a:rPr>
              <a:t>игромания и  компью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333399"/>
                </a:solidFill>
                <a:latin typeface="Arial"/>
              </a:rPr>
              <a:t>терная зависимость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увлеч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ьютерными играми, интернет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ологиями, игровыми автоматами, азартными игр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громания – увлечение или болезнь? Психиатры утвер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дают – игромания лечится, но бороться с зависимость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ужно на ранней стадии.Болезнь начинается с привязан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сти к компьютерным играм, которая превращается 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талогию.Игра – это взаимодействие. И не важно с кем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людьми, компьютером или же с самим собо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CCE7A-2D74-4A08-B21E-5F16CDD3357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Arial"/>
              </a:rPr>
              <a:t>Проблемы компьютерной зависим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AB250-6B36-4ED0-8975-2A4136739B0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333399"/>
                </a:solidFill>
                <a:latin typeface="Arial"/>
              </a:rPr>
              <a:t>Памятка для родителей по использованию компьютера ребенк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SzPct val="10300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того, чтобы родители могли контролировать использование ребенком компьютера, они сами должны хотя бы на элементарном уровне уметь им пользовать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SzPct val="10300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бенок не должен играть в компьютерные игры перед сн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SzPct val="10300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рез каждые 20-30 минут работы на компьютере необходимо делать переры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SzPct val="10300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бенок не должен работать на компьютере более 1,5-2 часов в сут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SzPct val="10300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ребенок посещает компьютерный клуб, родители должны знать, в каком клубе (зале) он бывает и с кем там общает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2F3AA-C329-4A96-B3E2-804E0471242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100" spc="-1" strike="noStrike">
                <a:solidFill>
                  <a:srgbClr val="333399"/>
                </a:solidFill>
                <a:latin typeface="Arial"/>
              </a:rPr>
              <a:t>Компьютер-мясорубка для информации. </a:t>
            </a:r>
            <a:br>
              <a:rPr sz="1100"/>
            </a:br>
            <a:r>
              <a:rPr b="0" i="1" lang="ru-RU" sz="1100" spc="-1" strike="noStrike">
                <a:solidFill>
                  <a:srgbClr val="333399"/>
                </a:solidFill>
                <a:latin typeface="Arial"/>
              </a:rPr>
              <a:t>                      Компьютер-это резонатор того интеллекта,</a:t>
            </a:r>
            <a:br>
              <a:rPr sz="1100"/>
            </a:br>
            <a:r>
              <a:rPr b="0" i="1" lang="ru-RU" sz="1100" spc="-1" strike="noStrike">
                <a:solidFill>
                  <a:srgbClr val="333399"/>
                </a:solidFill>
                <a:latin typeface="Arial"/>
              </a:rPr>
              <a:t>                      с которым человек к нему обращается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SzPct val="10300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дители должны контролировать приобретение ребенком компьютерных дисков с играми, чтобы они не причинили вреда детскому здоровью и психик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SzPct val="10300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ребенок использует компьютер безответственно, необходимо ввести пароль, чтобы сделать невозможным доступ без разрешения родител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SzPct val="10300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олируйте какие именно Интернет - сайты посещает ваш ребено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6624C-04FD-470C-8394-D365BFD4EC4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Подробно о методах и приемах профилактики компьютерной зависимости можно ознакомиться на Интернет – сайтах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spcBef>
                <a:spcPts val="1049"/>
              </a:spcBef>
              <a:buClr>
                <a:srgbClr val="ff0000"/>
              </a:buClr>
              <a:buFont typeface="Arial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net196.soes.ru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spcBef>
                <a:spcPts val="1049"/>
              </a:spcBef>
              <a:buClr>
                <a:srgbClr val="ff0000"/>
              </a:buClr>
              <a:buFont typeface="Arial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BestReferat.ru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spcBef>
                <a:spcPts val="1049"/>
              </a:spcBef>
              <a:buClr>
                <a:srgbClr val="ff0000"/>
              </a:buClr>
              <a:buFont typeface="Arial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baby.com.ua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spcBef>
                <a:spcPts val="1049"/>
              </a:spcBef>
              <a:buClr>
                <a:srgbClr val="ff0000"/>
              </a:buClr>
              <a:buFont typeface="Arial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Le-Mon.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spcBef>
                <a:spcPts val="1049"/>
              </a:spcBef>
              <a:buClr>
                <a:srgbClr val="ff0000"/>
              </a:buClr>
              <a:buFont typeface="Arial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add.net.ru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spcBef>
                <a:spcPts val="1049"/>
              </a:spcBef>
              <a:buClr>
                <a:srgbClr val="ff0000"/>
              </a:buClr>
              <a:buFont typeface="Arial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www.med.resourse.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spcBef>
                <a:spcPts val="1049"/>
              </a:spcBef>
              <a:buClr>
                <a:srgbClr val="ff0000"/>
              </a:buClr>
              <a:buFont typeface="Arial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www.DJV.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spcBef>
                <a:spcPts val="1049"/>
              </a:spcBef>
              <a:buClr>
                <a:srgbClr val="ff0000"/>
              </a:buClr>
              <a:buFont typeface="Arial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ttp://www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одител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0">
              <a:spcBef>
                <a:spcPts val="10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26A9B-3A9B-41F7-B3BE-96D329E1BB5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Как воспитать у ребенка положительные привычк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SzPct val="10295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0000"/>
                </a:solidFill>
                <a:latin typeface="Arial"/>
              </a:rPr>
              <a:t>Первое правило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бходимо научить ребенка осознавать, что без неё жизнь превращается в катастроф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SzPct val="10295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0000"/>
                </a:solidFill>
                <a:latin typeface="Arial"/>
              </a:rPr>
              <a:t>Второе правило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Ребенок должен научиться никогда не давать себе поблажки в проявлении той или иной привычки. Необходимо создать условия для исправления плохих привычек, даже если для этого необходимо проявить твердость и жестко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SzPct val="10295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0000"/>
                </a:solidFill>
                <a:latin typeface="Arial"/>
              </a:rPr>
              <a:t>Третье правило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Необходимо учить ребенка использовать любую возможность для проявления положительной привычки. Тренировка в  положительных привычках приводит к их закреплению и привычки становятся «второй натурой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15653-218C-4CFD-8D32-5633D2F1B8E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295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ccff"/>
                </a:solidFill>
                <a:latin typeface="Arial"/>
              </a:rPr>
              <a:t>Четвертое правило.</a:t>
            </a:r>
            <a:r>
              <a:rPr b="0" lang="ru-RU" sz="1200" spc="-1" strike="noStrike">
                <a:solidFill>
                  <a:srgbClr val="00cc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льзя бесконечно говорить обладателю плохой привычки, что он - её хозяин. Бесконечные проповеди и нравоучения озлобляют        учащихся. Многие учащиеся и так прекрасно знают, что у них есть плохие привычки. Надо быть среди учащихся очень авторитетным человеком, чтобы они стали прислушиваться к взрослым и хотели исправить свои привыч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295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ccff"/>
                </a:solidFill>
                <a:latin typeface="Arial"/>
              </a:rPr>
              <a:t>Пятое правило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проявления положительных привычек взрослый ( классный руководитель, родитель) должен создавать условия. Если классный руководитель знает, что большинство учащихся курит, необходимо организовать встречи с врачами, людьми, преодолевшими пристрастие к курению, смотреть фильмы, участвовать и организовывать акции и т.п. Однако для того чтобы так строить работу, надо знать, какие вредные привычки стали частью образа жизни ваших дете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EB2E1-2E84-4044-82DE-9DB5F3EA79C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fff0"/>
                </a:solidFill>
                <a:latin typeface="Arial"/>
              </a:rPr>
              <a:t>Желаем успех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Arial"/>
              </a:rPr>
              <a:t>в преодолении вредных привыче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ru-RU" sz="1200" spc="-1" strike="noStrike">
                <a:solidFill>
                  <a:srgbClr val="ffffff"/>
                </a:solidFill>
                <a:latin typeface="Arial"/>
              </a:rPr>
              <a:t>и зависимостей ( аддикций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ru-RU" sz="1200" spc="-1" strike="noStrike">
                <a:solidFill>
                  <a:srgbClr val="ffffff"/>
                </a:solidFill>
                <a:latin typeface="Arial"/>
              </a:rPr>
              <a:t>и воспитании положитель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1" i="1" lang="ru-RU" sz="1200" spc="-1" strike="noStrike">
                <a:solidFill>
                  <a:srgbClr val="ffffff"/>
                </a:solidFill>
                <a:latin typeface="Arial"/>
              </a:rPr>
              <a:t>привыче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Смысл притягивает, комплекс толкает».(Франкл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висимость-это не притяжение, это толка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лкание изнутри собственным страхом подростка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ахом перед реальностью.Помогите ребенк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бавиться от своих страхов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24795-E4E8-4E0D-A672-E86B7070032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9999"/>
                </a:solidFill>
                <a:latin typeface="Arial"/>
              </a:rPr>
              <a:t>Что такое привычк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Привычка – это капитал, приобретаемый       в ходе постоянных упражнений. Их надо сначала накопить, а потом жить на проценты с этого капитала.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Джемс,амер.психоло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0AC96-13EE-43D4-A9D4-0A3BA2325A9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333399"/>
                </a:solidFill>
                <a:latin typeface="Arial"/>
              </a:rPr>
              <a:t>Начиная разговор о вредных привычках и зависимостях с подростками или родителями, воспользуйтесь следующими известными афоризмами: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4"/>
              </a:spcBef>
              <a:buSzPct val="10300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Привычка - вторая натура.»                                            (</a:t>
            </a:r>
            <a:r>
              <a:rPr b="0" i="1" lang="ru-RU" sz="1100" spc="-1" strike="noStrike">
                <a:solidFill>
                  <a:srgbClr val="000000"/>
                </a:solidFill>
                <a:latin typeface="Arial"/>
              </a:rPr>
              <a:t>Цицерон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4"/>
              </a:spcBef>
              <a:buSzPct val="10300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Руководителем в жизни является не разум, а привычка. Лишь она понуждает ум во всех случаях предполагать, что будущее соответствует прошлому.»                                             </a:t>
            </a:r>
            <a:r>
              <a:rPr b="0" i="1" lang="ru-RU" sz="1100" spc="-1" strike="noStrike">
                <a:solidFill>
                  <a:srgbClr val="000000"/>
                </a:solidFill>
                <a:latin typeface="Arial"/>
              </a:rPr>
              <a:t>(Юм Давид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4"/>
              </a:spcBef>
              <a:buSzPct val="10300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Привычка, эта вторая натура, оказывается для большинства людей их единственной натурой.»                          </a:t>
            </a:r>
            <a:r>
              <a:rPr b="0" i="1" lang="ru-RU" sz="1100" spc="-1" strike="noStrike">
                <a:solidFill>
                  <a:srgbClr val="000000"/>
                </a:solidFill>
                <a:latin typeface="Arial"/>
              </a:rPr>
              <a:t>(Ромен Роллан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4"/>
              </a:spcBef>
              <a:buSzPct val="10300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Привычки превращают обязанности в удовольствия, а удовольствия в обязанности.»                      </a:t>
            </a:r>
            <a:r>
              <a:rPr b="0" i="1" lang="ru-RU" sz="1100" spc="-1" strike="noStrike">
                <a:solidFill>
                  <a:srgbClr val="000000"/>
                </a:solidFill>
                <a:latin typeface="Arial"/>
              </a:rPr>
              <a:t>(Э.А.Севрус (Ворохов)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300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Вся вторая половина человеческой жизни составляется обыкновенно из одних только накопленных в первую половину привычек.»                                                           (</a:t>
            </a:r>
            <a:r>
              <a:rPr b="0" i="1" lang="ru-RU" sz="1100" spc="-1" strike="noStrike">
                <a:solidFill>
                  <a:srgbClr val="000000"/>
                </a:solidFill>
                <a:latin typeface="Arial"/>
              </a:rPr>
              <a:t>Достоевский Ф.М.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B39FA-85BA-40A8-9A66-3C33FD2325A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8080"/>
                </a:solidFill>
                <a:latin typeface="Arial"/>
              </a:rPr>
              <a:t>Так ли безобидны детские «безобидные» привычк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SzPct val="10300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клонность ко лжи?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SzPct val="10300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бедничество?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SzPct val="10300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ксивость?                      </a:t>
            </a:r>
            <a:r>
              <a:rPr b="0" i="1" lang="ru-RU" sz="12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SzPct val="10300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бывчивость?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SzPct val="10300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гры в азартные игры?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SzPct val="10300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есцельное гуляние?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SzPct val="10300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влечение мобильными телефонам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SzPct val="103006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ражание героям фильмов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SzPct val="103006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влечение японскими мультикам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SzPct val="103006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ерес к эротическим рисункам и фильмам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B3268-31E0-484B-B24A-E2D1768E2ED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ддиктивное поведение 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склонность  подростка  к приобретению вредных привычек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агубная склонность к чему-либ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cc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99cc00"/>
                </a:solidFill>
                <a:latin typeface="Arial"/>
              </a:rPr>
              <a:t>Суть аддиктивного поведения заключается 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cc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99cc00"/>
                </a:solidFill>
                <a:latin typeface="Arial"/>
              </a:rPr>
              <a:t>стремлении изменить своё психическое состоя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cc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99cc00"/>
                </a:solidFill>
                <a:latin typeface="Arial"/>
              </a:rPr>
              <a:t>посредством приёма некоторых веществ или фиксацией внимания на определенных предмета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cc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99cc00"/>
                </a:solidFill>
                <a:latin typeface="Arial"/>
              </a:rPr>
              <a:t>или видах деятельност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19054-9DEA-46AF-B6A8-17AB0B8BDA3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9999"/>
                </a:solidFill>
                <a:latin typeface="Arial"/>
              </a:rPr>
              <a:t>Что происходит с психикой человека, склонного к аддикции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цесс употребления ПАВ, привязанность к предмету или действию сопровождается развитием интенсивных эмоций, принимает такие размеры, что начинает управлять жизнью человека, лишает его воли к противодействию аддик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85418-969E-48F8-935B-7D9EE69E76D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9999"/>
                </a:solidFill>
                <a:latin typeface="Arial"/>
              </a:rPr>
              <a:t>Кто склонен к аддикциям?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юди с низкой переносимостью психологических затруднений, плохо адаптирующиеся к быстрой смене жизненных обстоятельств, стремящиеся в связи с этим быстрее и проще достичь психофизиологического комфор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F07CE-B0E3-41ED-A21A-464BC32B639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9999"/>
                </a:solidFill>
                <a:latin typeface="Arial"/>
              </a:rPr>
              <a:t>С чем связано аддиктивное        поведени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желанием человека уйти из реальной жизни путем изменения своего сознания. Аддикция становится средством бегства от проблем. Для самозащиты, люди с аддиктивным поведением используют механизм, называемый в психологии «мышлением по желанию», т.е. они считают реальным лишь то, что соответствует их желаниям. В итоге нарушаются межличностные отношения, человек отчуждается от обще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45197-8DF0-42F9-AA88-94CB78722C5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CC20-0553-4926-8327-DF147EF1C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709C-02F7-4B23-A7CD-B293DCFAD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D997D7-FA38-4882-A070-17FD88003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A2F2D2-833A-4322-8F40-167080C67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16E657-AC52-4B50-84E1-3D059EC0D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497017-C42B-4D07-814D-E28F7DE17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845708-8E82-4D98-8441-BE26B21CC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2CAF94-A89E-4B07-8983-4A6A7ED38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82BA3E-FAB9-4A66-846A-ADC9B3821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7550BA-8008-47AF-8D40-E975A3AB0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FFF472-8EAD-4DC0-B9EE-A631AA6DC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7FA68A-7A11-417A-A763-ED170D4FF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1187-5A5C-4300-90C2-3B9DCEE64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CB4D04-FA18-412E-99A4-4DC5A7BB7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578C53-A612-421D-AC45-ABC181DEB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B6ADEE-6E8E-441D-A9BB-592415DA4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47E536-CA5B-4412-B36A-EC57AB70D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E0793A-1255-4B45-93EF-962E8AC90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67E66D-B5CB-43B7-9994-8E1579A1B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DFACE5-D409-4ECA-8A75-6192B1F0B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5C5BB8-0DF5-49F2-AC80-75A1520DB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1F9CDD-D801-45BE-A43F-DEBF2D0BE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38FCCA-B934-410B-9C77-CFE56D841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7C21-23FF-4BE4-AC49-7C7E14566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892CC4-188D-49C9-934E-A09E07DF4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C1B843-BC43-4AB8-9949-D4899F7A6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72B411-2625-4D3D-B160-E605488D7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F22087-76AD-44C5-8C58-B2D85E549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2B06AB-9565-4D06-9367-A3D45777C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7CB392-6539-4118-BD22-EAD67EE38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1D7F8A-A65A-43E2-A9C5-0EA98F28F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4E8FF6-9251-4E50-90DC-87CE925CF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6624DB-D3F0-4B2F-9B7D-916278676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011A4E-3CF6-4935-BCB6-58F9C3DDD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F2AAC-17C1-4643-BE73-C9F8E2E5A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773C06-7948-4DFF-A145-51E723F3D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C6B29D-BC84-4F41-B160-8D1ECDB5B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312E8D-B010-4BA6-900F-F04519D6E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59D17F-08D7-4447-B68E-59FAADE14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B611E9-8B87-4A07-B118-022C49B94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3874AA-620A-4BBC-85B8-6EE9A62AE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2AC25C-DAC0-481A-AFE5-5C04F0B81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CCA23B-3B7C-4B8B-8CBB-125A6151D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C129F4-7330-4E63-9739-577AF0DD8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901EA3-3DAA-42C9-94D8-8E09A6C26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9EEAE-CB3D-4F5B-8820-CDE6FA79E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D21B86-7AC4-4831-9173-5D4DC566E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CB111E-C4CB-4E18-A5AC-70C3692DB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2F12D6-BDFE-4BA5-84E0-1573C760C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4E1146-BE7B-43AD-985F-408133054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49B5B6-83D1-450E-85E5-94B2EEF5D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D57E42-7C28-4815-8067-C50ACB04F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1BA92A-67F8-46DF-A973-048E56FF8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51988F-F991-4635-9703-0CC27D370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CC4710-9379-41D8-AD03-51A9FFD92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8CC080-AC55-4C92-974A-CB0775FD8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62B01-9599-4D76-A33B-97AFCE1F9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F0C84F-63CB-4DE6-B185-6D3AE1D3C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8A6809-49D8-469E-A704-7A3BFC93B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1B496A-07A4-41B8-A518-A00C32837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2B9DBE-C507-47BE-B4F9-0CE2C4B5C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C04E73-6DE0-4621-AA3D-54B17FACC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E5A601-5C68-42BC-9781-034415BA5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6742DC-3A9B-4C39-91BF-0ACD26F65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D79C3B-45E5-4AE3-95FB-EB49AE3FB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DD965D-1CA1-4B43-B159-0365F332C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CDAF3C-004C-4F7A-A500-787EACD7B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91C7A-C6B4-48EC-984A-6B2AC8694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6EBDE0-1AB2-47B1-A13F-D5E2F6DEC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65D919-B64C-4797-B9B6-C82E5F1B6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AC2A119-1EDD-4880-88EE-EE8F660A7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E96BB4-0CBC-410F-B8D0-48EE15754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7A0079-E989-408F-935C-B710213A1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E75356C-DEB7-4770-A87B-39A138814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042E68-3453-423B-BCDC-7834EA173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38D587-8F12-4901-9BFB-696A5EED9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0F1F7A-1D3E-4DDD-AFB5-0218025CD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28682FD-75C2-401D-8E5A-EA54EF341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4F578-A664-4AEB-8F60-91B8C36BB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7F4A0E3-7714-4DCD-AF6C-876D7EA12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124E130-18CE-4A27-ABBB-C5D059042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693A0A9-8A27-418A-8DA3-39C7B1C6D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EF200E1-BF3A-4C36-B27F-1F37885C6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18EF1EC-B23D-4815-BFC5-D80AB5DFE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0226CA6-F9A5-416D-A75D-B4DDE4CE5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4B2F9CF-DBE1-4258-93BA-D97E4862D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6959791-4CDC-40B3-BF81-C053D22A8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105D2DE-D63A-436E-9EE9-3ECB81259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8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AC0B8A0-C964-487B-AE4B-90379CDC8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E0880-DCA2-4B13-A783-992237FB1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4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5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10EFD22-4456-4181-976D-F72CC4FF6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CA3E6A1-ADFC-404C-9F37-5B51CA113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386ADBD-6A5F-46CF-A87B-5D8EBDAF6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18D309B-FE5C-4AB7-A309-3753A0B8E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7B91ECB-72ED-46C5-9E60-F6A5569EF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FA6FC51-2D9E-45C3-8A05-6D7AFD7FF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CEAC089-8AE8-43EA-9CC3-65D8D16A6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092E282-CD89-4792-950E-35B196888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364AC1A-9D3D-440A-8564-E025E3B68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896EE10-9210-43FD-BB45-AEDF66344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E9871-33B4-43E4-87DB-8E9F93291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6F7661D-6B4B-4C6F-BC7E-D5C0D0043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292BD66-0C65-437E-8BCF-6F28F3EEF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335FEDD-7AF2-48DD-8F37-FBC7B0DA5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FEB7D04-622D-49EC-812F-9634D2BD8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27DF456-6D01-4F8F-B50B-CBB3E3126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6A39C55-FD3F-48B2-9173-7806EABC0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BB5B809-96F8-43A2-ABE6-7A5A5918F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9B2EC1F-5279-4B14-89E5-898497BDA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A814414-D3CA-4B7B-85B3-0583A1B55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11CB0F2-F541-47E4-8F37-32174B28B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668E-AD70-4AC5-A0EC-3F4829CB1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544E7-43D3-422C-9F5E-74F34D6A0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84B2668-C7A5-443F-BFBF-FB516FE90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0C21EAC-D4FB-4556-9A5C-1707F3ED3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3BAB3F9-B894-4913-9646-8DBB974A4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BB0BD61-6453-4EB1-BFF9-FD020B27C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EA7D456-CFFB-45E5-BDE7-00321FEA6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A6294E1-945F-4D12-94BA-D8F66B981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89AD709-5101-4669-B12F-6360BFDCD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A1A1225-0CDA-431F-9B02-F5E9DBAA8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C02F8E1-589F-4AF5-9899-6DAC8E99B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18EC0AE-B4D0-4692-8C46-DBD541C09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CC460-3A18-4196-9AAF-71CCE4F81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7CF4027-8ADC-44EF-A94B-3F2B07C9E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668D57D-7A18-4E5C-98DA-8E1B6C177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E00C343-55C8-41AB-8178-996E48C35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3109CB3-1D64-4345-9214-D614A90F0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5ACBC77-CEEA-4F3F-B7C3-8AAF8390C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0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391AEF3-3040-41B3-AD16-BAB9FEF24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5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6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7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EE091EE-C17E-486F-89E4-D9B7053D1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6DD5D1B-0C2F-4D9E-8136-1111F2E62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5C81F84-3C68-4F10-B37F-E1487917D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F189097-7367-422D-9726-E68B888EE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05B26-E297-4754-B452-938FB6EE7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B7E3CAD-B0FA-46AA-8E34-DB5F05120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64A3E9C-ADD0-4B81-BC13-B8A1A9EDA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3139244-47E4-4084-8547-21025D452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C5F4433-00D3-43B8-B441-30475CF8E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0C66DD2-C541-4D7B-95E2-CF094905A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553D988-F61F-47AF-9258-228DC572E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8F62C0E-9583-4705-8590-0F35049AA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4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BC608CA-AB83-4074-BA36-EAD096B15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9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0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1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67EBCEE-3D00-4893-9A1A-BC44684E5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8961F77-88E5-445B-A5D1-55BF9C055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4939F-51DB-4AA6-B2A1-FE6E434B8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57A26B7-B656-4B33-8258-02D09AAB1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79FD928-17E7-47A4-B24F-EA0D5FD46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B6025FD-0384-48B4-960A-EAD2E4016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902A3E7-94E1-4412-B86A-273C98C12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825EAF6-93B6-41D9-AFFF-D6C0F9228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4EDCC78-3D12-4B77-9E79-69FD5D6FD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6280026-CB5E-4F86-938E-1816195AD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0078487-2E0E-4B62-9943-50D6C1B30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44FE001-BEF0-4B2D-9D4A-C0B25CDA5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33B95AC-7759-47A3-800A-F80D784FE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F8403-6D2A-4FEC-8BD3-A108EC326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4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5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0A457E7-64A8-454F-8CB6-3E5841931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AF3671C-EDA9-47D4-B30E-5A05C43FE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C29D499-AEC1-4173-92AB-426FBD745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6986B9B-1E38-428F-ACF8-54A2EA5FF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732B90C-EFDF-44C5-BA52-BC5DD8B16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3744CA0-B907-42D3-8052-4E1859C6C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52FF00F-4483-462D-804F-BE9367540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79C764A-312B-40E8-8FA9-83FEBCF74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6F0009C-C9C2-44C9-A863-0194C7796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52F74FB-D5C4-4C72-B6D5-A2026EFE2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1C8380-761E-4182-B3CD-C27529690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10D70A5-1029-4A66-A847-4F4ACD2F7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4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AB7A6F4-B2A7-4219-9904-4E728017C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9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0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1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8A63368-9E1E-4F54-AA21-EE6B9F2C6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89D0DC3-2F1D-4BAC-8429-657E78753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FA17523-9F1D-4536-A70D-59CCF470D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909557F-D4EB-4DA8-B6E2-4EDEB0305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95CA038-7FC3-44DA-B949-55362939E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3E96F37-4142-4F36-BBAC-59A19C7E1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63A86D6-D76B-41AB-9E7B-3E9CEF40D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EB3CBEC-CAAE-4440-806F-CD38847C9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AF374D-247C-4F1C-B787-5B8A8F02F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1B81198-3186-4514-BEE4-4E4C68329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2C3FF44-3A21-4651-881A-8E8DD5F09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D6494FF-1CF3-4115-A243-C260866EF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9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D3945D3-5E46-4B38-A1C9-7A20A8C70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4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5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6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C0C4B43-7665-4366-B88F-AD7C08CD0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2C5FC7A-C5F0-45DC-B78B-9F408B840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6DE85AA-673D-404A-8A08-C19789503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376289C-00A8-44AE-AAFD-BD60FCD72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970247E-3A72-4A6E-9E82-0252B8747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E00811B-B3DB-4585-93B6-E5B0D373D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4A6DC4-CE3B-4177-816C-CA34A72E7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6C212BC-CBD1-4C6E-B8E9-DC88ABFD4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A2F20A0-6BFA-41CA-9F75-36379CEFC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FDEF35E-7E5E-4CC5-9F73-44D6846E8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BB9DAA8-3EDC-47C9-83E8-324C9632C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41D650E-5BF6-4DC7-AF09-5D11C092C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4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F43ECB2-F26F-4CCA-8EED-0A828C2FD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9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0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1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F6E82E3-AC36-47F8-81A0-68BCEBFFC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EEE0602-212D-41F3-AA8E-BF48F770B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08FF515-4687-4C2A-A994-44E926927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811E4B5-F928-4C2A-A170-CCE1E456B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027A21-860F-4108-84DD-2FBB0A829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D2C9885-3DE3-4751-85ED-1871BEA07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E277C11-56DE-49C6-AD59-3434A9155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04ADB70-16C4-49AC-A992-8BD02A1FF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001D6DB-DC8B-4EBD-B295-4F284FDEE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7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E105FE5-2369-4653-A670-A64CE2741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9381C61-D246-41DD-8675-9B4BE1C5C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4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77FF798-DDD9-4BFD-9510-34A64BF15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9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4273B7F-480F-41C6-80CF-ADD24D84B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4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5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6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1DEA16A-C6A0-43A6-8124-B7908B66F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DC37D6B-EC62-46D1-A329-AB2B28127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6B74A6-9233-4161-B228-30511A954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FB04538-2E96-45F8-952F-73BC47406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68C44E0-4A85-40CC-8526-FE06C1DE9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E59C708-9CDF-46AF-8953-87D8CC499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A3C4EA5-B736-4F46-8ADA-E2EA3E2CB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7A64050-F278-475E-A998-0DF520F85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B798F42-6516-46A5-8382-9587941A7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D836D8E-FE3A-44BB-AB3A-A82829C81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E6B6367-6AD0-4296-A54E-3F635C533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5B2D3AF-5CE5-46F2-8888-DBE40E634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4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DD852A7-26A0-444A-8AD8-29FC75035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BDDF-ACD1-416E-8640-6802C3FBF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433BFB-D2F9-486D-9CA4-A29EF9847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0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1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62F3F9D-4136-459C-ACA6-477454215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CD2A4ED-5BDD-4C2A-AD7F-BFA695D97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922BC40-2D44-4C5F-AE99-D20D58236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A9E33C2-FACC-4E29-8A13-6F264199B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F9D295D-61F4-4A90-8E84-009BCF55F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0259F37-0492-423D-AFC7-1B1FF0487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46E7461-2F72-4689-BB00-9B089DA35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F1419B2-52B0-42BB-AC20-A0D376159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93B99DE-903E-4018-8681-33F29AF0C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AFAC32C-AF24-4FD2-8CBA-9823CA711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626787-96D4-48A9-956D-14A474D2A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BCD2895-E687-4559-9E52-B54138D41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9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A6BA9CE-A7B9-4FED-8A10-457D09487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3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4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5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6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40E279E-5A0A-48A2-9BD7-6B4DEAA59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0EF27A3-7B0A-4AEC-997B-63551E997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8DF04BB-B2AA-427E-8998-A4D2A64EA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DFC3C76-8BBC-4F93-90A7-7AC0A2755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E6004FF-ED6A-49E8-BA0A-C03F4A9FD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9C2A705-8215-40D1-BE83-DC6018DFC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C880C30-B8EB-4892-91F7-FA4C362D7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545DD74-920E-4108-B7A4-DDDEC9620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57E5BA-71D6-4F1E-9153-8010A1606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2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C53D063-945F-41FA-B17D-99536B636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ABCAE03-8A61-44E4-8C81-98B1ACB37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DBE09FE-F0C6-490B-A7E9-2FAB02404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4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1F69785-D339-4C4F-81DD-88AAFDB56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7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8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9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0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1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416B9A7-3177-4D3F-A443-70AEF9D6B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325EE51-9062-4351-B688-C00B60430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73183CD-CE88-4233-B954-13EF71909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224E109-5C98-4B36-9F69-C90D51443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F9CE052-B2D7-40A6-AA91-4638512E7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C59B0EE-7BC4-47A7-8C25-2DAE7E756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3EC9FA-4D98-4770-835A-FF6F0C8E1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309914D-DC31-4467-A271-3FD52753B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0B9D076-CB0E-4712-A020-B00E0B24A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0719D3F-D00A-43A4-94B9-F2148C26F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820DF91-FC98-4A0E-B1CC-B5E8A6DE3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4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53C9A14-0C34-424C-8E49-6864B8E3A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9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DCD5B84-CE12-4B5E-8F7F-CDBBF6D02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2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3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4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5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6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469700D-19E1-45C2-B802-5A3755993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9DCD25C-3404-4F70-9893-8DD32E833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31C4027-A925-444E-8297-17BF84A95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CDC64D3-0F11-44CB-AC3D-51C224A26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E61E28-F066-4354-8523-3B945909D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6EC5883-B024-4E42-9243-6AAED3007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C0E1B06-F6F4-4E98-ACB1-20A4D783D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083E932-51B2-4072-B465-3520887C2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122D27B-0869-4E09-9977-955102350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2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C27A850-E621-464C-8BC0-B78FEB023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BA10276-1A00-4F6A-ADD0-27B98D1F0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9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E6A4530-228B-4FB5-ACA0-E4B24A7B8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4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57B0664-E75D-424C-9E28-1AD4F00FF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7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8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9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0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1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1E34DE8-0196-4EFE-9F42-FEA65CC3C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0C45BC4-E169-4A9A-AA32-5F2C667ED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B5CD0D-71DD-4476-BF9F-7969C6032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2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F6B1B49-42FA-4A86-B8D1-1489DFEDC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A55BFDE-B983-43F7-8271-28E0452DE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0F2F9C6-AF88-4D40-8B58-D02F1EDAD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34D187E-9806-4735-BF81-AF4142BA1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FBABE9F-97DA-4E70-BF4D-BF4B26B07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9014E12-D5AC-4392-9343-491B6C3F0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7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8F45BBE-1E6B-4CCD-80F7-CDEFA62A8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9CF2E51-9AC7-41F9-BC52-EFBAEB022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4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3E419E1-2173-4941-82C0-D9BA09236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9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51D7209-2FFF-4D9E-A27E-396A23E69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D3D29D-1F46-42E2-98E3-397B8B07A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2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3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4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5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6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7AE6489-DA60-488C-9731-BD01B15EA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477AC2C-8788-4C20-A2F1-AC25C162D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7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C9B3845-C962-40C3-A838-893D79799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55D50C2-73A8-4B9F-9842-987286EF0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6F125D1-FE22-4963-8519-22DAFA0CE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BA0EF85-A80B-4159-9AAC-9DE9250F6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F1D20C7-2D88-495A-A497-2C91F2F4F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D5CFEFC-7DEF-4BA2-A6A2-CB8ED4D28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2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34A541C-AD8A-430A-9701-3686310F1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454D92E-ABFB-4895-8100-302AB373F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98D3BE-CF58-4A15-8192-6EB3EF74F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9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11D37F3-5137-4CEC-9B27-2A20BC8F4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4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49C0069-EE90-418B-AD8D-4B61B808E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7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8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9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0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1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FA13B5A-7D7D-4615-915F-9DF54E198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B9B26AB-A80B-449F-8D98-F47AC1243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2561025-2687-4596-89F9-E0E68967D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FB839B7-B26B-4265-8E23-0393B6988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934BA08-C1DD-49FC-B15B-803460630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8059C59-99B7-48BE-90B5-8F2F2D2A1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E6EB3D8-0363-4282-91CB-B5A5E302B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25D6B7D-D3B0-47C4-A04B-F6C859189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FF32CB-72B7-4F28-B401-33F917FC2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4DD55F7-8620-4C2A-8935-C6E7F309E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F157FDE-F4E7-43BC-850B-8DFE63AA3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E34E718-4C2C-4D3A-9828-AA1D32606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D0DAA50-8769-46E3-8DE0-E30C48CF4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0935982-1D62-46F3-8BF2-C0E3F1109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9F82BAC-46CC-4E84-89FF-E0A25C281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3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1955310-1A80-44E2-8053-710612903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85589DD-BE4B-4031-9A6E-B1FAC1EDB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5FCA170-45EE-4471-AB45-DFDB1B5C9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9FFE0FD-FD27-4584-B859-54BECEC64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2F250E-B642-4118-B08C-55D6D5BE5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5032C30-383B-4C99-942D-568B9C828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A4F9A3D-14A7-4843-A5F0-F8F3D4B32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8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2419600-8D43-4515-9CA6-D6740739E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2E8DFCD-5CAD-42C2-A75C-F80D47AE9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5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FFA0D03-35E7-4C9B-9990-5BA7CD3E0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0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F4DA350-1196-4D81-8D54-4A4D1F6BE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3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4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5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6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7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EBE3CEA-7625-4573-B2A2-7220FCF6D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7196D00-0BC1-48D5-B8DD-A2DD7E19D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36290DE-D046-4C6E-A5F9-20AB234BF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FFF2E91-A7A3-4C3A-AC0A-C0B9902EB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BB47-C5DC-452B-9F70-F22826C9D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B7FD9E-AA34-464B-AAF1-6776DD667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19280CE-9215-4202-A436-EF02CB6CE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F109402-9AAE-46D4-8DAA-70911AEB4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980E0F8-6985-420F-8055-DE599884C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80152D9-9C80-4878-BC88-D2ED70DAE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1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FCB1E99-0CD3-4FCB-80C2-F6F73FFB7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7F2B6DF-DFBC-4381-86DE-AF33775C5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8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3F4FA91-A68F-4104-86ED-186E0F559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3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960DABE-164B-4EC9-9A21-D6B67DA8B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6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7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8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9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0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DF9050E-3F8E-4915-A517-C769EC434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2DFD753-C3B8-4FFD-8CA7-CD4A6A5B8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A4E365-8868-4A58-A882-B50B358D8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0927402-6B9B-4D50-B133-3D6A84818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C294C5F-4055-4ADD-9123-1860E2C09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FA77D98-32DF-48F6-810E-D04C1263D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42B98B3-6EDB-4D15-9F07-A973A087B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19F76F2-C941-446A-BCED-E400E415F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CD0D115-B676-4000-903D-1738149BF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43BC274-8301-46F4-A0D7-5E5D94386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6F0A919-FA7C-4155-84FD-DEE88C34D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1AD8B3C-84D8-49EC-904B-68306024E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BB6CD8D-470D-4388-8406-075C36A76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57EA31-C121-4054-9DBC-73DA26D9C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FB56DCB-2CDD-4C9A-9C77-E18D6BA71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50E748F-85BF-412B-B9E8-43BFCC0E9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2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BF95437-7E66-4EE0-B644-579A1B5D0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314CF9E-EE36-478A-BE3B-4738E8CF1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B65677F-FDDF-46B6-B1D7-D38F23D16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80C81A9-551F-4CBC-9455-0E8CE7078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E446DC4-135A-4913-BB5F-F57B7A3CF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7EAE36E-97C4-49AE-A735-A02B598F5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7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0621D34-0BA5-407B-9AF6-5BA905049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C313F12-7B43-4487-9FC9-20F8D2EC1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9076A6-0E42-4587-8DE8-6A3D0C977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4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FA36F86-7E6F-429E-B466-911440672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9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7D23B29-CD47-488F-8810-273F897F2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2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3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4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5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6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1220A25-8A99-4E96-A8DA-DF917C6FA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7687194E-F1A7-47A9-BA70-0BB775189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5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54D2EE93-F4C1-4DED-A7E0-444451D59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58154FD8-0408-4662-988A-22772D1B7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1767635-7E79-4FE0-A97F-0503233B9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9B621A4F-D0B8-4322-911C-E91D5F541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896231E-776A-456C-95A5-B83C55C12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68BFBEA5-CEB2-497C-94CA-8EE231AE7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7D6A53-27FB-46A7-8115-3457746E1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0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DAAE788F-23A6-4C66-8EE0-86083150F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060973C9-EEDF-4578-A062-3C786C426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7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49949908-F0A3-4EAD-852A-BF14DB5C2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2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5A8BE6CE-9CE1-45CC-BBEE-472B869AD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5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6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7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8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9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82498AED-FE41-49A9-8B59-E7DF3AB61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11B90797-F783-4065-9EED-2ED524D64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B29DC2E5-295A-4BF2-982C-25AD54CE2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2AE1C6A5-081C-493D-A7AE-0125C5CD7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9D3BC4FE-4D9A-4456-9199-FBB028A31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465AE399-AAC8-434B-BAC4-D92E264A8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A6B24C-21D4-4A8A-B597-5B95C369F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30FD775D-F832-45A1-86D8-530F51145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C8AC5418-A335-4F9A-A29D-6243CC44A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3BF4F644-7305-450F-AA77-0B4F557A7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4252460A-779D-4A3E-897C-B602AD8B9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30BFF706-C37C-4D11-84AF-423C80CFB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BE311BE2-3171-4B70-B1C5-5BE2078E3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69D1ACC7-058A-430F-A2F0-9259347B0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F756B92C-D501-4951-B5EC-C2D532941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1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C98F9C4E-D7F6-43CD-BCF9-55F8D3E13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9BBBA182-75C0-4975-AED6-07160704F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EC0E32-7CF2-4C10-86A2-059CFC814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93320438-0856-448F-956D-B2DF1C12B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C9780B39-273C-4C5B-A2D5-FDD740FDF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D17A58CA-7090-4487-8CAC-F466E66D3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E043FFDC-971E-41F0-BEDA-17A4B2E1F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6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FE9E5EFF-55F4-4A0B-AF16-9EB01CF51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B2BF2EE8-76AD-4C77-9240-99FE21F37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3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FD5115B8-32C2-4EBF-B668-E2BD30384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8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08A03946-C951-4E3C-8A4D-1820A1B86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1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2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3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4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5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1907EA77-38DB-4060-A2CC-168944F2B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29A88EB0-D647-4477-8B63-0F7CA35CE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6F47C0-23F6-43AA-8574-18F663B5B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4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59A7F9E0-C45F-4DE1-B135-EBBFB7678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6973AA42-66DB-4166-80C3-4D2B3EED7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057359AF-C591-4C54-93DF-777D58E89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A9AABDF1-2577-465E-8FAD-B97B5C548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1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80BBD324-5069-4B47-8111-6D6AD896D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49D1737E-FA88-4020-8B64-41F0D43E6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9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ABF48505-DEE6-435F-863C-1154B82C3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2FD32553-15E1-490E-8DB7-EE6C8AA96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6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37C8DFDF-F0C9-419C-BF4C-CF623BF8E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1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9B315A12-B8F2-4C4F-B926-DAC05012F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5539F9-45AA-4602-97DF-BCF8F9A04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4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5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6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7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8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D94E6C68-2988-4982-AB49-FAF1B62CA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E98884E1-9B4B-4ECD-BCEE-627B8E5CD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7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B6CAEFC8-7D97-4517-9F68-917CF3DFB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17D9FB40-69CC-491B-B7AA-CDA21D775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17BF54FC-37FE-48C1-8716-E497D659C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A0DC772C-BBE7-46EC-9679-FB70F0826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4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23651C28-9B37-421D-94FA-6D5F38635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F644D9B9-A190-45AD-97AC-BE85F6544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2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8EEEAE00-2CCB-4CC6-A21D-E0AB67BF1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4E07720D-CD54-4AEA-BCF9-B1BA76F72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795110-B600-49C7-9415-F7D5BD56C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9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E4C6626C-7BC2-46D9-8ACA-F37BBBE7D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4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BEDF1C4F-8127-45BD-A8A7-F0BEB9DFB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7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8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9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0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1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60FDA5E4-C7DC-4E75-B1EF-2AA7C986F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5A3E2D34-F3F4-4D32-911C-5ED94AB60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5DCA1871-4129-484A-8A5E-6B3D9308A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6EA804FB-36D6-40B7-87F3-FA83EA580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C1C19C80-C544-4627-BDDF-32018D046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AA99C3E8-22A5-4B23-81DC-B58045739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9BB3E74E-C88F-48B3-B6B6-10E2118C7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60FFD3E4-4975-43BA-8AE1-C0DDAD43E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7B4B-E010-4048-8E15-C7AA885D8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EEE60E-376F-4FAD-973A-DF8ADFCC4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EA04B283-B0B0-44FA-9582-AF3BEAEDF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25AF763A-6580-47BB-ACE7-05B64C7FD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72215ADD-401C-4A7D-A4A4-3D25BBAFF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7A7ED91E-A11D-4900-BC0B-233B0F6B3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C20D1DF9-3187-43F5-AA88-B6C01E073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700FF0FB-39BE-47C2-B590-2CF53057D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7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81953F6E-E3D9-4460-A1B5-463868062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272F73F4-7A38-42C9-9F8A-9275CFB9C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FFD49C20-69FC-4A5C-B71B-ED3B28B40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A58A20AC-A7BE-4603-8779-972C31F4C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7B32EC-C0C8-4360-8DD9-317C40CA5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90A34270-59C8-446F-A882-F959DBBB0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AF9541EB-BF3B-46BA-8A4A-1A1414107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2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27CEE7A6-4E4C-4350-9078-7C75C33D0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F98D3FD6-0805-4DFB-A74D-C15AA8DFF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9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3D5302E0-65AF-4EB3-809D-C3243F066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4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73D1CE25-FCDE-4748-8A7B-916D1445B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7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8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9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0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1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663D08E8-BF3B-4BAF-AF90-798C0FC77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16E96A15-DB3C-46E9-A206-1757AE421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2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80A89104-9CF4-47DC-ABFE-29F29C972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11CEBD1C-9F30-498C-9931-B355B4CD3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682E17-651A-482B-881B-C9F334C72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A6E7E02C-9A90-4DC5-9F29-291D61E52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BAEDA9E4-A5F6-47D9-830E-517C8A644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9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FE08E44D-08B8-4E73-AC7A-35517EC6D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6EE8CD84-C30E-4D8D-8B2B-C2C55EAA7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7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2AD22D83-A601-4042-916A-1170CE2FE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556667CB-59FA-478A-9B25-B00FB7911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4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4193626F-D0ED-4E01-8AC3-E179B9B2D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9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C34D4F9F-9EB4-4C78-AEC5-C2EA8B2F2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2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3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4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5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6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7A8C9FD0-1219-4B02-B251-22DD6086F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7057695F-4771-4A1F-B692-6327D5C18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DF5BD6-08F7-449E-B72C-CA63F9F9D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6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5E58EE07-9EC3-4D9B-B589-729387FD6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B7FAB95E-D515-48C4-97CF-28FD75AD3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DDBFEB78-D449-49AB-9CD8-034AF0A49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2C1BC218-B478-4845-B821-20A788385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C62A4DB2-CB8A-4251-B109-67681D18A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0ACDA8C7-2EEC-4977-AB83-829C1E416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1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532BBF58-AE1A-4509-A9F9-76195DB98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E607632F-6450-4427-8207-4C0A17AB3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8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9F27A94E-A158-40E0-8F2D-B02D9581F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3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8AA68CE8-591E-40CB-9163-3DAEF8FD8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880559-42EF-48B3-8EB3-9953B7CFC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6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7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8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9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0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69D6540E-4CB0-451D-9D99-3A5AF4DCF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CE9E2EE3-CB7F-4F47-9685-CF2CA7F0B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C8DD966B-2D4B-400F-AE6C-ECD9116F7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444A1D5E-7879-4FA5-A6BD-9A9229BE1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12EC442B-4FDC-4C40-BB51-CE62F799B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751E42DA-B7D6-4384-8A0E-0C7AAC4DA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13B14940-9DA4-4C45-8C5D-08C174680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C2E7FC56-3A64-442C-93EF-96CE83E54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F577312C-9251-4C36-92F1-D5DB3A1DA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6308AF9B-8075-4D4D-98E1-14B0B624C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8AEF5F-312C-4591-891A-17D2CD2F4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87EF45D8-DBFB-4925-BE2B-01C785591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6F987638-0BDE-4E2C-B243-EBBB8AB47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70D73003-11D4-42DA-BB0B-BD1D9450A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F8436965-7A96-447C-8147-31849C079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4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1A491B86-6032-43A5-90FC-4E20B3506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8D93DBFB-98F6-473C-A854-030476697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627C70F1-602A-4B6F-8CF3-48E50E59D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647B6DFB-AA7D-4CF7-B0A3-8740B630B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1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0E2B825C-2FC2-4713-881C-1739AEC29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0DA2DD0A-FB93-4357-88A4-C92DD8248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02AB00-61DB-4ECA-A322-B0EC31CE4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9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1B503E77-2A36-4DEE-993F-D193CD208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4793DD75-627D-4F5D-B81E-8E67CB456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6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C4C730D3-36F5-422D-BD36-90AE93A18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1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7E20896E-F57D-4EF8-B55E-B8C093A21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4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5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6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7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8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1437F83D-4346-43D0-A11A-A736F56F8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E123ABC4-7101-4891-AD58-F253C526C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BBB3690C-5F96-44AB-BC85-9756B2EB7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CFF21D25-42A5-4070-A960-394DEEB84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0D864AA8-3242-49D2-99AD-291C2E6BF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1A1EEBE4-29FC-4531-AF4A-B1C447048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D59EE7-1B6E-4BA8-85F5-F6519EE8A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1A7C56B5-2785-414F-A0F2-1DB95AEBA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975F2D40-5122-4A29-AA02-DF1BFAFD7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CB23BF35-7297-4195-979B-175E8329A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A65A7FB8-B7AA-4E85-A98C-0DEA9FC28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764ACAAF-7889-4CA4-85BB-A4657B0E8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67E0345B-1B25-4C36-AB8C-E5794CEBB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DB67141D-29C2-4419-BF9B-13CEE8AAE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E3456506-C397-419F-9D22-88DC46AD2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2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7F7E53D2-525A-4567-A0BA-3D2A2D5DD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828E1233-551B-4D38-A552-9AD974FB1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A7F6B9-CDB5-47C6-8AB0-339445A44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BB44EB20-622E-44D3-A10B-6FDEBF521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29E14A32-BE1B-4C08-8021-7A1B40C1D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9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88A2D29D-8104-4C39-8D82-F3A0FBAA0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88ACB2A0-A18C-4349-94E4-E5DB2BC1F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7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7ACD74C4-CE10-4E39-9D2E-0086E33F7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B3791287-B668-4E88-AE15-6B9DED51A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4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7C359FDC-FAB1-4D06-9424-7B1F24AFA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9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C855A8BA-1231-45FD-8AD8-6021AB6AD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2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3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4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5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6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9F521AA6-0369-4FE2-AFB9-A2B333B78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5F51F8F0-CCCE-4EC7-8C61-93DD190F9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EFE8E9-F06D-4B30-BFFD-226A22FB7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6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28D0E503-6079-40DD-96DA-FB5258AA5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A4EE5AA5-EB26-4CCD-9DF9-5C31F9D59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50B1A446-3EFD-4311-B6E9-25DDC95FA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28001CC6-C34C-4825-8A5E-723607CD4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3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0DB158A4-B5FF-49F9-B4BF-025D1760D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8C60D890-371F-468C-BD6C-9C0184309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1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D32A092D-027F-4CE3-9D74-774F67237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274CFDC5-47CF-4289-BCC5-02F4ACDFF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8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CF4F79CB-57A1-4E0C-9B35-7C7ED9B1B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3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AA0C6A5D-0194-40BC-9599-FD77969BB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A4B4-124E-408B-B257-30D9799B7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515540-B9EE-41BA-A7D1-D3A9F6189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6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7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8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9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0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58AC1FAE-B572-4DA0-ACE1-69612DAFB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2D8D4661-46A4-47AF-B53C-2673A682D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8D070756-E3FC-4C6D-A374-67D19E3E3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54281E41-2EEA-4829-9554-40E95EEBC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399BCC96-FE17-4224-8C07-C8847FD5D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17557C32-922E-42E5-99C7-5CD2EFF78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D4FF55EE-6AB7-4F3B-9FE6-95D8933D3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50201175-5404-4E22-883C-0F52F9CFE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685063A3-BC7A-4632-9E9F-195F2BE1B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AD8AD76F-59C8-4FC0-BD9E-F9FC7BDE5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715D3B-9FE7-452E-B25F-DEEB84D97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29C0506C-6AE7-4971-9E26-B1576A857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1F7558DD-B138-4146-84A9-39F881EA6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EE8811F3-DBF9-415B-A7B0-46FDD64D4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1F590D8D-8023-441C-843E-EABD938CB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4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A66188B6-741B-43BA-AF1E-6A5BA32F1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11AD5B8E-348A-4657-9A63-E8A18242A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CBD6FDE1-1F8F-44B8-81A9-1221807F6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4FE5E1D4-FC57-44F3-9078-3C6EECD77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1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BF6CAFAF-36B8-44E3-A136-A8A505CB6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AB41F3E7-CEA8-4A64-AE1B-38F9B398F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6AE283-0FD9-4A09-A7DA-14BB6214B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9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8CBEDCBD-FA5D-4CCF-BE25-BBD58743F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ECAFEECB-E6B9-496C-BBE1-179D831DD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6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78FBB912-DE5B-4AB1-9EAF-5E5CC21BA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1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6D925BE6-C962-4C9F-82CF-591EE8869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4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5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6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7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8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F5CC727B-F952-4FF4-9935-6BCBAE0F2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ADE38D92-00D9-4CF7-84B8-BAC55CDDB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BCCD7196-0662-4ADE-A978-D3B01EF0D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7F592489-A858-4A56-AACA-E219B4845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A2F77A0E-F332-4830-9B6C-734D3C3E8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161BFF36-3C63-4153-B5A1-D737B69B3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4091B7-1A19-4776-929D-BD7248746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B61F106A-E0CB-4F26-AFEE-97FC28A31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8953C6BE-4535-4051-888D-CF5CDE232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BA3A4029-77C2-418A-B4D4-091555DEB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080C2E06-DC70-4B3A-9D6C-62C649F84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F92930A6-952A-4AFA-BE8C-E2FE3A04E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07C8AC31-5C76-4BD0-B639-F15B48576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79A3C765-393B-4B2B-ADF9-512598D1A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05F2B2CA-4655-460E-91C0-D1C968997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2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D849FB69-7539-4A99-B375-DD9B7F60C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23318FE4-E240-472F-826A-DE3D23312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79828C-53E8-4BC9-BE1F-114FD90E7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8E1575B9-510F-4509-8E5A-65C2EE547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B4ED2759-531E-4D8F-AC67-BE97B0984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9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F26F7A8E-EDBA-46A5-94ED-29A79D2DC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11471F64-F0CF-42D1-817C-D6243196B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7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E83C2B85-FCAD-4A97-BDB0-3A80EC9FB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5A4CD649-D70E-419E-A2F9-05D28862C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4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FF342DC1-7135-41C5-AAB2-33429883E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9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6C5F7A91-CAD2-40ED-ABC0-AD6FCC11D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2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3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4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5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6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BBC130A0-A381-4835-9C94-20E32EF8C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DDB480A3-AA06-4D67-8D13-82F3D7E5C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BD5C7D-E251-4393-B5C3-C61F930F4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1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B9B65A8D-E15F-4B15-A383-FBB52F0B8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6543C4BB-EA5F-4255-AB8D-34298E36D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B429A73F-F5E6-40F0-B5FD-678CCE88F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4ACCBD9D-F345-4D7E-9DDB-B5E6ABE10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8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2711ECFD-7A12-4BC3-B96F-033716E23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A8DC877C-6C52-4750-9D73-05AA28B6E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6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DEEF674E-9A23-4C88-AC26-687BD2BBD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BE92331C-AAFD-406B-BB4E-727FCBB9C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3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5E8FC3B8-79AD-4956-A78F-74A6B317B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8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D58F149C-47ED-4C01-B38E-21B68667A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44694C-727C-41BA-99EE-35AC6F109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1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2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3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4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5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AEB2BD5B-D2AF-4369-9864-FA2E411B0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894D5849-A7FE-48F0-9E78-3DC091A28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3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54711594-BAF3-4A06-A3CF-A71E44742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47DC0D82-5B17-41EA-865B-0EC36FF78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9275C2D4-D22E-4708-A192-3A8EFB839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A8C7D89B-1EA9-40A2-8AE0-1018BF692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0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9CA60827-A8A5-41AA-9968-F28DA91BA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99657D82-9A4F-497E-9648-30057BAF7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8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48A1C2C1-AFFF-4017-85C4-B2091ACC6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35137037-13C1-4441-A692-A7FEFB914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4E9DD4-7F4F-4385-B41C-6C9D0E87C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5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8EA8D469-9079-4243-A65F-B3108F4DF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0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4CF7F1FD-1E47-4F92-91BD-7B95BEA54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3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4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5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6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7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78E4F203-8C84-47B2-B053-7FE13182F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5DC3F6-1153-4951-91E4-96146EB05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274033-6A9A-4F78-8B83-C132611A4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0E70-29B6-4B04-B3CA-572C9A595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81AB6D-4B77-4FB9-83A0-F8D7978A6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DAACB9-E3C2-4FFB-926A-A2389D578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6F41F9-6585-4646-AA9B-153032C05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248CCE-7BC8-4F90-93AB-E97495161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6C22F4-900C-4E40-AA12-3FEBF40E7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E64257-0DBF-48F5-B31C-E20461215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9F26E3-3DFF-4659-ABBC-911F9833A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3338D9-208C-4A5C-A589-834B06B91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C9A43D-AB99-4D6C-B778-2EBE04906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7F6AA8-61D3-49DB-899E-7CA258D78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7023-6FB6-47CE-A5E2-E0C1C8B07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5171BD-EB27-4101-8985-5D9779DAC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6B6747-0112-4D1A-8D1C-4A05A5F5B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B256C6-578B-4362-AF67-201E208B9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E18417-5A31-4812-8AD2-E05AF5F25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355B03-75F9-4753-B5A3-A3BAAEBFE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B5D03B-5725-428F-AABC-0C6A17D45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A4B63B-E07F-438D-8D85-63742BE55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915CE4-E077-48CC-8FAC-8EE45D3CF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D1EE53-90FF-42FA-AD45-D1C700FFB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E7C267-E5AB-41A4-879B-60EA4CE1A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6A08-2B42-4F87-A3AD-25B7DE6A5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BDA05D-23CB-4D5C-AA7A-FA79105D5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161CF4-71C8-47C6-A49E-C73936E8E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E497FA-A5C2-476B-AD4A-1D344AA09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63F8A8-193B-4523-8059-53374D7A6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ED5397-6CFA-403F-9B89-D1BA2C858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FA4B89-951C-45A2-AE6C-FA3879C4B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9562D7-0FEC-4520-8E43-7D2DB13C3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576D75-8489-4107-8C0A-8946DB2D4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35420A-F8A9-4A92-94DE-8AE9F0846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846F4E-754C-4B8C-B072-6353C39F1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slideLayout" Target="../slideLayouts/slideLayout469.xml"/><Relationship Id="rId3" Type="http://schemas.openxmlformats.org/officeDocument/2006/relationships/slideLayout" Target="../slideLayouts/slideLayout470.xml"/><Relationship Id="rId4" Type="http://schemas.openxmlformats.org/officeDocument/2006/relationships/slideLayout" Target="../slideLayouts/slideLayout471.xml"/><Relationship Id="rId5" Type="http://schemas.openxmlformats.org/officeDocument/2006/relationships/slideLayout" Target="../slideLayouts/slideLayout472.xml"/><Relationship Id="rId6" Type="http://schemas.openxmlformats.org/officeDocument/2006/relationships/slideLayout" Target="../slideLayouts/slideLayout473.xml"/><Relationship Id="rId7" Type="http://schemas.openxmlformats.org/officeDocument/2006/relationships/slideLayout" Target="../slideLayouts/slideLayout474.xml"/><Relationship Id="rId8" Type="http://schemas.openxmlformats.org/officeDocument/2006/relationships/slideLayout" Target="../slideLayouts/slideLayout475.xml"/><Relationship Id="rId9" Type="http://schemas.openxmlformats.org/officeDocument/2006/relationships/slideLayout" Target="../slideLayouts/slideLayout476.xml"/><Relationship Id="rId10" Type="http://schemas.openxmlformats.org/officeDocument/2006/relationships/slideLayout" Target="../slideLayouts/slideLayout477.xml"/><Relationship Id="rId11" Type="http://schemas.openxmlformats.org/officeDocument/2006/relationships/slideLayout" Target="../slideLayouts/slideLayout478.xml"/><Relationship Id="rId12" Type="http://schemas.openxmlformats.org/officeDocument/2006/relationships/slideLayout" Target="../slideLayouts/slideLayout479.xml"/><Relationship Id="rId13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slideLayout" Target="../slideLayouts/slideLayout493.xml"/><Relationship Id="rId3" Type="http://schemas.openxmlformats.org/officeDocument/2006/relationships/slideLayout" Target="../slideLayouts/slideLayout494.xml"/><Relationship Id="rId4" Type="http://schemas.openxmlformats.org/officeDocument/2006/relationships/slideLayout" Target="../slideLayouts/slideLayout495.xml"/><Relationship Id="rId5" Type="http://schemas.openxmlformats.org/officeDocument/2006/relationships/slideLayout" Target="../slideLayouts/slideLayout496.xml"/><Relationship Id="rId6" Type="http://schemas.openxmlformats.org/officeDocument/2006/relationships/slideLayout" Target="../slideLayouts/slideLayout497.xml"/><Relationship Id="rId7" Type="http://schemas.openxmlformats.org/officeDocument/2006/relationships/slideLayout" Target="../slideLayouts/slideLayout498.xml"/><Relationship Id="rId8" Type="http://schemas.openxmlformats.org/officeDocument/2006/relationships/slideLayout" Target="../slideLayouts/slideLayout499.xml"/><Relationship Id="rId9" Type="http://schemas.openxmlformats.org/officeDocument/2006/relationships/slideLayout" Target="../slideLayouts/slideLayout500.xml"/><Relationship Id="rId10" Type="http://schemas.openxmlformats.org/officeDocument/2006/relationships/slideLayout" Target="../slideLayouts/slideLayout501.xml"/><Relationship Id="rId11" Type="http://schemas.openxmlformats.org/officeDocument/2006/relationships/slideLayout" Target="../slideLayouts/slideLayout502.xml"/><Relationship Id="rId12" Type="http://schemas.openxmlformats.org/officeDocument/2006/relationships/slideLayout" Target="../slideLayouts/slideLayout503.xml"/><Relationship Id="rId13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slideLayout" Target="../slideLayouts/slideLayout505.xml"/><Relationship Id="rId3" Type="http://schemas.openxmlformats.org/officeDocument/2006/relationships/slideLayout" Target="../slideLayouts/slideLayout506.xml"/><Relationship Id="rId4" Type="http://schemas.openxmlformats.org/officeDocument/2006/relationships/slideLayout" Target="../slideLayouts/slideLayout507.xml"/><Relationship Id="rId5" Type="http://schemas.openxmlformats.org/officeDocument/2006/relationships/slideLayout" Target="../slideLayouts/slideLayout508.xml"/><Relationship Id="rId6" Type="http://schemas.openxmlformats.org/officeDocument/2006/relationships/slideLayout" Target="../slideLayouts/slideLayout509.xml"/><Relationship Id="rId7" Type="http://schemas.openxmlformats.org/officeDocument/2006/relationships/slideLayout" Target="../slideLayouts/slideLayout510.xml"/><Relationship Id="rId8" Type="http://schemas.openxmlformats.org/officeDocument/2006/relationships/slideLayout" Target="../slideLayouts/slideLayout511.xml"/><Relationship Id="rId9" Type="http://schemas.openxmlformats.org/officeDocument/2006/relationships/slideLayout" Target="../slideLayouts/slideLayout512.xml"/><Relationship Id="rId10" Type="http://schemas.openxmlformats.org/officeDocument/2006/relationships/slideLayout" Target="../slideLayouts/slideLayout513.xml"/><Relationship Id="rId11" Type="http://schemas.openxmlformats.org/officeDocument/2006/relationships/slideLayout" Target="../slideLayouts/slideLayout514.xml"/><Relationship Id="rId12" Type="http://schemas.openxmlformats.org/officeDocument/2006/relationships/slideLayout" Target="../slideLayouts/slideLayout515.xml"/><Relationship Id="rId13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slideLayout" Target="../slideLayouts/slideLayout517.xml"/><Relationship Id="rId3" Type="http://schemas.openxmlformats.org/officeDocument/2006/relationships/slideLayout" Target="../slideLayouts/slideLayout518.xml"/><Relationship Id="rId4" Type="http://schemas.openxmlformats.org/officeDocument/2006/relationships/slideLayout" Target="../slideLayouts/slideLayout519.xml"/><Relationship Id="rId5" Type="http://schemas.openxmlformats.org/officeDocument/2006/relationships/slideLayout" Target="../slideLayouts/slideLayout520.xml"/><Relationship Id="rId6" Type="http://schemas.openxmlformats.org/officeDocument/2006/relationships/slideLayout" Target="../slideLayouts/slideLayout521.xml"/><Relationship Id="rId7" Type="http://schemas.openxmlformats.org/officeDocument/2006/relationships/slideLayout" Target="../slideLayouts/slideLayout522.xml"/><Relationship Id="rId8" Type="http://schemas.openxmlformats.org/officeDocument/2006/relationships/slideLayout" Target="../slideLayouts/slideLayout523.xml"/><Relationship Id="rId9" Type="http://schemas.openxmlformats.org/officeDocument/2006/relationships/slideLayout" Target="../slideLayouts/slideLayout524.xml"/><Relationship Id="rId10" Type="http://schemas.openxmlformats.org/officeDocument/2006/relationships/slideLayout" Target="../slideLayouts/slideLayout525.xml"/><Relationship Id="rId11" Type="http://schemas.openxmlformats.org/officeDocument/2006/relationships/slideLayout" Target="../slideLayouts/slideLayout526.xml"/><Relationship Id="rId12" Type="http://schemas.openxmlformats.org/officeDocument/2006/relationships/slideLayout" Target="../slideLayouts/slideLayout527.xml"/><Relationship Id="rId13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slideLayout" Target="../slideLayouts/slideLayout529.xml"/><Relationship Id="rId3" Type="http://schemas.openxmlformats.org/officeDocument/2006/relationships/slideLayout" Target="../slideLayouts/slideLayout530.xml"/><Relationship Id="rId4" Type="http://schemas.openxmlformats.org/officeDocument/2006/relationships/slideLayout" Target="../slideLayouts/slideLayout531.xml"/><Relationship Id="rId5" Type="http://schemas.openxmlformats.org/officeDocument/2006/relationships/slideLayout" Target="../slideLayouts/slideLayout532.xml"/><Relationship Id="rId6" Type="http://schemas.openxmlformats.org/officeDocument/2006/relationships/slideLayout" Target="../slideLayouts/slideLayout533.xml"/><Relationship Id="rId7" Type="http://schemas.openxmlformats.org/officeDocument/2006/relationships/slideLayout" Target="../slideLayouts/slideLayout534.xml"/><Relationship Id="rId8" Type="http://schemas.openxmlformats.org/officeDocument/2006/relationships/slideLayout" Target="../slideLayouts/slideLayout535.xml"/><Relationship Id="rId9" Type="http://schemas.openxmlformats.org/officeDocument/2006/relationships/slideLayout" Target="../slideLayouts/slideLayout536.xml"/><Relationship Id="rId10" Type="http://schemas.openxmlformats.org/officeDocument/2006/relationships/slideLayout" Target="../slideLayouts/slideLayout537.xml"/><Relationship Id="rId11" Type="http://schemas.openxmlformats.org/officeDocument/2006/relationships/slideLayout" Target="../slideLayouts/slideLayout538.xml"/><Relationship Id="rId12" Type="http://schemas.openxmlformats.org/officeDocument/2006/relationships/slideLayout" Target="../slideLayouts/slideLayout539.xml"/><Relationship Id="rId13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slideLayout" Target="../slideLayouts/slideLayout541.xml"/><Relationship Id="rId3" Type="http://schemas.openxmlformats.org/officeDocument/2006/relationships/slideLayout" Target="../slideLayouts/slideLayout542.xml"/><Relationship Id="rId4" Type="http://schemas.openxmlformats.org/officeDocument/2006/relationships/slideLayout" Target="../slideLayouts/slideLayout543.xml"/><Relationship Id="rId5" Type="http://schemas.openxmlformats.org/officeDocument/2006/relationships/slideLayout" Target="../slideLayouts/slideLayout544.xml"/><Relationship Id="rId6" Type="http://schemas.openxmlformats.org/officeDocument/2006/relationships/slideLayout" Target="../slideLayouts/slideLayout545.xml"/><Relationship Id="rId7" Type="http://schemas.openxmlformats.org/officeDocument/2006/relationships/slideLayout" Target="../slideLayouts/slideLayout546.xml"/><Relationship Id="rId8" Type="http://schemas.openxmlformats.org/officeDocument/2006/relationships/slideLayout" Target="../slideLayouts/slideLayout547.xml"/><Relationship Id="rId9" Type="http://schemas.openxmlformats.org/officeDocument/2006/relationships/slideLayout" Target="../slideLayouts/slideLayout548.xml"/><Relationship Id="rId10" Type="http://schemas.openxmlformats.org/officeDocument/2006/relationships/slideLayout" Target="../slideLayouts/slideLayout549.xml"/><Relationship Id="rId11" Type="http://schemas.openxmlformats.org/officeDocument/2006/relationships/slideLayout" Target="../slideLayouts/slideLayout550.xml"/><Relationship Id="rId12" Type="http://schemas.openxmlformats.org/officeDocument/2006/relationships/slideLayout" Target="../slideLayouts/slideLayout551.xml"/><Relationship Id="rId13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slideLayout" Target="../slideLayouts/slideLayout553.xml"/><Relationship Id="rId3" Type="http://schemas.openxmlformats.org/officeDocument/2006/relationships/slideLayout" Target="../slideLayouts/slideLayout554.xml"/><Relationship Id="rId4" Type="http://schemas.openxmlformats.org/officeDocument/2006/relationships/slideLayout" Target="../slideLayouts/slideLayout555.xml"/><Relationship Id="rId5" Type="http://schemas.openxmlformats.org/officeDocument/2006/relationships/slideLayout" Target="../slideLayouts/slideLayout556.xml"/><Relationship Id="rId6" Type="http://schemas.openxmlformats.org/officeDocument/2006/relationships/slideLayout" Target="../slideLayouts/slideLayout557.xml"/><Relationship Id="rId7" Type="http://schemas.openxmlformats.org/officeDocument/2006/relationships/slideLayout" Target="../slideLayouts/slideLayout558.xml"/><Relationship Id="rId8" Type="http://schemas.openxmlformats.org/officeDocument/2006/relationships/slideLayout" Target="../slideLayouts/slideLayout559.xml"/><Relationship Id="rId9" Type="http://schemas.openxmlformats.org/officeDocument/2006/relationships/slideLayout" Target="../slideLayouts/slideLayout560.xml"/><Relationship Id="rId10" Type="http://schemas.openxmlformats.org/officeDocument/2006/relationships/slideLayout" Target="../slideLayouts/slideLayout561.xml"/><Relationship Id="rId11" Type="http://schemas.openxmlformats.org/officeDocument/2006/relationships/slideLayout" Target="../slideLayouts/slideLayout562.xml"/><Relationship Id="rId12" Type="http://schemas.openxmlformats.org/officeDocument/2006/relationships/slideLayout" Target="../slideLayouts/slideLayout563.xml"/><Relationship Id="rId13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slideLayout" Target="../slideLayouts/slideLayout565.xml"/><Relationship Id="rId3" Type="http://schemas.openxmlformats.org/officeDocument/2006/relationships/slideLayout" Target="../slideLayouts/slideLayout566.xml"/><Relationship Id="rId4" Type="http://schemas.openxmlformats.org/officeDocument/2006/relationships/slideLayout" Target="../slideLayouts/slideLayout567.xml"/><Relationship Id="rId5" Type="http://schemas.openxmlformats.org/officeDocument/2006/relationships/slideLayout" Target="../slideLayouts/slideLayout568.xml"/><Relationship Id="rId6" Type="http://schemas.openxmlformats.org/officeDocument/2006/relationships/slideLayout" Target="../slideLayouts/slideLayout569.xml"/><Relationship Id="rId7" Type="http://schemas.openxmlformats.org/officeDocument/2006/relationships/slideLayout" Target="../slideLayouts/slideLayout570.xml"/><Relationship Id="rId8" Type="http://schemas.openxmlformats.org/officeDocument/2006/relationships/slideLayout" Target="../slideLayouts/slideLayout571.xml"/><Relationship Id="rId9" Type="http://schemas.openxmlformats.org/officeDocument/2006/relationships/slideLayout" Target="../slideLayouts/slideLayout572.xml"/><Relationship Id="rId10" Type="http://schemas.openxmlformats.org/officeDocument/2006/relationships/slideLayout" Target="../slideLayouts/slideLayout573.xml"/><Relationship Id="rId11" Type="http://schemas.openxmlformats.org/officeDocument/2006/relationships/slideLayout" Target="../slideLayouts/slideLayout574.xml"/><Relationship Id="rId12" Type="http://schemas.openxmlformats.org/officeDocument/2006/relationships/slideLayout" Target="../slideLayouts/slideLayout575.xml"/><Relationship Id="rId13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slideLayout" Target="../slideLayouts/slideLayout577.xml"/><Relationship Id="rId3" Type="http://schemas.openxmlformats.org/officeDocument/2006/relationships/slideLayout" Target="../slideLayouts/slideLayout578.xml"/><Relationship Id="rId4" Type="http://schemas.openxmlformats.org/officeDocument/2006/relationships/slideLayout" Target="../slideLayouts/slideLayout579.xml"/><Relationship Id="rId5" Type="http://schemas.openxmlformats.org/officeDocument/2006/relationships/slideLayout" Target="../slideLayouts/slideLayout580.xml"/><Relationship Id="rId6" Type="http://schemas.openxmlformats.org/officeDocument/2006/relationships/slideLayout" Target="../slideLayouts/slideLayout581.xml"/><Relationship Id="rId7" Type="http://schemas.openxmlformats.org/officeDocument/2006/relationships/slideLayout" Target="../slideLayouts/slideLayout582.xml"/><Relationship Id="rId8" Type="http://schemas.openxmlformats.org/officeDocument/2006/relationships/slideLayout" Target="../slideLayouts/slideLayout583.xml"/><Relationship Id="rId9" Type="http://schemas.openxmlformats.org/officeDocument/2006/relationships/slideLayout" Target="../slideLayouts/slideLayout584.xml"/><Relationship Id="rId10" Type="http://schemas.openxmlformats.org/officeDocument/2006/relationships/slideLayout" Target="../slideLayouts/slideLayout585.xml"/><Relationship Id="rId11" Type="http://schemas.openxmlformats.org/officeDocument/2006/relationships/slideLayout" Target="../slideLayouts/slideLayout586.xml"/><Relationship Id="rId12" Type="http://schemas.openxmlformats.org/officeDocument/2006/relationships/slideLayout" Target="../slideLayouts/slideLayout587.xml"/><Relationship Id="rId13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slideLayout" Target="../slideLayouts/slideLayout589.xml"/><Relationship Id="rId3" Type="http://schemas.openxmlformats.org/officeDocument/2006/relationships/slideLayout" Target="../slideLayouts/slideLayout590.xml"/><Relationship Id="rId4" Type="http://schemas.openxmlformats.org/officeDocument/2006/relationships/slideLayout" Target="../slideLayouts/slideLayout591.xml"/><Relationship Id="rId5" Type="http://schemas.openxmlformats.org/officeDocument/2006/relationships/slideLayout" Target="../slideLayouts/slideLayout592.xml"/><Relationship Id="rId6" Type="http://schemas.openxmlformats.org/officeDocument/2006/relationships/slideLayout" Target="../slideLayouts/slideLayout593.xml"/><Relationship Id="rId7" Type="http://schemas.openxmlformats.org/officeDocument/2006/relationships/slideLayout" Target="../slideLayouts/slideLayout594.xml"/><Relationship Id="rId8" Type="http://schemas.openxmlformats.org/officeDocument/2006/relationships/slideLayout" Target="../slideLayouts/slideLayout595.xml"/><Relationship Id="rId9" Type="http://schemas.openxmlformats.org/officeDocument/2006/relationships/slideLayout" Target="../slideLayouts/slideLayout596.xml"/><Relationship Id="rId10" Type="http://schemas.openxmlformats.org/officeDocument/2006/relationships/slideLayout" Target="../slideLayouts/slideLayout597.xml"/><Relationship Id="rId11" Type="http://schemas.openxmlformats.org/officeDocument/2006/relationships/slideLayout" Target="../slideLayouts/slideLayout598.xml"/><Relationship Id="rId12" Type="http://schemas.openxmlformats.org/officeDocument/2006/relationships/slideLayout" Target="../slideLayouts/slideLayout599.xml"/><Relationship Id="rId13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slideLayout" Target="../slideLayouts/slideLayout601.xml"/><Relationship Id="rId3" Type="http://schemas.openxmlformats.org/officeDocument/2006/relationships/slideLayout" Target="../slideLayouts/slideLayout602.xml"/><Relationship Id="rId4" Type="http://schemas.openxmlformats.org/officeDocument/2006/relationships/slideLayout" Target="../slideLayouts/slideLayout603.xml"/><Relationship Id="rId5" Type="http://schemas.openxmlformats.org/officeDocument/2006/relationships/slideLayout" Target="../slideLayouts/slideLayout604.xml"/><Relationship Id="rId6" Type="http://schemas.openxmlformats.org/officeDocument/2006/relationships/slideLayout" Target="../slideLayouts/slideLayout605.xml"/><Relationship Id="rId7" Type="http://schemas.openxmlformats.org/officeDocument/2006/relationships/slideLayout" Target="../slideLayouts/slideLayout606.xml"/><Relationship Id="rId8" Type="http://schemas.openxmlformats.org/officeDocument/2006/relationships/slideLayout" Target="../slideLayouts/slideLayout607.xml"/><Relationship Id="rId9" Type="http://schemas.openxmlformats.org/officeDocument/2006/relationships/slideLayout" Target="../slideLayouts/slideLayout608.xml"/><Relationship Id="rId10" Type="http://schemas.openxmlformats.org/officeDocument/2006/relationships/slideLayout" Target="../slideLayouts/slideLayout609.xml"/><Relationship Id="rId11" Type="http://schemas.openxmlformats.org/officeDocument/2006/relationships/slideLayout" Target="../slideLayouts/slideLayout610.xml"/><Relationship Id="rId12" Type="http://schemas.openxmlformats.org/officeDocument/2006/relationships/slideLayout" Target="../slideLayouts/slideLayout611.xml"/><Relationship Id="rId13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slideLayout" Target="../slideLayouts/slideLayout613.xml"/><Relationship Id="rId3" Type="http://schemas.openxmlformats.org/officeDocument/2006/relationships/slideLayout" Target="../slideLayouts/slideLayout614.xml"/><Relationship Id="rId4" Type="http://schemas.openxmlformats.org/officeDocument/2006/relationships/slideLayout" Target="../slideLayouts/slideLayout615.xml"/><Relationship Id="rId5" Type="http://schemas.openxmlformats.org/officeDocument/2006/relationships/slideLayout" Target="../slideLayouts/slideLayout616.xml"/><Relationship Id="rId6" Type="http://schemas.openxmlformats.org/officeDocument/2006/relationships/slideLayout" Target="../slideLayouts/slideLayout617.xml"/><Relationship Id="rId7" Type="http://schemas.openxmlformats.org/officeDocument/2006/relationships/slideLayout" Target="../slideLayouts/slideLayout618.xml"/><Relationship Id="rId8" Type="http://schemas.openxmlformats.org/officeDocument/2006/relationships/slideLayout" Target="../slideLayouts/slideLayout619.xml"/><Relationship Id="rId9" Type="http://schemas.openxmlformats.org/officeDocument/2006/relationships/slideLayout" Target="../slideLayouts/slideLayout620.xml"/><Relationship Id="rId10" Type="http://schemas.openxmlformats.org/officeDocument/2006/relationships/slideLayout" Target="../slideLayouts/slideLayout621.xml"/><Relationship Id="rId11" Type="http://schemas.openxmlformats.org/officeDocument/2006/relationships/slideLayout" Target="../slideLayouts/slideLayout622.xml"/><Relationship Id="rId12" Type="http://schemas.openxmlformats.org/officeDocument/2006/relationships/slideLayout" Target="../slideLayouts/slideLayout623.xml"/><Relationship Id="rId13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slideLayout" Target="../slideLayouts/slideLayout625.xml"/><Relationship Id="rId3" Type="http://schemas.openxmlformats.org/officeDocument/2006/relationships/slideLayout" Target="../slideLayouts/slideLayout626.xml"/><Relationship Id="rId4" Type="http://schemas.openxmlformats.org/officeDocument/2006/relationships/slideLayout" Target="../slideLayouts/slideLayout627.xml"/><Relationship Id="rId5" Type="http://schemas.openxmlformats.org/officeDocument/2006/relationships/slideLayout" Target="../slideLayouts/slideLayout628.xml"/><Relationship Id="rId6" Type="http://schemas.openxmlformats.org/officeDocument/2006/relationships/slideLayout" Target="../slideLayouts/slideLayout629.xml"/><Relationship Id="rId7" Type="http://schemas.openxmlformats.org/officeDocument/2006/relationships/slideLayout" Target="../slideLayouts/slideLayout630.xml"/><Relationship Id="rId8" Type="http://schemas.openxmlformats.org/officeDocument/2006/relationships/slideLayout" Target="../slideLayouts/slideLayout631.xml"/><Relationship Id="rId9" Type="http://schemas.openxmlformats.org/officeDocument/2006/relationships/slideLayout" Target="../slideLayouts/slideLayout632.xml"/><Relationship Id="rId10" Type="http://schemas.openxmlformats.org/officeDocument/2006/relationships/slideLayout" Target="../slideLayouts/slideLayout633.xml"/><Relationship Id="rId11" Type="http://schemas.openxmlformats.org/officeDocument/2006/relationships/slideLayout" Target="../slideLayouts/slideLayout634.xml"/><Relationship Id="rId12" Type="http://schemas.openxmlformats.org/officeDocument/2006/relationships/slideLayout" Target="../slideLayouts/slideLayout635.xml"/><Relationship Id="rId13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slideLayout" Target="../slideLayouts/slideLayout637.xml"/><Relationship Id="rId3" Type="http://schemas.openxmlformats.org/officeDocument/2006/relationships/slideLayout" Target="../slideLayouts/slideLayout638.xml"/><Relationship Id="rId4" Type="http://schemas.openxmlformats.org/officeDocument/2006/relationships/slideLayout" Target="../slideLayouts/slideLayout639.xml"/><Relationship Id="rId5" Type="http://schemas.openxmlformats.org/officeDocument/2006/relationships/slideLayout" Target="../slideLayouts/slideLayout640.xml"/><Relationship Id="rId6" Type="http://schemas.openxmlformats.org/officeDocument/2006/relationships/slideLayout" Target="../slideLayouts/slideLayout641.xml"/><Relationship Id="rId7" Type="http://schemas.openxmlformats.org/officeDocument/2006/relationships/slideLayout" Target="../slideLayouts/slideLayout642.xml"/><Relationship Id="rId8" Type="http://schemas.openxmlformats.org/officeDocument/2006/relationships/slideLayout" Target="../slideLayouts/slideLayout643.xml"/><Relationship Id="rId9" Type="http://schemas.openxmlformats.org/officeDocument/2006/relationships/slideLayout" Target="../slideLayouts/slideLayout644.xml"/><Relationship Id="rId10" Type="http://schemas.openxmlformats.org/officeDocument/2006/relationships/slideLayout" Target="../slideLayouts/slideLayout645.xml"/><Relationship Id="rId11" Type="http://schemas.openxmlformats.org/officeDocument/2006/relationships/slideLayout" Target="../slideLayouts/slideLayout646.xml"/><Relationship Id="rId12" Type="http://schemas.openxmlformats.org/officeDocument/2006/relationships/slideLayout" Target="../slideLayouts/slideLayout647.xml"/><Relationship Id="rId13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slideLayout" Target="../slideLayouts/slideLayout649.xml"/><Relationship Id="rId3" Type="http://schemas.openxmlformats.org/officeDocument/2006/relationships/slideLayout" Target="../slideLayouts/slideLayout650.xml"/><Relationship Id="rId4" Type="http://schemas.openxmlformats.org/officeDocument/2006/relationships/slideLayout" Target="../slideLayouts/slideLayout651.xml"/><Relationship Id="rId5" Type="http://schemas.openxmlformats.org/officeDocument/2006/relationships/slideLayout" Target="../slideLayouts/slideLayout652.xml"/><Relationship Id="rId6" Type="http://schemas.openxmlformats.org/officeDocument/2006/relationships/slideLayout" Target="../slideLayouts/slideLayout653.xml"/><Relationship Id="rId7" Type="http://schemas.openxmlformats.org/officeDocument/2006/relationships/slideLayout" Target="../slideLayouts/slideLayout654.xml"/><Relationship Id="rId8" Type="http://schemas.openxmlformats.org/officeDocument/2006/relationships/slideLayout" Target="../slideLayouts/slideLayout655.xml"/><Relationship Id="rId9" Type="http://schemas.openxmlformats.org/officeDocument/2006/relationships/slideLayout" Target="../slideLayouts/slideLayout656.xml"/><Relationship Id="rId10" Type="http://schemas.openxmlformats.org/officeDocument/2006/relationships/slideLayout" Target="../slideLayouts/slideLayout657.xml"/><Relationship Id="rId11" Type="http://schemas.openxmlformats.org/officeDocument/2006/relationships/slideLayout" Target="../slideLayouts/slideLayout658.xml"/><Relationship Id="rId12" Type="http://schemas.openxmlformats.org/officeDocument/2006/relationships/slideLayout" Target="../slideLayouts/slideLayout659.xml"/><Relationship Id="rId13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61.xml"/><Relationship Id="rId4" Type="http://schemas.openxmlformats.org/officeDocument/2006/relationships/slideLayout" Target="../slideLayouts/slideLayout662.xml"/><Relationship Id="rId5" Type="http://schemas.openxmlformats.org/officeDocument/2006/relationships/slideLayout" Target="../slideLayouts/slideLayout663.xml"/><Relationship Id="rId6" Type="http://schemas.openxmlformats.org/officeDocument/2006/relationships/slideLayout" Target="../slideLayouts/slideLayout664.xml"/><Relationship Id="rId7" Type="http://schemas.openxmlformats.org/officeDocument/2006/relationships/slideLayout" Target="../slideLayouts/slideLayout665.xml"/><Relationship Id="rId8" Type="http://schemas.openxmlformats.org/officeDocument/2006/relationships/slideLayout" Target="../slideLayouts/slideLayout666.xml"/><Relationship Id="rId9" Type="http://schemas.openxmlformats.org/officeDocument/2006/relationships/slideLayout" Target="../slideLayouts/slideLayout667.xml"/><Relationship Id="rId10" Type="http://schemas.openxmlformats.org/officeDocument/2006/relationships/slideLayout" Target="../slideLayouts/slideLayout668.xml"/><Relationship Id="rId11" Type="http://schemas.openxmlformats.org/officeDocument/2006/relationships/slideLayout" Target="../slideLayouts/slideLayout669.xml"/><Relationship Id="rId12" Type="http://schemas.openxmlformats.org/officeDocument/2006/relationships/slideLayout" Target="../slideLayouts/slideLayout670.xml"/><Relationship Id="rId13" Type="http://schemas.openxmlformats.org/officeDocument/2006/relationships/slideLayout" Target="../slideLayouts/slideLayout671.xml"/><Relationship Id="rId14" Type="http://schemas.openxmlformats.org/officeDocument/2006/relationships/slideLayout" Target="../slideLayouts/slideLayout672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C0CC1-4428-4DC5-9D77-EF89BB4B6E6B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5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2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33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274e00"/>
                </a:gs>
                <a:gs pos="100000">
                  <a:srgbClr val="2e5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434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3a7400"/>
                </a:gs>
                <a:gs pos="100000">
                  <a:srgbClr val="2e5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8de0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8de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8de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86126-0AF8-4161-8000-0E4AC3E16181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5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6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477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2b5700"/>
                </a:gs>
                <a:gs pos="100000">
                  <a:srgbClr val="2e5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478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3a7400"/>
                </a:gs>
                <a:gs pos="100000">
                  <a:srgbClr val="2e5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8de0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8de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8de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D373F-8989-4505-934D-72A97AF59531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5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52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2b5700"/>
                </a:gs>
                <a:gs pos="100000">
                  <a:srgbClr val="2e5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52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3a7400"/>
                </a:gs>
                <a:gs pos="100000">
                  <a:srgbClr val="2e5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8de0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8de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8de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80476-32E2-4C2A-94C2-3D4FC7507729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5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4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565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2b5700"/>
                </a:gs>
                <a:gs pos="100000">
                  <a:srgbClr val="2e5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566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3a7400"/>
                </a:gs>
                <a:gs pos="100000">
                  <a:srgbClr val="2e5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8de0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8de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8de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849A9-1DEC-4021-9C6F-35DE25064CF6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5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8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609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2b5700"/>
                </a:gs>
                <a:gs pos="100000">
                  <a:srgbClr val="2e5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610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3a7400"/>
                </a:gs>
                <a:gs pos="100000">
                  <a:srgbClr val="2e5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8de0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8de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8de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90803-6CA8-4023-9118-1E5DACDF88D8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5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2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653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2b5700"/>
                </a:gs>
                <a:gs pos="100000">
                  <a:srgbClr val="2e5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654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3a7400"/>
                </a:gs>
                <a:gs pos="100000">
                  <a:srgbClr val="2e5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8de0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8de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8de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32AD9-D2EA-4CB2-BAF6-7ED2152B6121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5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6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697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2b5700"/>
                </a:gs>
                <a:gs pos="100000">
                  <a:srgbClr val="2e5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698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3a7400"/>
                </a:gs>
                <a:gs pos="100000">
                  <a:srgbClr val="2e5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8de0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8de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8de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A6C5D-E56D-47B6-B603-7E064A301B38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5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74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2b5700"/>
                </a:gs>
                <a:gs pos="100000">
                  <a:srgbClr val="2e5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74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3a7400"/>
                </a:gs>
                <a:gs pos="100000">
                  <a:srgbClr val="2e5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8de0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8de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8de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FB99E-B572-4AD0-BEA4-D802817C34D5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5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4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785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2b5700"/>
                </a:gs>
                <a:gs pos="100000">
                  <a:srgbClr val="2e5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786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3a7400"/>
                </a:gs>
                <a:gs pos="100000">
                  <a:srgbClr val="2e5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8de0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8de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8de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62DD3-4ED3-4939-AEBA-979AD16D8891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5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8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829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2b5700"/>
                </a:gs>
                <a:gs pos="100000">
                  <a:srgbClr val="2e5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830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3a7400"/>
                </a:gs>
                <a:gs pos="100000">
                  <a:srgbClr val="2e5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8de0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8de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8de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 type="ftr" idx="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7E547-4351-4B14-98E1-5F08766A6D16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5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45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2b5700"/>
                </a:gs>
                <a:gs pos="100000">
                  <a:srgbClr val="2e5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3a7400"/>
                </a:gs>
                <a:gs pos="100000">
                  <a:srgbClr val="2e5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8de0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8de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8de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6F9FF-7D7A-4B1D-A331-EBACAF68EDCD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5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2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873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2b5700"/>
                </a:gs>
                <a:gs pos="100000">
                  <a:srgbClr val="2e5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874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3a7400"/>
                </a:gs>
                <a:gs pos="100000">
                  <a:srgbClr val="2e5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8de0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8de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8de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 type="ftr" idx="5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4A497-04F1-42F8-9563-93440A6D329B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6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917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817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918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817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919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945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920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817f3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817f3f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 type="dt" idx="61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 type="ftr" idx="62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37961-1923-4405-9E4E-4EB2076C5B9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963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817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964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945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965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817f3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817f3f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 type="dt" idx="6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 type="ftr" idx="6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6B6AC-321E-4B3C-B5F5-457AD5F8D27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7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008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817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009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945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010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817f3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817f3f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 type="dt" idx="6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 type="ftr" idx="6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415A9-65DA-4CB8-B450-0B5ECF05CA8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2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053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817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054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945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055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817f3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817f3f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 type="dt" idx="7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059" name="PlaceHolder 4"/>
          <p:cNvSpPr>
            <a:spLocks noGrp="1"/>
          </p:cNvSpPr>
          <p:nvPr>
            <p:ph type="ftr" idx="7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870BC-1B1C-4749-9E37-D398D8EE99D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7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098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817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099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945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100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817f3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817f3f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 type="dt" idx="7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 type="ftr" idx="7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PlaceHolder 5"/>
          <p:cNvSpPr>
            <a:spLocks noGrp="1"/>
          </p:cNvSpPr>
          <p:nvPr>
            <p:ph type="sldNum" idx="7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4583E-6F9D-4ECD-8E8B-FD893131A9A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2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143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817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144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945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145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817f3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817f3f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 type="dt" idx="7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149" name="PlaceHolder 4"/>
          <p:cNvSpPr>
            <a:spLocks noGrp="1"/>
          </p:cNvSpPr>
          <p:nvPr>
            <p:ph type="ftr" idx="7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PlaceHolder 5"/>
          <p:cNvSpPr>
            <a:spLocks noGrp="1"/>
          </p:cNvSpPr>
          <p:nvPr>
            <p:ph type="sldNum" idx="7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926BA-8050-4B59-822C-6ACAB29129D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7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188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817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189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945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190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817f3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817f3f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 type="dt" idx="7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194" name="PlaceHolder 4"/>
          <p:cNvSpPr>
            <a:spLocks noGrp="1"/>
          </p:cNvSpPr>
          <p:nvPr>
            <p:ph type="ftr" idx="8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PlaceHolder 5"/>
          <p:cNvSpPr>
            <a:spLocks noGrp="1"/>
          </p:cNvSpPr>
          <p:nvPr>
            <p:ph type="sldNum" idx="8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F2B4B-0C83-45BE-A2DE-2805D12E50A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2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233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817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234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945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235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817f3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817f3f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PlaceHolder 3"/>
          <p:cNvSpPr>
            <a:spLocks noGrp="1"/>
          </p:cNvSpPr>
          <p:nvPr>
            <p:ph type="dt" idx="8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239" name="PlaceHolder 4"/>
          <p:cNvSpPr>
            <a:spLocks noGrp="1"/>
          </p:cNvSpPr>
          <p:nvPr>
            <p:ph type="ftr" idx="8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PlaceHolder 5"/>
          <p:cNvSpPr>
            <a:spLocks noGrp="1"/>
          </p:cNvSpPr>
          <p:nvPr>
            <p:ph type="sldNum" idx="8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665F1-761F-4464-9063-0E4236966E5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7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278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817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279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945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280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817f3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817f3f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PlaceHolder 3"/>
          <p:cNvSpPr>
            <a:spLocks noGrp="1"/>
          </p:cNvSpPr>
          <p:nvPr>
            <p:ph type="dt" idx="8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284" name="PlaceHolder 4"/>
          <p:cNvSpPr>
            <a:spLocks noGrp="1"/>
          </p:cNvSpPr>
          <p:nvPr>
            <p:ph type="ftr" idx="8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PlaceHolder 5"/>
          <p:cNvSpPr>
            <a:spLocks noGrp="1"/>
          </p:cNvSpPr>
          <p:nvPr>
            <p:ph type="sldNum" idx="8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A7456-2023-4A26-91F7-01FDF2837E3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89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817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90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945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91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817f3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817f3f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1649D-4CFF-4C44-BE26-FB071DDAB33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2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323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817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324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945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325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817f3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817f3f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 type="dt" idx="8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 type="ftr" idx="8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PlaceHolder 5"/>
          <p:cNvSpPr>
            <a:spLocks noGrp="1"/>
          </p:cNvSpPr>
          <p:nvPr>
            <p:ph type="sldNum" idx="9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83299-40E2-48E0-9D51-A6EA52492AE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7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368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817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369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945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370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817f3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817f3f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 type="dt" idx="9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 type="ftr" idx="9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PlaceHolder 5"/>
          <p:cNvSpPr>
            <a:spLocks noGrp="1"/>
          </p:cNvSpPr>
          <p:nvPr>
            <p:ph type="sldNum" idx="9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39D56-E8A8-482E-8506-22FFF45C846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413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999933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PlaceHolder 3"/>
          <p:cNvSpPr>
            <a:spLocks noGrp="1"/>
          </p:cNvSpPr>
          <p:nvPr>
            <p:ph type="dt" idx="9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417" name="PlaceHolder 4"/>
          <p:cNvSpPr>
            <a:spLocks noGrp="1"/>
          </p:cNvSpPr>
          <p:nvPr>
            <p:ph type="ftr" idx="9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PlaceHolder 5"/>
          <p:cNvSpPr>
            <a:spLocks noGrp="1"/>
          </p:cNvSpPr>
          <p:nvPr>
            <p:ph type="sldNum" idx="9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BD3C4-D31E-4C11-B77E-49B9BCDC1EDE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45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999933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 type="dt" idx="9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 type="ftr" idx="9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PlaceHolder 5"/>
          <p:cNvSpPr>
            <a:spLocks noGrp="1"/>
          </p:cNvSpPr>
          <p:nvPr>
            <p:ph type="sldNum" idx="9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3C835-8AAA-4BD9-AE64-24E178F5D214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499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5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50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999933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PlaceHolder 3"/>
          <p:cNvSpPr>
            <a:spLocks noGrp="1"/>
          </p:cNvSpPr>
          <p:nvPr>
            <p:ph type="dt" idx="10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503" name="PlaceHolder 4"/>
          <p:cNvSpPr>
            <a:spLocks noGrp="1"/>
          </p:cNvSpPr>
          <p:nvPr>
            <p:ph type="ftr" idx="10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PlaceHolder 5"/>
          <p:cNvSpPr>
            <a:spLocks noGrp="1"/>
          </p:cNvSpPr>
          <p:nvPr>
            <p:ph type="sldNum" idx="10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D21C3-A52C-4196-9F3C-3A2591514805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542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999933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PlaceHolder 3"/>
          <p:cNvSpPr>
            <a:spLocks noGrp="1"/>
          </p:cNvSpPr>
          <p:nvPr>
            <p:ph type="dt" idx="10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546" name="PlaceHolder 4"/>
          <p:cNvSpPr>
            <a:spLocks noGrp="1"/>
          </p:cNvSpPr>
          <p:nvPr>
            <p:ph type="ftr" idx="10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PlaceHolder 5"/>
          <p:cNvSpPr>
            <a:spLocks noGrp="1"/>
          </p:cNvSpPr>
          <p:nvPr>
            <p:ph type="sldNum" idx="10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3414C-8CFD-436E-9068-0A7218E85204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585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5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58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999933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PlaceHolder 3"/>
          <p:cNvSpPr>
            <a:spLocks noGrp="1"/>
          </p:cNvSpPr>
          <p:nvPr>
            <p:ph type="dt" idx="10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589" name="PlaceHolder 4"/>
          <p:cNvSpPr>
            <a:spLocks noGrp="1"/>
          </p:cNvSpPr>
          <p:nvPr>
            <p:ph type="ftr" idx="10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PlaceHolder 5"/>
          <p:cNvSpPr>
            <a:spLocks noGrp="1"/>
          </p:cNvSpPr>
          <p:nvPr>
            <p:ph type="sldNum" idx="10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F032C-143A-4482-AEE8-8BF6A2DA7922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628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6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63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999933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PlaceHolder 3"/>
          <p:cNvSpPr>
            <a:spLocks noGrp="1"/>
          </p:cNvSpPr>
          <p:nvPr>
            <p:ph type="dt" idx="10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632" name="PlaceHolder 4"/>
          <p:cNvSpPr>
            <a:spLocks noGrp="1"/>
          </p:cNvSpPr>
          <p:nvPr>
            <p:ph type="ftr" idx="11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PlaceHolder 5"/>
          <p:cNvSpPr>
            <a:spLocks noGrp="1"/>
          </p:cNvSpPr>
          <p:nvPr>
            <p:ph type="sldNum" idx="11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7AC70-6971-4C70-8D09-D2594DF2FC52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0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671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6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67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999933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PlaceHolder 3"/>
          <p:cNvSpPr>
            <a:spLocks noGrp="1"/>
          </p:cNvSpPr>
          <p:nvPr>
            <p:ph type="dt" idx="11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675" name="PlaceHolder 4"/>
          <p:cNvSpPr>
            <a:spLocks noGrp="1"/>
          </p:cNvSpPr>
          <p:nvPr>
            <p:ph type="ftr" idx="1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PlaceHolder 5"/>
          <p:cNvSpPr>
            <a:spLocks noGrp="1"/>
          </p:cNvSpPr>
          <p:nvPr>
            <p:ph type="sldNum" idx="1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CBBC3-D749-420F-AE4C-E1C5D19B2640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714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7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7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999933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PlaceHolder 3"/>
          <p:cNvSpPr>
            <a:spLocks noGrp="1"/>
          </p:cNvSpPr>
          <p:nvPr>
            <p:ph type="dt" idx="11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718" name="PlaceHolder 4"/>
          <p:cNvSpPr>
            <a:spLocks noGrp="1"/>
          </p:cNvSpPr>
          <p:nvPr>
            <p:ph type="ftr" idx="11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PlaceHolder 5"/>
          <p:cNvSpPr>
            <a:spLocks noGrp="1"/>
          </p:cNvSpPr>
          <p:nvPr>
            <p:ph type="sldNum" idx="11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4FEBB-A3F3-4F82-86A2-196F02732954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999933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9B02E-79E8-4122-9971-D18DE251B03B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39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6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757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7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7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999933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PlaceHolder 3"/>
          <p:cNvSpPr>
            <a:spLocks noGrp="1"/>
          </p:cNvSpPr>
          <p:nvPr>
            <p:ph type="dt" idx="11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761" name="PlaceHolder 4"/>
          <p:cNvSpPr>
            <a:spLocks noGrp="1"/>
          </p:cNvSpPr>
          <p:nvPr>
            <p:ph type="ftr" idx="11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PlaceHolder 5"/>
          <p:cNvSpPr>
            <a:spLocks noGrp="1"/>
          </p:cNvSpPr>
          <p:nvPr>
            <p:ph type="sldNum" idx="12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D8404-0A87-445D-A34A-791E9DC9A073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2"/>
    <p:sldLayoutId id="2147484157" r:id="rId3"/>
    <p:sldLayoutId id="2147484158" r:id="rId4"/>
    <p:sldLayoutId id="2147484159" r:id="rId5"/>
    <p:sldLayoutId id="2147484160" r:id="rId6"/>
    <p:sldLayoutId id="2147484161" r:id="rId7"/>
    <p:sldLayoutId id="2147484162" r:id="rId8"/>
    <p:sldLayoutId id="2147484163" r:id="rId9"/>
    <p:sldLayoutId id="2147484164" r:id="rId10"/>
    <p:sldLayoutId id="2147484165" r:id="rId11"/>
    <p:sldLayoutId id="2147484166" r:id="rId12"/>
    <p:sldLayoutId id="2147484167" r:id="rId13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9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800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8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80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999933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3" name="PlaceHolder 3"/>
          <p:cNvSpPr>
            <a:spLocks noGrp="1"/>
          </p:cNvSpPr>
          <p:nvPr>
            <p:ph type="dt" idx="12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804" name="PlaceHolder 4"/>
          <p:cNvSpPr>
            <a:spLocks noGrp="1"/>
          </p:cNvSpPr>
          <p:nvPr>
            <p:ph type="ftr" idx="12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PlaceHolder 5"/>
          <p:cNvSpPr>
            <a:spLocks noGrp="1"/>
          </p:cNvSpPr>
          <p:nvPr>
            <p:ph type="sldNum" idx="12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34400-B58B-4740-9941-0AE302581DB4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2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843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8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84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999933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PlaceHolder 3"/>
          <p:cNvSpPr>
            <a:spLocks noGrp="1"/>
          </p:cNvSpPr>
          <p:nvPr>
            <p:ph type="dt" idx="12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847" name="PlaceHolder 4"/>
          <p:cNvSpPr>
            <a:spLocks noGrp="1"/>
          </p:cNvSpPr>
          <p:nvPr>
            <p:ph type="ftr" idx="12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PlaceHolder 5"/>
          <p:cNvSpPr>
            <a:spLocks noGrp="1"/>
          </p:cNvSpPr>
          <p:nvPr>
            <p:ph type="sldNum" idx="12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60282-D798-4A55-A15C-FDBD5DC381EE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2"/>
    <p:sldLayoutId id="2147484183" r:id="rId3"/>
    <p:sldLayoutId id="2147484184" r:id="rId4"/>
    <p:sldLayoutId id="2147484185" r:id="rId5"/>
    <p:sldLayoutId id="2147484186" r:id="rId6"/>
    <p:sldLayoutId id="2147484187" r:id="rId7"/>
    <p:sldLayoutId id="2147484188" r:id="rId8"/>
    <p:sldLayoutId id="2147484189" r:id="rId9"/>
    <p:sldLayoutId id="2147484190" r:id="rId10"/>
    <p:sldLayoutId id="2147484191" r:id="rId11"/>
    <p:sldLayoutId id="2147484192" r:id="rId12"/>
    <p:sldLayoutId id="2147484193" r:id="rId13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5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1886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887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grpSp>
        <p:nvGrpSpPr>
          <p:cNvPr id="1888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1889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890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189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3" name="PlaceHolder 3"/>
          <p:cNvSpPr>
            <a:spLocks noGrp="1"/>
          </p:cNvSpPr>
          <p:nvPr>
            <p:ph type="dt" idx="12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894" name="PlaceHolder 4"/>
          <p:cNvSpPr>
            <a:spLocks noGrp="1"/>
          </p:cNvSpPr>
          <p:nvPr>
            <p:ph type="ftr" idx="12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PlaceHolder 5"/>
          <p:cNvSpPr>
            <a:spLocks noGrp="1"/>
          </p:cNvSpPr>
          <p:nvPr>
            <p:ph type="sldNum" idx="129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90F45-88C9-40F9-BBED-103D08AAEA00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2"/>
    <p:sldLayoutId id="2147484196" r:id="rId3"/>
    <p:sldLayoutId id="2147484197" r:id="rId4"/>
    <p:sldLayoutId id="2147484198" r:id="rId5"/>
    <p:sldLayoutId id="2147484199" r:id="rId6"/>
    <p:sldLayoutId id="2147484200" r:id="rId7"/>
    <p:sldLayoutId id="2147484201" r:id="rId8"/>
    <p:sldLayoutId id="2147484202" r:id="rId9"/>
    <p:sldLayoutId id="2147484203" r:id="rId10"/>
    <p:sldLayoutId id="2147484204" r:id="rId11"/>
    <p:sldLayoutId id="2147484205" r:id="rId12"/>
    <p:sldLayoutId id="2147484206" r:id="rId13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2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grpSp>
        <p:nvGrpSpPr>
          <p:cNvPr id="1933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1934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935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936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937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938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939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940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941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942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943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944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945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946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947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948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949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950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951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952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953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954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955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956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957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958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959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960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961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962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963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964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1965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PlaceHolder 3"/>
          <p:cNvSpPr>
            <a:spLocks noGrp="1"/>
          </p:cNvSpPr>
          <p:nvPr>
            <p:ph type="dt" idx="13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969" name="PlaceHolder 4"/>
          <p:cNvSpPr>
            <a:spLocks noGrp="1"/>
          </p:cNvSpPr>
          <p:nvPr>
            <p:ph type="ftr" idx="13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PlaceHolder 5"/>
          <p:cNvSpPr>
            <a:spLocks noGrp="1"/>
          </p:cNvSpPr>
          <p:nvPr>
            <p:ph type="sldNum" idx="13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7F907-C980-4960-B97F-3FBC880A2E7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2"/>
    <p:sldLayoutId id="2147484209" r:id="rId3"/>
    <p:sldLayoutId id="2147484210" r:id="rId4"/>
    <p:sldLayoutId id="2147484211" r:id="rId5"/>
    <p:sldLayoutId id="2147484212" r:id="rId6"/>
    <p:sldLayoutId id="2147484213" r:id="rId7"/>
    <p:sldLayoutId id="2147484214" r:id="rId8"/>
    <p:sldLayoutId id="2147484215" r:id="rId9"/>
    <p:sldLayoutId id="2147484216" r:id="rId10"/>
    <p:sldLayoutId id="2147484217" r:id="rId11"/>
    <p:sldLayoutId id="2147484218" r:id="rId12"/>
    <p:sldLayoutId id="2147484219" r:id="rId13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7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grpSp>
        <p:nvGrpSpPr>
          <p:cNvPr id="2008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009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10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11" name="Oval 11"/>
            <p:cNvSpPr/>
            <p:nvPr/>
          </p:nvSpPr>
          <p:spPr>
            <a:xfrm>
              <a:off x="8489160" y="152280"/>
              <a:ext cx="1155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12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13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14" name="Oval 14"/>
            <p:cNvSpPr/>
            <p:nvPr/>
          </p:nvSpPr>
          <p:spPr>
            <a:xfrm>
              <a:off x="8489160" y="320040"/>
              <a:ext cx="1155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15" name="Oval 15"/>
            <p:cNvSpPr/>
            <p:nvPr/>
          </p:nvSpPr>
          <p:spPr>
            <a:xfrm>
              <a:off x="8657280" y="32004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16" name="Oval 16"/>
            <p:cNvSpPr/>
            <p:nvPr/>
          </p:nvSpPr>
          <p:spPr>
            <a:xfrm>
              <a:off x="8153280" y="48816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17" name="Oval 17"/>
            <p:cNvSpPr/>
            <p:nvPr/>
          </p:nvSpPr>
          <p:spPr>
            <a:xfrm>
              <a:off x="8321040" y="48816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18" name="Oval 18"/>
            <p:cNvSpPr/>
            <p:nvPr/>
          </p:nvSpPr>
          <p:spPr>
            <a:xfrm>
              <a:off x="8489160" y="48816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19" name="Oval 19"/>
            <p:cNvSpPr/>
            <p:nvPr/>
          </p:nvSpPr>
          <p:spPr>
            <a:xfrm>
              <a:off x="8657280" y="48816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20" name="Oval 20"/>
            <p:cNvSpPr/>
            <p:nvPr/>
          </p:nvSpPr>
          <p:spPr>
            <a:xfrm>
              <a:off x="8825400" y="488160"/>
              <a:ext cx="119880" cy="1155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21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22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23" name="Oval 23"/>
            <p:cNvSpPr/>
            <p:nvPr/>
          </p:nvSpPr>
          <p:spPr>
            <a:xfrm>
              <a:off x="8489160" y="655920"/>
              <a:ext cx="1155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24" name="Oval 24"/>
            <p:cNvSpPr/>
            <p:nvPr/>
          </p:nvSpPr>
          <p:spPr>
            <a:xfrm>
              <a:off x="8657280" y="65592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25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26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27" name="Oval 27"/>
            <p:cNvSpPr/>
            <p:nvPr/>
          </p:nvSpPr>
          <p:spPr>
            <a:xfrm>
              <a:off x="8489160" y="82404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28" name="Oval 28"/>
            <p:cNvSpPr/>
            <p:nvPr/>
          </p:nvSpPr>
          <p:spPr>
            <a:xfrm>
              <a:off x="8657280" y="82404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29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30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31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32" name="Oval 32"/>
            <p:cNvSpPr/>
            <p:nvPr/>
          </p:nvSpPr>
          <p:spPr>
            <a:xfrm>
              <a:off x="8489160" y="992160"/>
              <a:ext cx="1155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33" name="Oval 33"/>
            <p:cNvSpPr/>
            <p:nvPr/>
          </p:nvSpPr>
          <p:spPr>
            <a:xfrm>
              <a:off x="8657280" y="992160"/>
              <a:ext cx="11556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34" name="Oval 34"/>
            <p:cNvSpPr/>
            <p:nvPr/>
          </p:nvSpPr>
          <p:spPr>
            <a:xfrm>
              <a:off x="8153280" y="1159920"/>
              <a:ext cx="119880" cy="1152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35" name="Oval 35"/>
            <p:cNvSpPr/>
            <p:nvPr/>
          </p:nvSpPr>
          <p:spPr>
            <a:xfrm>
              <a:off x="8321040" y="1159920"/>
              <a:ext cx="118440" cy="1152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36" name="Oval 36"/>
            <p:cNvSpPr/>
            <p:nvPr/>
          </p:nvSpPr>
          <p:spPr>
            <a:xfrm>
              <a:off x="8489160" y="1159920"/>
              <a:ext cx="115560" cy="1152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37" name="Oval 37"/>
            <p:cNvSpPr/>
            <p:nvPr/>
          </p:nvSpPr>
          <p:spPr>
            <a:xfrm>
              <a:off x="8657280" y="1159920"/>
              <a:ext cx="115560" cy="1152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38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39" name="Oval 39"/>
            <p:cNvSpPr/>
            <p:nvPr/>
          </p:nvSpPr>
          <p:spPr>
            <a:xfrm>
              <a:off x="8657280" y="1328040"/>
              <a:ext cx="11556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20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041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2" name="PlaceHolder 3"/>
          <p:cNvSpPr>
            <a:spLocks noGrp="1"/>
          </p:cNvSpPr>
          <p:nvPr>
            <p:ph type="dt" idx="13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043" name="PlaceHolder 4"/>
          <p:cNvSpPr>
            <a:spLocks noGrp="1"/>
          </p:cNvSpPr>
          <p:nvPr>
            <p:ph type="ftr" idx="13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4" name="PlaceHolder 5"/>
          <p:cNvSpPr>
            <a:spLocks noGrp="1"/>
          </p:cNvSpPr>
          <p:nvPr>
            <p:ph type="sldNum" idx="13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9EF24-8C67-478C-AC87-3E9FF53A25A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2"/>
    <p:sldLayoutId id="2147484222" r:id="rId3"/>
    <p:sldLayoutId id="2147484223" r:id="rId4"/>
    <p:sldLayoutId id="2147484224" r:id="rId5"/>
    <p:sldLayoutId id="2147484225" r:id="rId6"/>
    <p:sldLayoutId id="2147484226" r:id="rId7"/>
    <p:sldLayoutId id="2147484227" r:id="rId8"/>
    <p:sldLayoutId id="2147484228" r:id="rId9"/>
    <p:sldLayoutId id="2147484229" r:id="rId10"/>
    <p:sldLayoutId id="2147484230" r:id="rId11"/>
    <p:sldLayoutId id="2147484231" r:id="rId12"/>
    <p:sldLayoutId id="2147484232" r:id="rId13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1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grpSp>
        <p:nvGrpSpPr>
          <p:cNvPr id="2082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083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84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85" name="Oval 11"/>
            <p:cNvSpPr/>
            <p:nvPr/>
          </p:nvSpPr>
          <p:spPr>
            <a:xfrm>
              <a:off x="8489160" y="152280"/>
              <a:ext cx="1155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86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87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88" name="Oval 14"/>
            <p:cNvSpPr/>
            <p:nvPr/>
          </p:nvSpPr>
          <p:spPr>
            <a:xfrm>
              <a:off x="8489160" y="320040"/>
              <a:ext cx="1155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89" name="Oval 15"/>
            <p:cNvSpPr/>
            <p:nvPr/>
          </p:nvSpPr>
          <p:spPr>
            <a:xfrm>
              <a:off x="8657280" y="32004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90" name="Oval 16"/>
            <p:cNvSpPr/>
            <p:nvPr/>
          </p:nvSpPr>
          <p:spPr>
            <a:xfrm>
              <a:off x="8153280" y="48816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91" name="Oval 17"/>
            <p:cNvSpPr/>
            <p:nvPr/>
          </p:nvSpPr>
          <p:spPr>
            <a:xfrm>
              <a:off x="8321040" y="48816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92" name="Oval 18"/>
            <p:cNvSpPr/>
            <p:nvPr/>
          </p:nvSpPr>
          <p:spPr>
            <a:xfrm>
              <a:off x="8489160" y="48816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93" name="Oval 19"/>
            <p:cNvSpPr/>
            <p:nvPr/>
          </p:nvSpPr>
          <p:spPr>
            <a:xfrm>
              <a:off x="8657280" y="48816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94" name="Oval 20"/>
            <p:cNvSpPr/>
            <p:nvPr/>
          </p:nvSpPr>
          <p:spPr>
            <a:xfrm>
              <a:off x="8825400" y="488160"/>
              <a:ext cx="119880" cy="1155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95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96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97" name="Oval 23"/>
            <p:cNvSpPr/>
            <p:nvPr/>
          </p:nvSpPr>
          <p:spPr>
            <a:xfrm>
              <a:off x="8489160" y="655920"/>
              <a:ext cx="1155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98" name="Oval 24"/>
            <p:cNvSpPr/>
            <p:nvPr/>
          </p:nvSpPr>
          <p:spPr>
            <a:xfrm>
              <a:off x="8657280" y="65592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99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00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01" name="Oval 27"/>
            <p:cNvSpPr/>
            <p:nvPr/>
          </p:nvSpPr>
          <p:spPr>
            <a:xfrm>
              <a:off x="8489160" y="82404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02" name="Oval 28"/>
            <p:cNvSpPr/>
            <p:nvPr/>
          </p:nvSpPr>
          <p:spPr>
            <a:xfrm>
              <a:off x="8657280" y="82404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03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04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05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06" name="Oval 32"/>
            <p:cNvSpPr/>
            <p:nvPr/>
          </p:nvSpPr>
          <p:spPr>
            <a:xfrm>
              <a:off x="8489160" y="992160"/>
              <a:ext cx="1155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07" name="Oval 33"/>
            <p:cNvSpPr/>
            <p:nvPr/>
          </p:nvSpPr>
          <p:spPr>
            <a:xfrm>
              <a:off x="8657280" y="992160"/>
              <a:ext cx="11556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08" name="Oval 34"/>
            <p:cNvSpPr/>
            <p:nvPr/>
          </p:nvSpPr>
          <p:spPr>
            <a:xfrm>
              <a:off x="8153280" y="1159920"/>
              <a:ext cx="119880" cy="1152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09" name="Oval 35"/>
            <p:cNvSpPr/>
            <p:nvPr/>
          </p:nvSpPr>
          <p:spPr>
            <a:xfrm>
              <a:off x="8321040" y="1159920"/>
              <a:ext cx="118440" cy="1152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10" name="Oval 36"/>
            <p:cNvSpPr/>
            <p:nvPr/>
          </p:nvSpPr>
          <p:spPr>
            <a:xfrm>
              <a:off x="8489160" y="1159920"/>
              <a:ext cx="115560" cy="1152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11" name="Oval 37"/>
            <p:cNvSpPr/>
            <p:nvPr/>
          </p:nvSpPr>
          <p:spPr>
            <a:xfrm>
              <a:off x="8657280" y="1159920"/>
              <a:ext cx="115560" cy="1152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12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13" name="Oval 39"/>
            <p:cNvSpPr/>
            <p:nvPr/>
          </p:nvSpPr>
          <p:spPr>
            <a:xfrm>
              <a:off x="8657280" y="1328040"/>
              <a:ext cx="11556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21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115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6" name="PlaceHolder 3"/>
          <p:cNvSpPr>
            <a:spLocks noGrp="1"/>
          </p:cNvSpPr>
          <p:nvPr>
            <p:ph type="dt" idx="13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117" name="PlaceHolder 4"/>
          <p:cNvSpPr>
            <a:spLocks noGrp="1"/>
          </p:cNvSpPr>
          <p:nvPr>
            <p:ph type="ftr" idx="13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8" name="PlaceHolder 5"/>
          <p:cNvSpPr>
            <a:spLocks noGrp="1"/>
          </p:cNvSpPr>
          <p:nvPr>
            <p:ph type="sldNum" idx="13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2E764-719F-4EA1-9E50-6319D8A2DAC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2"/>
    <p:sldLayoutId id="2147484235" r:id="rId3"/>
    <p:sldLayoutId id="2147484236" r:id="rId4"/>
    <p:sldLayoutId id="2147484237" r:id="rId5"/>
    <p:sldLayoutId id="2147484238" r:id="rId6"/>
    <p:sldLayoutId id="2147484239" r:id="rId7"/>
    <p:sldLayoutId id="2147484240" r:id="rId8"/>
    <p:sldLayoutId id="2147484241" r:id="rId9"/>
    <p:sldLayoutId id="2147484242" r:id="rId10"/>
    <p:sldLayoutId id="2147484243" r:id="rId11"/>
    <p:sldLayoutId id="2147484244" r:id="rId12"/>
    <p:sldLayoutId id="2147484245" r:id="rId13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5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grpSp>
        <p:nvGrpSpPr>
          <p:cNvPr id="215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15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5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59" name="Oval 11"/>
            <p:cNvSpPr/>
            <p:nvPr/>
          </p:nvSpPr>
          <p:spPr>
            <a:xfrm>
              <a:off x="8489160" y="152280"/>
              <a:ext cx="1155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6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6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62" name="Oval 14"/>
            <p:cNvSpPr/>
            <p:nvPr/>
          </p:nvSpPr>
          <p:spPr>
            <a:xfrm>
              <a:off x="8489160" y="320040"/>
              <a:ext cx="1155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63" name="Oval 15"/>
            <p:cNvSpPr/>
            <p:nvPr/>
          </p:nvSpPr>
          <p:spPr>
            <a:xfrm>
              <a:off x="8657280" y="32004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64" name="Oval 16"/>
            <p:cNvSpPr/>
            <p:nvPr/>
          </p:nvSpPr>
          <p:spPr>
            <a:xfrm>
              <a:off x="8153280" y="48816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65" name="Oval 17"/>
            <p:cNvSpPr/>
            <p:nvPr/>
          </p:nvSpPr>
          <p:spPr>
            <a:xfrm>
              <a:off x="8321040" y="48816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66" name="Oval 18"/>
            <p:cNvSpPr/>
            <p:nvPr/>
          </p:nvSpPr>
          <p:spPr>
            <a:xfrm>
              <a:off x="8489160" y="48816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67" name="Oval 19"/>
            <p:cNvSpPr/>
            <p:nvPr/>
          </p:nvSpPr>
          <p:spPr>
            <a:xfrm>
              <a:off x="8657280" y="48816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68" name="Oval 20"/>
            <p:cNvSpPr/>
            <p:nvPr/>
          </p:nvSpPr>
          <p:spPr>
            <a:xfrm>
              <a:off x="8825400" y="488160"/>
              <a:ext cx="119880" cy="1155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6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7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71" name="Oval 23"/>
            <p:cNvSpPr/>
            <p:nvPr/>
          </p:nvSpPr>
          <p:spPr>
            <a:xfrm>
              <a:off x="8489160" y="655920"/>
              <a:ext cx="1155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72" name="Oval 24"/>
            <p:cNvSpPr/>
            <p:nvPr/>
          </p:nvSpPr>
          <p:spPr>
            <a:xfrm>
              <a:off x="8657280" y="65592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7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7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75" name="Oval 27"/>
            <p:cNvSpPr/>
            <p:nvPr/>
          </p:nvSpPr>
          <p:spPr>
            <a:xfrm>
              <a:off x="8489160" y="82404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76" name="Oval 28"/>
            <p:cNvSpPr/>
            <p:nvPr/>
          </p:nvSpPr>
          <p:spPr>
            <a:xfrm>
              <a:off x="8657280" y="82404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7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7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7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80" name="Oval 32"/>
            <p:cNvSpPr/>
            <p:nvPr/>
          </p:nvSpPr>
          <p:spPr>
            <a:xfrm>
              <a:off x="8489160" y="992160"/>
              <a:ext cx="1155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81" name="Oval 33"/>
            <p:cNvSpPr/>
            <p:nvPr/>
          </p:nvSpPr>
          <p:spPr>
            <a:xfrm>
              <a:off x="8657280" y="992160"/>
              <a:ext cx="11556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82" name="Oval 34"/>
            <p:cNvSpPr/>
            <p:nvPr/>
          </p:nvSpPr>
          <p:spPr>
            <a:xfrm>
              <a:off x="8153280" y="1159920"/>
              <a:ext cx="119880" cy="1152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83" name="Oval 35"/>
            <p:cNvSpPr/>
            <p:nvPr/>
          </p:nvSpPr>
          <p:spPr>
            <a:xfrm>
              <a:off x="8321040" y="1159920"/>
              <a:ext cx="118440" cy="1152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84" name="Oval 36"/>
            <p:cNvSpPr/>
            <p:nvPr/>
          </p:nvSpPr>
          <p:spPr>
            <a:xfrm>
              <a:off x="8489160" y="1159920"/>
              <a:ext cx="115560" cy="1152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85" name="Oval 37"/>
            <p:cNvSpPr/>
            <p:nvPr/>
          </p:nvSpPr>
          <p:spPr>
            <a:xfrm>
              <a:off x="8657280" y="1159920"/>
              <a:ext cx="115560" cy="1152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8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87" name="Oval 39"/>
            <p:cNvSpPr/>
            <p:nvPr/>
          </p:nvSpPr>
          <p:spPr>
            <a:xfrm>
              <a:off x="8657280" y="1328040"/>
              <a:ext cx="11556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21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18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0" name="PlaceHolder 3"/>
          <p:cNvSpPr>
            <a:spLocks noGrp="1"/>
          </p:cNvSpPr>
          <p:nvPr>
            <p:ph type="dt" idx="13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191" name="PlaceHolder 4"/>
          <p:cNvSpPr>
            <a:spLocks noGrp="1"/>
          </p:cNvSpPr>
          <p:nvPr>
            <p:ph type="ftr" idx="14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2" name="PlaceHolder 5"/>
          <p:cNvSpPr>
            <a:spLocks noGrp="1"/>
          </p:cNvSpPr>
          <p:nvPr>
            <p:ph type="sldNum" idx="14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9E3D5-B129-49A2-A2AE-D110CDF89A3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2"/>
    <p:sldLayoutId id="2147484248" r:id="rId3"/>
    <p:sldLayoutId id="2147484249" r:id="rId4"/>
    <p:sldLayoutId id="2147484250" r:id="rId5"/>
    <p:sldLayoutId id="2147484251" r:id="rId6"/>
    <p:sldLayoutId id="2147484252" r:id="rId7"/>
    <p:sldLayoutId id="2147484253" r:id="rId8"/>
    <p:sldLayoutId id="2147484254" r:id="rId9"/>
    <p:sldLayoutId id="2147484255" r:id="rId10"/>
    <p:sldLayoutId id="2147484256" r:id="rId11"/>
    <p:sldLayoutId id="2147484257" r:id="rId12"/>
    <p:sldLayoutId id="2147484258" r:id="rId13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9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grpSp>
        <p:nvGrpSpPr>
          <p:cNvPr id="2230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231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232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233" name="Oval 11"/>
            <p:cNvSpPr/>
            <p:nvPr/>
          </p:nvSpPr>
          <p:spPr>
            <a:xfrm>
              <a:off x="8489160" y="152280"/>
              <a:ext cx="1155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234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235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236" name="Oval 14"/>
            <p:cNvSpPr/>
            <p:nvPr/>
          </p:nvSpPr>
          <p:spPr>
            <a:xfrm>
              <a:off x="8489160" y="320040"/>
              <a:ext cx="1155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237" name="Oval 15"/>
            <p:cNvSpPr/>
            <p:nvPr/>
          </p:nvSpPr>
          <p:spPr>
            <a:xfrm>
              <a:off x="8657280" y="32004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238" name="Oval 16"/>
            <p:cNvSpPr/>
            <p:nvPr/>
          </p:nvSpPr>
          <p:spPr>
            <a:xfrm>
              <a:off x="8153280" y="48816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239" name="Oval 17"/>
            <p:cNvSpPr/>
            <p:nvPr/>
          </p:nvSpPr>
          <p:spPr>
            <a:xfrm>
              <a:off x="8321040" y="48816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240" name="Oval 18"/>
            <p:cNvSpPr/>
            <p:nvPr/>
          </p:nvSpPr>
          <p:spPr>
            <a:xfrm>
              <a:off x="8489160" y="48816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241" name="Oval 19"/>
            <p:cNvSpPr/>
            <p:nvPr/>
          </p:nvSpPr>
          <p:spPr>
            <a:xfrm>
              <a:off x="8657280" y="48816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242" name="Oval 20"/>
            <p:cNvSpPr/>
            <p:nvPr/>
          </p:nvSpPr>
          <p:spPr>
            <a:xfrm>
              <a:off x="8825400" y="488160"/>
              <a:ext cx="119880" cy="1155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243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244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245" name="Oval 23"/>
            <p:cNvSpPr/>
            <p:nvPr/>
          </p:nvSpPr>
          <p:spPr>
            <a:xfrm>
              <a:off x="8489160" y="655920"/>
              <a:ext cx="1155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246" name="Oval 24"/>
            <p:cNvSpPr/>
            <p:nvPr/>
          </p:nvSpPr>
          <p:spPr>
            <a:xfrm>
              <a:off x="8657280" y="65592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247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248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249" name="Oval 27"/>
            <p:cNvSpPr/>
            <p:nvPr/>
          </p:nvSpPr>
          <p:spPr>
            <a:xfrm>
              <a:off x="8489160" y="82404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250" name="Oval 28"/>
            <p:cNvSpPr/>
            <p:nvPr/>
          </p:nvSpPr>
          <p:spPr>
            <a:xfrm>
              <a:off x="8657280" y="82404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251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252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253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254" name="Oval 32"/>
            <p:cNvSpPr/>
            <p:nvPr/>
          </p:nvSpPr>
          <p:spPr>
            <a:xfrm>
              <a:off x="8489160" y="992160"/>
              <a:ext cx="1155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255" name="Oval 33"/>
            <p:cNvSpPr/>
            <p:nvPr/>
          </p:nvSpPr>
          <p:spPr>
            <a:xfrm>
              <a:off x="8657280" y="992160"/>
              <a:ext cx="11556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256" name="Oval 34"/>
            <p:cNvSpPr/>
            <p:nvPr/>
          </p:nvSpPr>
          <p:spPr>
            <a:xfrm>
              <a:off x="8153280" y="1159920"/>
              <a:ext cx="119880" cy="1152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257" name="Oval 35"/>
            <p:cNvSpPr/>
            <p:nvPr/>
          </p:nvSpPr>
          <p:spPr>
            <a:xfrm>
              <a:off x="8321040" y="1159920"/>
              <a:ext cx="118440" cy="1152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258" name="Oval 36"/>
            <p:cNvSpPr/>
            <p:nvPr/>
          </p:nvSpPr>
          <p:spPr>
            <a:xfrm>
              <a:off x="8489160" y="1159920"/>
              <a:ext cx="115560" cy="1152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259" name="Oval 37"/>
            <p:cNvSpPr/>
            <p:nvPr/>
          </p:nvSpPr>
          <p:spPr>
            <a:xfrm>
              <a:off x="8657280" y="1159920"/>
              <a:ext cx="115560" cy="1152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260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261" name="Oval 39"/>
            <p:cNvSpPr/>
            <p:nvPr/>
          </p:nvSpPr>
          <p:spPr>
            <a:xfrm>
              <a:off x="8657280" y="1328040"/>
              <a:ext cx="11556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22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263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4" name="PlaceHolder 3"/>
          <p:cNvSpPr>
            <a:spLocks noGrp="1"/>
          </p:cNvSpPr>
          <p:nvPr>
            <p:ph type="dt" idx="14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265" name="PlaceHolder 4"/>
          <p:cNvSpPr>
            <a:spLocks noGrp="1"/>
          </p:cNvSpPr>
          <p:nvPr>
            <p:ph type="ftr" idx="14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6" name="PlaceHolder 5"/>
          <p:cNvSpPr>
            <a:spLocks noGrp="1"/>
          </p:cNvSpPr>
          <p:nvPr>
            <p:ph type="sldNum" idx="14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07161-B609-472F-9783-8F4C4E684EF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2"/>
    <p:sldLayoutId id="2147484261" r:id="rId3"/>
    <p:sldLayoutId id="2147484262" r:id="rId4"/>
    <p:sldLayoutId id="2147484263" r:id="rId5"/>
    <p:sldLayoutId id="2147484264" r:id="rId6"/>
    <p:sldLayoutId id="2147484265" r:id="rId7"/>
    <p:sldLayoutId id="2147484266" r:id="rId8"/>
    <p:sldLayoutId id="2147484267" r:id="rId9"/>
    <p:sldLayoutId id="2147484268" r:id="rId10"/>
    <p:sldLayoutId id="2147484269" r:id="rId11"/>
    <p:sldLayoutId id="2147484270" r:id="rId12"/>
    <p:sldLayoutId id="2147484271" r:id="rId13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3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grpSp>
        <p:nvGrpSpPr>
          <p:cNvPr id="230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30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0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07" name="Oval 11"/>
            <p:cNvSpPr/>
            <p:nvPr/>
          </p:nvSpPr>
          <p:spPr>
            <a:xfrm>
              <a:off x="8489160" y="152280"/>
              <a:ext cx="1155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0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0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10" name="Oval 14"/>
            <p:cNvSpPr/>
            <p:nvPr/>
          </p:nvSpPr>
          <p:spPr>
            <a:xfrm>
              <a:off x="8489160" y="320040"/>
              <a:ext cx="1155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11" name="Oval 15"/>
            <p:cNvSpPr/>
            <p:nvPr/>
          </p:nvSpPr>
          <p:spPr>
            <a:xfrm>
              <a:off x="8657280" y="32004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12" name="Oval 16"/>
            <p:cNvSpPr/>
            <p:nvPr/>
          </p:nvSpPr>
          <p:spPr>
            <a:xfrm>
              <a:off x="8153280" y="48816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13" name="Oval 17"/>
            <p:cNvSpPr/>
            <p:nvPr/>
          </p:nvSpPr>
          <p:spPr>
            <a:xfrm>
              <a:off x="8321040" y="48816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14" name="Oval 18"/>
            <p:cNvSpPr/>
            <p:nvPr/>
          </p:nvSpPr>
          <p:spPr>
            <a:xfrm>
              <a:off x="8489160" y="48816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15" name="Oval 19"/>
            <p:cNvSpPr/>
            <p:nvPr/>
          </p:nvSpPr>
          <p:spPr>
            <a:xfrm>
              <a:off x="8657280" y="48816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16" name="Oval 20"/>
            <p:cNvSpPr/>
            <p:nvPr/>
          </p:nvSpPr>
          <p:spPr>
            <a:xfrm>
              <a:off x="8825400" y="488160"/>
              <a:ext cx="119880" cy="1155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1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1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19" name="Oval 23"/>
            <p:cNvSpPr/>
            <p:nvPr/>
          </p:nvSpPr>
          <p:spPr>
            <a:xfrm>
              <a:off x="8489160" y="655920"/>
              <a:ext cx="1155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20" name="Oval 24"/>
            <p:cNvSpPr/>
            <p:nvPr/>
          </p:nvSpPr>
          <p:spPr>
            <a:xfrm>
              <a:off x="8657280" y="65592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2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2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23" name="Oval 27"/>
            <p:cNvSpPr/>
            <p:nvPr/>
          </p:nvSpPr>
          <p:spPr>
            <a:xfrm>
              <a:off x="8489160" y="82404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24" name="Oval 28"/>
            <p:cNvSpPr/>
            <p:nvPr/>
          </p:nvSpPr>
          <p:spPr>
            <a:xfrm>
              <a:off x="8657280" y="82404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2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2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2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28" name="Oval 32"/>
            <p:cNvSpPr/>
            <p:nvPr/>
          </p:nvSpPr>
          <p:spPr>
            <a:xfrm>
              <a:off x="8489160" y="992160"/>
              <a:ext cx="1155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29" name="Oval 33"/>
            <p:cNvSpPr/>
            <p:nvPr/>
          </p:nvSpPr>
          <p:spPr>
            <a:xfrm>
              <a:off x="8657280" y="992160"/>
              <a:ext cx="11556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30" name="Oval 34"/>
            <p:cNvSpPr/>
            <p:nvPr/>
          </p:nvSpPr>
          <p:spPr>
            <a:xfrm>
              <a:off x="8153280" y="1159920"/>
              <a:ext cx="119880" cy="1152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31" name="Oval 35"/>
            <p:cNvSpPr/>
            <p:nvPr/>
          </p:nvSpPr>
          <p:spPr>
            <a:xfrm>
              <a:off x="8321040" y="1159920"/>
              <a:ext cx="118440" cy="1152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32" name="Oval 36"/>
            <p:cNvSpPr/>
            <p:nvPr/>
          </p:nvSpPr>
          <p:spPr>
            <a:xfrm>
              <a:off x="8489160" y="1159920"/>
              <a:ext cx="115560" cy="1152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33" name="Oval 37"/>
            <p:cNvSpPr/>
            <p:nvPr/>
          </p:nvSpPr>
          <p:spPr>
            <a:xfrm>
              <a:off x="8657280" y="1159920"/>
              <a:ext cx="115560" cy="1152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3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35" name="Oval 39"/>
            <p:cNvSpPr/>
            <p:nvPr/>
          </p:nvSpPr>
          <p:spPr>
            <a:xfrm>
              <a:off x="8657280" y="1328040"/>
              <a:ext cx="11556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23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337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8" name="PlaceHolder 3"/>
          <p:cNvSpPr>
            <a:spLocks noGrp="1"/>
          </p:cNvSpPr>
          <p:nvPr>
            <p:ph type="dt" idx="14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339" name="PlaceHolder 4"/>
          <p:cNvSpPr>
            <a:spLocks noGrp="1"/>
          </p:cNvSpPr>
          <p:nvPr>
            <p:ph type="ftr" idx="14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0" name="PlaceHolder 5"/>
          <p:cNvSpPr>
            <a:spLocks noGrp="1"/>
          </p:cNvSpPr>
          <p:nvPr>
            <p:ph type="sldNum" idx="14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91918-1D36-4679-B16F-60367A2466B6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2"/>
    <p:sldLayoutId id="2147484274" r:id="rId3"/>
    <p:sldLayoutId id="2147484275" r:id="rId4"/>
    <p:sldLayoutId id="2147484276" r:id="rId5"/>
    <p:sldLayoutId id="2147484277" r:id="rId6"/>
    <p:sldLayoutId id="2147484278" r:id="rId7"/>
    <p:sldLayoutId id="2147484279" r:id="rId8"/>
    <p:sldLayoutId id="2147484280" r:id="rId9"/>
    <p:sldLayoutId id="2147484281" r:id="rId10"/>
    <p:sldLayoutId id="2147484282" r:id="rId11"/>
    <p:sldLayoutId id="2147484283" r:id="rId12"/>
    <p:sldLayoutId id="2147484284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77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178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600" spc="-1" strike="noStrike">
                  <a:solidFill>
                    <a:srgbClr val="ffffcc"/>
                  </a:solidFill>
                  <a:latin typeface="Verdana"/>
                </a:endParaRPr>
              </a:p>
            </p:txBody>
          </p:sp>
          <p:sp>
            <p:nvSpPr>
              <p:cNvPr id="179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i="1" lang="en-US" sz="3600" spc="-1" strike="noStrike">
                  <a:solidFill>
                    <a:srgbClr val="ffffcc"/>
                  </a:solidFill>
                  <a:latin typeface="Verdana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181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600" spc="-1" strike="noStrike">
                  <a:solidFill>
                    <a:srgbClr val="ffffcc"/>
                  </a:solidFill>
                  <a:latin typeface="Verdana"/>
                </a:endParaRPr>
              </a:p>
            </p:txBody>
          </p:sp>
          <p:sp>
            <p:nvSpPr>
              <p:cNvPr id="182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600" spc="-1" strike="noStrike">
                  <a:solidFill>
                    <a:srgbClr val="ffffcc"/>
                  </a:solidFill>
                  <a:latin typeface="Verdana"/>
                </a:endParaRPr>
              </a:p>
            </p:txBody>
          </p:sp>
        </p:grpSp>
      </p:grp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D5902-D584-433E-81A1-8FB47E9E2B49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7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grpSp>
        <p:nvGrpSpPr>
          <p:cNvPr id="2378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379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80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81" name="Oval 11"/>
            <p:cNvSpPr/>
            <p:nvPr/>
          </p:nvSpPr>
          <p:spPr>
            <a:xfrm>
              <a:off x="8489160" y="152280"/>
              <a:ext cx="1155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82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83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84" name="Oval 14"/>
            <p:cNvSpPr/>
            <p:nvPr/>
          </p:nvSpPr>
          <p:spPr>
            <a:xfrm>
              <a:off x="8489160" y="320040"/>
              <a:ext cx="1155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85" name="Oval 15"/>
            <p:cNvSpPr/>
            <p:nvPr/>
          </p:nvSpPr>
          <p:spPr>
            <a:xfrm>
              <a:off x="8657280" y="32004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86" name="Oval 16"/>
            <p:cNvSpPr/>
            <p:nvPr/>
          </p:nvSpPr>
          <p:spPr>
            <a:xfrm>
              <a:off x="8153280" y="48816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87" name="Oval 17"/>
            <p:cNvSpPr/>
            <p:nvPr/>
          </p:nvSpPr>
          <p:spPr>
            <a:xfrm>
              <a:off x="8321040" y="48816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88" name="Oval 18"/>
            <p:cNvSpPr/>
            <p:nvPr/>
          </p:nvSpPr>
          <p:spPr>
            <a:xfrm>
              <a:off x="8489160" y="48816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89" name="Oval 19"/>
            <p:cNvSpPr/>
            <p:nvPr/>
          </p:nvSpPr>
          <p:spPr>
            <a:xfrm>
              <a:off x="8657280" y="48816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90" name="Oval 20"/>
            <p:cNvSpPr/>
            <p:nvPr/>
          </p:nvSpPr>
          <p:spPr>
            <a:xfrm>
              <a:off x="8825400" y="488160"/>
              <a:ext cx="119880" cy="1155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91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92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93" name="Oval 23"/>
            <p:cNvSpPr/>
            <p:nvPr/>
          </p:nvSpPr>
          <p:spPr>
            <a:xfrm>
              <a:off x="8489160" y="655920"/>
              <a:ext cx="1155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94" name="Oval 24"/>
            <p:cNvSpPr/>
            <p:nvPr/>
          </p:nvSpPr>
          <p:spPr>
            <a:xfrm>
              <a:off x="8657280" y="65592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95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96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97" name="Oval 27"/>
            <p:cNvSpPr/>
            <p:nvPr/>
          </p:nvSpPr>
          <p:spPr>
            <a:xfrm>
              <a:off x="8489160" y="82404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98" name="Oval 28"/>
            <p:cNvSpPr/>
            <p:nvPr/>
          </p:nvSpPr>
          <p:spPr>
            <a:xfrm>
              <a:off x="8657280" y="82404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99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00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01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02" name="Oval 32"/>
            <p:cNvSpPr/>
            <p:nvPr/>
          </p:nvSpPr>
          <p:spPr>
            <a:xfrm>
              <a:off x="8489160" y="992160"/>
              <a:ext cx="1155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03" name="Oval 33"/>
            <p:cNvSpPr/>
            <p:nvPr/>
          </p:nvSpPr>
          <p:spPr>
            <a:xfrm>
              <a:off x="8657280" y="992160"/>
              <a:ext cx="11556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04" name="Oval 34"/>
            <p:cNvSpPr/>
            <p:nvPr/>
          </p:nvSpPr>
          <p:spPr>
            <a:xfrm>
              <a:off x="8153280" y="1159920"/>
              <a:ext cx="119880" cy="1152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05" name="Oval 35"/>
            <p:cNvSpPr/>
            <p:nvPr/>
          </p:nvSpPr>
          <p:spPr>
            <a:xfrm>
              <a:off x="8321040" y="1159920"/>
              <a:ext cx="118440" cy="1152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06" name="Oval 36"/>
            <p:cNvSpPr/>
            <p:nvPr/>
          </p:nvSpPr>
          <p:spPr>
            <a:xfrm>
              <a:off x="8489160" y="1159920"/>
              <a:ext cx="115560" cy="1152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07" name="Oval 37"/>
            <p:cNvSpPr/>
            <p:nvPr/>
          </p:nvSpPr>
          <p:spPr>
            <a:xfrm>
              <a:off x="8657280" y="1159920"/>
              <a:ext cx="115560" cy="1152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08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09" name="Oval 39"/>
            <p:cNvSpPr/>
            <p:nvPr/>
          </p:nvSpPr>
          <p:spPr>
            <a:xfrm>
              <a:off x="8657280" y="1328040"/>
              <a:ext cx="11556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24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411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2" name="PlaceHolder 3"/>
          <p:cNvSpPr>
            <a:spLocks noGrp="1"/>
          </p:cNvSpPr>
          <p:nvPr>
            <p:ph type="dt" idx="14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413" name="PlaceHolder 4"/>
          <p:cNvSpPr>
            <a:spLocks noGrp="1"/>
          </p:cNvSpPr>
          <p:nvPr>
            <p:ph type="ftr" idx="14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4" name="PlaceHolder 5"/>
          <p:cNvSpPr>
            <a:spLocks noGrp="1"/>
          </p:cNvSpPr>
          <p:nvPr>
            <p:ph type="sldNum" idx="15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F2A4D-EB30-4258-ADE0-81207207DCB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2"/>
    <p:sldLayoutId id="2147484287" r:id="rId3"/>
    <p:sldLayoutId id="2147484288" r:id="rId4"/>
    <p:sldLayoutId id="2147484289" r:id="rId5"/>
    <p:sldLayoutId id="2147484290" r:id="rId6"/>
    <p:sldLayoutId id="2147484291" r:id="rId7"/>
    <p:sldLayoutId id="2147484292" r:id="rId8"/>
    <p:sldLayoutId id="2147484293" r:id="rId9"/>
    <p:sldLayoutId id="2147484294" r:id="rId10"/>
    <p:sldLayoutId id="2147484295" r:id="rId11"/>
    <p:sldLayoutId id="2147484296" r:id="rId12"/>
    <p:sldLayoutId id="2147484297" r:id="rId13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1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grpSp>
        <p:nvGrpSpPr>
          <p:cNvPr id="2452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453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54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55" name="Oval 11"/>
            <p:cNvSpPr/>
            <p:nvPr/>
          </p:nvSpPr>
          <p:spPr>
            <a:xfrm>
              <a:off x="8489160" y="152280"/>
              <a:ext cx="1155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56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57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58" name="Oval 14"/>
            <p:cNvSpPr/>
            <p:nvPr/>
          </p:nvSpPr>
          <p:spPr>
            <a:xfrm>
              <a:off x="8489160" y="320040"/>
              <a:ext cx="1155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59" name="Oval 15"/>
            <p:cNvSpPr/>
            <p:nvPr/>
          </p:nvSpPr>
          <p:spPr>
            <a:xfrm>
              <a:off x="8657280" y="32004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60" name="Oval 16"/>
            <p:cNvSpPr/>
            <p:nvPr/>
          </p:nvSpPr>
          <p:spPr>
            <a:xfrm>
              <a:off x="8153280" y="48816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61" name="Oval 17"/>
            <p:cNvSpPr/>
            <p:nvPr/>
          </p:nvSpPr>
          <p:spPr>
            <a:xfrm>
              <a:off x="8321040" y="48816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62" name="Oval 18"/>
            <p:cNvSpPr/>
            <p:nvPr/>
          </p:nvSpPr>
          <p:spPr>
            <a:xfrm>
              <a:off x="8489160" y="48816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63" name="Oval 19"/>
            <p:cNvSpPr/>
            <p:nvPr/>
          </p:nvSpPr>
          <p:spPr>
            <a:xfrm>
              <a:off x="8657280" y="48816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64" name="Oval 20"/>
            <p:cNvSpPr/>
            <p:nvPr/>
          </p:nvSpPr>
          <p:spPr>
            <a:xfrm>
              <a:off x="8825400" y="488160"/>
              <a:ext cx="119880" cy="1155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65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66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67" name="Oval 23"/>
            <p:cNvSpPr/>
            <p:nvPr/>
          </p:nvSpPr>
          <p:spPr>
            <a:xfrm>
              <a:off x="8489160" y="655920"/>
              <a:ext cx="1155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68" name="Oval 24"/>
            <p:cNvSpPr/>
            <p:nvPr/>
          </p:nvSpPr>
          <p:spPr>
            <a:xfrm>
              <a:off x="8657280" y="65592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69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70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71" name="Oval 27"/>
            <p:cNvSpPr/>
            <p:nvPr/>
          </p:nvSpPr>
          <p:spPr>
            <a:xfrm>
              <a:off x="8489160" y="82404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72" name="Oval 28"/>
            <p:cNvSpPr/>
            <p:nvPr/>
          </p:nvSpPr>
          <p:spPr>
            <a:xfrm>
              <a:off x="8657280" y="82404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73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74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75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76" name="Oval 32"/>
            <p:cNvSpPr/>
            <p:nvPr/>
          </p:nvSpPr>
          <p:spPr>
            <a:xfrm>
              <a:off x="8489160" y="992160"/>
              <a:ext cx="1155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77" name="Oval 33"/>
            <p:cNvSpPr/>
            <p:nvPr/>
          </p:nvSpPr>
          <p:spPr>
            <a:xfrm>
              <a:off x="8657280" y="992160"/>
              <a:ext cx="11556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78" name="Oval 34"/>
            <p:cNvSpPr/>
            <p:nvPr/>
          </p:nvSpPr>
          <p:spPr>
            <a:xfrm>
              <a:off x="8153280" y="1159920"/>
              <a:ext cx="119880" cy="1152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79" name="Oval 35"/>
            <p:cNvSpPr/>
            <p:nvPr/>
          </p:nvSpPr>
          <p:spPr>
            <a:xfrm>
              <a:off x="8321040" y="1159920"/>
              <a:ext cx="118440" cy="1152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80" name="Oval 36"/>
            <p:cNvSpPr/>
            <p:nvPr/>
          </p:nvSpPr>
          <p:spPr>
            <a:xfrm>
              <a:off x="8489160" y="1159920"/>
              <a:ext cx="115560" cy="1152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81" name="Oval 37"/>
            <p:cNvSpPr/>
            <p:nvPr/>
          </p:nvSpPr>
          <p:spPr>
            <a:xfrm>
              <a:off x="8657280" y="1159920"/>
              <a:ext cx="115560" cy="1152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82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83" name="Oval 39"/>
            <p:cNvSpPr/>
            <p:nvPr/>
          </p:nvSpPr>
          <p:spPr>
            <a:xfrm>
              <a:off x="8657280" y="1328040"/>
              <a:ext cx="11556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24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485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6" name="PlaceHolder 3"/>
          <p:cNvSpPr>
            <a:spLocks noGrp="1"/>
          </p:cNvSpPr>
          <p:nvPr>
            <p:ph type="dt" idx="15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487" name="PlaceHolder 4"/>
          <p:cNvSpPr>
            <a:spLocks noGrp="1"/>
          </p:cNvSpPr>
          <p:nvPr>
            <p:ph type="ftr" idx="15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8" name="PlaceHolder 5"/>
          <p:cNvSpPr>
            <a:spLocks noGrp="1"/>
          </p:cNvSpPr>
          <p:nvPr>
            <p:ph type="sldNum" idx="15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A2187-014F-410A-A7F8-590ECB267B5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2"/>
    <p:sldLayoutId id="2147484300" r:id="rId3"/>
    <p:sldLayoutId id="2147484301" r:id="rId4"/>
    <p:sldLayoutId id="2147484302" r:id="rId5"/>
    <p:sldLayoutId id="2147484303" r:id="rId6"/>
    <p:sldLayoutId id="2147484304" r:id="rId7"/>
    <p:sldLayoutId id="2147484305" r:id="rId8"/>
    <p:sldLayoutId id="2147484306" r:id="rId9"/>
    <p:sldLayoutId id="2147484307" r:id="rId10"/>
    <p:sldLayoutId id="2147484308" r:id="rId11"/>
    <p:sldLayoutId id="2147484309" r:id="rId12"/>
    <p:sldLayoutId id="2147484310" r:id="rId13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5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grpSp>
        <p:nvGrpSpPr>
          <p:cNvPr id="252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52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2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29" name="Oval 11"/>
            <p:cNvSpPr/>
            <p:nvPr/>
          </p:nvSpPr>
          <p:spPr>
            <a:xfrm>
              <a:off x="8489160" y="152280"/>
              <a:ext cx="1155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3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3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32" name="Oval 14"/>
            <p:cNvSpPr/>
            <p:nvPr/>
          </p:nvSpPr>
          <p:spPr>
            <a:xfrm>
              <a:off x="8489160" y="320040"/>
              <a:ext cx="1155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33" name="Oval 15"/>
            <p:cNvSpPr/>
            <p:nvPr/>
          </p:nvSpPr>
          <p:spPr>
            <a:xfrm>
              <a:off x="8657280" y="32004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34" name="Oval 16"/>
            <p:cNvSpPr/>
            <p:nvPr/>
          </p:nvSpPr>
          <p:spPr>
            <a:xfrm>
              <a:off x="8153280" y="48816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35" name="Oval 17"/>
            <p:cNvSpPr/>
            <p:nvPr/>
          </p:nvSpPr>
          <p:spPr>
            <a:xfrm>
              <a:off x="8321040" y="48816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36" name="Oval 18"/>
            <p:cNvSpPr/>
            <p:nvPr/>
          </p:nvSpPr>
          <p:spPr>
            <a:xfrm>
              <a:off x="8489160" y="48816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37" name="Oval 19"/>
            <p:cNvSpPr/>
            <p:nvPr/>
          </p:nvSpPr>
          <p:spPr>
            <a:xfrm>
              <a:off x="8657280" y="48816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38" name="Oval 20"/>
            <p:cNvSpPr/>
            <p:nvPr/>
          </p:nvSpPr>
          <p:spPr>
            <a:xfrm>
              <a:off x="8825400" y="488160"/>
              <a:ext cx="119880" cy="1155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3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4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41" name="Oval 23"/>
            <p:cNvSpPr/>
            <p:nvPr/>
          </p:nvSpPr>
          <p:spPr>
            <a:xfrm>
              <a:off x="8489160" y="655920"/>
              <a:ext cx="1155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42" name="Oval 24"/>
            <p:cNvSpPr/>
            <p:nvPr/>
          </p:nvSpPr>
          <p:spPr>
            <a:xfrm>
              <a:off x="8657280" y="65592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4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4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45" name="Oval 27"/>
            <p:cNvSpPr/>
            <p:nvPr/>
          </p:nvSpPr>
          <p:spPr>
            <a:xfrm>
              <a:off x="8489160" y="82404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46" name="Oval 28"/>
            <p:cNvSpPr/>
            <p:nvPr/>
          </p:nvSpPr>
          <p:spPr>
            <a:xfrm>
              <a:off x="8657280" y="82404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4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4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4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50" name="Oval 32"/>
            <p:cNvSpPr/>
            <p:nvPr/>
          </p:nvSpPr>
          <p:spPr>
            <a:xfrm>
              <a:off x="8489160" y="992160"/>
              <a:ext cx="1155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51" name="Oval 33"/>
            <p:cNvSpPr/>
            <p:nvPr/>
          </p:nvSpPr>
          <p:spPr>
            <a:xfrm>
              <a:off x="8657280" y="992160"/>
              <a:ext cx="11556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52" name="Oval 34"/>
            <p:cNvSpPr/>
            <p:nvPr/>
          </p:nvSpPr>
          <p:spPr>
            <a:xfrm>
              <a:off x="8153280" y="1159920"/>
              <a:ext cx="119880" cy="1152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53" name="Oval 35"/>
            <p:cNvSpPr/>
            <p:nvPr/>
          </p:nvSpPr>
          <p:spPr>
            <a:xfrm>
              <a:off x="8321040" y="1159920"/>
              <a:ext cx="118440" cy="1152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54" name="Oval 36"/>
            <p:cNvSpPr/>
            <p:nvPr/>
          </p:nvSpPr>
          <p:spPr>
            <a:xfrm>
              <a:off x="8489160" y="1159920"/>
              <a:ext cx="115560" cy="1152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55" name="Oval 37"/>
            <p:cNvSpPr/>
            <p:nvPr/>
          </p:nvSpPr>
          <p:spPr>
            <a:xfrm>
              <a:off x="8657280" y="1159920"/>
              <a:ext cx="115560" cy="1152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5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57" name="Oval 39"/>
            <p:cNvSpPr/>
            <p:nvPr/>
          </p:nvSpPr>
          <p:spPr>
            <a:xfrm>
              <a:off x="8657280" y="1328040"/>
              <a:ext cx="11556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25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55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0" name="PlaceHolder 3"/>
          <p:cNvSpPr>
            <a:spLocks noGrp="1"/>
          </p:cNvSpPr>
          <p:nvPr>
            <p:ph type="dt" idx="15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561" name="PlaceHolder 4"/>
          <p:cNvSpPr>
            <a:spLocks noGrp="1"/>
          </p:cNvSpPr>
          <p:nvPr>
            <p:ph type="ftr" idx="15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2" name="PlaceHolder 5"/>
          <p:cNvSpPr>
            <a:spLocks noGrp="1"/>
          </p:cNvSpPr>
          <p:nvPr>
            <p:ph type="sldNum" idx="15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AA2F5-51F9-4580-B7A4-2618819A070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2"/>
    <p:sldLayoutId id="2147484313" r:id="rId3"/>
    <p:sldLayoutId id="2147484314" r:id="rId4"/>
    <p:sldLayoutId id="2147484315" r:id="rId5"/>
    <p:sldLayoutId id="2147484316" r:id="rId6"/>
    <p:sldLayoutId id="2147484317" r:id="rId7"/>
    <p:sldLayoutId id="2147484318" r:id="rId8"/>
    <p:sldLayoutId id="2147484319" r:id="rId9"/>
    <p:sldLayoutId id="2147484320" r:id="rId10"/>
    <p:sldLayoutId id="2147484321" r:id="rId11"/>
    <p:sldLayoutId id="2147484322" r:id="rId12"/>
    <p:sldLayoutId id="2147484323" r:id="rId13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9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grpSp>
        <p:nvGrpSpPr>
          <p:cNvPr id="2600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601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02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03" name="Oval 11"/>
            <p:cNvSpPr/>
            <p:nvPr/>
          </p:nvSpPr>
          <p:spPr>
            <a:xfrm>
              <a:off x="8489160" y="152280"/>
              <a:ext cx="1155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04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05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06" name="Oval 14"/>
            <p:cNvSpPr/>
            <p:nvPr/>
          </p:nvSpPr>
          <p:spPr>
            <a:xfrm>
              <a:off x="8489160" y="320040"/>
              <a:ext cx="1155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07" name="Oval 15"/>
            <p:cNvSpPr/>
            <p:nvPr/>
          </p:nvSpPr>
          <p:spPr>
            <a:xfrm>
              <a:off x="8657280" y="32004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08" name="Oval 16"/>
            <p:cNvSpPr/>
            <p:nvPr/>
          </p:nvSpPr>
          <p:spPr>
            <a:xfrm>
              <a:off x="8153280" y="48816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09" name="Oval 17"/>
            <p:cNvSpPr/>
            <p:nvPr/>
          </p:nvSpPr>
          <p:spPr>
            <a:xfrm>
              <a:off x="8321040" y="48816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10" name="Oval 18"/>
            <p:cNvSpPr/>
            <p:nvPr/>
          </p:nvSpPr>
          <p:spPr>
            <a:xfrm>
              <a:off x="8489160" y="48816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11" name="Oval 19"/>
            <p:cNvSpPr/>
            <p:nvPr/>
          </p:nvSpPr>
          <p:spPr>
            <a:xfrm>
              <a:off x="8657280" y="48816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12" name="Oval 20"/>
            <p:cNvSpPr/>
            <p:nvPr/>
          </p:nvSpPr>
          <p:spPr>
            <a:xfrm>
              <a:off x="8825400" y="488160"/>
              <a:ext cx="119880" cy="1155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13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14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15" name="Oval 23"/>
            <p:cNvSpPr/>
            <p:nvPr/>
          </p:nvSpPr>
          <p:spPr>
            <a:xfrm>
              <a:off x="8489160" y="655920"/>
              <a:ext cx="1155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16" name="Oval 24"/>
            <p:cNvSpPr/>
            <p:nvPr/>
          </p:nvSpPr>
          <p:spPr>
            <a:xfrm>
              <a:off x="8657280" y="65592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17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18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19" name="Oval 27"/>
            <p:cNvSpPr/>
            <p:nvPr/>
          </p:nvSpPr>
          <p:spPr>
            <a:xfrm>
              <a:off x="8489160" y="82404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20" name="Oval 28"/>
            <p:cNvSpPr/>
            <p:nvPr/>
          </p:nvSpPr>
          <p:spPr>
            <a:xfrm>
              <a:off x="8657280" y="82404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21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22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23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24" name="Oval 32"/>
            <p:cNvSpPr/>
            <p:nvPr/>
          </p:nvSpPr>
          <p:spPr>
            <a:xfrm>
              <a:off x="8489160" y="992160"/>
              <a:ext cx="1155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25" name="Oval 33"/>
            <p:cNvSpPr/>
            <p:nvPr/>
          </p:nvSpPr>
          <p:spPr>
            <a:xfrm>
              <a:off x="8657280" y="992160"/>
              <a:ext cx="11556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26" name="Oval 34"/>
            <p:cNvSpPr/>
            <p:nvPr/>
          </p:nvSpPr>
          <p:spPr>
            <a:xfrm>
              <a:off x="8153280" y="1159920"/>
              <a:ext cx="119880" cy="1152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27" name="Oval 35"/>
            <p:cNvSpPr/>
            <p:nvPr/>
          </p:nvSpPr>
          <p:spPr>
            <a:xfrm>
              <a:off x="8321040" y="1159920"/>
              <a:ext cx="118440" cy="1152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28" name="Oval 36"/>
            <p:cNvSpPr/>
            <p:nvPr/>
          </p:nvSpPr>
          <p:spPr>
            <a:xfrm>
              <a:off x="8489160" y="1159920"/>
              <a:ext cx="115560" cy="1152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29" name="Oval 37"/>
            <p:cNvSpPr/>
            <p:nvPr/>
          </p:nvSpPr>
          <p:spPr>
            <a:xfrm>
              <a:off x="8657280" y="1159920"/>
              <a:ext cx="115560" cy="1152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30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31" name="Oval 39"/>
            <p:cNvSpPr/>
            <p:nvPr/>
          </p:nvSpPr>
          <p:spPr>
            <a:xfrm>
              <a:off x="8657280" y="1328040"/>
              <a:ext cx="11556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26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633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4" name="PlaceHolder 3"/>
          <p:cNvSpPr>
            <a:spLocks noGrp="1"/>
          </p:cNvSpPr>
          <p:nvPr>
            <p:ph type="dt" idx="15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635" name="PlaceHolder 4"/>
          <p:cNvSpPr>
            <a:spLocks noGrp="1"/>
          </p:cNvSpPr>
          <p:nvPr>
            <p:ph type="ftr" idx="15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6" name="PlaceHolder 5"/>
          <p:cNvSpPr>
            <a:spLocks noGrp="1"/>
          </p:cNvSpPr>
          <p:nvPr>
            <p:ph type="sldNum" idx="15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AE9C3-C6D7-4485-BB53-C8AF932540F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2"/>
    <p:sldLayoutId id="2147484326" r:id="rId3"/>
    <p:sldLayoutId id="2147484327" r:id="rId4"/>
    <p:sldLayoutId id="2147484328" r:id="rId5"/>
    <p:sldLayoutId id="2147484329" r:id="rId6"/>
    <p:sldLayoutId id="2147484330" r:id="rId7"/>
    <p:sldLayoutId id="2147484331" r:id="rId8"/>
    <p:sldLayoutId id="2147484332" r:id="rId9"/>
    <p:sldLayoutId id="2147484333" r:id="rId10"/>
    <p:sldLayoutId id="2147484334" r:id="rId11"/>
    <p:sldLayoutId id="2147484335" r:id="rId12"/>
    <p:sldLayoutId id="2147484336" r:id="rId13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3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grpSp>
        <p:nvGrpSpPr>
          <p:cNvPr id="267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67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7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77" name="Oval 11"/>
            <p:cNvSpPr/>
            <p:nvPr/>
          </p:nvSpPr>
          <p:spPr>
            <a:xfrm>
              <a:off x="8489160" y="152280"/>
              <a:ext cx="1155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7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7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80" name="Oval 14"/>
            <p:cNvSpPr/>
            <p:nvPr/>
          </p:nvSpPr>
          <p:spPr>
            <a:xfrm>
              <a:off x="8489160" y="320040"/>
              <a:ext cx="1155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81" name="Oval 15"/>
            <p:cNvSpPr/>
            <p:nvPr/>
          </p:nvSpPr>
          <p:spPr>
            <a:xfrm>
              <a:off x="8657280" y="32004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82" name="Oval 16"/>
            <p:cNvSpPr/>
            <p:nvPr/>
          </p:nvSpPr>
          <p:spPr>
            <a:xfrm>
              <a:off x="8153280" y="48816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83" name="Oval 17"/>
            <p:cNvSpPr/>
            <p:nvPr/>
          </p:nvSpPr>
          <p:spPr>
            <a:xfrm>
              <a:off x="8321040" y="48816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84" name="Oval 18"/>
            <p:cNvSpPr/>
            <p:nvPr/>
          </p:nvSpPr>
          <p:spPr>
            <a:xfrm>
              <a:off x="8489160" y="48816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85" name="Oval 19"/>
            <p:cNvSpPr/>
            <p:nvPr/>
          </p:nvSpPr>
          <p:spPr>
            <a:xfrm>
              <a:off x="8657280" y="48816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86" name="Oval 20"/>
            <p:cNvSpPr/>
            <p:nvPr/>
          </p:nvSpPr>
          <p:spPr>
            <a:xfrm>
              <a:off x="8825400" y="488160"/>
              <a:ext cx="119880" cy="1155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8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8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89" name="Oval 23"/>
            <p:cNvSpPr/>
            <p:nvPr/>
          </p:nvSpPr>
          <p:spPr>
            <a:xfrm>
              <a:off x="8489160" y="655920"/>
              <a:ext cx="1155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90" name="Oval 24"/>
            <p:cNvSpPr/>
            <p:nvPr/>
          </p:nvSpPr>
          <p:spPr>
            <a:xfrm>
              <a:off x="8657280" y="65592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9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9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93" name="Oval 27"/>
            <p:cNvSpPr/>
            <p:nvPr/>
          </p:nvSpPr>
          <p:spPr>
            <a:xfrm>
              <a:off x="8489160" y="82404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94" name="Oval 28"/>
            <p:cNvSpPr/>
            <p:nvPr/>
          </p:nvSpPr>
          <p:spPr>
            <a:xfrm>
              <a:off x="8657280" y="82404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9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9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9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98" name="Oval 32"/>
            <p:cNvSpPr/>
            <p:nvPr/>
          </p:nvSpPr>
          <p:spPr>
            <a:xfrm>
              <a:off x="8489160" y="992160"/>
              <a:ext cx="1155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99" name="Oval 33"/>
            <p:cNvSpPr/>
            <p:nvPr/>
          </p:nvSpPr>
          <p:spPr>
            <a:xfrm>
              <a:off x="8657280" y="992160"/>
              <a:ext cx="11556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700" name="Oval 34"/>
            <p:cNvSpPr/>
            <p:nvPr/>
          </p:nvSpPr>
          <p:spPr>
            <a:xfrm>
              <a:off x="8153280" y="1159920"/>
              <a:ext cx="119880" cy="1152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701" name="Oval 35"/>
            <p:cNvSpPr/>
            <p:nvPr/>
          </p:nvSpPr>
          <p:spPr>
            <a:xfrm>
              <a:off x="8321040" y="1159920"/>
              <a:ext cx="118440" cy="1152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702" name="Oval 36"/>
            <p:cNvSpPr/>
            <p:nvPr/>
          </p:nvSpPr>
          <p:spPr>
            <a:xfrm>
              <a:off x="8489160" y="1159920"/>
              <a:ext cx="115560" cy="1152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703" name="Oval 37"/>
            <p:cNvSpPr/>
            <p:nvPr/>
          </p:nvSpPr>
          <p:spPr>
            <a:xfrm>
              <a:off x="8657280" y="1159920"/>
              <a:ext cx="115560" cy="1152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70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705" name="Oval 39"/>
            <p:cNvSpPr/>
            <p:nvPr/>
          </p:nvSpPr>
          <p:spPr>
            <a:xfrm>
              <a:off x="8657280" y="1328040"/>
              <a:ext cx="11556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270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707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8" name="PlaceHolder 3"/>
          <p:cNvSpPr>
            <a:spLocks noGrp="1"/>
          </p:cNvSpPr>
          <p:nvPr>
            <p:ph type="dt" idx="16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709" name="PlaceHolder 4"/>
          <p:cNvSpPr>
            <a:spLocks noGrp="1"/>
          </p:cNvSpPr>
          <p:nvPr>
            <p:ph type="ftr" idx="16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0" name="PlaceHolder 5"/>
          <p:cNvSpPr>
            <a:spLocks noGrp="1"/>
          </p:cNvSpPr>
          <p:nvPr>
            <p:ph type="sldNum" idx="16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F40AF-2E58-48D1-9078-48D842D0458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2"/>
    <p:sldLayoutId id="2147484339" r:id="rId3"/>
    <p:sldLayoutId id="2147484340" r:id="rId4"/>
    <p:sldLayoutId id="2147484341" r:id="rId5"/>
    <p:sldLayoutId id="2147484342" r:id="rId6"/>
    <p:sldLayoutId id="2147484343" r:id="rId7"/>
    <p:sldLayoutId id="2147484344" r:id="rId8"/>
    <p:sldLayoutId id="2147484345" r:id="rId9"/>
    <p:sldLayoutId id="2147484346" r:id="rId10"/>
    <p:sldLayoutId id="2147484347" r:id="rId11"/>
    <p:sldLayoutId id="2147484348" r:id="rId12"/>
    <p:sldLayoutId id="2147484349" r:id="rId13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7" name="Rectangle 2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grpSp>
        <p:nvGrpSpPr>
          <p:cNvPr id="2748" name="Group 8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2749" name="Rectangle 9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c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750" name="Rectangle 10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3366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751" name="Rectangle 11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c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752" name="Rectangle 12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3366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753" name="Line 13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754" name="Rectangle 14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27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6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3366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3366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ff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7" name="PlaceHolder 3"/>
          <p:cNvSpPr>
            <a:spLocks noGrp="1"/>
          </p:cNvSpPr>
          <p:nvPr>
            <p:ph type="dt" idx="16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758" name="PlaceHolder 4"/>
          <p:cNvSpPr>
            <a:spLocks noGrp="1"/>
          </p:cNvSpPr>
          <p:nvPr>
            <p:ph type="ftr" idx="16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9" name="PlaceHolder 5"/>
          <p:cNvSpPr>
            <a:spLocks noGrp="1"/>
          </p:cNvSpPr>
          <p:nvPr>
            <p:ph type="sldNum" idx="16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AEC7C-380B-4336-BB04-8EC23B8BD841}" type="slidenum">
              <a:rPr b="1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2"/>
    <p:sldLayoutId id="2147484352" r:id="rId3"/>
    <p:sldLayoutId id="2147484353" r:id="rId4"/>
    <p:sldLayoutId id="2147484354" r:id="rId5"/>
    <p:sldLayoutId id="2147484355" r:id="rId6"/>
    <p:sldLayoutId id="2147484356" r:id="rId7"/>
    <p:sldLayoutId id="2147484357" r:id="rId8"/>
    <p:sldLayoutId id="2147484358" r:id="rId9"/>
    <p:sldLayoutId id="2147484359" r:id="rId10"/>
    <p:sldLayoutId id="2147484360" r:id="rId11"/>
    <p:sldLayoutId id="2147484361" r:id="rId12"/>
    <p:sldLayoutId id="2147484362" r:id="rId13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6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7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8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9" name="PlaceHolder 3"/>
          <p:cNvSpPr>
            <a:spLocks noGrp="1"/>
          </p:cNvSpPr>
          <p:nvPr>
            <p:ph type="dt" idx="16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800" name="PlaceHolder 4"/>
          <p:cNvSpPr>
            <a:spLocks noGrp="1"/>
          </p:cNvSpPr>
          <p:nvPr>
            <p:ph type="ftr" idx="16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1" name="PlaceHolder 5"/>
          <p:cNvSpPr>
            <a:spLocks noGrp="1"/>
          </p:cNvSpPr>
          <p:nvPr>
            <p:ph type="sldNum" idx="16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DB9BA-2B8D-4A48-8A49-2F10CBF1886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3"/>
    <p:sldLayoutId id="2147484365" r:id="rId4"/>
    <p:sldLayoutId id="2147484366" r:id="rId5"/>
    <p:sldLayoutId id="2147484367" r:id="rId6"/>
    <p:sldLayoutId id="2147484368" r:id="rId7"/>
    <p:sldLayoutId id="2147484369" r:id="rId8"/>
    <p:sldLayoutId id="2147484370" r:id="rId9"/>
    <p:sldLayoutId id="2147484371" r:id="rId10"/>
    <p:sldLayoutId id="2147484372" r:id="rId11"/>
    <p:sldLayoutId id="2147484373" r:id="rId12"/>
    <p:sldLayoutId id="2147484374" r:id="rId13"/>
    <p:sldLayoutId id="2147484375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4E85B-6139-42DC-A34E-FF5C5642C13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0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31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2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3" name="Oval 11"/>
            <p:cNvSpPr/>
            <p:nvPr/>
          </p:nvSpPr>
          <p:spPr>
            <a:xfrm>
              <a:off x="8489160" y="152280"/>
              <a:ext cx="1155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4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5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6" name="Oval 14"/>
            <p:cNvSpPr/>
            <p:nvPr/>
          </p:nvSpPr>
          <p:spPr>
            <a:xfrm>
              <a:off x="8489160" y="320040"/>
              <a:ext cx="1155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7" name="Oval 15"/>
            <p:cNvSpPr/>
            <p:nvPr/>
          </p:nvSpPr>
          <p:spPr>
            <a:xfrm>
              <a:off x="8657280" y="32004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8" name="Oval 16"/>
            <p:cNvSpPr/>
            <p:nvPr/>
          </p:nvSpPr>
          <p:spPr>
            <a:xfrm>
              <a:off x="8153280" y="48816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9" name="Oval 17"/>
            <p:cNvSpPr/>
            <p:nvPr/>
          </p:nvSpPr>
          <p:spPr>
            <a:xfrm>
              <a:off x="8321040" y="48816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0" name="Oval 18"/>
            <p:cNvSpPr/>
            <p:nvPr/>
          </p:nvSpPr>
          <p:spPr>
            <a:xfrm>
              <a:off x="8489160" y="48816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1" name="Oval 19"/>
            <p:cNvSpPr/>
            <p:nvPr/>
          </p:nvSpPr>
          <p:spPr>
            <a:xfrm>
              <a:off x="8657280" y="48816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2" name="Oval 20"/>
            <p:cNvSpPr/>
            <p:nvPr/>
          </p:nvSpPr>
          <p:spPr>
            <a:xfrm>
              <a:off x="8825400" y="488160"/>
              <a:ext cx="119880" cy="1155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3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4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5" name="Oval 23"/>
            <p:cNvSpPr/>
            <p:nvPr/>
          </p:nvSpPr>
          <p:spPr>
            <a:xfrm>
              <a:off x="8489160" y="655920"/>
              <a:ext cx="1155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6" name="Oval 24"/>
            <p:cNvSpPr/>
            <p:nvPr/>
          </p:nvSpPr>
          <p:spPr>
            <a:xfrm>
              <a:off x="8657280" y="65592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7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8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9" name="Oval 27"/>
            <p:cNvSpPr/>
            <p:nvPr/>
          </p:nvSpPr>
          <p:spPr>
            <a:xfrm>
              <a:off x="8489160" y="82404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0" name="Oval 28"/>
            <p:cNvSpPr/>
            <p:nvPr/>
          </p:nvSpPr>
          <p:spPr>
            <a:xfrm>
              <a:off x="8657280" y="82404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1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2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3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4" name="Oval 32"/>
            <p:cNvSpPr/>
            <p:nvPr/>
          </p:nvSpPr>
          <p:spPr>
            <a:xfrm>
              <a:off x="8489160" y="992160"/>
              <a:ext cx="1155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5" name="Oval 33"/>
            <p:cNvSpPr/>
            <p:nvPr/>
          </p:nvSpPr>
          <p:spPr>
            <a:xfrm>
              <a:off x="8657280" y="992160"/>
              <a:ext cx="11556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6" name="Oval 34"/>
            <p:cNvSpPr/>
            <p:nvPr/>
          </p:nvSpPr>
          <p:spPr>
            <a:xfrm>
              <a:off x="8153280" y="1159920"/>
              <a:ext cx="119880" cy="1152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7" name="Oval 35"/>
            <p:cNvSpPr/>
            <p:nvPr/>
          </p:nvSpPr>
          <p:spPr>
            <a:xfrm>
              <a:off x="8321040" y="1159920"/>
              <a:ext cx="118440" cy="1152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8" name="Oval 36"/>
            <p:cNvSpPr/>
            <p:nvPr/>
          </p:nvSpPr>
          <p:spPr>
            <a:xfrm>
              <a:off x="8489160" y="1159920"/>
              <a:ext cx="115560" cy="1152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9" name="Oval 37"/>
            <p:cNvSpPr/>
            <p:nvPr/>
          </p:nvSpPr>
          <p:spPr>
            <a:xfrm>
              <a:off x="8657280" y="1159920"/>
              <a:ext cx="115560" cy="1152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0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1" name="Oval 39"/>
            <p:cNvSpPr/>
            <p:nvPr/>
          </p:nvSpPr>
          <p:spPr>
            <a:xfrm>
              <a:off x="8657280" y="1328040"/>
              <a:ext cx="11556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3366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3366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ff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sldNum" idx="21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267AE-C13E-4C73-B916-6A8349B7C43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3" name="Group 7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304" name="Line 8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305" name="Rectangle 9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c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306" name="Rectangle 10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3366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307" name="Rectangle 11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c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308" name="Rectangle 12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3366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48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dt" idx="22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8B3F6-D10C-4985-8ED8-7971D35CB3E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8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389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390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817C3-993E-4B87-9226-2C39C5232CCF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2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6.png"/><Relationship Id="rId5" Type="http://schemas.openxmlformats.org/officeDocument/2006/relationships/image" Target="../media/image26.png"/><Relationship Id="rId6" Type="http://schemas.openxmlformats.org/officeDocument/2006/relationships/image" Target="../media/image26.png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85.xml"/><Relationship Id="rId9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6.png"/><Relationship Id="rId5" Type="http://schemas.openxmlformats.org/officeDocument/2006/relationships/image" Target="../media/image27.wmf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85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net196.soes.ru/" TargetMode="External"/><Relationship Id="rId3" Type="http://schemas.openxmlformats.org/officeDocument/2006/relationships/hyperlink" Target="http://www.bestreferat.ru/" TargetMode="External"/><Relationship Id="rId4" Type="http://schemas.openxmlformats.org/officeDocument/2006/relationships/hyperlink" Target="http://www.baby.com.ua/" TargetMode="External"/><Relationship Id="rId5" Type="http://schemas.openxmlformats.org/officeDocument/2006/relationships/hyperlink" Target="http://www.le-mon.ru/" TargetMode="External"/><Relationship Id="rId6" Type="http://schemas.openxmlformats.org/officeDocument/2006/relationships/hyperlink" Target="http://www.add.net.ru/" TargetMode="External"/><Relationship Id="rId7" Type="http://schemas.openxmlformats.org/officeDocument/2006/relationships/hyperlink" Target="http://www.med.resourse.ru/" TargetMode="External"/><Relationship Id="rId8" Type="http://schemas.openxmlformats.org/officeDocument/2006/relationships/hyperlink" Target="http://www.djv.ru/" TargetMode="External"/><Relationship Id="rId9" Type="http://schemas.openxmlformats.org/officeDocument/2006/relationships/image" Target="../media/image28.wmf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85.xml"/><Relationship Id="rId1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85.xml"/><Relationship Id="rId7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529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6.wmf"/><Relationship Id="rId13" Type="http://schemas.openxmlformats.org/officeDocument/2006/relationships/audio" Target="../media/chimes.wav"/><Relationship Id="rId14" Type="http://schemas.openxmlformats.org/officeDocument/2006/relationships/slideLayout" Target="../slideLayouts/slideLayout73.xml"/><Relationship Id="rId1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5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8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8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8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cc"/>
                </a:solidFill>
                <a:latin typeface="Tahoma"/>
              </a:rPr>
              <a:t>Аддиктивное поведение учащихся,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46" name="PlaceHolder 2"/>
          <p:cNvSpPr>
            <a:spLocks noGrp="1"/>
          </p:cNvSpPr>
          <p:nvPr>
            <p:ph type="subTitle"/>
          </p:nvPr>
        </p:nvSpPr>
        <p:spPr>
          <a:xfrm>
            <a:off x="1371600" y="3213000"/>
            <a:ext cx="64008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проблемы диагностики склонности учащихс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к вредным привычка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p:transition spd="slow" advTm="15000">
    <p:wedge/>
    <p:sndAc>
      <p:stSnd>
        <p:snd r:embed="rId1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28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28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5" name="PlaceHolder 1"/>
          <p:cNvSpPr>
            <a:spLocks noGrp="1"/>
          </p:cNvSpPr>
          <p:nvPr>
            <p:ph type="title"/>
          </p:nvPr>
        </p:nvSpPr>
        <p:spPr>
          <a:xfrm>
            <a:off x="971640" y="333360"/>
            <a:ext cx="7929360" cy="82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1" i="1" lang="ru-RU" sz="3800" spc="-1" strike="noStrike">
                <a:solidFill>
                  <a:srgbClr val="cc0000"/>
                </a:solidFill>
                <a:latin typeface="Verdana"/>
              </a:rPr>
              <a:t>Какие бывают аддикции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ru-RU" sz="2300" spc="-1" strike="noStrike">
                <a:solidFill>
                  <a:srgbClr val="000000"/>
                </a:solidFill>
                <a:latin typeface="Verdana"/>
              </a:rPr>
              <a:t>В зависимости от того посредством чего осуществляется уход из реальности выделяются зависимости: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3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i="1" lang="ru-RU" sz="2300" spc="-1" strike="noStrike">
                <a:solidFill>
                  <a:srgbClr val="cc0000"/>
                </a:solidFill>
                <a:latin typeface="Verdana"/>
              </a:rPr>
              <a:t>- фармакологические (химические)-</a:t>
            </a:r>
            <a:r>
              <a:rPr b="0" i="1" lang="ru-RU" sz="2300" spc="-1" strike="noStrike">
                <a:solidFill>
                  <a:srgbClr val="000000"/>
                </a:solidFill>
                <a:latin typeface="Verdana"/>
              </a:rPr>
              <a:t> зависимость от психоактивных веществ (ПАВ);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3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i="1" lang="ru-RU" sz="2300" spc="-1" strike="noStrike">
                <a:solidFill>
                  <a:srgbClr val="cc0000"/>
                </a:solidFill>
                <a:latin typeface="Verdana"/>
              </a:rPr>
              <a:t>- субстанциональные –</a:t>
            </a:r>
            <a:r>
              <a:rPr b="0" i="1" lang="ru-RU" sz="2300" spc="-1" strike="noStrike">
                <a:solidFill>
                  <a:srgbClr val="000000"/>
                </a:solidFill>
                <a:latin typeface="Verdana"/>
              </a:rPr>
              <a:t> эмоциональные (секс- и любовные зависимости), трудо-  или работоголизм, компьютерные и игорные зависимости и многие другие;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3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i="1" lang="ru-RU" sz="2300" spc="-1" strike="noStrike">
                <a:solidFill>
                  <a:srgbClr val="cc0000"/>
                </a:solidFill>
                <a:latin typeface="Verdana"/>
              </a:rPr>
              <a:t>- пищевые</a:t>
            </a:r>
            <a:r>
              <a:rPr b="0" i="1" lang="ru-RU" sz="2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2300" spc="-1" strike="noStrike">
                <a:solidFill>
                  <a:srgbClr val="000000"/>
                </a:solidFill>
                <a:latin typeface="Verdana"/>
              </a:rPr>
              <a:t>зависимости говорят сами за себя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p:transition spd="slow">
    <p:checker dir="horz"/>
    <p:sndAc>
      <p:stSnd>
        <p:snd r:embed="rId1" name="chimes.wav"/>
      </p:stSnd>
    </p:sndAc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0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28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28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28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0" fill="hold"/>
                                        <p:tgtEl>
                                          <p:spTgt spid="28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0" fill="hold"/>
                                        <p:tgtEl>
                                          <p:spTgt spid="28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0" fill="hold"/>
                                        <p:tgtEl>
                                          <p:spTgt spid="28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0" fill="hold"/>
                                        <p:tgtEl>
                                          <p:spTgt spid="28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0" fill="hold"/>
                                        <p:tgtEl>
                                          <p:spTgt spid="28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0" fill="hold"/>
                                        <p:tgtEl>
                                          <p:spTgt spid="28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0" fill="hold"/>
                                        <p:tgtEl>
                                          <p:spTgt spid="28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0" fill="hold"/>
                                        <p:tgtEl>
                                          <p:spTgt spid="28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8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13564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cc0000"/>
                </a:solidFill>
                <a:latin typeface="Verdana"/>
              </a:rPr>
              <a:t>Какие вещества, предметы или действия могут быть предметом аддикции ?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наркотики, алкоголь, табак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азартные игры(включая компьютерные)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длительное прослушивание ритмичной музыки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олное погружение в какой-либо вид деятельности с отказом от жизненно важных обязанностей человека (хобби, работа и т.д.)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люди, предметы и явления окружающей действительности, вызывающие различные эмоциональные состояния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p:transition spd="slow">
    <p:checker dir="vert"/>
    <p:sndAc>
      <p:stSnd>
        <p:snd r:embed="rId1" name="chimes.wav"/>
      </p:stSnd>
    </p:sndAc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0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28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28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28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3000" fill="hold"/>
                                        <p:tgtEl>
                                          <p:spTgt spid="28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3000" fill="hold"/>
                                        <p:tgtEl>
                                          <p:spTgt spid="28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3000" fill="hold"/>
                                        <p:tgtEl>
                                          <p:spTgt spid="28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3000" fill="hold"/>
                                        <p:tgtEl>
                                          <p:spTgt spid="28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3000" fill="hold"/>
                                        <p:tgtEl>
                                          <p:spTgt spid="28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3000" fill="hold"/>
                                        <p:tgtEl>
                                          <p:spTgt spid="28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3000" fill="hold"/>
                                        <p:tgtEl>
                                          <p:spTgt spid="28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3000" fill="hold"/>
                                        <p:tgtEl>
                                          <p:spTgt spid="28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3000" fill="hold"/>
                                        <p:tgtEl>
                                          <p:spTgt spid="28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3000" fill="hold"/>
                                        <p:tgtEl>
                                          <p:spTgt spid="28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1" name="PlaceHolder 1"/>
          <p:cNvSpPr>
            <a:spLocks noGrp="1"/>
          </p:cNvSpPr>
          <p:nvPr>
            <p:ph type="title"/>
          </p:nvPr>
        </p:nvSpPr>
        <p:spPr>
          <a:xfrm>
            <a:off x="655560" y="477720"/>
            <a:ext cx="7778880" cy="79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900" spc="-1" strike="noStrike">
                <a:solidFill>
                  <a:srgbClr val="cc0000"/>
                </a:solidFill>
                <a:latin typeface="Verdana"/>
              </a:rPr>
              <a:t>     </a:t>
            </a:r>
            <a:r>
              <a:rPr b="1" i="1" lang="ru-RU" sz="3900" spc="-1" strike="noStrike">
                <a:solidFill>
                  <a:srgbClr val="cc0000"/>
                </a:solidFill>
                <a:latin typeface="Verdana"/>
              </a:rPr>
              <a:t>Алкогольная аддикция</a:t>
            </a:r>
            <a:endParaRPr b="0" lang="en-US" sz="3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2" name="PlaceHolder 2"/>
          <p:cNvSpPr>
            <a:spLocks noGrp="1"/>
          </p:cNvSpPr>
          <p:nvPr>
            <p:ph/>
          </p:nvPr>
        </p:nvSpPr>
        <p:spPr>
          <a:xfrm>
            <a:off x="323640" y="1846440"/>
            <a:ext cx="8569080" cy="57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0000"/>
          </a:bodyPr>
          <a:p>
            <a:pPr marL="23472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e5ffff"/>
                </a:solidFill>
                <a:latin typeface="Verdana"/>
              </a:rPr>
              <a:t>     </a:t>
            </a:r>
            <a:r>
              <a:rPr b="0" lang="ru-RU" sz="2100" spc="-1" strike="noStrike">
                <a:solidFill>
                  <a:srgbClr val="e5ffff"/>
                </a:solidFill>
                <a:latin typeface="Verdana"/>
              </a:rPr>
              <a:t>Одна из форм фармакологических или химических зависимостей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23472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500" spc="-1" strike="noStrike">
                <a:solidFill>
                  <a:srgbClr val="e5ffff"/>
                </a:solidFill>
                <a:latin typeface="Verdana"/>
              </a:rPr>
              <a:t>                    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23472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3" name="AutoShape 5"/>
          <p:cNvSpPr/>
          <p:nvPr/>
        </p:nvSpPr>
        <p:spPr>
          <a:xfrm>
            <a:off x="3995640" y="2421000"/>
            <a:ext cx="4584960" cy="359568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884" name="Text Box 8"/>
          <p:cNvSpPr/>
          <p:nvPr/>
        </p:nvSpPr>
        <p:spPr>
          <a:xfrm>
            <a:off x="4067280" y="2492280"/>
            <a:ext cx="4392360" cy="36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e5ffff"/>
                </a:solidFill>
                <a:latin typeface="Verdana"/>
              </a:rPr>
              <a:t>В основе алкогольной зависимо-</a:t>
            </a:r>
            <a:endParaRPr b="0" i="1" lang="en-US" sz="2000" spc="-1" strike="noStrike">
              <a:solidFill>
                <a:srgbClr val="ffffcc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e5ffff"/>
                </a:solidFill>
                <a:latin typeface="Verdana"/>
              </a:rPr>
              <a:t>сти лежит употребление спирто-</a:t>
            </a:r>
            <a:endParaRPr b="0" i="1" lang="en-US" sz="2000" spc="-1" strike="noStrike">
              <a:solidFill>
                <a:srgbClr val="ffffcc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e5ffff"/>
                </a:solidFill>
                <a:latin typeface="Verdana"/>
              </a:rPr>
              <a:t>содержащих напитков. Алкоголь</a:t>
            </a:r>
            <a:endParaRPr b="0" i="1" lang="en-US" sz="2000" spc="-1" strike="noStrike">
              <a:solidFill>
                <a:srgbClr val="ffffcc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e5ffff"/>
                </a:solidFill>
                <a:latin typeface="Verdana"/>
              </a:rPr>
              <a:t>является пищевым продуктом</a:t>
            </a:r>
            <a:endParaRPr b="0" i="1" lang="en-US" sz="2000" spc="-1" strike="noStrike">
              <a:solidFill>
                <a:srgbClr val="ffffcc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e5ffff"/>
                </a:solidFill>
                <a:latin typeface="Verdana"/>
              </a:rPr>
              <a:t>или входит в них, не являясь</a:t>
            </a:r>
            <a:endParaRPr b="0" i="1" lang="en-US" sz="2000" spc="-1" strike="noStrike">
              <a:solidFill>
                <a:srgbClr val="ffffcc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e5ffff"/>
                </a:solidFill>
                <a:latin typeface="Verdana"/>
              </a:rPr>
              <a:t>запрещенным как, например,</a:t>
            </a:r>
            <a:endParaRPr b="0" i="1" lang="en-US" sz="2000" spc="-1" strike="noStrike">
              <a:solidFill>
                <a:srgbClr val="ffffcc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e5ffff"/>
                </a:solidFill>
                <a:latin typeface="Verdana"/>
              </a:rPr>
              <a:t>наркотики. Алкоголь не изменя-</a:t>
            </a:r>
            <a:endParaRPr b="0" i="1" lang="en-US" sz="2000" spc="-1" strike="noStrike">
              <a:solidFill>
                <a:srgbClr val="ffffcc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e5ffff"/>
                </a:solidFill>
                <a:latin typeface="Verdana"/>
              </a:rPr>
              <a:t>ет, а кристаллизует текущее</a:t>
            </a:r>
            <a:endParaRPr b="0" i="1" lang="en-US" sz="2000" spc="-1" strike="noStrike">
              <a:solidFill>
                <a:srgbClr val="ffffcc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e5ffff"/>
                </a:solidFill>
                <a:latin typeface="Verdana"/>
              </a:rPr>
              <a:t>состояние: если вам грустно, то</a:t>
            </a:r>
            <a:endParaRPr b="0" i="1" lang="en-US" sz="2000" spc="-1" strike="noStrike">
              <a:solidFill>
                <a:srgbClr val="ffffcc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e5ffff"/>
                </a:solidFill>
                <a:latin typeface="Verdana"/>
              </a:rPr>
              <a:t>употребление алкоголя не под-</a:t>
            </a:r>
            <a:endParaRPr b="0" i="1" lang="en-US" sz="2000" spc="-1" strike="noStrike">
              <a:solidFill>
                <a:srgbClr val="ffffcc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e5ffff"/>
                </a:solidFill>
                <a:latin typeface="Verdana"/>
              </a:rPr>
              <a:t>нимет ваше настроение,а, наобо-</a:t>
            </a:r>
            <a:endParaRPr b="0" i="1" lang="en-US" sz="2000" spc="-1" strike="noStrike">
              <a:solidFill>
                <a:srgbClr val="ffffcc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e5ffff"/>
                </a:solidFill>
                <a:latin typeface="Verdana"/>
              </a:rPr>
              <a:t>рот, его еще больше ухудшит.</a:t>
            </a:r>
            <a:endParaRPr b="0" i="1" lang="en-US" sz="2000" spc="-1" strike="noStrike">
              <a:solidFill>
                <a:srgbClr val="ffffcc"/>
              </a:solidFill>
              <a:latin typeface="Verdana"/>
            </a:endParaRPr>
          </a:p>
        </p:txBody>
      </p:sp>
      <p:pic>
        <p:nvPicPr>
          <p:cNvPr id="2885" name="Picture 9" descr="image002"/>
          <p:cNvPicPr/>
          <p:nvPr/>
        </p:nvPicPr>
        <p:blipFill>
          <a:blip r:embed="rId2"/>
          <a:stretch/>
        </p:blipFill>
        <p:spPr>
          <a:xfrm>
            <a:off x="755640" y="2708280"/>
            <a:ext cx="2752560" cy="3240000"/>
          </a:xfrm>
          <a:prstGeom prst="rect">
            <a:avLst/>
          </a:prstGeom>
          <a:ln w="0">
            <a:noFill/>
          </a:ln>
        </p:spPr>
      </p:pic>
      <p:sp>
        <p:nvSpPr>
          <p:cNvPr id="28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p:transition spd="slow">
    <p:split dir="in" orient="horz"/>
    <p:sndAc>
      <p:stSnd>
        <p:snd r:embed="rId3" name="chimes.wav"/>
      </p:stSnd>
    </p:sndAc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0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7" dur="2000"/>
                                        <p:tgtEl>
                                          <p:spTgt spid="2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0" fill="hold"/>
                                        <p:tgtEl>
                                          <p:spTgt spid="28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0" fill="hold"/>
                                        <p:tgtEl>
                                          <p:spTgt spid="28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44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28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28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28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7" name="PlaceHolder 1"/>
          <p:cNvSpPr>
            <a:spLocks noGrp="1"/>
          </p:cNvSpPr>
          <p:nvPr>
            <p:ph type="title"/>
          </p:nvPr>
        </p:nvSpPr>
        <p:spPr>
          <a:xfrm>
            <a:off x="690480" y="318600"/>
            <a:ext cx="7840800" cy="99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ff4215"/>
                </a:solidFill>
                <a:latin typeface="Verdana"/>
              </a:rPr>
              <a:t>Наркотическая аддикция-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8" name="PlaceHolder 2"/>
          <p:cNvSpPr>
            <a:spLocks noGrp="1"/>
          </p:cNvSpPr>
          <p:nvPr>
            <p:ph/>
          </p:nvPr>
        </p:nvSpPr>
        <p:spPr>
          <a:xfrm>
            <a:off x="179280" y="1628280"/>
            <a:ext cx="89647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болезненные состояния, характеризующиеся явлениям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сихической и физической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ависимости, настоятельной и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епреодолимой потребностью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 повторном потреблении ПА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ркотическими признаютс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ещества или лекарства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оторые обладают способностью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пецифического действия н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центральную нервную систему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(стимулируют, вызывают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эйфорию, изменяют восприятие окружающего мира и т.п.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89" name="Picture 6" descr="image004"/>
          <p:cNvPicPr/>
          <p:nvPr/>
        </p:nvPicPr>
        <p:blipFill>
          <a:blip r:embed="rId2"/>
          <a:stretch/>
        </p:blipFill>
        <p:spPr>
          <a:xfrm>
            <a:off x="4788000" y="2060640"/>
            <a:ext cx="3571920" cy="3571920"/>
          </a:xfrm>
          <a:prstGeom prst="rect">
            <a:avLst/>
          </a:prstGeom>
          <a:ln w="0">
            <a:noFill/>
          </a:ln>
        </p:spPr>
      </p:pic>
      <p:sp>
        <p:nvSpPr>
          <p:cNvPr id="28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p:transition spd="slow">
    <p:split dir="out" orient="horz"/>
    <p:sndAc>
      <p:stSnd>
        <p:snd r:embed="rId3" name="chimes.wav"/>
      </p:stSnd>
    </p:sndAc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0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1000"/>
                                        <p:tgtEl>
                                          <p:spTgt spid="2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28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28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28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28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28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28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28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28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28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28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28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28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28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28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28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28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28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28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28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28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28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28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28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28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28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28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28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28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28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28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4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28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28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28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4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28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28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28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1" name="PlaceHolder 1"/>
          <p:cNvSpPr>
            <a:spLocks noGrp="1"/>
          </p:cNvSpPr>
          <p:nvPr>
            <p:ph type="title"/>
          </p:nvPr>
        </p:nvSpPr>
        <p:spPr>
          <a:xfrm>
            <a:off x="468000" y="596520"/>
            <a:ext cx="8096040" cy="91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0000"/>
                </a:solidFill>
                <a:latin typeface="Verdana"/>
              </a:rPr>
              <a:t>Лекарственная аддикция-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2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2821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индром, развивающийся при употреблении психотропных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еществ; характеризуется патало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гической потребностью в прием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аких веществ для того, чтоб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збежать развития абстиненции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ли психических нарушений 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остояния дискомфорта, возникаю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щих при прекращении их прием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либо при введении антагонист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этих веществ. К ним относятся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имедрол, феназепам и т.п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93" name="Picture 5" descr="image006"/>
          <p:cNvPicPr/>
          <p:nvPr/>
        </p:nvPicPr>
        <p:blipFill>
          <a:blip r:embed="rId2"/>
          <a:stretch/>
        </p:blipFill>
        <p:spPr>
          <a:xfrm>
            <a:off x="611280" y="2276640"/>
            <a:ext cx="3247920" cy="3686040"/>
          </a:xfrm>
          <a:prstGeom prst="rect">
            <a:avLst/>
          </a:prstGeom>
          <a:ln w="0">
            <a:noFill/>
          </a:ln>
        </p:spPr>
      </p:pic>
      <p:sp>
        <p:nvSpPr>
          <p:cNvPr id="28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p:transition spd="slow">
    <p:split dir="in" orient="vert"/>
    <p:sndAc>
      <p:stSnd>
        <p:snd r:embed="rId3" name="chimes.wav"/>
      </p:stSnd>
    </p:sndAc>
  </p:transition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nodeType="clickEffect" fill="hold">
                      <p:stCondLst>
                        <p:cond delay="0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34" dur="1000"/>
                                        <p:tgtEl>
                                          <p:spTgt spid="2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1000"/>
                                        <p:tgtEl>
                                          <p:spTgt spid="28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28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28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6700"/>
                            </p:stCondLst>
                            <p:childTnLst>
                              <p:par>
                                <p:cTn id="442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28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28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28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nodeType="afterEffect" fill="hold">
                            <p:stCondLst>
                              <p:cond delay="10600"/>
                            </p:stCondLst>
                            <p:childTnLst>
                              <p:par>
                                <p:cTn id="448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28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8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28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nodeType="afterEffect" fill="hold">
                            <p:stCondLst>
                              <p:cond delay="14200"/>
                            </p:stCondLst>
                            <p:childTnLst>
                              <p:par>
                                <p:cTn id="454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28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28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28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nodeType="afterEffect" fill="hold">
                            <p:stCondLst>
                              <p:cond delay="17600"/>
                            </p:stCondLst>
                            <p:childTnLst>
                              <p:par>
                                <p:cTn id="460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28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28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28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21200"/>
                            </p:stCondLst>
                            <p:childTnLst>
                              <p:par>
                                <p:cTn id="46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28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28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28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nodeType="afterEffect" fill="hold">
                            <p:stCondLst>
                              <p:cond delay="24500"/>
                            </p:stCondLst>
                            <p:childTnLst>
                              <p:par>
                                <p:cTn id="472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28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28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28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nodeType="afterEffect" fill="hold">
                            <p:stCondLst>
                              <p:cond delay="28400"/>
                            </p:stCondLst>
                            <p:childTnLst>
                              <p:par>
                                <p:cTn id="478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1000"/>
                                        <p:tgtEl>
                                          <p:spTgt spid="28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28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28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nodeType="afterEffect" fill="hold">
                            <p:stCondLst>
                              <p:cond delay="31800"/>
                            </p:stCondLst>
                            <p:childTnLst>
                              <p:par>
                                <p:cTn id="484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28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28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28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nodeType="afterEffect" fill="hold">
                            <p:stCondLst>
                              <p:cond delay="35400"/>
                            </p:stCondLst>
                            <p:childTnLst>
                              <p:par>
                                <p:cTn id="490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1000"/>
                                        <p:tgtEl>
                                          <p:spTgt spid="28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28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28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nodeType="afterEffect" fill="hold">
                            <p:stCondLst>
                              <p:cond delay="38900"/>
                            </p:stCondLst>
                            <p:childTnLst>
                              <p:par>
                                <p:cTn id="49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28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28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28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nodeType="afterEffect" fill="hold">
                            <p:stCondLst>
                              <p:cond delay="42100"/>
                            </p:stCondLst>
                            <p:childTnLst>
                              <p:par>
                                <p:cTn id="502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28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28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28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0000"/>
                </a:solidFill>
                <a:latin typeface="Verdana"/>
              </a:rPr>
              <a:t>Табакокурение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6" name="PlaceHolder 2"/>
          <p:cNvSpPr>
            <a:spLocks noGrp="1"/>
          </p:cNvSpPr>
          <p:nvPr>
            <p:ph/>
          </p:nvPr>
        </p:nvSpPr>
        <p:spPr>
          <a:xfrm>
            <a:off x="324000" y="1752480"/>
            <a:ext cx="8496000" cy="47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урение табака - один из наиболее распространенных видов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ркомании, охватывающий большое количество людей 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являющийся поэтому бытовой наркоманией. Дымящаяся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игарета доставляет привычному курильщику удовольстви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собенно остро ощущается потребность в курении после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инятия пищи, во время выпивки, при отрицательных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эмоциях и во время напряженной работы. При этом сам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дыхаемый никотин не оказывает какого-либо положитель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ого действия на организм. Сигарета является больше отвле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ающим фактором:переключение сознания на неё помогае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тодвинуть неприятные мысли, прервать тяжелую работу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овместное курение облегчает контакт между людьми, явля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ется хорошим предлогом для знакомств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97" name="Picture 4" descr="10023"/>
          <p:cNvPicPr/>
          <p:nvPr/>
        </p:nvPicPr>
        <p:blipFill>
          <a:blip r:embed="rId2"/>
          <a:stretch/>
        </p:blipFill>
        <p:spPr>
          <a:xfrm>
            <a:off x="5508720" y="404640"/>
            <a:ext cx="1296720" cy="1297080"/>
          </a:xfrm>
          <a:prstGeom prst="rect">
            <a:avLst/>
          </a:prstGeom>
          <a:ln w="0">
            <a:noFill/>
          </a:ln>
        </p:spPr>
      </p:pic>
      <p:sp>
        <p:nvSpPr>
          <p:cNvPr id="28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p:transition spd="slow">
    <p:split dir="out" orient="vert"/>
    <p:sndAc>
      <p:stSnd>
        <p:snd r:embed="rId3" name="chimes.wav"/>
      </p:stSnd>
    </p:sndAc>
  </p:transition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nodeType="clickEffect" fill="hold">
                      <p:stCondLst>
                        <p:cond delay="0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2000"/>
                                        <p:tgtEl>
                                          <p:spTgt spid="28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" dur="2000" fill="hold"/>
                                        <p:tgtEl>
                                          <p:spTgt spid="28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2000" fill="hold"/>
                                        <p:tgtEl>
                                          <p:spTgt spid="28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nodeType="afterEffect" fill="hold">
                            <p:stCondLst>
                              <p:cond delay="4400"/>
                            </p:stCondLst>
                            <p:childTnLst>
                              <p:par>
                                <p:cTn id="51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28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28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28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nodeType="afterEffect" fill="hold">
                            <p:stCondLst>
                              <p:cond delay="10200"/>
                            </p:stCondLst>
                            <p:childTnLst>
                              <p:par>
                                <p:cTn id="523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1000"/>
                                        <p:tgtEl>
                                          <p:spTgt spid="28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28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28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nodeType="afterEffect" fill="hold">
                            <p:stCondLst>
                              <p:cond delay="15700"/>
                            </p:stCondLst>
                            <p:childTnLst>
                              <p:par>
                                <p:cTn id="52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1000"/>
                                        <p:tgtEl>
                                          <p:spTgt spid="28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28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28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nodeType="afterEffect" fill="hold">
                            <p:stCondLst>
                              <p:cond delay="21100"/>
                            </p:stCondLst>
                            <p:childTnLst>
                              <p:par>
                                <p:cTn id="53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1000"/>
                                        <p:tgtEl>
                                          <p:spTgt spid="28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28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28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nodeType="afterEffect" fill="hold">
                            <p:stCondLst>
                              <p:cond delay="27100"/>
                            </p:stCondLst>
                            <p:childTnLst>
                              <p:par>
                                <p:cTn id="541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1000"/>
                                        <p:tgtEl>
                                          <p:spTgt spid="28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8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8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nodeType="afterEffect" fill="hold">
                            <p:stCondLst>
                              <p:cond delay="32600"/>
                            </p:stCondLst>
                            <p:childTnLst>
                              <p:par>
                                <p:cTn id="54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1000"/>
                                        <p:tgtEl>
                                          <p:spTgt spid="28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28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28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nodeType="afterEffect" fill="hold">
                            <p:stCondLst>
                              <p:cond delay="37900"/>
                            </p:stCondLst>
                            <p:childTnLst>
                              <p:par>
                                <p:cTn id="553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1000"/>
                                        <p:tgtEl>
                                          <p:spTgt spid="28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28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28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nodeType="afterEffect" fill="hold">
                            <p:stCondLst>
                              <p:cond delay="43100"/>
                            </p:stCondLst>
                            <p:childTnLst>
                              <p:par>
                                <p:cTn id="55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1000"/>
                                        <p:tgtEl>
                                          <p:spTgt spid="28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28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28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nodeType="afterEffect" fill="hold">
                            <p:stCondLst>
                              <p:cond delay="48900"/>
                            </p:stCondLst>
                            <p:childTnLst>
                              <p:par>
                                <p:cTn id="56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1000"/>
                                        <p:tgtEl>
                                          <p:spTgt spid="28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28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28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nodeType="afterEffect" fill="hold">
                            <p:stCondLst>
                              <p:cond delay="54900"/>
                            </p:stCondLst>
                            <p:childTnLst>
                              <p:par>
                                <p:cTn id="571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1000"/>
                                        <p:tgtEl>
                                          <p:spTgt spid="28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28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28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nodeType="afterEffect" fill="hold">
                            <p:stCondLst>
                              <p:cond delay="60600"/>
                            </p:stCondLst>
                            <p:childTnLst>
                              <p:par>
                                <p:cTn id="57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1000"/>
                                        <p:tgtEl>
                                          <p:spTgt spid="28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28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28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nodeType="afterEffect" fill="hold">
                            <p:stCondLst>
                              <p:cond delay="66300"/>
                            </p:stCondLst>
                            <p:childTnLst>
                              <p:par>
                                <p:cTn id="583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1000"/>
                                        <p:tgtEl>
                                          <p:spTgt spid="28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28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28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nodeType="afterEffect" fill="hold">
                            <p:stCondLst>
                              <p:cond delay="72200"/>
                            </p:stCondLst>
                            <p:childTnLst>
                              <p:par>
                                <p:cTn id="58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1000"/>
                                        <p:tgtEl>
                                          <p:spTgt spid="28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28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28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0000"/>
                </a:solidFill>
                <a:latin typeface="Verdana"/>
              </a:rPr>
              <a:t>Токсикомания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оксикомания развивается в связи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 употреблением лекарственных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редств и веществ, не отнесенных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 наркотическим, но также изменя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ющих психическое состояние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человека и его поведение. Диапазон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еществ с токсикологическим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ействием очень широк – от меди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аментов (аналгетики, транквили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аторы, снотворные, стимулятор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 др.) до технических растворителе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 средств бытовой хими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01" name="Picture 8" descr="image008"/>
          <p:cNvPicPr/>
          <p:nvPr/>
        </p:nvPicPr>
        <p:blipFill>
          <a:blip r:embed="rId2"/>
          <a:stretch/>
        </p:blipFill>
        <p:spPr>
          <a:xfrm>
            <a:off x="5651640" y="1628640"/>
            <a:ext cx="2895480" cy="4324320"/>
          </a:xfrm>
          <a:prstGeom prst="rect">
            <a:avLst/>
          </a:prstGeom>
          <a:ln w="0">
            <a:noFill/>
          </a:ln>
        </p:spPr>
      </p:pic>
      <p:sp>
        <p:nvSpPr>
          <p:cNvPr id="2902" name="AutoShape 9"/>
          <p:cNvSpPr/>
          <p:nvPr/>
        </p:nvSpPr>
        <p:spPr>
          <a:xfrm>
            <a:off x="6516720" y="3573360"/>
            <a:ext cx="1258920" cy="1042920"/>
          </a:xfrm>
          <a:custGeom>
            <a:avLst/>
            <a:gdLst>
              <a:gd name="textAreaLeft" fmla="*/ 67320 w 1258920"/>
              <a:gd name="textAreaRight" fmla="*/ 1191600 w 1258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6072" h="21600">
                <a:moveTo>
                  <a:pt x="0" y="0"/>
                </a:moveTo>
                <a:lnTo>
                  <a:pt x="26072" y="0"/>
                </a:lnTo>
                <a:lnTo>
                  <a:pt x="26072" y="21600"/>
                </a:lnTo>
                <a:lnTo>
                  <a:pt x="0" y="21600"/>
                </a:lnTo>
                <a:close/>
              </a:path>
              <a:path fill="lightenLess" w="26072" h="21600">
                <a:moveTo>
                  <a:pt x="0" y="0"/>
                </a:moveTo>
                <a:lnTo>
                  <a:pt x="26072" y="0"/>
                </a:lnTo>
                <a:lnTo>
                  <a:pt x="24672" y="1400"/>
                </a:lnTo>
                <a:lnTo>
                  <a:pt x="1400" y="1400"/>
                </a:lnTo>
                <a:close/>
              </a:path>
              <a:path fill="darken" w="26072" h="21600">
                <a:moveTo>
                  <a:pt x="26072" y="0"/>
                </a:moveTo>
                <a:lnTo>
                  <a:pt x="26072" y="21600"/>
                </a:lnTo>
                <a:lnTo>
                  <a:pt x="24672" y="20200"/>
                </a:lnTo>
                <a:lnTo>
                  <a:pt x="24672" y="1400"/>
                </a:lnTo>
                <a:close/>
              </a:path>
              <a:path fill="darkenLess" w="26072" h="21600">
                <a:moveTo>
                  <a:pt x="260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72" y="20200"/>
                </a:lnTo>
                <a:close/>
              </a:path>
              <a:path fill="lighten" w="260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072" h="21600">
                <a:moveTo>
                  <a:pt x="1303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6072" h="21600">
                <a:moveTo>
                  <a:pt x="14141" y="14281"/>
                </a:moveTo>
                <a:lnTo>
                  <a:pt x="14141" y="12323"/>
                </a:lnTo>
                <a:cubicBezTo>
                  <a:pt x="14141" y="11496"/>
                  <a:pt x="14472" y="10800"/>
                  <a:pt x="15073" y="10800"/>
                </a:cubicBezTo>
                <a:cubicBezTo>
                  <a:pt x="16204" y="10800"/>
                  <a:pt x="17101" y="9434"/>
                  <a:pt x="17101" y="7849"/>
                </a:cubicBezTo>
                <a:cubicBezTo>
                  <a:pt x="17101" y="5534"/>
                  <a:pt x="15247" y="3794"/>
                  <a:pt x="13036" y="3794"/>
                </a:cubicBezTo>
                <a:cubicBezTo>
                  <a:pt x="10825" y="3794"/>
                  <a:pt x="9154" y="5534"/>
                  <a:pt x="9154" y="7849"/>
                </a:cubicBezTo>
                <a:lnTo>
                  <a:pt x="11008" y="7849"/>
                </a:lnTo>
                <a:cubicBezTo>
                  <a:pt x="11008" y="6709"/>
                  <a:pt x="11931" y="5821"/>
                  <a:pt x="13036" y="5821"/>
                </a:cubicBezTo>
                <a:cubicBezTo>
                  <a:pt x="14141" y="5821"/>
                  <a:pt x="15073" y="6709"/>
                  <a:pt x="15073" y="7849"/>
                </a:cubicBezTo>
                <a:cubicBezTo>
                  <a:pt x="15073" y="8589"/>
                  <a:pt x="14603" y="9320"/>
                  <a:pt x="14141" y="9320"/>
                </a:cubicBezTo>
                <a:cubicBezTo>
                  <a:pt x="13036" y="9320"/>
                  <a:pt x="11931" y="10800"/>
                  <a:pt x="11931" y="12323"/>
                </a:cubicBezTo>
                <a:lnTo>
                  <a:pt x="11931" y="1428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9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p:transition spd="slow">
    <p:split dir="in" orient="horz"/>
    <p:sndAc>
      <p:stSnd>
        <p:snd r:embed="rId3" name="chimes.wav"/>
      </p:stSnd>
    </p:sndAc>
  </p:transition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nodeType="clickEffect" fill="hold">
                      <p:stCondLst>
                        <p:cond delay="0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00" dur="1000"/>
                                        <p:tgtEl>
                                          <p:spTgt spid="2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4" dur="500"/>
                                        <p:tgtEl>
                                          <p:spTgt spid="29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8" dur="500"/>
                                        <p:tgtEl>
                                          <p:spTgt spid="29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2" dur="500"/>
                                        <p:tgtEl>
                                          <p:spTgt spid="29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6" dur="500"/>
                                        <p:tgtEl>
                                          <p:spTgt spid="29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0" dur="500"/>
                                        <p:tgtEl>
                                          <p:spTgt spid="29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4" dur="500"/>
                                        <p:tgtEl>
                                          <p:spTgt spid="29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8" dur="500"/>
                                        <p:tgtEl>
                                          <p:spTgt spid="29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2" dur="500"/>
                                        <p:tgtEl>
                                          <p:spTgt spid="29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6" dur="500"/>
                                        <p:tgtEl>
                                          <p:spTgt spid="29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6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0" dur="500"/>
                                        <p:tgtEl>
                                          <p:spTgt spid="29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4" dur="500"/>
                                        <p:tgtEl>
                                          <p:spTgt spid="29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6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8" dur="500"/>
                                        <p:tgtEl>
                                          <p:spTgt spid="29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5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9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9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65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56" dur="2000" fill="hold"/>
                                        <p:tgtEl>
                                          <p:spTgt spid="29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65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59" dur="2000" fill="hold"/>
                                        <p:tgtEl>
                                          <p:spTgt spid="29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0000"/>
            </a:gs>
            <a:gs pos="100000">
              <a:srgbClr val="ffd5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67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Verdana"/>
              </a:rPr>
              <a:t>Суицид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5" name="PlaceHolder 2"/>
          <p:cNvSpPr>
            <a:spLocks noGrp="1"/>
          </p:cNvSpPr>
          <p:nvPr>
            <p:ph/>
          </p:nvPr>
        </p:nvSpPr>
        <p:spPr>
          <a:xfrm>
            <a:off x="539640" y="1699920"/>
            <a:ext cx="8136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мерение лишить себя жизни, повышенный риск совер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шения самоубийства. Эта форма отклоняющегося поведе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ия пассивного типа является способом ухода от нераз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ешимых проблем.Идея может стать навязчивой и превра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иться в аддикцию. Суициды в большей степени характер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ы для высокоразвитых стран, и сегодня существует тен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енция к увеличению их числа. Суицидная активност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меет временные циклы: весенне -летний пик и осенне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имний спад. Количество самоубийств возрастает во втор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ик и снижается в среду-четверг.Чаще совершаются в воз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асте после 55 и до 20 лет.Соотношение между мужчинам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 женщинами-самоубийцами примерно 4:1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p:transition spd="slow">
    <p:split dir="out" orient="horz"/>
    <p:sndAc>
      <p:stSnd>
        <p:snd r:embed="rId1" name="chimes.wav"/>
      </p:stSnd>
    </p:sndAc>
  </p:transition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nodeType="clickEffect" fill="hold">
                      <p:stCondLst>
                        <p:cond delay="0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6" dur="2000"/>
                                        <p:tgtEl>
                                          <p:spTgt spid="29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7" dur="2000" fill="hold"/>
                                        <p:tgtEl>
                                          <p:spTgt spid="29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2000" fill="hold"/>
                                        <p:tgtEl>
                                          <p:spTgt spid="29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2" dur="1000"/>
                                        <p:tgtEl>
                                          <p:spTgt spid="29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6" dur="1000"/>
                                        <p:tgtEl>
                                          <p:spTgt spid="29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0" dur="1000"/>
                                        <p:tgtEl>
                                          <p:spTgt spid="29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4" dur="1000"/>
                                        <p:tgtEl>
                                          <p:spTgt spid="29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8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8" dur="1000"/>
                                        <p:tgtEl>
                                          <p:spTgt spid="29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6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2" dur="1000"/>
                                        <p:tgtEl>
                                          <p:spTgt spid="29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6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6" dur="1000"/>
                                        <p:tgtEl>
                                          <p:spTgt spid="29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6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0" dur="1000"/>
                                        <p:tgtEl>
                                          <p:spTgt spid="29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7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4" dur="1000"/>
                                        <p:tgtEl>
                                          <p:spTgt spid="29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7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8" dur="1000"/>
                                        <p:tgtEl>
                                          <p:spTgt spid="29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7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2" dur="1000"/>
                                        <p:tgtEl>
                                          <p:spTgt spid="29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7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6" dur="1000"/>
                                        <p:tgtEl>
                                          <p:spTgt spid="29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7" name="PlaceHolder 1"/>
          <p:cNvSpPr>
            <a:spLocks noGrp="1"/>
          </p:cNvSpPr>
          <p:nvPr>
            <p:ph type="title"/>
          </p:nvPr>
        </p:nvSpPr>
        <p:spPr>
          <a:xfrm>
            <a:off x="539280" y="333360"/>
            <a:ext cx="800100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Verdana"/>
              </a:rPr>
              <a:t>Трудоголизм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рудоголизм, в отличие от многих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ругих зависимостей, являетс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оциально-одобряемой аддикцие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о на самом деле трудоголик 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это личность с определенными психологическими пробле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ами.Трудоголиком может стать и лентяй, дни и ноч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тсиживающий на работе во время домашних неурядиц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сточником психологического дискомфорта, психологи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ческой травмы чаще всего бывает реально пережитый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ли мнимый страх:боязнь неудачи, страх перед одиноче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твом или, напротив, боязнь общени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09" name="Picture 6" descr="image012"/>
          <p:cNvPicPr/>
          <p:nvPr/>
        </p:nvPicPr>
        <p:blipFill>
          <a:blip r:embed="rId2"/>
          <a:stretch/>
        </p:blipFill>
        <p:spPr>
          <a:xfrm>
            <a:off x="5508720" y="549360"/>
            <a:ext cx="3267000" cy="2438280"/>
          </a:xfrm>
          <a:prstGeom prst="rect">
            <a:avLst/>
          </a:prstGeom>
          <a:ln w="0">
            <a:noFill/>
          </a:ln>
        </p:spPr>
      </p:pic>
      <p:sp>
        <p:nvSpPr>
          <p:cNvPr id="29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p:transition spd="slow">
    <p:split dir="in" orient="vert"/>
    <p:sndAc>
      <p:stSnd>
        <p:snd r:embed="rId3" name="chimes.wav"/>
      </p:stSnd>
    </p:sndAc>
  </p:transition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nodeType="clickEffect" fill="hold">
                      <p:stCondLst>
                        <p:cond delay="0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23" dur="1000"/>
                                        <p:tgtEl>
                                          <p:spTgt spid="2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1000"/>
                                        <p:tgtEl>
                                          <p:spTgt spid="29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29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29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nodeType="afterEffect" fill="hold">
                            <p:stCondLst>
                              <p:cond delay="4700"/>
                            </p:stCondLst>
                            <p:childTnLst>
                              <p:par>
                                <p:cTn id="731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3" dur="1000"/>
                                        <p:tgtEl>
                                          <p:spTgt spid="29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29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29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nodeType="afterEffect" fill="hold">
                            <p:stCondLst>
                              <p:cond delay="8300"/>
                            </p:stCondLst>
                            <p:childTnLst>
                              <p:par>
                                <p:cTn id="73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9" dur="1000"/>
                                        <p:tgtEl>
                                          <p:spTgt spid="29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29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29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nodeType="afterEffect" fill="hold">
                            <p:stCondLst>
                              <p:cond delay="12200"/>
                            </p:stCondLst>
                            <p:childTnLst>
                              <p:par>
                                <p:cTn id="743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5" dur="1000"/>
                                        <p:tgtEl>
                                          <p:spTgt spid="29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29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29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74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1000"/>
                                        <p:tgtEl>
                                          <p:spTgt spid="29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29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29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nodeType="afterEffect" fill="hold">
                            <p:stCondLst>
                              <p:cond delay="21200"/>
                            </p:stCondLst>
                            <p:childTnLst>
                              <p:par>
                                <p:cTn id="75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7" dur="1000"/>
                                        <p:tgtEl>
                                          <p:spTgt spid="29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29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29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nodeType="afterEffect" fill="hold">
                            <p:stCondLst>
                              <p:cond delay="26400"/>
                            </p:stCondLst>
                            <p:childTnLst>
                              <p:par>
                                <p:cTn id="761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/>
                                        <p:tgtEl>
                                          <p:spTgt spid="29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29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29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nodeType="afterEffect" fill="hold">
                            <p:stCondLst>
                              <p:cond delay="31700"/>
                            </p:stCondLst>
                            <p:childTnLst>
                              <p:par>
                                <p:cTn id="76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9" dur="1000"/>
                                        <p:tgtEl>
                                          <p:spTgt spid="29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29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29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nodeType="afterEffect" fill="hold">
                            <p:stCondLst>
                              <p:cond delay="37400"/>
                            </p:stCondLst>
                            <p:childTnLst>
                              <p:par>
                                <p:cTn id="773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5" dur="1000"/>
                                        <p:tgtEl>
                                          <p:spTgt spid="29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29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29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nodeType="afterEffect" fill="hold">
                            <p:stCondLst>
                              <p:cond delay="42600"/>
                            </p:stCondLst>
                            <p:childTnLst>
                              <p:par>
                                <p:cTn id="77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1" dur="1000"/>
                                        <p:tgtEl>
                                          <p:spTgt spid="29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29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29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nodeType="afterEffect" fill="hold">
                            <p:stCondLst>
                              <p:cond delay="48200"/>
                            </p:stCondLst>
                            <p:childTnLst>
                              <p:par>
                                <p:cTn id="78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7" dur="1000"/>
                                        <p:tgtEl>
                                          <p:spTgt spid="29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29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29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67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0000"/>
                </a:solidFill>
                <a:latin typeface="Verdana"/>
              </a:rPr>
              <a:t>Пищевые зависимости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2" name="PlaceHolder 2"/>
          <p:cNvSpPr>
            <a:spLocks noGrp="1"/>
          </p:cNvSpPr>
          <p:nvPr>
            <p:ph/>
          </p:nvPr>
        </p:nvSpPr>
        <p:spPr>
          <a:xfrm>
            <a:off x="566640" y="1773360"/>
            <a:ext cx="8182080" cy="424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 ним относятся такие пси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хические расстройства как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булимия (переедание) 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норексия (добровольны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тказ от пищи).                  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ищевая зависимость –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это не только переедание 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голодание,но и зависимост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т вкуса:от вкуса кофе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шоколада, сливок и т.д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13" name="Picture 8" descr="image010"/>
          <p:cNvPicPr/>
          <p:nvPr/>
        </p:nvPicPr>
        <p:blipFill>
          <a:blip r:embed="rId2"/>
          <a:stretch/>
        </p:blipFill>
        <p:spPr>
          <a:xfrm>
            <a:off x="4500720" y="1052640"/>
            <a:ext cx="3981240" cy="2666880"/>
          </a:xfrm>
          <a:prstGeom prst="rect">
            <a:avLst/>
          </a:prstGeom>
          <a:ln w="0">
            <a:noFill/>
          </a:ln>
        </p:spPr>
      </p:pic>
      <p:pic>
        <p:nvPicPr>
          <p:cNvPr id="2914" name="Picture 9" descr="image014"/>
          <p:cNvPicPr/>
          <p:nvPr/>
        </p:nvPicPr>
        <p:blipFill>
          <a:blip r:embed="rId3"/>
          <a:stretch/>
        </p:blipFill>
        <p:spPr>
          <a:xfrm>
            <a:off x="684360" y="3716280"/>
            <a:ext cx="3981240" cy="2666880"/>
          </a:xfrm>
          <a:prstGeom prst="rect">
            <a:avLst/>
          </a:prstGeom>
          <a:ln w="0">
            <a:noFill/>
          </a:ln>
        </p:spPr>
      </p:pic>
      <p:sp>
        <p:nvSpPr>
          <p:cNvPr id="29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p:transition spd="slow">
    <p:split dir="out" orient="vert"/>
    <p:sndAc>
      <p:stSnd>
        <p:snd r:embed="rId4" name="chimes.wav"/>
      </p:stSnd>
    </p:sndAc>
  </p:transition>
  <p:timing>
    <p:tnLst>
      <p:par>
        <p:cTn id="790" dur="indefinite" restart="never" nodeType="tmRoot">
          <p:childTnLst>
            <p:seq>
              <p:cTn id="791" dur="indefinite" nodeType="mainSeq">
                <p:childTnLst>
                  <p:par>
                    <p:cTn id="792" nodeType="clickEffect" fill="hold">
                      <p:stCondLst>
                        <p:cond delay="0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6" dur="2000"/>
                                        <p:tgtEl>
                                          <p:spTgt spid="29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7" dur="2000" fill="hold"/>
                                        <p:tgtEl>
                                          <p:spTgt spid="29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2000" fill="hold"/>
                                        <p:tgtEl>
                                          <p:spTgt spid="29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nodeType="afterEffect" fill="hold">
                            <p:stCondLst>
                              <p:cond delay="5400"/>
                            </p:stCondLst>
                            <p:childTnLst>
                              <p:par>
                                <p:cTn id="8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2" dur="1000" fill="hold"/>
                                        <p:tgtEl>
                                          <p:spTgt spid="29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29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4" dur="1000"/>
                                        <p:tgtEl>
                                          <p:spTgt spid="29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nodeType="afterEffect" fill="hold">
                            <p:stCondLst>
                              <p:cond delay="6400"/>
                            </p:stCondLst>
                            <p:childTnLst>
                              <p:par>
                                <p:cTn id="8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8" dur="1000" fill="hold"/>
                                        <p:tgtEl>
                                          <p:spTgt spid="29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1000" fill="hold"/>
                                        <p:tgtEl>
                                          <p:spTgt spid="29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0" dur="1000"/>
                                        <p:tgtEl>
                                          <p:spTgt spid="29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nodeType="afterEffect" fill="hold">
                            <p:stCondLst>
                              <p:cond delay="7400"/>
                            </p:stCondLst>
                            <p:childTnLst>
                              <p:par>
                                <p:cTn id="8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29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29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6" dur="1000"/>
                                        <p:tgtEl>
                                          <p:spTgt spid="29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nodeType="afterEffect" fill="hold">
                            <p:stCondLst>
                              <p:cond delay="8400"/>
                            </p:stCondLst>
                            <p:childTnLst>
                              <p:par>
                                <p:cTn id="8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29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29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2" dur="1000"/>
                                        <p:tgtEl>
                                          <p:spTgt spid="29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nodeType="afterEffect" fill="hold">
                            <p:stCondLst>
                              <p:cond delay="9400"/>
                            </p:stCondLst>
                            <p:childTnLst>
                              <p:par>
                                <p:cTn id="8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6" dur="1000" fill="hold"/>
                                        <p:tgtEl>
                                          <p:spTgt spid="29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29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8" dur="1000"/>
                                        <p:tgtEl>
                                          <p:spTgt spid="29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nodeType="afterEffect" fill="hold">
                            <p:stCondLst>
                              <p:cond delay="10400"/>
                            </p:stCondLst>
                            <p:childTnLst>
                              <p:par>
                                <p:cTn id="8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29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1000" fill="hold"/>
                                        <p:tgtEl>
                                          <p:spTgt spid="29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4" dur="1000"/>
                                        <p:tgtEl>
                                          <p:spTgt spid="29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nodeType="afterEffect" fill="hold">
                            <p:stCondLst>
                              <p:cond delay="11400"/>
                            </p:stCondLst>
                            <p:childTnLst>
                              <p:par>
                                <p:cTn id="8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8" dur="1000" fill="hold"/>
                                        <p:tgtEl>
                                          <p:spTgt spid="29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29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0" dur="1000"/>
                                        <p:tgtEl>
                                          <p:spTgt spid="29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nodeType="afterEffect" fill="hold">
                            <p:stCondLst>
                              <p:cond delay="12400"/>
                            </p:stCondLst>
                            <p:childTnLst>
                              <p:par>
                                <p:cTn id="8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29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29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6" dur="1000"/>
                                        <p:tgtEl>
                                          <p:spTgt spid="29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nodeType="afterEffect" fill="hold">
                            <p:stCondLst>
                              <p:cond delay="13400"/>
                            </p:stCondLst>
                            <p:childTnLst>
                              <p:par>
                                <p:cTn id="8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0" dur="1000" fill="hold"/>
                                        <p:tgtEl>
                                          <p:spTgt spid="29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1000" fill="hold"/>
                                        <p:tgtEl>
                                          <p:spTgt spid="29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2" dur="1000"/>
                                        <p:tgtEl>
                                          <p:spTgt spid="29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nodeType="afterEffect" fill="hold">
                            <p:stCondLst>
                              <p:cond delay="14400"/>
                            </p:stCondLst>
                            <p:childTnLst>
                              <p:par>
                                <p:cTn id="8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6" dur="1000" fill="hold"/>
                                        <p:tgtEl>
                                          <p:spTgt spid="29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1000" fill="hold"/>
                                        <p:tgtEl>
                                          <p:spTgt spid="29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8" dur="1000"/>
                                        <p:tgtEl>
                                          <p:spTgt spid="29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8" name="PlaceHolder 1"/>
          <p:cNvSpPr>
            <a:spLocks noGrp="1"/>
          </p:cNvSpPr>
          <p:nvPr>
            <p:ph/>
          </p:nvPr>
        </p:nvSpPr>
        <p:spPr>
          <a:xfrm>
            <a:off x="539640" y="404280"/>
            <a:ext cx="8136000" cy="489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ДЕТИ – это наш суд на миру, наше зеркало, в котором совесть, ум, честность, опрятность нашу – все наголо видат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Дети могут нами закрыться, мы ими никогд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                                             </a:t>
            </a: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В.П.Астафье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849" name="Picture 4" descr="j0284916"/>
          <p:cNvPicPr/>
          <p:nvPr/>
        </p:nvPicPr>
        <p:blipFill>
          <a:blip r:embed="rId1"/>
          <a:stretch/>
        </p:blipFill>
        <p:spPr>
          <a:xfrm>
            <a:off x="1187280" y="3429000"/>
            <a:ext cx="3657600" cy="2419200"/>
          </a:xfrm>
          <a:prstGeom prst="rect">
            <a:avLst/>
          </a:prstGeom>
          <a:ln w="0">
            <a:noFill/>
          </a:ln>
        </p:spPr>
      </p:pic>
      <p:sp>
        <p:nvSpPr>
          <p:cNvPr id="28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p:transition spd="slow">
    <p:wheel spokes="1"/>
    <p:sndAc>
      <p:stSnd>
        <p:snd r:embed="rId2" name="chimes.wav"/>
      </p:stSnd>
    </p:sndAc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28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28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28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28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28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28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28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28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2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6" name="PlaceHolder 1"/>
          <p:cNvSpPr>
            <a:spLocks noGrp="1"/>
          </p:cNvSpPr>
          <p:nvPr>
            <p:ph type="title"/>
          </p:nvPr>
        </p:nvSpPr>
        <p:spPr>
          <a:xfrm>
            <a:off x="610920" y="260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0000"/>
                </a:solidFill>
                <a:latin typeface="Verdana"/>
              </a:rPr>
              <a:t>Игромания и компьютерная зависимость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7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дной из проблем современного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нформационного обществ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является новая для педагогик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облема – </a:t>
            </a:r>
            <a:r>
              <a:rPr b="0" i="1" lang="ru-RU" sz="2000" spc="-1" strike="noStrike">
                <a:solidFill>
                  <a:srgbClr val="cc0000"/>
                </a:solidFill>
                <a:latin typeface="Verdana"/>
              </a:rPr>
              <a:t>игромания и  компью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c0000"/>
                </a:solidFill>
                <a:latin typeface="Verdana"/>
              </a:rPr>
              <a:t>терная зависимость.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Это увлечени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омьютерными играми, интернет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ехнологиями, игровыми автоматами, азартными играм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громания – увлечение или болезнь? Психиатры утвер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дают – игромания лечится, но бороться с зависимостью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ужно на ранней стадии.Болезнь начинается с привязан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ости к компьютерным играм, которая превращается в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аталогию.Игра – это взаимодействие. И не важно с кем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 людьми, компьютером или же с самим собой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18" name="Picture 6" descr="image016"/>
          <p:cNvPicPr/>
          <p:nvPr/>
        </p:nvPicPr>
        <p:blipFill>
          <a:blip r:embed="rId2"/>
          <a:stretch/>
        </p:blipFill>
        <p:spPr>
          <a:xfrm>
            <a:off x="5435640" y="1052640"/>
            <a:ext cx="3238560" cy="2523960"/>
          </a:xfrm>
          <a:prstGeom prst="rect">
            <a:avLst/>
          </a:prstGeom>
          <a:ln w="0">
            <a:noFill/>
          </a:ln>
        </p:spPr>
      </p:pic>
      <p:sp>
        <p:nvSpPr>
          <p:cNvPr id="29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p:transition spd="slow">
    <p:split dir="in" orient="horz"/>
    <p:sndAc>
      <p:stSnd>
        <p:snd r:embed="rId3" name="chimes.wav"/>
      </p:stSnd>
    </p:sndAc>
  </p:transition>
  <p:timing>
    <p:tnLst>
      <p:par>
        <p:cTn id="859" dur="indefinite" restart="never" nodeType="tmRoot">
          <p:childTnLst>
            <p:seq>
              <p:cTn id="860" dur="indefinite" nodeType="mainSeq">
                <p:childTnLst>
                  <p:par>
                    <p:cTn id="861" nodeType="clickEffect" fill="hold">
                      <p:stCondLst>
                        <p:cond delay="0"/>
                      </p:stCondLst>
                      <p:childTnLst>
                        <p:par>
                          <p:cTn id="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5" dur="1000"/>
                                        <p:tgtEl>
                                          <p:spTgt spid="2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6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1000"/>
                                        <p:tgtEl>
                                          <p:spTgt spid="29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0" dur="1000" fill="hold"/>
                                        <p:tgtEl>
                                          <p:spTgt spid="29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1000" fill="hold"/>
                                        <p:tgtEl>
                                          <p:spTgt spid="29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873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5" dur="1000"/>
                                        <p:tgtEl>
                                          <p:spTgt spid="29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6" dur="1000" fill="hold"/>
                                        <p:tgtEl>
                                          <p:spTgt spid="29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1000" fill="hold"/>
                                        <p:tgtEl>
                                          <p:spTgt spid="29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8" nodeType="afterEffect" fill="hold">
                            <p:stCondLst>
                              <p:cond delay="7700"/>
                            </p:stCondLst>
                            <p:childTnLst>
                              <p:par>
                                <p:cTn id="87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1" dur="1000"/>
                                        <p:tgtEl>
                                          <p:spTgt spid="29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2" dur="1000" fill="hold"/>
                                        <p:tgtEl>
                                          <p:spTgt spid="29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29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4" nodeType="afterEffect" fill="hold">
                            <p:stCondLst>
                              <p:cond delay="11200"/>
                            </p:stCondLst>
                            <p:childTnLst>
                              <p:par>
                                <p:cTn id="88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7" dur="1000"/>
                                        <p:tgtEl>
                                          <p:spTgt spid="29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8" dur="1000" fill="hold"/>
                                        <p:tgtEl>
                                          <p:spTgt spid="29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1000" fill="hold"/>
                                        <p:tgtEl>
                                          <p:spTgt spid="29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nodeType="afterEffect" fill="hold">
                            <p:stCondLst>
                              <p:cond delay="14700"/>
                            </p:stCondLst>
                            <p:childTnLst>
                              <p:par>
                                <p:cTn id="891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3" dur="1000"/>
                                        <p:tgtEl>
                                          <p:spTgt spid="29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4" dur="1000" fill="hold"/>
                                        <p:tgtEl>
                                          <p:spTgt spid="29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1000" fill="hold"/>
                                        <p:tgtEl>
                                          <p:spTgt spid="29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6" nodeType="afterEffect" fill="hold">
                            <p:stCondLst>
                              <p:cond delay="18600"/>
                            </p:stCondLst>
                            <p:childTnLst>
                              <p:par>
                                <p:cTn id="89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9" dur="1000"/>
                                        <p:tgtEl>
                                          <p:spTgt spid="29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0" dur="1000" fill="hold"/>
                                        <p:tgtEl>
                                          <p:spTgt spid="29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1000" fill="hold"/>
                                        <p:tgtEl>
                                          <p:spTgt spid="29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nodeType="afterEffect" fill="hold">
                            <p:stCondLst>
                              <p:cond delay="22300"/>
                            </p:stCondLst>
                            <p:childTnLst>
                              <p:par>
                                <p:cTn id="903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5" dur="1000"/>
                                        <p:tgtEl>
                                          <p:spTgt spid="29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6" dur="1000" fill="hold"/>
                                        <p:tgtEl>
                                          <p:spTgt spid="29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1000" fill="hold"/>
                                        <p:tgtEl>
                                          <p:spTgt spid="29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8" nodeType="afterEffect" fill="hold">
                            <p:stCondLst>
                              <p:cond delay="28000"/>
                            </p:stCondLst>
                            <p:childTnLst>
                              <p:par>
                                <p:cTn id="90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1" dur="1000"/>
                                        <p:tgtEl>
                                          <p:spTgt spid="29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2" dur="1000" fill="hold"/>
                                        <p:tgtEl>
                                          <p:spTgt spid="29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1000" fill="hold"/>
                                        <p:tgtEl>
                                          <p:spTgt spid="29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4" nodeType="afterEffect" fill="hold">
                            <p:stCondLst>
                              <p:cond delay="33400"/>
                            </p:stCondLst>
                            <p:childTnLst>
                              <p:par>
                                <p:cTn id="91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7" dur="1000"/>
                                        <p:tgtEl>
                                          <p:spTgt spid="29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8" dur="1000" fill="hold"/>
                                        <p:tgtEl>
                                          <p:spTgt spid="29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1000" fill="hold"/>
                                        <p:tgtEl>
                                          <p:spTgt spid="29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0" nodeType="afterEffect" fill="hold">
                            <p:stCondLst>
                              <p:cond delay="38900"/>
                            </p:stCondLst>
                            <p:childTnLst>
                              <p:par>
                                <p:cTn id="921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3" dur="1000"/>
                                        <p:tgtEl>
                                          <p:spTgt spid="29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4" dur="1000" fill="hold"/>
                                        <p:tgtEl>
                                          <p:spTgt spid="29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1000" fill="hold"/>
                                        <p:tgtEl>
                                          <p:spTgt spid="29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6" nodeType="afterEffect" fill="hold">
                            <p:stCondLst>
                              <p:cond delay="44500"/>
                            </p:stCondLst>
                            <p:childTnLst>
                              <p:par>
                                <p:cTn id="92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9" dur="1000"/>
                                        <p:tgtEl>
                                          <p:spTgt spid="29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0" dur="1000" fill="hold"/>
                                        <p:tgtEl>
                                          <p:spTgt spid="29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1000" fill="hold"/>
                                        <p:tgtEl>
                                          <p:spTgt spid="29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nodeType="afterEffect" fill="hold">
                            <p:stCondLst>
                              <p:cond delay="49800"/>
                            </p:stCondLst>
                            <p:childTnLst>
                              <p:par>
                                <p:cTn id="933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5" dur="1000"/>
                                        <p:tgtEl>
                                          <p:spTgt spid="29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6" dur="1000" fill="hold"/>
                                        <p:tgtEl>
                                          <p:spTgt spid="29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1000" fill="hold"/>
                                        <p:tgtEl>
                                          <p:spTgt spid="29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8" nodeType="afterEffect" fill="hold">
                            <p:stCondLst>
                              <p:cond delay="55300"/>
                            </p:stCondLst>
                            <p:childTnLst>
                              <p:par>
                                <p:cTn id="93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1" dur="1000"/>
                                        <p:tgtEl>
                                          <p:spTgt spid="29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2" dur="1000" fill="hold"/>
                                        <p:tgtEl>
                                          <p:spTgt spid="29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1000" fill="hold"/>
                                        <p:tgtEl>
                                          <p:spTgt spid="29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0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69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Verdana"/>
              </a:rPr>
              <a:t>Проблемы компьютерной зависимост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21" name="Picture 9" descr="image018"/>
          <p:cNvPicPr/>
          <p:nvPr/>
        </p:nvPicPr>
        <p:blipFill>
          <a:blip r:embed="rId2"/>
          <a:stretch/>
        </p:blipFill>
        <p:spPr>
          <a:xfrm>
            <a:off x="468360" y="907920"/>
            <a:ext cx="8064360" cy="5183280"/>
          </a:xfrm>
          <a:prstGeom prst="rect">
            <a:avLst/>
          </a:prstGeom>
          <a:ln w="0">
            <a:noFill/>
          </a:ln>
        </p:spPr>
      </p:pic>
      <p:sp>
        <p:nvSpPr>
          <p:cNvPr id="2922" name="Text Box 10"/>
          <p:cNvSpPr/>
          <p:nvPr/>
        </p:nvSpPr>
        <p:spPr>
          <a:xfrm>
            <a:off x="395280" y="981000"/>
            <a:ext cx="8748720" cy="51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Критерии, определяющие начало компьютерной </a:t>
            </a:r>
            <a:endParaRPr b="0" i="1" lang="en-US" sz="2000" spc="-1" strike="noStrike">
              <a:solidFill>
                <a:srgbClr val="ffffcc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зависимости:</a:t>
            </a:r>
            <a:endParaRPr b="0" i="1" lang="en-US" sz="2000" spc="-1" strike="noStrike">
              <a:solidFill>
                <a:srgbClr val="ffffcc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беспричинные частые и резкие перепады настроения       от подавленного до эйфорически-приподнятого;</a:t>
            </a:r>
            <a:endParaRPr b="0" i="1" lang="en-US" sz="2000" spc="-1" strike="noStrike">
              <a:solidFill>
                <a:srgbClr val="ffffcc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-болезненная и неадекватная реакция на критику;</a:t>
            </a:r>
            <a:endParaRPr b="0" i="1" lang="en-US" sz="2000" spc="-1" strike="noStrike">
              <a:solidFill>
                <a:srgbClr val="ffffcc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-нарастающая оппозиционность к родителям, друзьям, значительное эмоциональное отчуждение;</a:t>
            </a:r>
            <a:endParaRPr b="0" i="1" lang="en-US" sz="2000" spc="-1" strike="noStrike">
              <a:solidFill>
                <a:srgbClr val="ffffcc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-ухудшение памяти, внимания;</a:t>
            </a:r>
            <a:endParaRPr b="0" i="1" lang="en-US" sz="2000" spc="-1" strike="noStrike">
              <a:solidFill>
                <a:srgbClr val="ffffcc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-снижение успеваемости, прогулы занятий;</a:t>
            </a:r>
            <a:endParaRPr b="0" i="1" lang="en-US" sz="2000" spc="-1" strike="noStrike">
              <a:solidFill>
                <a:srgbClr val="ffffcc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-уход от участия в делах, которые ранее были</a:t>
            </a:r>
            <a:endParaRPr b="0" i="1" lang="en-US" sz="2000" spc="-1" strike="noStrike">
              <a:solidFill>
                <a:srgbClr val="ffffcc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интересны, отказ от хобби, любимого дела;</a:t>
            </a:r>
            <a:endParaRPr b="0" i="1" lang="en-US" sz="2000" spc="-1" strike="noStrike">
              <a:solidFill>
                <a:srgbClr val="ffffcc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-пропажа из дома ценностей или денег, проявление</a:t>
            </a:r>
            <a:endParaRPr b="0" i="1" lang="en-US" sz="2000" spc="-1" strike="noStrike">
              <a:solidFill>
                <a:srgbClr val="ffffcc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чужих вещей, денежные долги ребенка,</a:t>
            </a:r>
            <a:endParaRPr b="0" i="1" lang="en-US" sz="2000" spc="-1" strike="noStrike">
              <a:solidFill>
                <a:srgbClr val="ffffcc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-появляющаяся изворотливость, лживость;</a:t>
            </a:r>
            <a:endParaRPr b="0" i="1" lang="en-US" sz="2000" spc="-1" strike="noStrike">
              <a:solidFill>
                <a:srgbClr val="ffffcc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-неопрятность, неряшливость не характерные ранее;</a:t>
            </a:r>
            <a:endParaRPr b="0" i="1" lang="en-US" sz="2000" spc="-1" strike="noStrike">
              <a:solidFill>
                <a:srgbClr val="ffffcc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-приступы депрессии, страха, тревоги.</a:t>
            </a:r>
            <a:endParaRPr b="0" i="1" lang="en-US" sz="2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9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p:transition spd="slow">
    <p:split dir="out" orient="horz"/>
    <p:sndAc>
      <p:stSnd>
        <p:snd r:embed="rId3" name="chimes.wav"/>
      </p:stSnd>
    </p:sndAc>
  </p:transition>
  <p:timing>
    <p:tnLst>
      <p:par>
        <p:cTn id="944" dur="indefinite" restart="never" nodeType="tmRoot">
          <p:childTnLst>
            <p:seq>
              <p:cTn id="945" dur="indefinite" nodeType="mainSeq">
                <p:childTnLst>
                  <p:par>
                    <p:cTn id="946" nodeType="clickEffect" fill="hold">
                      <p:stCondLst>
                        <p:cond delay="0"/>
                      </p:stCondLst>
                      <p:childTnLst>
                        <p:par>
                          <p:cTn id="9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2000"/>
                                        <p:tgtEl>
                                          <p:spTgt spid="29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1" dur="2000" fill="hold"/>
                                        <p:tgtEl>
                                          <p:spTgt spid="29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2000" fill="hold"/>
                                        <p:tgtEl>
                                          <p:spTgt spid="29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95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6" dur="5000" fill="hold"/>
                                        <p:tgtEl>
                                          <p:spTgt spid="29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7" dur="5000" fill="hold"/>
                                        <p:tgtEl>
                                          <p:spTgt spid="29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4" name="PlaceHolder 1"/>
          <p:cNvSpPr>
            <a:spLocks noGrp="1"/>
          </p:cNvSpPr>
          <p:nvPr>
            <p:ph type="title"/>
          </p:nvPr>
        </p:nvSpPr>
        <p:spPr>
          <a:xfrm>
            <a:off x="574200" y="404280"/>
            <a:ext cx="80010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Verdana"/>
              </a:rPr>
              <a:t>Памятка для родителей по использованию компьютера ребенко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ля того, чтобы родители могли контролировать использование ребенком компьютера, они сами должны хотя бы на элементарном уровне уметь им пользоватьс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ебенок не должен играть в компьютерные игры перед сном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Через каждые 20-30 минут работы на компьютере необходимо делать переры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ебенок не должен работать на компьютере более 1,5-2 часов в сутк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Если ребенок посещает компьютерный клуб, родители должны знать, в каком клубе (зале) он бывает и с кем там общаетс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p:transition spd="slow">
    <p:dissolve/>
    <p:sndAc>
      <p:stSnd>
        <p:snd r:embed="rId7" name="chimes.wav"/>
      </p:stSnd>
    </p:sndAc>
  </p:transition>
  <p:timing>
    <p:tnLst>
      <p:par>
        <p:cTn id="958" dur="indefinite" restart="never" nodeType="tmRoot">
          <p:childTnLst>
            <p:seq>
              <p:cTn id="959" dur="indefinite" nodeType="mainSeq">
                <p:childTnLst>
                  <p:par>
                    <p:cTn id="960" nodeType="clickEffect" fill="hold">
                      <p:stCondLst>
                        <p:cond delay="0"/>
                      </p:stCondLst>
                      <p:childTnLst>
                        <p:par>
                          <p:cTn id="9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4" dur="1000" fill="hold"/>
                                        <p:tgtEl>
                                          <p:spTgt spid="29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1000" fill="hold"/>
                                        <p:tgtEl>
                                          <p:spTgt spid="29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6" dur="1000"/>
                                        <p:tgtEl>
                                          <p:spTgt spid="2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68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3000" fill="hold"/>
                                        <p:tgtEl>
                                          <p:spTgt spid="29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3000" fill="hold"/>
                                        <p:tgtEl>
                                          <p:spTgt spid="29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73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5" dur="3000" fill="hold"/>
                                        <p:tgtEl>
                                          <p:spTgt spid="29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6" dur="3000" fill="hold"/>
                                        <p:tgtEl>
                                          <p:spTgt spid="29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978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0" dur="3000" fill="hold"/>
                                        <p:tgtEl>
                                          <p:spTgt spid="29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1" dur="3000" fill="hold"/>
                                        <p:tgtEl>
                                          <p:spTgt spid="29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983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5" dur="3000" fill="hold"/>
                                        <p:tgtEl>
                                          <p:spTgt spid="29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6" dur="3000" fill="hold"/>
                                        <p:tgtEl>
                                          <p:spTgt spid="29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7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988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3000" fill="hold"/>
                                        <p:tgtEl>
                                          <p:spTgt spid="29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3000" fill="hold"/>
                                        <p:tgtEl>
                                          <p:spTgt spid="29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7" name="PlaceHolder 1"/>
          <p:cNvSpPr>
            <a:spLocks noGrp="1"/>
          </p:cNvSpPr>
          <p:nvPr>
            <p:ph type="title"/>
          </p:nvPr>
        </p:nvSpPr>
        <p:spPr>
          <a:xfrm>
            <a:off x="899640" y="333360"/>
            <a:ext cx="7993080" cy="1006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             </a:t>
            </a:r>
            <a:r>
              <a:rPr b="0" i="1" lang="ru-RU" sz="2000" spc="-1" strike="noStrike">
                <a:solidFill>
                  <a:srgbClr val="cc0000"/>
                </a:solidFill>
                <a:latin typeface="Verdana"/>
              </a:rPr>
              <a:t>Компьютер-мясорубка для информации. </a:t>
            </a:r>
            <a:br>
              <a:rPr sz="2000"/>
            </a:br>
            <a:r>
              <a:rPr b="0" i="1" lang="ru-RU" sz="2000" spc="-1" strike="noStrike">
                <a:solidFill>
                  <a:srgbClr val="cc0000"/>
                </a:solidFill>
                <a:latin typeface="Verdana"/>
              </a:rPr>
              <a:t>                      Компьютер-это резонатор того интеллекта,</a:t>
            </a:r>
            <a:br>
              <a:rPr sz="2000"/>
            </a:br>
            <a:r>
              <a:rPr b="0" i="1" lang="ru-RU" sz="2000" spc="-1" strike="noStrike">
                <a:solidFill>
                  <a:srgbClr val="cc0000"/>
                </a:solidFill>
                <a:latin typeface="Verdana"/>
              </a:rPr>
              <a:t>                      с которым человек к нему обращаетс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8" name="PlaceHolder 2"/>
          <p:cNvSpPr>
            <a:spLocks noGrp="1"/>
          </p:cNvSpPr>
          <p:nvPr>
            <p:ph/>
          </p:nvPr>
        </p:nvSpPr>
        <p:spPr>
          <a:xfrm>
            <a:off x="755280" y="1700280"/>
            <a:ext cx="800100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Verdana"/>
              </a:rPr>
              <a:t>                                               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одители должны контролировать приобретение ребенком компьютерных дисков с играми, чтобы они не причинили вреда детскому здоровью и психик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Если ребенок использует компьютер безответственно, необходимо ввести пароль, чтобы сделать невозможным доступ без разрешения родителей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нтролируйте какие именно Интернет - сайты посещает ваш ребенок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29" name="Picture 4" descr="j0195384"/>
          <p:cNvPicPr/>
          <p:nvPr/>
        </p:nvPicPr>
        <p:blipFill>
          <a:blip r:embed="rId5"/>
          <a:stretch/>
        </p:blipFill>
        <p:spPr>
          <a:xfrm>
            <a:off x="611280" y="333360"/>
            <a:ext cx="2144520" cy="2190600"/>
          </a:xfrm>
          <a:prstGeom prst="rect">
            <a:avLst/>
          </a:prstGeom>
          <a:ln w="0">
            <a:noFill/>
          </a:ln>
        </p:spPr>
      </p:pic>
      <p:sp>
        <p:nvSpPr>
          <p:cNvPr id="2930" name="Text Box 5"/>
          <p:cNvSpPr/>
          <p:nvPr/>
        </p:nvSpPr>
        <p:spPr>
          <a:xfrm>
            <a:off x="6732720" y="1268280"/>
            <a:ext cx="1800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c0000"/>
                </a:solidFill>
                <a:latin typeface="Verdana"/>
              </a:rPr>
              <a:t>В.Г.Кротов</a:t>
            </a:r>
            <a:endParaRPr b="0" i="1" lang="en-US" sz="2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9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p:transition spd="slow">
    <p:split dir="in" orient="horz"/>
    <p:sndAc>
      <p:stSnd>
        <p:snd r:embed="rId6" name="chimes.wav"/>
      </p:stSnd>
    </p:sndAc>
  </p:transition>
  <p:timing>
    <p:tnLst>
      <p:par>
        <p:cTn id="992" dur="indefinite" restart="never" nodeType="tmRoot">
          <p:childTnLst>
            <p:seq>
              <p:cTn id="993" dur="indefinite" nodeType="mainSeq">
                <p:childTnLst>
                  <p:par>
                    <p:cTn id="994" nodeType="clickEffect" fill="hold">
                      <p:stCondLst>
                        <p:cond delay="0"/>
                      </p:stCondLst>
                      <p:childTnLst>
                        <p:par>
                          <p:cTn id="9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3000" fill="hold"/>
                                        <p:tgtEl>
                                          <p:spTgt spid="29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3000" fill="hold"/>
                                        <p:tgtEl>
                                          <p:spTgt spid="29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01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3" dur="3000" fill="hold"/>
                                        <p:tgtEl>
                                          <p:spTgt spid="29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4" dur="3000" fill="hold"/>
                                        <p:tgtEl>
                                          <p:spTgt spid="29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006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3000" fill="hold"/>
                                        <p:tgtEl>
                                          <p:spTgt spid="29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3000" fill="hold"/>
                                        <p:tgtEl>
                                          <p:spTgt spid="29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011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3" dur="3000" fill="hold"/>
                                        <p:tgtEl>
                                          <p:spTgt spid="29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4" dur="3000" fill="hold"/>
                                        <p:tgtEl>
                                          <p:spTgt spid="29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5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8" dur="1000" fill="hold"/>
                                        <p:tgtEl>
                                          <p:spTgt spid="29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1000" fill="hold"/>
                                        <p:tgtEl>
                                          <p:spTgt spid="29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0" dur="1000"/>
                                        <p:tgtEl>
                                          <p:spTgt spid="2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1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0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4" dur="1000" fill="hold"/>
                                        <p:tgtEl>
                                          <p:spTgt spid="29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1000" fill="hold"/>
                                        <p:tgtEl>
                                          <p:spTgt spid="29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6" dur="1000"/>
                                        <p:tgtEl>
                                          <p:spTgt spid="2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7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0" dur="1000" fill="hold"/>
                                        <p:tgtEl>
                                          <p:spTgt spid="29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1000" fill="hold"/>
                                        <p:tgtEl>
                                          <p:spTgt spid="29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2" dur="1000"/>
                                        <p:tgtEl>
                                          <p:spTgt spid="2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2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001000" cy="1150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Verdana"/>
              </a:rPr>
              <a:t>Подробно о методах и приемах профилактики компьютерной зависимости можно ознакомиться на Интернет – сайтах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3" name="PlaceHolder 2"/>
          <p:cNvSpPr>
            <a:spLocks noGrp="1"/>
          </p:cNvSpPr>
          <p:nvPr>
            <p:ph/>
          </p:nvPr>
        </p:nvSpPr>
        <p:spPr>
          <a:xfrm>
            <a:off x="539280" y="1844280"/>
            <a:ext cx="8001000" cy="469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93760" indent="-398160">
              <a:spcBef>
                <a:spcPts val="876"/>
              </a:spcBef>
              <a:buClr>
                <a:srgbClr val="ff0000"/>
              </a:buClr>
              <a:buFont typeface="Verdana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http://www.net196.soes.ru/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876"/>
              </a:spcBef>
              <a:buClr>
                <a:srgbClr val="ff0000"/>
              </a:buClr>
              <a:buFont typeface="Verdana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http://www.BestReferat.ru/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876"/>
              </a:spcBef>
              <a:buClr>
                <a:srgbClr val="ff0000"/>
              </a:buClr>
              <a:buFont typeface="Verdana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6699"/>
                </a:solidFill>
                <a:uFillTx/>
                <a:latin typeface="Verdana"/>
                <a:hlinkClick r:id="rId4"/>
              </a:rPr>
              <a:t>http://www.baby.com.ua/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876"/>
              </a:spcBef>
              <a:buClr>
                <a:srgbClr val="ff0000"/>
              </a:buClr>
              <a:buFont typeface="Verdana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6699"/>
                </a:solidFill>
                <a:uFillTx/>
                <a:latin typeface="Verdana"/>
                <a:hlinkClick r:id="rId5"/>
              </a:rPr>
              <a:t>http://www.Le-Mon.r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876"/>
              </a:spcBef>
              <a:buClr>
                <a:srgbClr val="ff0000"/>
              </a:buClr>
              <a:buFont typeface="Verdana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6699"/>
                </a:solidFill>
                <a:uFillTx/>
                <a:latin typeface="Verdana"/>
                <a:hlinkClick r:id="rId6"/>
              </a:rPr>
              <a:t>http://www.add.net.ru/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876"/>
              </a:spcBef>
              <a:buClr>
                <a:srgbClr val="ff0000"/>
              </a:buClr>
              <a:buFont typeface="Verdana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6699"/>
                </a:solidFill>
                <a:uFillTx/>
                <a:latin typeface="Verdana"/>
                <a:hlinkClick r:id="rId7"/>
              </a:rPr>
              <a:t>http://www.med.resourse.r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876"/>
              </a:spcBef>
              <a:buClr>
                <a:srgbClr val="ff0000"/>
              </a:buClr>
              <a:buFont typeface="Verdana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6699"/>
                </a:solidFill>
                <a:uFillTx/>
                <a:latin typeface="Verdana"/>
                <a:hlinkClick r:id="rId8"/>
              </a:rPr>
              <a:t>http://www.DJV.r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876"/>
              </a:spcBef>
              <a:buClr>
                <a:srgbClr val="ff0000"/>
              </a:buClr>
              <a:buFont typeface="Verdana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ttp://www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родитель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.r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0">
              <a:spcBef>
                <a:spcPts val="876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34" name="Picture 4" descr="j0205466"/>
          <p:cNvPicPr/>
          <p:nvPr/>
        </p:nvPicPr>
        <p:blipFill>
          <a:blip r:embed="rId9"/>
          <a:stretch/>
        </p:blipFill>
        <p:spPr>
          <a:xfrm>
            <a:off x="395280" y="2708280"/>
            <a:ext cx="1819440" cy="1809720"/>
          </a:xfrm>
          <a:prstGeom prst="rect">
            <a:avLst/>
          </a:prstGeom>
          <a:ln w="0">
            <a:noFill/>
          </a:ln>
        </p:spPr>
      </p:pic>
      <p:sp>
        <p:nvSpPr>
          <p:cNvPr id="29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p:transition spd="slow">
    <p:split dir="out" orient="horz"/>
    <p:sndAc>
      <p:stSnd>
        <p:snd r:embed="rId10" name="chimes.wav"/>
      </p:stSnd>
    </p:sndAc>
  </p:transition>
  <p:timing>
    <p:tnLst>
      <p:par>
        <p:cTn id="1033" dur="indefinite" restart="never" nodeType="tmRoot">
          <p:childTnLst>
            <p:seq>
              <p:cTn id="1034" dur="indefinite" nodeType="mainSeq">
                <p:childTnLst>
                  <p:par>
                    <p:cTn id="1035" nodeType="clickEffect" fill="hold">
                      <p:stCondLst>
                        <p:cond delay="0"/>
                      </p:stCondLst>
                      <p:childTnLst>
                        <p:par>
                          <p:cTn id="10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39" dur="2000"/>
                                        <p:tgtEl>
                                          <p:spTgt spid="2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3" dur="2000" fill="hold"/>
                                        <p:tgtEl>
                                          <p:spTgt spid="29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2000" fill="hold"/>
                                        <p:tgtEl>
                                          <p:spTgt spid="29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5" dur="2000"/>
                                        <p:tgtEl>
                                          <p:spTgt spid="2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4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9" dur="5000" fill="hold"/>
                                        <p:tgtEl>
                                          <p:spTgt spid="29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0" dur="5000" fill="hold"/>
                                        <p:tgtEl>
                                          <p:spTgt spid="29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1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052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4" dur="5000" fill="hold"/>
                                        <p:tgtEl>
                                          <p:spTgt spid="29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5" dur="5000" fill="hold"/>
                                        <p:tgtEl>
                                          <p:spTgt spid="29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6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5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9" dur="5000" fill="hold"/>
                                        <p:tgtEl>
                                          <p:spTgt spid="29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0" dur="5000" fill="hold"/>
                                        <p:tgtEl>
                                          <p:spTgt spid="29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1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1062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4" dur="5000" fill="hold"/>
                                        <p:tgtEl>
                                          <p:spTgt spid="29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5" dur="5000" fill="hold"/>
                                        <p:tgtEl>
                                          <p:spTgt spid="29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6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106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9" dur="5000" fill="hold"/>
                                        <p:tgtEl>
                                          <p:spTgt spid="29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0" dur="5000" fill="hold"/>
                                        <p:tgtEl>
                                          <p:spTgt spid="29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1" nodeType="afterEffect" fill="hold">
                            <p:stCondLst>
                              <p:cond delay="29000"/>
                            </p:stCondLst>
                            <p:childTnLst>
                              <p:par>
                                <p:cTn id="1072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4" dur="5000" fill="hold"/>
                                        <p:tgtEl>
                                          <p:spTgt spid="29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5" dur="5000" fill="hold"/>
                                        <p:tgtEl>
                                          <p:spTgt spid="29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6" nodeType="afterEffect" fill="hold">
                            <p:stCondLst>
                              <p:cond delay="34000"/>
                            </p:stCondLst>
                            <p:childTnLst>
                              <p:par>
                                <p:cTn id="107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9" dur="5000" fill="hold"/>
                                        <p:tgtEl>
                                          <p:spTgt spid="29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0" dur="5000" fill="hold"/>
                                        <p:tgtEl>
                                          <p:spTgt spid="29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1" nodeType="afterEffect" fill="hold">
                            <p:stCondLst>
                              <p:cond delay="39000"/>
                            </p:stCondLst>
                            <p:childTnLst>
                              <p:par>
                                <p:cTn id="1082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4" dur="5000" fill="hold"/>
                                        <p:tgtEl>
                                          <p:spTgt spid="29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5" dur="5000" fill="hold"/>
                                        <p:tgtEl>
                                          <p:spTgt spid="29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6" name="PlaceHolder 1"/>
          <p:cNvSpPr>
            <a:spLocks noGrp="1"/>
          </p:cNvSpPr>
          <p:nvPr>
            <p:ph type="title"/>
          </p:nvPr>
        </p:nvSpPr>
        <p:spPr>
          <a:xfrm>
            <a:off x="574200" y="260280"/>
            <a:ext cx="8001000" cy="122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Verdana"/>
              </a:rPr>
              <a:t>Как воспитать у ребенка положительные привычки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7" name="PlaceHolder 2"/>
          <p:cNvSpPr>
            <a:spLocks noGrp="1"/>
          </p:cNvSpPr>
          <p:nvPr>
            <p:ph/>
          </p:nvPr>
        </p:nvSpPr>
        <p:spPr>
          <a:xfrm>
            <a:off x="324000" y="1752480"/>
            <a:ext cx="84247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499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Verdana"/>
              </a:rPr>
              <a:t>Первое правило.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еобходимо научить ребенка осознавать, что без неё жизнь превращается в катастрофу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Verdana"/>
              </a:rPr>
              <a:t>Второе правило.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Ребенок должен научиться никогда не давать себе поблажки в проявлении той или иной привычки. Необходимо создать условия для исправления плохих привычек, даже если для этого необходимо проявить твердость и жесткость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Verdana"/>
              </a:rPr>
              <a:t>Третье правило.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Необходимо учить ребенка использовать любую возможность для проявления положительной привычки. Тренировка в  положительных привычках приводит к их закреплению и привычки становятся «второй натурой»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p:transition spd="slow">
    <p:wheel spokes="1"/>
    <p:sndAc>
      <p:stSnd>
        <p:snd r:embed="rId5" name="chimes.wav"/>
      </p:stSnd>
    </p:sndAc>
  </p:transition>
  <p:timing>
    <p:tnLst>
      <p:par>
        <p:cTn id="1086" dur="indefinite" restart="never" nodeType="tmRoot">
          <p:childTnLst>
            <p:seq>
              <p:cTn id="1087" dur="indefinite" nodeType="mainSeq">
                <p:childTnLst>
                  <p:par>
                    <p:cTn id="1088" nodeType="clickEffect" fill="hold">
                      <p:stCondLst>
                        <p:cond delay="0"/>
                      </p:stCondLst>
                      <p:childTnLst>
                        <p:par>
                          <p:cTn id="10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2" dur="1000" fill="hold"/>
                                        <p:tgtEl>
                                          <p:spTgt spid="29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1000" fill="hold"/>
                                        <p:tgtEl>
                                          <p:spTgt spid="29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4" dur="1000"/>
                                        <p:tgtEl>
                                          <p:spTgt spid="2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6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8" dur="5000" fill="hold"/>
                                        <p:tgtEl>
                                          <p:spTgt spid="29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9" dur="5000" fill="hold"/>
                                        <p:tgtEl>
                                          <p:spTgt spid="29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101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3" dur="5000" fill="hold"/>
                                        <p:tgtEl>
                                          <p:spTgt spid="29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4" dur="5000" fill="hold"/>
                                        <p:tgtEl>
                                          <p:spTgt spid="29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5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106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8" dur="5000" fill="hold"/>
                                        <p:tgtEl>
                                          <p:spTgt spid="29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9" dur="5000" fill="hold"/>
                                        <p:tgtEl>
                                          <p:spTgt spid="29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bd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9" name="PlaceHolder 1"/>
          <p:cNvSpPr>
            <a:spLocks noGrp="1"/>
          </p:cNvSpPr>
          <p:nvPr>
            <p:ph type="title"/>
          </p:nvPr>
        </p:nvSpPr>
        <p:spPr>
          <a:xfrm>
            <a:off x="574200" y="-306720"/>
            <a:ext cx="8001000" cy="6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0" name="PlaceHolder 2"/>
          <p:cNvSpPr>
            <a:spLocks noGrp="1"/>
          </p:cNvSpPr>
          <p:nvPr>
            <p:ph/>
          </p:nvPr>
        </p:nvSpPr>
        <p:spPr>
          <a:xfrm>
            <a:off x="566640" y="404640"/>
            <a:ext cx="818208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99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ccff"/>
                </a:solidFill>
                <a:latin typeface="Verdana"/>
              </a:rPr>
              <a:t>Четвертое правило.</a:t>
            </a:r>
            <a:r>
              <a:rPr b="0" lang="ru-RU" sz="2000" spc="-1" strike="noStrike">
                <a:solidFill>
                  <a:srgbClr val="00ccff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ельзя бесконечно говорить обладателю плохой привычки, что он - её хозяин. Бесконечные проповеди и нравоучения озлобляют        учащихся. Многие учащиеся и так прекрасно знают, что у них есть плохие привычки. Надо быть среди учащихся очень авторитетным человеком, чтобы они стали прислушиваться к взрослым и хотели исправить свои привычк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ccff"/>
                </a:solidFill>
                <a:latin typeface="Verdana"/>
              </a:rPr>
              <a:t>Пятое правило.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ля проявления положительных привычек взрослый ( классный руководитель, родитель) должен создавать условия. Если классный руководитель знает, что большинство учащихся курит, необходимо организовать встречи с врачами, людьми, преодолевшими пристрастие к курению, смотреть фильмы, участвовать и организовывать акции и т.п. Однако для того чтобы так строить работу, надо знать, какие вредные привычки стали частью образа жизни ваших детей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p:transition spd="slow">
    <p:wheel spokes="2"/>
    <p:sndAc>
      <p:stSnd>
        <p:snd r:embed="rId3" name="chimes.wav"/>
      </p:stSnd>
    </p:sndAc>
  </p:transition>
  <p:timing>
    <p:tnLst>
      <p:par>
        <p:cTn id="1110" dur="indefinite" restart="never" nodeType="tmRoot">
          <p:childTnLst>
            <p:seq>
              <p:cTn id="1111" dur="indefinite" nodeType="mainSeq">
                <p:childTnLst>
                  <p:par>
                    <p:cTn id="1112" nodeType="clickEffect" fill="hold">
                      <p:stCondLst>
                        <p:cond delay="0"/>
                      </p:stCondLst>
                      <p:childTnLst>
                        <p:par>
                          <p:cTn id="1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15" dur="2000" fill="hold"/>
                                        <p:tgtEl>
                                          <p:spTgt spid="29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18" dur="2000" fill="hold"/>
                                        <p:tgtEl>
                                          <p:spTgt spid="29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0"/>
                </a:solidFill>
                <a:latin typeface="Verdana"/>
              </a:rPr>
              <a:t>        </a:t>
            </a:r>
            <a:r>
              <a:rPr b="1" i="1" lang="ru-RU" sz="4000" spc="-1" strike="noStrike">
                <a:solidFill>
                  <a:srgbClr val="fffff0"/>
                </a:solidFill>
                <a:latin typeface="Verdana"/>
              </a:rPr>
              <a:t>Желаем успехов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3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4960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ffff"/>
                </a:solidFill>
                <a:latin typeface="Verdana"/>
              </a:rPr>
              <a:t>в преодолении вредных привычек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1" i="1" lang="ru-RU" sz="3000" spc="-1" strike="noStrike">
                <a:solidFill>
                  <a:srgbClr val="ffffff"/>
                </a:solidFill>
                <a:latin typeface="Verdana"/>
              </a:rPr>
              <a:t>и зависимостей ( аддикций 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i="1" lang="ru-RU" sz="3000" spc="-1" strike="noStrike">
                <a:solidFill>
                  <a:srgbClr val="ffffff"/>
                </a:solidFill>
                <a:latin typeface="Verdana"/>
              </a:rPr>
              <a:t>и воспитании положительных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ffff"/>
                </a:solidFill>
                <a:latin typeface="Verdana"/>
              </a:rPr>
              <a:t>                    </a:t>
            </a:r>
            <a:r>
              <a:rPr b="1" i="1" lang="ru-RU" sz="3000" spc="-1" strike="noStrike">
                <a:solidFill>
                  <a:srgbClr val="ffffff"/>
                </a:solidFill>
                <a:latin typeface="Verdana"/>
              </a:rPr>
              <a:t>привычек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«Смысл притягивает, комплекс толкает».(Франкл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висимость-это не притяжение, это толкани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олкание изнутри собственным страхом подростка-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трахом перед реальностью.Помогите ребенку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           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збавиться от своих страхов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Verdana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p:transition spd="slow">
    <p:wheel spokes="3"/>
    <p:sndAc>
      <p:stSnd>
        <p:snd r:embed="rId2" name="chimes.wav"/>
      </p:stSnd>
    </p:sndAc>
  </p:transition>
  <p:timing>
    <p:tnLst>
      <p:par>
        <p:cTn id="1119" dur="indefinite" restart="never" nodeType="tmRoot">
          <p:childTnLst>
            <p:seq>
              <p:cTn id="1120" dur="indefinite" nodeType="mainSeq">
                <p:childTnLst>
                  <p:par>
                    <p:cTn id="1121" nodeType="clickEffect" fill="hold">
                      <p:stCondLst>
                        <p:cond delay="0"/>
                      </p:stCondLst>
                      <p:childTnLst>
                        <p:par>
                          <p:cTn id="1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5" dur="1000"/>
                                        <p:tgtEl>
                                          <p:spTgt spid="2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9" dur="1000"/>
                                        <p:tgtEl>
                                          <p:spTgt spid="29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3" dur="1000"/>
                                        <p:tgtEl>
                                          <p:spTgt spid="29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7" dur="1000"/>
                                        <p:tgtEl>
                                          <p:spTgt spid="29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1" dur="1000"/>
                                        <p:tgtEl>
                                          <p:spTgt spid="29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5" dur="1000"/>
                                        <p:tgtEl>
                                          <p:spTgt spid="29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1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9" dur="1000"/>
                                        <p:tgtEl>
                                          <p:spTgt spid="29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1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3" dur="1000"/>
                                        <p:tgtEl>
                                          <p:spTgt spid="29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1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7" dur="1000"/>
                                        <p:tgtEl>
                                          <p:spTgt spid="29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1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1" dur="1000"/>
                                        <p:tgtEl>
                                          <p:spTgt spid="29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5" dur="1000"/>
                                        <p:tgtEl>
                                          <p:spTgt spid="29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6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16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68" dur="2000" fill="hold"/>
                                        <p:tgtEl>
                                          <p:spTgt spid="29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9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17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71" dur="1000" fill="hold"/>
                                        <p:tgtEl>
                                          <p:spTgt spid="29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6600"/>
                </a:solidFill>
                <a:latin typeface="Arial"/>
              </a:rPr>
              <a:t>Что такое привычка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Привычка – это капитал, приобретаемый       в ходе постоянных упражнений. Их надо сначала накопить, а потом жить на проценты с этого капитала.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Джемс,амер.психоло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3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i="1" lang="en-US" sz="14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p:transition spd="med">
    <p:zoom dir="out"/>
    <p:sndAc>
      <p:stSnd>
        <p:snd r:embed="rId1" name="chimes.wav"/>
      </p:stSnd>
    </p:sndAc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2000" fill="hold"/>
                                        <p:tgtEl>
                                          <p:spTgt spid="28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2000" fill="hold"/>
                                        <p:tgtEl>
                                          <p:spTgt spid="28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28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2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28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28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28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29400"/>
                            </p:stCondLst>
                            <p:childTnLst>
                              <p:par>
                                <p:cTn id="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28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6376"/>
            </a:gs>
            <a:gs pos="50000">
              <a:srgbClr val="ffd5ff"/>
            </a:gs>
            <a:gs pos="100000">
              <a:srgbClr val="76637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754380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3300"/>
                </a:solidFill>
                <a:latin typeface="Arial"/>
              </a:rPr>
              <a:t>Начиная разговор о вредных привычках и зависимостях с подростками или родителями, воспользуйтесь следующими известными афоризмами:</a:t>
            </a:r>
            <a:br>
              <a:rPr sz="2400"/>
            </a:br>
            <a:endParaRPr b="1" lang="en-US" sz="2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855" name="PlaceHolder 2"/>
          <p:cNvSpPr>
            <a:spLocks noGrp="1"/>
          </p:cNvSpPr>
          <p:nvPr>
            <p:ph/>
          </p:nvPr>
        </p:nvSpPr>
        <p:spPr>
          <a:xfrm>
            <a:off x="457200" y="2058480"/>
            <a:ext cx="82296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Привычка - вторая натура.»                                            (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Цицерон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c1302"/>
                </a:solidFill>
                <a:latin typeface="Arial"/>
              </a:rPr>
              <a:t>«Руководителем в жизни является не разум, а привычка. Лишь она понуждает ум во всех случаях предполагать, что будущее соответствует прошлому.»                                             </a:t>
            </a:r>
            <a:r>
              <a:rPr b="0" i="1" lang="ru-RU" sz="1800" spc="-1" strike="noStrike">
                <a:solidFill>
                  <a:srgbClr val="7c1302"/>
                </a:solidFill>
                <a:latin typeface="Arial"/>
              </a:rPr>
              <a:t>(Юм Давид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Привычка, эта вторая натура, оказывается для большинства людей их единственной натурой.»                        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Ромен Роллан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c1302"/>
                </a:solidFill>
                <a:latin typeface="Arial"/>
              </a:rPr>
              <a:t>«Привычки превращают обязанности в удовольствия, а удовольствия в обязанности.»                      </a:t>
            </a:r>
            <a:r>
              <a:rPr b="0" i="1" lang="ru-RU" sz="1800" spc="-1" strike="noStrike">
                <a:solidFill>
                  <a:srgbClr val="7c1302"/>
                </a:solidFill>
                <a:latin typeface="Arial"/>
              </a:rPr>
              <a:t>(Э.А.Севрус (Ворохов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Вся вторая половина человеческой жизни составляется обыкновенно из одних только накопленных в первую половину привычек.»                                                           (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Достоевский Ф.М.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i="1" lang="en-US" sz="10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p:transition spd="slow">
    <p:cover dir="l"/>
    <p:sndAc>
      <p:stSnd>
        <p:snd r:embed="rId6" name="chimes.wav"/>
      </p:stSnd>
    </p:sndAc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2000"/>
                                        <p:tgtEl>
                                          <p:spTgt spid="2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0" fill="hold"/>
                                        <p:tgtEl>
                                          <p:spTgt spid="28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0" fill="hold"/>
                                        <p:tgtEl>
                                          <p:spTgt spid="28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7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0" fill="hold"/>
                                        <p:tgtEl>
                                          <p:spTgt spid="28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0" fill="hold"/>
                                        <p:tgtEl>
                                          <p:spTgt spid="28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7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0" fill="hold"/>
                                        <p:tgtEl>
                                          <p:spTgt spid="28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0" fill="hold"/>
                                        <p:tgtEl>
                                          <p:spTgt spid="28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8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0" fill="hold"/>
                                        <p:tgtEl>
                                          <p:spTgt spid="28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0" fill="hold"/>
                                        <p:tgtEl>
                                          <p:spTgt spid="28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8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0" fill="hold"/>
                                        <p:tgtEl>
                                          <p:spTgt spid="28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0" fill="hold"/>
                                        <p:tgtEl>
                                          <p:spTgt spid="28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50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0000"/>
                </a:solidFill>
                <a:latin typeface="Times New Roman"/>
              </a:rPr>
              <a:t>Так ли безобидны детские «безобидные» привычки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клонность ко лжи?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Ябедничество?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лаксивость?                      </a:t>
            </a:r>
            <a:r>
              <a:rPr b="0" i="1" lang="ru-RU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абывчивость?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гры в азартные игры?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есцельное гуляние?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влечение мобильными телефонами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дражание героям фильмов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влечение японскими мультиками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нтерес к эротическим рисункам и фильмам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59" name="Picture 6" descr="j0286034"/>
          <p:cNvPicPr/>
          <p:nvPr/>
        </p:nvPicPr>
        <p:blipFill>
          <a:blip r:embed="rId12"/>
          <a:stretch/>
        </p:blipFill>
        <p:spPr>
          <a:xfrm>
            <a:off x="7451640" y="404640"/>
            <a:ext cx="919080" cy="885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860" name="AutoShape 7"/>
          <p:cNvSpPr/>
          <p:nvPr/>
        </p:nvSpPr>
        <p:spPr>
          <a:xfrm>
            <a:off x="4572000" y="1989000"/>
            <a:ext cx="4332240" cy="215604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c0000"/>
                </a:solidFill>
                <a:latin typeface="Verdana"/>
              </a:rPr>
              <a:t>Если вовремя не обратить</a:t>
            </a:r>
            <a:endParaRPr b="0" i="1" lang="en-US" sz="2400" spc="-1" strike="noStrike">
              <a:solidFill>
                <a:srgbClr val="ffffcc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c0000"/>
                </a:solidFill>
                <a:latin typeface="Verdana"/>
              </a:rPr>
              <a:t>внимания на эти «безобид-</a:t>
            </a:r>
            <a:endParaRPr b="0" i="1" lang="en-US" sz="2400" spc="-1" strike="noStrike">
              <a:solidFill>
                <a:srgbClr val="ffffcc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c0000"/>
                </a:solidFill>
                <a:latin typeface="Verdana"/>
              </a:rPr>
              <a:t>ные» привычки, ребенок </a:t>
            </a:r>
            <a:endParaRPr b="0" i="1" lang="en-US" sz="2400" spc="-1" strike="noStrike">
              <a:solidFill>
                <a:srgbClr val="ffffcc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c0000"/>
                </a:solidFill>
                <a:latin typeface="Verdana"/>
              </a:rPr>
              <a:t>может стать зависимым</a:t>
            </a:r>
            <a:endParaRPr b="0" i="1" lang="en-US" sz="2400" spc="-1" strike="noStrike">
              <a:solidFill>
                <a:srgbClr val="ffffcc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c0000"/>
                </a:solidFill>
                <a:latin typeface="Verdana"/>
              </a:rPr>
              <a:t>и мы получим личность</a:t>
            </a:r>
            <a:endParaRPr b="0" i="1" lang="en-US" sz="2400" spc="-1" strike="noStrike">
              <a:solidFill>
                <a:srgbClr val="ffffcc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c0000"/>
                </a:solidFill>
                <a:latin typeface="Verdana"/>
              </a:rPr>
              <a:t>с девиантным поведением.</a:t>
            </a:r>
            <a:endParaRPr b="0" i="1" lang="en-US" sz="2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8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i="1" lang="en-US" sz="10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p:transition spd="slow">
    <p:cover dir="r"/>
    <p:sndAc>
      <p:stSnd>
        <p:snd r:embed="rId13" name="chimes.wav"/>
      </p:stSnd>
    </p:sndAc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28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28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28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5100"/>
                            </p:stCondLst>
                            <p:childTnLst>
                              <p:par>
                                <p:cTn id="1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3000" fill="hold"/>
                                        <p:tgtEl>
                                          <p:spTgt spid="28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3000" fill="hold"/>
                                        <p:tgtEl>
                                          <p:spTgt spid="28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3000"/>
                                        <p:tgtEl>
                                          <p:spTgt spid="2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3000" fill="hold"/>
                                        <p:tgtEl>
                                          <p:spTgt spid="28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3000" fill="hold"/>
                                        <p:tgtEl>
                                          <p:spTgt spid="28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3000" fill="hold"/>
                                        <p:tgtEl>
                                          <p:spTgt spid="28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3000" fill="hold"/>
                                        <p:tgtEl>
                                          <p:spTgt spid="28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3000" fill="hold"/>
                                        <p:tgtEl>
                                          <p:spTgt spid="28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3000" fill="hold"/>
                                        <p:tgtEl>
                                          <p:spTgt spid="28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3000" fill="hold"/>
                                        <p:tgtEl>
                                          <p:spTgt spid="28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3000" fill="hold"/>
                                        <p:tgtEl>
                                          <p:spTgt spid="28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3000" fill="hold"/>
                                        <p:tgtEl>
                                          <p:spTgt spid="28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3000" fill="hold"/>
                                        <p:tgtEl>
                                          <p:spTgt spid="28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3000" fill="hold"/>
                                        <p:tgtEl>
                                          <p:spTgt spid="28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3000" fill="hold"/>
                                        <p:tgtEl>
                                          <p:spTgt spid="28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3000" fill="hold"/>
                                        <p:tgtEl>
                                          <p:spTgt spid="28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3000" fill="hold"/>
                                        <p:tgtEl>
                                          <p:spTgt spid="28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0" fill="hold"/>
                                        <p:tgtEl>
                                          <p:spTgt spid="28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0" fill="hold"/>
                                        <p:tgtEl>
                                          <p:spTgt spid="28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3000" fill="hold"/>
                                        <p:tgtEl>
                                          <p:spTgt spid="28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3000" fill="hold"/>
                                        <p:tgtEl>
                                          <p:spTgt spid="28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3000" fill="hold"/>
                                        <p:tgtEl>
                                          <p:spTgt spid="28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3000" fill="hold"/>
                                        <p:tgtEl>
                                          <p:spTgt spid="28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3000" fill="hold"/>
                                        <p:tgtEl>
                                          <p:spTgt spid="28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3000" fill="hold"/>
                                        <p:tgtEl>
                                          <p:spTgt spid="28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3000"/>
                                        <p:tgtEl>
                                          <p:spTgt spid="2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Аддиктивное поведение -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склонность  подростка  к приобретению вредных привыче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пагубная склонность к чему-либ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cc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6666cc"/>
                </a:solidFill>
                <a:latin typeface="Arial"/>
              </a:rPr>
              <a:t>Суть аддиктивного поведения заключается 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cc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6666cc"/>
                </a:solidFill>
                <a:latin typeface="Arial"/>
              </a:rPr>
              <a:t>стремлении изменить своё психическое состоя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cc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6666cc"/>
                </a:solidFill>
                <a:latin typeface="Arial"/>
              </a:rPr>
              <a:t>посредством приёма некоторых веществ или фиксацией внимания на определенных предмет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cc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6666cc"/>
                </a:solidFill>
                <a:latin typeface="Arial"/>
              </a:rPr>
              <a:t>или видах деятельн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p:transition spd="slow">
    <p:dissolve/>
    <p:sndAc>
      <p:stSnd>
        <p:snd r:embed="rId1" name="chimes.wav"/>
      </p:stSnd>
    </p:sndAc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0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3000" fill="hold"/>
                                        <p:tgtEl>
                                          <p:spTgt spid="28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3000" fill="hold"/>
                                        <p:tgtEl>
                                          <p:spTgt spid="28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3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28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28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8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8700"/>
                            </p:stCondLst>
                            <p:childTnLst>
                              <p:par>
                                <p:cTn id="18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28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28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8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3000" fill="hold"/>
                                        <p:tgtEl>
                                          <p:spTgt spid="28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3000" fill="hold"/>
                                        <p:tgtEl>
                                          <p:spTgt spid="28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2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3000" fill="hold"/>
                                        <p:tgtEl>
                                          <p:spTgt spid="28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3000" fill="hold"/>
                                        <p:tgtEl>
                                          <p:spTgt spid="28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2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3000" fill="hold"/>
                                        <p:tgtEl>
                                          <p:spTgt spid="28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3000" fill="hold"/>
                                        <p:tgtEl>
                                          <p:spTgt spid="28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21500"/>
                            </p:stCondLst>
                            <p:childTnLst>
                              <p:par>
                                <p:cTn id="2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3000" fill="hold"/>
                                        <p:tgtEl>
                                          <p:spTgt spid="28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3000" fill="hold"/>
                                        <p:tgtEl>
                                          <p:spTgt spid="28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cc00"/>
                </a:solidFill>
                <a:latin typeface="Garamond"/>
              </a:rPr>
              <a:t>Что происходит с психикой человека, склонного к аддикции?</a:t>
            </a:r>
            <a:endParaRPr b="0" lang="en-US" sz="36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2866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Процесс употребления ПАВ, привязанность к предмету или действию сопровождается развитием интенсивных эмоций, принимает такие размеры, что начинает управлять жизнью человека, лишает его воли к противодействию аддикци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7" name="Picture 10" descr="j0302953"/>
          <p:cNvPicPr/>
          <p:nvPr/>
        </p:nvPicPr>
        <p:blipFill>
          <a:blip r:embed="rId1"/>
          <a:stretch/>
        </p:blipFill>
        <p:spPr>
          <a:xfrm>
            <a:off x="7093080" y="836640"/>
            <a:ext cx="1263600" cy="1770120"/>
          </a:xfrm>
          <a:prstGeom prst="rect">
            <a:avLst/>
          </a:prstGeom>
          <a:ln w="0">
            <a:noFill/>
          </a:ln>
        </p:spPr>
      </p:pic>
      <p:sp>
        <p:nvSpPr>
          <p:cNvPr id="28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p:transition spd="slow">
    <p:blinds dir="vert"/>
    <p:sndAc>
      <p:stSnd>
        <p:snd r:embed="rId2" name="chimes.wav"/>
      </p:stSnd>
    </p:sndAc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0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0" dur="500"/>
                                        <p:tgtEl>
                                          <p:spTgt spid="2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3000" fill="hold"/>
                                        <p:tgtEl>
                                          <p:spTgt spid="28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3000" fill="hold"/>
                                        <p:tgtEl>
                                          <p:spTgt spid="28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3000"/>
                                        <p:tgtEl>
                                          <p:spTgt spid="2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28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28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28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28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9" name="PlaceHolder 1"/>
          <p:cNvSpPr>
            <a:spLocks noGrp="1"/>
          </p:cNvSpPr>
          <p:nvPr>
            <p:ph type="title"/>
          </p:nvPr>
        </p:nvSpPr>
        <p:spPr>
          <a:xfrm>
            <a:off x="900000" y="333360"/>
            <a:ext cx="794088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cc00"/>
                </a:solidFill>
                <a:latin typeface="Garamond"/>
              </a:rPr>
              <a:t>Кто склонен к аддикциям?</a:t>
            </a:r>
            <a:br>
              <a:rPr sz="4800"/>
            </a:br>
            <a:endParaRPr b="0" lang="en-US" sz="48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28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Люди с низкой переносимостью психологических затруднений, плохо адаптирующиеся к быстрой смене жизненных обстоятельств, стремящиеся в связи с этим быстрее и проще достичь психофизиологического комфорт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p:transition spd="slow">
    <p:blinds dir="vert"/>
    <p:sndAc>
      <p:stSnd>
        <p:snd r:embed="rId1" name="chimes.wav"/>
      </p:stSnd>
    </p:sndAc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0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9" dur="1000"/>
                                        <p:tgtEl>
                                          <p:spTgt spid="2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1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28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8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28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cc00"/>
                </a:solidFill>
                <a:latin typeface="Garamond"/>
              </a:rPr>
              <a:t>С чем связано аддиктивное        поведение?</a:t>
            </a:r>
            <a:endParaRPr b="0" lang="en-US" sz="40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2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 желанием человека уйти из реальной жизни путем изменения своего сознания. Аддикция становится средством бегства от проблем. Для самозащиты, люди с аддиктивным поведением используют механизм, называемый в психологии «мышлением по желанию», т.е. они считают реальным лишь то, что соответствует их желаниям. В итоге нарушаются межличностные отношения, человек отчуждается от обще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p:transition spd="slow">
    <p:blinds dir="vert"/>
    <p:sndAc>
      <p:stSnd>
        <p:snd r:embed="rId1" name="chimes.wav"/>
      </p:stSnd>
    </p:sndAc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0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2" dur="1000"/>
                                        <p:tgtEl>
                                          <p:spTgt spid="2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28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8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8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0T13:06:43Z</dcterms:created>
  <dc:creator>Сарахман И.Д.</dc:creator>
  <dc:description/>
  <dc:language>en-US</dc:language>
  <cp:lastModifiedBy>LEGION</cp:lastModifiedBy>
  <dcterms:modified xsi:type="dcterms:W3CDTF">2015-05-12T09:04:39Z</dcterms:modified>
  <cp:revision>52</cp:revision>
  <dc:subject/>
  <dc:title>Аддиктивное поведение учащихс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