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media/image28.wmf" ContentType="image/x-wmf"/>
  <Override PartName="/ppt/media/image30.png" ContentType="image/png"/>
  <Override PartName="/ppt/media/image27.wmf" ContentType="image/x-wmf"/>
  <Override PartName="/ppt/media/image24.jpeg" ContentType="image/jpeg"/>
  <Override PartName="/ppt/media/image22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6.wmf" ContentType="image/x-wmf"/>
  <Override PartName="/ppt/media/image19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31.png" ContentType="image/png"/>
  <Override PartName="/ppt/media/image1.png" ContentType="image/png"/>
  <Override PartName="/ppt/media/image13.jpeg" ContentType="image/jpeg"/>
  <Override PartName="/ppt/media/image14.jpeg" ContentType="image/jpeg"/>
  <Override PartName="/ppt/media/image20.jpeg" ContentType="image/jpeg"/>
  <Override PartName="/ppt/media/chimes.wav" ContentType="audio/x-wav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</p:sldMasterIdLst>
  <p:notesMasterIdLst>
    <p:notesMasterId r:id="rId58"/>
  </p:notesMasterIdLst>
  <p:sldIdLst>
    <p:sldId id="256" r:id="rId59"/>
    <p:sldId id="257" r:id="rId60"/>
    <p:sldId id="258" r:id="rId61"/>
    <p:sldId id="259" r:id="rId62"/>
    <p:sldId id="260" r:id="rId63"/>
    <p:sldId id="261" r:id="rId64"/>
    <p:sldId id="262" r:id="rId65"/>
    <p:sldId id="263" r:id="rId66"/>
    <p:sldId id="264" r:id="rId67"/>
    <p:sldId id="265" r:id="rId68"/>
    <p:sldId id="266" r:id="rId69"/>
    <p:sldId id="267" r:id="rId70"/>
    <p:sldId id="268" r:id="rId71"/>
    <p:sldId id="269" r:id="rId72"/>
    <p:sldId id="270" r:id="rId73"/>
    <p:sldId id="271" r:id="rId74"/>
    <p:sldId id="272" r:id="rId75"/>
    <p:sldId id="273" r:id="rId76"/>
    <p:sldId id="274" r:id="rId77"/>
    <p:sldId id="275" r:id="rId78"/>
    <p:sldId id="276" r:id="rId79"/>
    <p:sldId id="277" r:id="rId80"/>
    <p:sldId id="278" r:id="rId81"/>
    <p:sldId id="279" r:id="rId82"/>
    <p:sldId id="280" r:id="rId83"/>
    <p:sldId id="281" r:id="rId84"/>
    <p:sldId id="282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notesMaster" Target="notesMasters/notesMaster1.xml"/><Relationship Id="rId59" Type="http://schemas.openxmlformats.org/officeDocument/2006/relationships/slide" Target="slides/slide1.xml"/><Relationship Id="rId60" Type="http://schemas.openxmlformats.org/officeDocument/2006/relationships/slide" Target="slides/slide2.xml"/><Relationship Id="rId61" Type="http://schemas.openxmlformats.org/officeDocument/2006/relationships/slide" Target="slides/slide3.xml"/><Relationship Id="rId62" Type="http://schemas.openxmlformats.org/officeDocument/2006/relationships/slide" Target="slides/slide4.xml"/><Relationship Id="rId63" Type="http://schemas.openxmlformats.org/officeDocument/2006/relationships/slide" Target="slides/slide5.xml"/><Relationship Id="rId64" Type="http://schemas.openxmlformats.org/officeDocument/2006/relationships/slide" Target="slides/slide6.xml"/><Relationship Id="rId65" Type="http://schemas.openxmlformats.org/officeDocument/2006/relationships/slide" Target="slides/slide7.xml"/><Relationship Id="rId66" Type="http://schemas.openxmlformats.org/officeDocument/2006/relationships/slide" Target="slides/slide8.xml"/><Relationship Id="rId67" Type="http://schemas.openxmlformats.org/officeDocument/2006/relationships/slide" Target="slides/slide9.xml"/><Relationship Id="rId68" Type="http://schemas.openxmlformats.org/officeDocument/2006/relationships/slide" Target="slides/slide10.xml"/><Relationship Id="rId69" Type="http://schemas.openxmlformats.org/officeDocument/2006/relationships/slide" Target="slides/slide11.xml"/><Relationship Id="rId70" Type="http://schemas.openxmlformats.org/officeDocument/2006/relationships/slide" Target="slides/slide12.xml"/><Relationship Id="rId71" Type="http://schemas.openxmlformats.org/officeDocument/2006/relationships/slide" Target="slides/slide13.xml"/><Relationship Id="rId72" Type="http://schemas.openxmlformats.org/officeDocument/2006/relationships/slide" Target="slides/slide14.xml"/><Relationship Id="rId73" Type="http://schemas.openxmlformats.org/officeDocument/2006/relationships/slide" Target="slides/slide15.xml"/><Relationship Id="rId74" Type="http://schemas.openxmlformats.org/officeDocument/2006/relationships/slide" Target="slides/slide16.xml"/><Relationship Id="rId75" Type="http://schemas.openxmlformats.org/officeDocument/2006/relationships/slide" Target="slides/slide17.xml"/><Relationship Id="rId76" Type="http://schemas.openxmlformats.org/officeDocument/2006/relationships/slide" Target="slides/slide18.xml"/><Relationship Id="rId77" Type="http://schemas.openxmlformats.org/officeDocument/2006/relationships/slide" Target="slides/slide19.xml"/><Relationship Id="rId78" Type="http://schemas.openxmlformats.org/officeDocument/2006/relationships/slide" Target="slides/slide20.xml"/><Relationship Id="rId79" Type="http://schemas.openxmlformats.org/officeDocument/2006/relationships/slide" Target="slides/slide21.xml"/><Relationship Id="rId80" Type="http://schemas.openxmlformats.org/officeDocument/2006/relationships/slide" Target="slides/slide22.xml"/><Relationship Id="rId81" Type="http://schemas.openxmlformats.org/officeDocument/2006/relationships/slide" Target="slides/slide23.xml"/><Relationship Id="rId82" Type="http://schemas.openxmlformats.org/officeDocument/2006/relationships/slide" Target="slides/slide24.xml"/><Relationship Id="rId83" Type="http://schemas.openxmlformats.org/officeDocument/2006/relationships/slide" Target="slides/slide25.xml"/><Relationship Id="rId84" Type="http://schemas.openxmlformats.org/officeDocument/2006/relationships/slide" Target="slides/slide26.xml"/><Relationship Id="rId85" Type="http://schemas.openxmlformats.org/officeDocument/2006/relationships/slide" Target="slides/slide27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 type="dt" idx="16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PlaceHolder 5"/>
          <p:cNvSpPr>
            <a:spLocks noGrp="1"/>
          </p:cNvSpPr>
          <p:nvPr>
            <p:ph type="ftr" idx="17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PlaceHolder 6"/>
          <p:cNvSpPr>
            <a:spLocks noGrp="1"/>
          </p:cNvSpPr>
          <p:nvPr>
            <p:ph type="sldNum" idx="17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33CE-1291-4202-BBAC-95727EEC62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" Target="../slides/slide22.xml"/><Relationship Id="rId7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" Target="../slides/slide23.xml"/><Relationship Id="rId5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hyperlink" Target="http://www.net196.soes.ru/" TargetMode="External"/><Relationship Id="rId2" Type="http://schemas.openxmlformats.org/officeDocument/2006/relationships/hyperlink" Target="http://www.bestreferat.ru/" TargetMode="External"/><Relationship Id="rId3" Type="http://schemas.openxmlformats.org/officeDocument/2006/relationships/hyperlink" Target="http://www.baby.com.ua/" TargetMode="External"/><Relationship Id="rId4" Type="http://schemas.openxmlformats.org/officeDocument/2006/relationships/hyperlink" Target="http://www.le-mon.ru/" TargetMode="External"/><Relationship Id="rId5" Type="http://schemas.openxmlformats.org/officeDocument/2006/relationships/hyperlink" Target="http://www.add.net.ru/" TargetMode="External"/><Relationship Id="rId6" Type="http://schemas.openxmlformats.org/officeDocument/2006/relationships/hyperlink" Target="http://www.med.resourse.ru/" TargetMode="External"/><Relationship Id="rId7" Type="http://schemas.openxmlformats.org/officeDocument/2006/relationships/hyperlink" Target="http://www.djv.ru/" TargetMode="External"/><Relationship Id="rId8" Type="http://schemas.openxmlformats.org/officeDocument/2006/relationships/slide" Target="../slides/slide24.xml"/><Relationship Id="rId9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" Target="../slides/slide25.xml"/><Relationship Id="rId5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" Target="../slides/slide26.xml"/><Relationship Id="rId4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" Target="../slides/slide4.xml"/><Relationship Id="rId7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3.gif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3.gif"/><Relationship Id="rId7" Type="http://schemas.openxmlformats.org/officeDocument/2006/relationships/image" Target="../media/image33.gif"/><Relationship Id="rId8" Type="http://schemas.openxmlformats.org/officeDocument/2006/relationships/image" Target="../media/image33.gif"/><Relationship Id="rId9" Type="http://schemas.openxmlformats.org/officeDocument/2006/relationships/image" Target="../media/image33.gif"/><Relationship Id="rId10" Type="http://schemas.openxmlformats.org/officeDocument/2006/relationships/image" Target="../media/image33.gif"/><Relationship Id="rId11" Type="http://schemas.openxmlformats.org/officeDocument/2006/relationships/slide" Target="../slides/slide5.xml"/><Relationship Id="rId1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1BB3-8449-4BC6-BAD5-86C80C2845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ддиктивное поведение учащих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блемы диагностики склонности уча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 вредным привыч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Какие бывают аддикц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того посредством чего осуществляется уход из реальности выделяются зависим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- фармакологические (химические)-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зависимость от психоактивных веществ (ПА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- субстанциональные –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эмоциональные (секс- и любовные зависимости), трудо-  или работоголизм, компьютерные и игорные зависимости и многие друг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- пищевые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ависимости говорят сами за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6041-3F34-4CDE-9CC2-D67B727B52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333399"/>
                </a:solidFill>
                <a:latin typeface="Arial"/>
              </a:rPr>
              <a:t>Какие вещества, предметы или действия могут быть предметом аддикции 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тики, алкоголь, таба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зартные игры(включая компьютерны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тельное прослушивание ритмичной музы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е погружение в какой-либо вид деятельности с отказом от жизненно важных обязанностей человека (хобби, работа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, предметы и явления окружающей действительности, вызывающие различные эмоциональные состоя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67DF-D38E-49B3-8E82-96BCDBD216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Алкогольная адди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5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e5ffff"/>
                </a:solidFill>
                <a:latin typeface="Arial"/>
              </a:rPr>
              <a:t>Одна из форм фармакологических или химических зависим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5ffff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6AA7-016C-4507-99DF-1C7F8B85E5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4215"/>
                </a:solidFill>
                <a:latin typeface="Arial"/>
              </a:rPr>
              <a:t>Наркотическая аддикци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нные состояния, характеризующиеся яв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ической и физичес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и, настоятельно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одолимой потреб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вторном потреблении П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тическими призн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а или лекар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обладают способ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ого действия 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ую нервную сист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тимулируют, вызыва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йфорию, изменяют восприятие окружающего мира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267E-53E4-48E9-8C70-E54BE373E2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Лекарственная аддикци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дром, развивающийся при употреблении психотроп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; характеризуется патал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ческой потребностью в при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х веществ для того, чт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ежать развития абстин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психических нарушений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я дискомфорта, возникаю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их при прекращении их при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о при введении антагон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х веществ. К ним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медрол, феназепам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F769-F018-44CB-8D8F-BCFC412D66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абакоку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 табака - один из наиболее распространенных ви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мании, охватывающий большое количество людей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щийся поэтому бытовой наркоманией. Дымящая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арета доставляет привычному курильщику удоволь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остро ощущается потребность в курении пос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я пищи, во время выпивки, при отрицатель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оциях и во время напряженной работы. При этом с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дыхаемый никотин не оказывает какого-либо положите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го действия на организм. Сигарета является больше отвл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ющим фактором:переключение сознания на неё помог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двинуть неприятные мысли, прервать тяжелую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курение облегчает контакт между людьми, явля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тся хорошим предлогом для знаком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7921-54D6-4EDD-900C-231038E911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оксико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ксикомания развивается в связ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употреблением лекарств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 и веществ, не отнес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аркотическим, но также изменя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щих психическое состоя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 и его поведение. Диапаз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 с токсикологическ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м очень широк – от мед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ентов (аналгетики, транквил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оры, снотворные, стимуля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.) до технических раствор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редств бытовой хи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AC10-03F9-4E8A-9068-2EDCFC6784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иц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ерение лишить себя жизни, повышенный риск сов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ния самоубийства. Эта форма отклоняющегося повед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я пассивного типа является способом ухода от не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имых проблем.Идея может стать навязчивой и превр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ься в аддикцию. Суициды в большей степени характ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 для высокоразвитых стран, и сегодня существует т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ция к увеличению их числа. Суицид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временные циклы: весенне -летний пик и осенн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ний спад. Количество самоубийств возрастает во вто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к и снижается в среду-четверг.Чаще совершаются в во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 после 55 и до 20 лет.Соотношение между мужчи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женщинами-самоубийцами примерно 4: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C741-3670-4B1D-8ACA-B69C0DE9C5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Трудого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голизм, в отличие от мног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х зависимостей, явля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одобряемой адди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на самом деле трудоголик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личность с определенными психологическими пробл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ми.Трудоголиком может стать и лентяй, дни и но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иживающий на работе во время домашних неуряд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ом психологического дискомфорта, психолог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ской травмы чаще всего бывает реально пережит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мнимый страх:боязнь неудачи, страх перед одиноч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вом или, напротив, боязнь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699F-13AD-4B56-BA36-2D1FD39C7A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ищевые завис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им относятся такие пс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ческие расстройства к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имия (переедание)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орексия (доброво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пищи).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евая зависимость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 только переедание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лодание,но и завис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вкуса:от вкуса коф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околада, сливок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B12F-1AE6-48E0-BFA3-C4232FC664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ТИ – это наш суд на миру, наше зеркало, в котором совесть, ум, честность, опрятность нашу – все наголо вид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ти могут нами закрыться, мы ими никог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.П.Астафь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C8F9-70DF-4B96-8A58-A3E28A7FBD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Игромания и компьютерная завис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из проблем соврем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новая для педагог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 –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игромания и  компью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терная зависимость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увл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ьютерными играми, интерне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ми, игровыми автоматами, азартными иг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омания – увлечение или болезнь? Психиатры утв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дают – игромания лечится, но бороться с зависим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на ранней стадии.Болезнь начинается с привяз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ти к компьютерным играм, которая превращается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алогию.Игра – это взаимодействие. И не важно с кем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людьми, компьютером или же с самим соб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00B4-DA51-47DF-9309-735142CE96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Проблемы компьютер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BF00-5715-4A16-BC8C-1525E3497F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Памятка для родителей по использованию компьютера ребе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родители могли контролировать использование ребенком компьютера, они сами должны хотя бы на элементарном уровне уметь им пользов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должен играть в компьютерные игры перед с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каждые 20-30 минут работы на компьютере необходимо делать переры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должен работать на компьютере более 1,5-2 часов в су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ебенок посещает компьютерный клуб, родители должны знать, в каком клубе (зале) он бывает и с кем там общ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C7AF-58AD-4DCB-87DA-C916816A4B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100" spc="-1" strike="noStrike">
                <a:solidFill>
                  <a:srgbClr val="333399"/>
                </a:solidFill>
                <a:latin typeface="Arial"/>
              </a:rPr>
              <a:t>Компьютер-мясорубка для информации. </a:t>
            </a:r>
            <a:br>
              <a:rPr sz="1100"/>
            </a:br>
            <a:r>
              <a:rPr b="0" i="1" lang="ru-RU" sz="1100" spc="-1" strike="noStrike">
                <a:solidFill>
                  <a:srgbClr val="333399"/>
                </a:solidFill>
                <a:latin typeface="Arial"/>
              </a:rPr>
              <a:t>                      Компьютер-это резонатор того интеллекта,</a:t>
            </a:r>
            <a:br>
              <a:rPr sz="1100"/>
            </a:br>
            <a:r>
              <a:rPr b="0" i="1" lang="ru-RU" sz="1100" spc="-1" strike="noStrike">
                <a:solidFill>
                  <a:srgbClr val="333399"/>
                </a:solidFill>
                <a:latin typeface="Arial"/>
              </a:rPr>
              <a:t>                      с которым человек к нему обращаетс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должны контролировать приобретение ребенком компьютерных дисков с играми, чтобы они не причинили вреда детскому здоровью и псих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ебенок использует компьютер безответственно, необходимо ввести пароль, чтобы сделать невозможным доступ без разрешения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ируйте какие именно Интернет - сайты посещает ваш ребе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421B-9569-4FBE-A001-ADEFF917D6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дробно о методах и приемах профилактики компьютерной зависимости можно ознакомиться на Интернет – сайт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et196.soes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estReferat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baby.com.u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e-Mon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dd.net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med.resourse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DJV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дител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10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041A-2A49-46CC-85B0-08E7470D5C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ак воспитать у ребенка положительные привыч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Первое правило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научить ребенка осознавать, что без неё жизнь превращается в катастроф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Второе правил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бенок должен научиться никогда не давать себе поблажки в проявлении той или иной привычки. Необходимо создать условия для исправления плохих привычек, даже если для этого необходимо проявить твердость и жестк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Третье правил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обходимо учить ребенка использовать любую возможность для проявления положительной привычки. Тренировка в  положительных привычках приводит к их закреплению и привычки становятся «второй натуро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863E-4808-4BCA-AE28-4667ED43D0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ccff"/>
                </a:solidFill>
                <a:latin typeface="Arial"/>
              </a:rPr>
              <a:t>Четвертое правило.</a:t>
            </a:r>
            <a:r>
              <a:rPr b="0" lang="ru-RU" sz="12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бесконечно говорить обладателю плохой привычки, что он - её хозяин. Бесконечные проповеди и нравоучения озлобляют        учащихся. Многие учащиеся и так прекрасно знают, что у них есть плохие привычки. Надо быть среди учащихся очень авторитетным человеком, чтобы они стали прислушиваться к взрослым и хотели исправить свои привы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ccff"/>
                </a:solidFill>
                <a:latin typeface="Arial"/>
              </a:rPr>
              <a:t>Пятое правило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явления положительных привычек взрослый ( классный руководитель, родитель) должен создавать условия. Если классный руководитель знает, что большинство учащихся курит, необходимо организовать встречи с врачами, людьми, преодолевшими пристрастие к курению, смотреть фильмы, участвовать и организовывать акции и т.п. Однако для того чтобы так строить работу, надо знать, какие вредные привычки стали частью образа жизни ваших де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54F2-D307-4754-BE3F-4572133B6E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0"/>
                </a:solidFill>
                <a:latin typeface="Arial"/>
              </a:rPr>
              <a:t>Желаем усп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 преодолении вредных привы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и зависимостей ( аддикций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и воспитании положите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привыч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мысл притягивает, комплекс толкает».(Франк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-это не притяжение, это толк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кание изнутри собственным страхом подростк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м перед реальностью.Помогите ребен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авиться от своих страх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C216-49FF-4A37-8E11-E88FBD878D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Что такое привыч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а – это капитал, приобретаемый       в ходе постоянных упражнений. Их надо сначала накопить, а потом жить на проценты с этого капитала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жемс,амер.психоло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B024-6C4D-4283-9023-E5BF3DC1FE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33399"/>
                </a:solidFill>
                <a:latin typeface="Arial"/>
              </a:rPr>
              <a:t>Начиная разговор о вредных привычках и зависимостях с подростками или родителями, воспользуйтесь следующими известными афоризмами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а - вторая натура.»                                            (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Цицерон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уководителем в жизни является не разум, а привычка. Лишь она понуждает ум во всех случаях предполагать, что будущее соответствует прошлому.»                       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(Юм Давид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а, эта вторая натура, оказывается для большинства людей их единственной натурой.»    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(Ромен Роллан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и превращают обязанности в удовольствия, а удовольствия в обязанности.»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(Э.А.Севрус (Ворохов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ся вторая половина человеческой жизни составляется обыкновенно из одних только накопленных в первую половину привычек.»                                                           (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Достоевский Ф.М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D6F6-E2BD-462E-84BF-42BACAA30D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Так ли безобидны детские «безобидные» привыч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онность ко лжи?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бедничество?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ксивость?                      </a:t>
            </a:r>
            <a:r>
              <a:rPr b="0" i="1" lang="ru-RU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ывчивость?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ы в азартные игры?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цельное гуляние?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лечение мобильными телефон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жание героям фильм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лечение японскими мультик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к эротическим рисункам и фильма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91C0-1582-402D-9661-9C879AB555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диктивное поведение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клонность  подростка  к приобретению вредных привыче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агубная склонность к чему-ли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уть аддиктивного поведения заключается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тремлении изменить своё психическое состоя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посредством приёма некоторых веществ или фиксацией внимания на определенных предме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или видах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604A-A865-4B29-AC0D-5563EA5026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99"/>
                </a:solidFill>
                <a:latin typeface="Arial"/>
              </a:rPr>
              <a:t>Что происходит с психикой человека, склонного к аддикци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употребления ПАВ, привязанность к предмету или действию сопровождается развитием интенсивных эмоций, принимает такие размеры, что начинает управлять жизнью человека, лишает его воли к противодействию адди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2948-6FBE-4999-BAA6-A8AF4FF742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Кто склонен к аддикциям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с низкой переносимостью психологических затруднений, плохо адаптирующиеся к быстрой смене жизненных обстоятельств, стремящиеся в связи с этим быстрее и проще достичь психофизиологического комф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3DD1-7E0B-4398-82D5-E0EC0AEDA2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С чем связано аддиктивное        повед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желанием человека уйти из реальной жизни путем изменения своего сознания. Аддикция становится средством бегства от проблем. Для самозащиты, люди с аддиктивным поведением используют механизм, называемый в психологии «мышлением по желанию», т.е. они считают реальным лишь то, что соответствует их желаниям. В итоге нарушаются межличностные отношения, человек отчуждается от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4D81-1FB1-41B1-A7E6-911A9EB66E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3313-2520-408B-8D48-4D466B4A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C7F8-293F-47D3-9C91-C27DC549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03743-52A5-4894-8EE7-95956C2B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16FD0-02DC-4EDF-9F12-79512708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CB33B-0708-4BC2-A9A3-B7A3C9E7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28A70-AF3E-47AD-95A8-74DFB7DB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4F3AB-2A1B-4783-94FE-A556398C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7C1E3-A03B-43B2-B518-BEF22059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10D26-F120-4CEB-84BD-0F9B8D95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3F54C-E222-48F0-B957-86AB5166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18C33-00E0-42F1-9488-80A4E2E6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B9524-E973-4A48-BE7C-A37F35DC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5083-495A-4992-AACE-79B9C9AB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358AA-3BB8-432A-85B0-6F8A400C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83C5E-78F7-4D30-88B8-2F9B973D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548C1-8907-408D-99B8-C7B37CCA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7CFF2-69CB-4D0B-8853-3B6B4B0C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6C37E-857A-4E97-B389-A737B517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AF24E-F5A6-4501-B8AA-13A038FA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081CA-4AFE-4819-82E1-74785BE7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BA35B-EB23-465F-885F-BE8EDDA4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90D9A-89FD-4373-8568-9E4950C6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6EBD5-9E7C-4CD1-9F5F-ED0E0F31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856-284A-44E2-A98A-877277F7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52CE9-479B-4CF4-B104-41D492ED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1D860-1CE4-4B55-B8F6-A9EB34F8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23786-8916-4713-8563-4E2B5EBC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6876D-F03E-4881-8854-D56A9870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160AD-45B0-4854-948B-8F3D9D95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B5873-9D87-4B3B-9284-B7E04E75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88603-1CBA-43CB-B3D3-3680D31B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DC188-B500-4AD9-A1F5-C401F555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FC6EE-AF5A-4965-B347-3C743B71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2AD54-2476-40FB-8D54-E30FDEC5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100F-9AC4-4269-B98A-435BE337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85E7E-54D8-4D62-BD21-A0957531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10C89-3E4D-4837-9C72-10D1A2A0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796AF-A779-48BB-A751-8174CB78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C27B2-7B39-4C14-B9A2-8AC80F34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C1C12-448A-41EF-8E46-33FEC919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17C16-290A-45FB-8316-3845B9F2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0D845-4B97-4F84-BC0D-DD7B0C98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CFE47-37D9-4AFE-9522-5A1CD8D1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6E4FE-4EE3-48B8-80DA-5BF8EFC2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8EF0A-BFE0-4E3D-986C-FA0CEA2F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0F37-9236-48D6-A8EA-76937EED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D5727-71F8-4032-A015-531A3A84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00DCB-D67B-469D-BFDB-384978BB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005F9-E43A-4618-B33C-F20B4BEF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DCDBA-E432-47C2-82C1-90D3634C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7F79C-3168-4971-87F3-C777A1FE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EC520-DAE4-4DF7-A45B-9962B49F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E56C3-8EA8-4F9D-8249-DCFB55AA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28851E-A6FC-4999-9CE3-7A816E5F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4A6F38-3553-4F3A-A171-DB757649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464D07-EB0D-4C2F-9FAF-A4A5DF4B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4E32-379A-4D46-A5B6-8A782BF1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2FAC7F-6223-4265-9E67-0F431CB5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0D2A44-80AE-494F-A4A3-33FCA772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E4CD40-F1FA-414A-8034-1AC430F3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1022CD-F868-4A0D-B174-39255493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C5C7A1-41D4-4572-8DA1-CB13FE2E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19F552-9E7D-4F68-85F6-47AED506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86BCD-9CED-4262-8040-EB85BCEE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520E1F-E056-4AB3-972A-E8EE2318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5E04B4-E070-4B67-AD95-3D1CF3D0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558172-9267-4023-BF9A-616D9428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56B7-5B7A-451E-A7E9-FAC265C5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66A96D-5A44-4076-9111-5BD9AAE1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0FA5E1-4FD2-4FE2-89C4-DA11A7D3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56B1EA-E429-4FD7-B772-4656D95F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24632F-8E8F-4C4D-BCCC-0AB0962B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CF5701-2788-4DF7-9825-DBDE2D4B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6109A-4080-40A8-97FE-1EE12CD2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7583D0-4AE8-41B7-9759-3BE90305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5AF1D5-FB8B-4116-81DB-50767183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7F64A4-964B-4E7D-A274-8725AED2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E79D89-E7C7-406D-98F3-0DC3D012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BFD6-6CDE-4A4F-9314-9C1B2ECD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C1A906-CD71-4F87-BCBA-35BAC42A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61FE4F-DFEE-40F1-A581-D3665909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FE744F-2548-45F8-BFF0-3C3B84C6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507824-DDA3-469E-80B1-C5EEE87E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04099A-CAD8-474B-B8BF-00CFBF97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8579B8-1977-4BF4-B8AA-6CEBB72F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645F6E-7F7D-4A09-B4AE-69F7640E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683987-6924-4AC5-B29F-683920D5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A2C3E6-9302-4F17-A01B-BFF53088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4AFBA1-732E-48F4-896D-9EB40C5E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7C21-15E4-4F3C-BF3A-32118EEB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363C30-E13B-4369-8DB9-71D7CC91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0A6215-8CD7-44A7-BD39-7E9FD90B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740A3E-A444-4782-BA80-898DA845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0FE125-D1FE-4838-A0B5-E11200D0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DCB576-9786-4DF2-A54B-FA60C316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9BA83A-E09A-446B-8482-8643D716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CCFA06-4829-40D5-8CED-4784DDD1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EEC63F-4840-4458-A5B6-3F9290C1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476704-8EB7-4E33-A713-748ED852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609637-BB11-4158-842B-54A3AA0B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8E61-EB1F-4289-8B06-33E7400F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5C2DE9-4BB1-47D9-8BEE-BDCD714E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634888-0F5B-47A4-94FE-35A5774C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F9575F-F870-4AC3-A1E3-A37E6EFD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2C8AA6-0CF7-461D-8E09-4257B376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AE7300-DC8B-4C8E-9651-F464B2F8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D52FA0-513A-44ED-8E2B-A114233B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E81F9B-A347-4B62-8D67-51216205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1BEC23-0597-4534-A4AD-A29249B2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F3BF22-3C2E-4953-BDF3-86BBD6A4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610919-149E-4406-B9CF-CC14D74F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30F-DB2E-485F-B874-79B790A0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D197-54C0-40A8-8D02-A43394D7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CB76F5-F5FB-471F-9912-52E106A2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134C4C-93B1-42E9-8BF4-E74EB34A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B6AAB2-C058-4CFD-A2D9-854359F2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0C7908-EB7F-4ABF-9676-3028710F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24D577-3A70-4AD9-98CF-1E019513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E31778-A387-40BE-932C-C9143469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C83898-0FAE-4D5E-A6A0-444AB3B4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327D3A-44D4-437C-9C68-E4EDCA1E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57FED9-3206-4B83-8270-BD756A0E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A3CC56-8EA9-4835-9B28-ADC57261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2CB7-2DBB-4908-9907-8E991100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9B97D4-10D7-47C4-979E-8B7B9F07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2F3954-3709-485A-AC65-8DE13391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D975BB-D050-4785-916D-491C173D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961559-2524-42A0-B86F-BE38B131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B896D1-A6B9-41BC-A4E8-6B4F508C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DB9586-4ABC-4D7E-AA24-8A13C050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E041A5-6B3E-464E-A771-E59530C6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8E7A69-F9E9-4E0D-9AFA-6778FC1E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F1F1FC-FF2F-462E-94C4-9E235AB5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B62BC8-F068-43FC-9582-DDAC96FA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5AF9-B853-4874-B0E0-EA4F3A63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700A6E-9B4C-4A72-844F-C7DF5BE1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C5FAD7-6451-4911-8E11-AC8148A2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DE974E-A0EF-46D8-9292-40EC6566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A45B9E-299D-43ED-B174-24476AF0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7DFE19-1A03-44B3-A073-68C18D5B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34F2CC-08B0-4CAA-98C7-0C15D830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0D9B38-D044-450F-A11E-604E9FD6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557398-A1D5-45C6-9B20-7FCBCFDF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23C565-0374-4ACB-9824-B777ED4D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B25133-00E5-4DEF-B6BE-779DA49B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5379-9947-44B7-904C-18951154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31D02E-281B-448C-97EC-04D07F4E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3DD232-E872-48D6-8D8F-1B0F098B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9B320C-4A6E-4CCA-B626-C2B0D9A9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34BD72-5075-4098-A4FE-5D3C224B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E80B1E-01B5-434A-A717-8C99D423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B63306-5CEC-4BF0-817F-0269F47D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CB8B56-A148-4D35-A81C-65B94FE8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E3254F-B5F9-4784-9CB6-90D60BEE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2D5002-EA16-41D5-B385-83FCD20A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1569EB-708E-440A-8C90-54BC2B4D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4283-DD49-4C8C-8DBB-56E4F418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741431-2A19-4668-8C23-E0CFE3D7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56A5DB-CE7C-4047-99AC-8B8EE86B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9CDE15-29A0-4A24-900B-97A1E136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DBACA2-5322-4106-8175-B563BB09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BF7931-CCAA-4B63-97C3-E3BC22B5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3B72F4-C434-4C64-8806-60FD2DD1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893D66-85E1-46A0-9580-14AB4165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1B4D22-BD2C-4CD6-B192-5BA2585A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BBA16B-3D72-43E8-9F50-11718C42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4025BE-9C29-46AF-9BA0-309757D5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71A92-E558-4F6F-A0FF-BF16A2BE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472F42-27B6-4916-8D38-5D28A948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14752C-CB92-41B6-9533-CC934C12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C1F9AF-A582-408F-B432-2BD48803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96FE18-87DC-4AF8-B11E-DD4C981B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17FAD3-87CE-4A1C-8AB1-DC56E924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D9D3DC-FB54-4A66-9C3D-6913D594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044B77-816D-4A4A-AE9E-C8EDB828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0092DF-79C8-49F9-A1E5-A42AEAC3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9FB548-A60C-425D-92B4-36DDCADB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A19134-1063-48D8-A40A-E2E36DCD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FC162-320A-4BCE-9169-22C4DFD3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5BFE51-C297-4736-BC3C-C51C8BE8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A64F29-730B-423A-92F7-F353FB2A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AE2E1D-5AB9-4A70-8B88-2A5AF965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DD75A2-444F-4838-BCFB-82ED950F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745A64-EBE9-431B-A0ED-2B22840D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C8784D-3221-496A-AF10-1F288EDF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481647-62FF-44AB-B4A1-193FC4D2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A1F683-91C4-4981-8B2B-570590DF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7FCDA0-CDA9-409C-AF05-07B1C78F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B08A6F-DA4C-4415-AB91-C1309D55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7FF5E-702B-4FA6-A6E7-D962D42B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3DA23F-40D0-4064-BAE5-BA0F0884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BF2A2B-0001-4572-A87E-E48498D5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083BDB-0D53-46C9-AE09-207BFCB8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A4596F-82F8-4BDC-89E5-6EFF32ED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B4741B-C044-42E7-82E1-BBED5D4A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2C10D9-A7FE-4393-904D-D20DDF89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3CCEB1-7E95-4D8D-8FBA-8FCF4CA8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5072DD-46B2-48ED-91ED-5BB1BBB4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2B56A0-4662-41E2-9FB3-83A39C11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4D1A74-9FCD-4D96-8129-4200C946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460B3-8827-4B0E-A106-DB0E2EC5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0AB038-2B9C-45D7-A8A3-9B3252B7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F973F2-CEAA-488B-8588-98A81436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792D8C-6C7F-4C79-882F-03729FF3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7245FF-7CBB-4482-A2D7-5607534D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E5DD80-9FF5-48B4-8A17-2C937619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2C8CF9-C592-47AE-AEDC-870AAB75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952F4B-12F0-4E8A-9021-FF6CDFF8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9185E8-9FA3-4EA7-861A-81AE563B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A37FA7-D31A-498A-B634-F25DD808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E4E5C0-C968-401E-B402-241361BC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835D1-AE8E-45D2-B734-94173133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031440-3B18-428A-AE92-4AE943BF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DB4090-FF23-4A83-8050-5B186A8A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4AF1AC-665F-465B-B4EE-8DD0EA7E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F30686-A1CD-4C5C-A472-1F409972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8B18B0-8D35-468F-9258-2BE336C8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EFD6F7-1D52-4276-9FF3-48A3821B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D7919F-4953-4E03-A561-21AA779B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939077-BC7C-4CD5-94D5-DD2228C5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76BEB0-EC95-4547-978E-ACA2BA6B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E8CA4D-B945-42BF-A6FD-256D284F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2DAE-151B-4CBE-BBE4-559DEC0E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1F629-EA99-44C6-BA78-417C22F0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CE6A19-CF06-4019-A874-D720F32E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A63641-0660-4F6D-AA38-8E912226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59457E-A855-46A3-B138-210C8931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6F6D99-DE16-44C0-92AB-4A17B626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CF4808-1AAD-4816-B3DB-517F1641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532D9F-EB8B-4A14-8A4F-298AC3B8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C11FA5-508C-4E99-92CE-56FE5B6B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82E7C7-6F74-4C8B-A50C-7A5D226B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63EB1B-89DB-4872-8A49-0F1ABB5C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4B38F1-D0C0-4A7F-AA1A-4BE0BD14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8AD43-60E0-4ACC-8E3E-1FCDAA53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1F70CA-DFCD-461B-831C-C59FF41F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DD977B-06E2-4357-8BDD-00C9345E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E5EB38-C72C-49BC-8DA2-BCEB5C66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D66BE9-FA44-444B-AB38-980D23CC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466697-80DD-4148-B95C-2292436D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25DF25-F171-4C4B-9338-2661F92E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509EE6-C484-49A3-8651-2889D8F0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A8FFF2-6E5A-4CE2-82EE-489133C2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9D18DF-FF2D-4B94-A77D-46DF40B2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9CE187-43E8-41C2-9638-11CC743B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2BF38-806C-483C-A52E-4E65B3AE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8A1CB0-6190-4438-9757-65E3E729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FB4196-7FE8-4A53-A918-4BE8F641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25BBC7-CDD1-45E8-B2A5-892545A7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80B3BB-615E-4A1B-943F-53BB70C3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DFEC17-00BB-4736-9E08-1871E152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10DF8C-3A18-499C-BB57-5FB6B8D2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C2DCBE-AEC2-4C09-BCDE-733BD64C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391771-2B58-4203-B6BF-C5D61B8E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9B0FFB-4E27-42BB-A2B4-C873D5D6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3C5891-8778-4841-B814-44EF0946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85AB4-16AF-48EF-AF87-11A7C0EA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599782-E866-4BD8-B1D1-A6C27E86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F6B0E7-2A4E-499A-9904-24E99517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E753F4-E65C-48C3-A925-327BAED2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0F87DC-F585-41C8-890B-30B6A817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1E88F7-2112-4540-B89C-3A357242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AEFEFC-D295-431C-AC34-7FE23F73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8AAE3D-A57B-4988-917F-471EE4B8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271607-5C22-4AFF-B8FE-FA9E54FB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A444A5-D1B3-4E1F-A1FE-F62D47E9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CBBB38-ACB7-4E68-A3E7-93795AB2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167E0-961A-4C8D-8775-F6DFFCE5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AA457B-76DB-476E-917F-C97EF8D7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3ECDFF-AC3D-490F-87EA-CA0B98F6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EEA38F-3916-437D-BC4A-0F01767F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5A0FC3-0570-44A1-9498-70832654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7D672E-6A3F-488F-AAAB-1D349EB0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672BC9-F00B-4492-B0B1-1C88AC4F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19259B-1AF1-4DA0-B7A1-7CA42BAF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B0CBD4-E8E9-40DD-9AB7-5F533EF6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E34E09-DA0F-4F4B-A095-D06340EA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094742-CB3E-42DC-8E96-05D111DC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D554B-6B64-4B41-98C9-258E0FFE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8D9259-6ADB-47EA-8A07-61D25C20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554C56-C1CC-4FC1-B6D2-BEB17F60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BD9942-0F75-4FC2-92EE-3472A3DE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481F30-CAF1-43AF-AF18-971D1E4F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272D26-D23A-4193-9F09-170EC0C6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928650-6A22-49B9-9C7A-88090692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01FACC-A4B6-427C-A151-804E1140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A5C517-7996-44E9-AC80-E60F06B1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9F9512-6694-4804-8F05-DBC66620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2DB2C8-1294-4094-9BA9-C7475682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FD307-83B4-406A-9A12-82A7E01E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704483-E7D8-4FB3-AAD9-D9A85F9C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33FB29-9F49-436F-8C1C-51DF305B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ECB6E8-D31C-430E-BB17-D798888B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CB65CC-C7DF-4FA6-B7B9-9DC7F92C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8238EF-E4A3-4037-8FF7-0F907250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0C84A40-CDA4-47D3-914F-3B166583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57551B7-1D2B-405C-A87E-E51165FF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A8D4BE-ABB0-408B-A44F-153B2EB8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ABD3DA-02DB-4B0E-AC6F-7996C73D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3992A0-5A7E-44E3-9257-7BC1359A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C057A-9EC2-48FC-9E3B-0DAD35E4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61A37C-C32E-4E3A-8618-8924F386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D0D6AA-9497-4FED-A92B-6379F07D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95A8A4-29B0-4F19-8962-E0CAF83F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B3F9558-091B-4069-A405-3B5D4184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249E50C-DD17-400A-8330-213A4CC5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4EA2D4-D235-48C6-92EC-E889A368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BED67B5-8C58-4E90-AA7E-5EFAAFAF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BC11D1-6BB0-46E4-87C4-1A6C1ACD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AE6566-D7AE-4DEC-93DA-8DD63E8F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FBD400E-0827-42FD-B808-D8058CC7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E5948-6DFB-48FA-A377-F20893A9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AFAB3F-8C27-48DC-BDFB-B72864E6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30B24F-E2EB-4BB6-8B93-9217DDAC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A4B461A-E90E-4762-B752-82D5597D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29DE3EC-28D1-4BB5-B569-D4C6131A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3B6E321-C4C8-4A23-88E1-43356DC3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30022FB-E1DF-4257-B66F-654A73BE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B4CE255-8C9E-47DB-ACF3-0403A473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B14876C-AC95-4F49-898F-1F56B038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74151D5-865E-42CA-A8E2-7D40D635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3DB589-200D-493F-9E07-937E7807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B660C-3338-40FC-AFCB-1E22B4C1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1F6449C-5C62-4F31-92CC-ECB470B6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2168901-0ED6-4238-9DD0-CD116CB3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E83C7D4-073B-42B5-AE0E-6585C1A6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48B08C5-BB94-4781-80C5-8DE0D2AA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C7ACD0-5796-487C-839D-DA477DFB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994DA5-2FA9-48B8-AC3A-F78B572F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BB3F7BA-D39A-477C-B644-D2B2AC9E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3F6FF5-9848-4E12-BC36-76991C02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877D08-DEF4-4C07-A561-B98FA1D6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2E8826C-3B73-444E-88A2-700EE20A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8255-D7F0-46D7-BDED-FEBADB51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09006-8BE4-4832-8CB1-6DED05FA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99E12B-DED6-42C9-A82A-92063F14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D95A182-760C-4970-A97C-C557351C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081B628-315C-415D-9968-CA3F5B99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D6DCA4D-C5FB-453A-9BA0-93CE6BF9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78F96FF-18EC-43D9-BD60-FE3973C7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D8EC35E-717A-4514-AEB8-AF2250AA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1EC8375-1C6A-4690-B769-B5E9C0B1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FBA41D0-6C59-44FA-8EC1-BB97B10D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91DE06-A748-453A-A9AB-E9CD1DC9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AAFDAC2-B993-41AF-A42B-C5BF81F0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50B05-55E6-421E-9612-C782B7E6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493C053-97D1-4AC7-9234-B28A7085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FB7569C-FDD6-4446-8D22-D7B4F0EC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FD67F0A-C872-480B-8BC1-E0A097EA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D70D7C5-2FA9-47B1-A725-7836D561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E564943-2DEA-466B-8EE2-4F192ED1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27F9294-4C22-41F0-A2E1-38076E7A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14B49F-8F2B-438B-B62F-7282F655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110259-D6DB-4608-82A2-F6629954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A3D8563-20ED-4254-8DFA-69BC5D0A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F7E1ECE-F456-4E51-AF8D-E75498BF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5F15A-48DB-4663-A55E-11D02185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A438B73-B1B1-47A3-83CE-5D38CFFC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F2C3F8A-CD42-4A17-A652-B8523302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E48A199-891E-4F6A-B00F-D8132E4B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CD61BF3-3D20-420E-B365-51654790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CE83DB1-139C-449C-8EA0-C9014120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3922A75-57F5-4BA0-864A-0E9474C6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749B41F-9C0E-4412-BECF-BB382725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D2391F2-2CB6-43E4-B926-98108994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BBCA33F-C90C-4C37-BAF6-A1562B7D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461663-37B9-417F-BA25-2B35E357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09B96-C31F-4BD3-ACDE-9C7E3266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90D5A11-72EB-4FFA-BE08-4CEC1F39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3873BD-1218-48E6-8444-1B1E5A04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CE5591D-7C16-4947-B66B-F9C13E47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BAB5697-F725-4F7A-BC3D-55CC71EB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29E1F86-686A-4E29-84CE-60C1F506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449E345-68B3-44D3-ADA3-47587325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0BA9292-30BE-4265-A71F-C94B0D9B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E6D61BC-0B67-49FF-BB05-58739D8A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E8A1992-1FB0-48C5-B336-C9D96A16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3BBD93C-D9E2-4EDF-B2B0-2935AAA4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2F8BC-98D4-4263-AB54-7527AA94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CEBE3C0-A2EE-4677-911B-3EEA9C0D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DBDE876-0CE7-48AB-AE31-A0822172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E5F6C26-6B43-4888-BBDF-D2E990DA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035356B-7B75-4DF5-A076-1D410E96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3E8E396-2468-45C6-BE10-1002700E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400437C-69D6-4993-9295-B89FB343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A31445B-13F0-4074-989C-FEFA5A5A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C37F5CE-FD4A-4AF1-93A5-78C7150C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2B7F3CB-A05D-4F16-A884-74BA1469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11CC436-FCA0-4596-9847-8EB93711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B6BF2-4FDA-4069-93FF-669AFBAA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02FC86C-651C-49F8-83CF-EFB623D9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6DAB49B-A6EE-4FF3-AFF1-BBA6ADE4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921DB9D-04D6-4943-A6E3-14915041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9F7972E-EAC8-42CB-81B1-AEB2D22D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8E9172D-CD14-43C5-96A3-578B34D3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9555AC9-CF4F-45BD-88E1-B61FC400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9AFF743-A948-499D-8A38-D492F306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A1E0C23-F0CE-4B34-B173-00A1CDB2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5075833-E103-43F1-8396-B23E9E50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DD623B0-A1F6-4366-8E6F-69EB1949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1C356-4C77-4FB1-9731-E022A195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4000085-65DF-4945-A6C9-7AA944EA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CBEC625-F9AB-4C59-834A-0229666C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5D49F70-E494-4F5E-95CF-C12BD99E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6B84DEF-3890-4B02-85CE-D2D00034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1BE93A7-5352-40A9-8BE0-03C7DD13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C2ED3C5-CFB9-4C85-8E55-96952A71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F85F0A3-35ED-429C-ABBD-9798DA77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E7396F2-EF14-468B-AB0D-DF4CCCD4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5C376FB-9B4C-4F57-BB4C-1AFA785D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3E38700-6E1F-426F-9022-8EC83389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AE6F3-D758-422E-B4E9-F9FA575E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37E544D-E8E5-4523-8506-D451A8F1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615FAFA-01FD-476C-A279-612048DB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674ABAA-8202-458B-AF35-5B453AAC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0B538CA-921F-402F-9E95-50FE8583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A44FF2F-1661-4D0F-8024-CC56DD39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7BF4468-98C7-42F7-A609-0BFD0F8C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C4934C9-3319-459D-8383-DB56ED3C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A8143E8-DBF4-445F-861E-073CD4B9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118131D-F64D-44A3-B057-F9DD8313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7DBA0F3-1E16-404F-A5BC-7D6953AC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59B11-AE6B-4534-85B1-7E48F268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CF6947F-8F1A-43A2-A198-5B160E26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51A3DFA-86D3-454F-8B27-1BE566C7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2919B92-B9E2-409C-8A40-A03B4421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D8689D7-5452-45C0-A359-D63092E6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DF3C68B-7AFE-481E-9745-7AEDB826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36E9EAB-0308-40E7-873A-147DA513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140DA00-2D71-4A93-A2F3-DE530836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BBAE110-6CF5-4C4B-8F94-2BFB5D97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1C56970-C018-4DFB-8495-A6A09531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CFDD509-078E-4120-B462-5022D3F1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486E3-52FF-4014-A87E-E36D3DA0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E30BF6B-EDFA-43A1-A92B-D0EFD905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854A755-C8AE-43E0-9344-5FFF4A4B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B4395FE-D64E-4A85-A5D4-8D07F12E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EDBE946-7347-4BD2-88E8-D6A4086B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B2E2222-494D-42FB-B0CD-4B135953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36270B6-4C9C-4B78-A4B7-1E869AED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7F8B47B-E3F3-4D6E-AB78-3FF75A33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35D9E4B-401A-4C4F-8170-46699020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56CF898-1ADC-4FE1-BB00-BBC91A14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EC234B2-5C2B-4707-96CB-DF0B5FBD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96B6-99E5-4DC2-8574-7299AC81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AB84A-E9FD-4DFE-8F22-B2D03213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3BA74E9-CEB7-4822-A814-F718DC8D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E5C2D6B-407B-4746-89F5-A267F6EB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6D877E8-06A9-4E03-9162-A3EEAC20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E03E4C4-BF07-46D5-A1D4-8ED33C7F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6254DD6-60A6-4C0B-B508-7DFCA60D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261258D-DC7B-4BA9-A2AB-C0079341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BD4EABB-7D0C-4A6F-A5A6-29A7797F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5979D1F-84A9-41C9-BEEE-913D7DC0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98988B5-B5CF-4A21-B211-030222D2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C9F5C24-E917-485E-901E-F23C3C3F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4D499-5F20-4D00-BB40-5128E886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AF36C72-392D-4B9C-AFA0-51181781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E01BAA5-7C3F-4B51-82E8-ECF6F252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D4740FE-95DA-481D-A511-CD005B16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5B50144-3FAA-4D08-86F2-D0CA9604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F39AF38-7DB9-48F8-9A33-E5C71E4D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3A91329-4A43-451F-92BB-75C7699E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630CD6A-FA1B-4C81-B129-F8735840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C4AA920-4E21-4F86-8D01-90C90779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E6EA0B0-8E8A-41CD-8DE8-B824D5BD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BED6CC6-7892-4F0A-A8D1-F288B48C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2DC5E-6BF5-452A-AFC0-51D9C7D0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DF66B5C-6ADF-4AC1-82A3-9723F885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D927D40-806D-41BD-89C9-9EBFF0E8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9CFFCBF-B9E8-4D9D-8F63-30747FF6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35B0860-0276-409A-842B-CE8A583A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4255E9C-F5F3-4966-9244-18D0A60F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E5D22AD-BDE5-4BF7-A707-22CE0629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9D918EF-E03E-496B-9BDC-319AF942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2A82700-963E-45D6-A08D-72C9DEC4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9BC94E6-82B2-4B20-AB34-3A2B5D5C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70A0FBD-ABAE-4FA7-AA42-3878268E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C82A3-D742-4BAE-8292-E36B854D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C21E1B6-1F3D-46DC-9DD5-0300A404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882A8B5-55F9-47B5-AC33-286C0338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BA45736-C471-45CE-8CA1-E5DCC7A2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754E485-887A-4723-BB87-89D706FF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0802A18-57F3-46D3-8967-1A9A5D59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D28585B-9A6F-412C-B212-A053EF32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669E358-CEE2-469B-9CD1-A4C858CD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5F699F7-F007-464F-8704-CF6B214E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913429C-4E4C-494C-B0B3-66052D1B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F091570-4FE5-4885-AF35-F18CD0FF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EB3F3-482F-4732-81E1-DDA3B106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C5110BD-56A5-4104-B397-F03D0E61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AECF592-313C-4302-BC72-8CD48C4A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4B6D713-6699-48C6-BF33-D21753F6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D30088A-C240-4678-A1DA-8795A12F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56B5AB1-082E-4222-BA78-F41C671D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ADB3DC0-8C10-4D87-8C6F-2FFF9CCA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31AB694-9D9F-4F18-BD2E-431800DE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9F953AC-E05E-4DB5-B155-71C06D12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1843B19-399A-48FC-986A-C4D28254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ACF9E28-22A2-4E65-9790-B7FC6027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15555-897B-4F53-82F5-7BFD7438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7E449C1-D49D-4EC5-83C0-AC44D79E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259DF6A-586B-4A59-9EC1-C0849D5F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808AD10-579F-49F1-B415-C0E34104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CBF3F2E-0ADC-42F6-8172-999A29ED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B155E95-38E7-4E64-9906-5B668216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9150CFD-E61B-4400-91B0-CEDE9CB5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76399D8-5C0F-4D08-9E8F-256B1F17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0536499-F9F1-4338-B482-4D099EC4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8C25F5D-ED3A-4488-8780-17D325DA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7F213F3-EECE-4198-8A9C-530517D8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98432-1B3C-447F-AAD1-3BCEFDD1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832A26B-E83C-4EE6-96A8-683E14FC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F57DE53-9271-4BF3-ACD9-EB54FBFC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1FE12A9-9822-4E3A-8B56-C629DC3A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B66DB67-5962-4707-A7BB-0CE7D8DF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A695824-F03D-4DBB-A319-962207C8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A033624-C6E3-4560-B200-13AEC9E5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2253B1A-6E96-4700-BD3F-E7F183CB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271FE36-DB37-4F36-8D88-AF885043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5589BAE-2D59-4A2F-BED7-887622D6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54A51D6-D77D-4F5D-AF54-1E925465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E2A9D-C2CF-477F-A21D-434BB95B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FA4F8D6-8541-44A2-B374-C8D92616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5FA1C2C-FAA9-4CB2-9B98-D16038AA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3D14DAA-4BE2-41E5-A1F5-1C0863D1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DEFA81B-AB0A-4CDC-8394-34F9ADDC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181E9F5-8F6C-4B95-B64A-27D85558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FA0BE96-BF87-47F2-8D80-F5B1E96D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0664A6E-88FC-4E2E-A94A-AE7895C2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54E8386-364A-4F57-B886-3BE02EC3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1082DC0-4B1B-4EAD-9D20-1F472828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CF09624-FC57-433D-9B34-441AE5D2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86299-EF33-4F33-89B0-C2706BDE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37B0EE6-E19A-4B03-8E6B-36E5E01A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32567E6-7423-4F0D-99FE-311B357E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24F9CF3-4625-4DF2-A8F2-032DCB98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28B0F66-2B1D-4BA8-82AA-94001800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49B9886-CEBD-45E6-B0DB-FF9D5F4D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27507B8-6D1B-421D-B9B2-1434AB8E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B7E5059-8042-4C4A-9D8F-BB019092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C3FEF73-B8D5-4E32-8217-E515A226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E641CB5-74A1-4AF6-AB0D-209C95E5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2A68BD8-7CB5-43BD-B99B-BDE4D078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827B1-4D99-4964-8A27-808D25D3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56DA4D1-71C7-484D-92D8-EE65C04D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CB51037-5DF8-4F6D-AB9D-8F27026F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A6BBD3D-2438-4250-891E-205308DC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B4BC84B-5AA3-48E2-B38E-F2F16F94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9DB0E4D-9032-4B4E-8498-7BA6C792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A066F21-FA47-4EAE-89CA-8A8EB391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860D053-3AA1-4EC0-BAB5-F4991850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99AD497-6424-4BA1-BA0F-5701D3F0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9394BFE-8D11-4772-A6C9-0B702043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33409C3-A1C6-4E08-9502-46D12EBE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5162-B7D1-4D0B-AB3D-9D4AC890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7710A-8AF3-4293-9F12-93DE6E34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D350810-1ADE-431A-AC31-511A0932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D20EA91-575E-4F29-8DD8-8D74BA7D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A002162-827F-46FA-8B6D-99A3AA93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BBEA47F-F052-4DA3-9458-FC70D15D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F80E137-69DC-40E9-9C46-866AECEC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7F3BB18-B026-4A1A-93AC-3D37A81A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523B4AC-3472-403F-9131-0823A059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40C3845-3E9A-4DFB-AFF0-1FFCEC45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2BEAE48-F78D-4522-A71D-3FE4D7CB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AFB2A31-3467-4003-9BD9-E662C4E1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9D76B-C600-4A05-A82B-27CA19B1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E1B1F9B-4889-44CE-9D4C-F3648EE8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8101264-E544-4930-AB03-0B1C4496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240393F-E7E1-4F5E-B8E9-D23CC2EB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22EDB65-CF4C-4BAE-BEA3-D4012945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A9B398C-DB47-4E94-B1DD-37105887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D2AB0D8-73AA-4B1A-8AC2-7E47D05E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2667C12-2384-4A91-9E1F-3D6805CE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75FA359-B307-4182-865F-67D91391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9C54AB2-0E3F-4BA8-8B45-7823C921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919F902-92B7-4303-9DEF-3997729E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08067-6DBB-403B-B931-C9394110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D7413CC-515C-4E8E-B415-CCF4B23F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5BD3658-4769-474F-957E-00D901AD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E89CAD5-6F9C-46A1-931E-6998B0E3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3CF2413-0AFC-46D9-BEBD-E4B45293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B336383-01B8-4D0D-A717-65D0108B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00DB691-8F7B-461D-8892-EDA843ED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F6FA4E0-5A90-4F47-90BF-FFF7EE1D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5588813-21FC-4531-A5DC-05D68D37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2DF0885-9C4F-4120-9BC3-F643AA25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B9F426C-6528-44E5-B654-4BE6C0FA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D1BFA-A768-4C0A-85A2-E2551824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101EE33-AF53-4582-864F-1A6A041A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4FC2BAD-4F6B-43D4-8220-9A6C7AC9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74CD19A-F062-4A0B-95EC-DC7350D0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E7EF169-637B-45B6-ADA3-9171486E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1A59C8A-0356-4C31-A2A8-2CADAEC9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F191725-D802-491A-9504-8AE1A261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3A42CBB-3F96-4C17-8E82-0F23325D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BFBC09F-19C0-44A6-B923-D2E02EE7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226247C-004A-4D7C-8286-904CC719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AB1B7A0-4470-48C5-8431-B1BD3F6B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A13B2-57BA-479D-A1E3-8DB6D3E4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D07733E-F8A8-44A3-B197-261039DF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72D44E0-01DB-4D13-A33D-3C9B9E28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B800F94-E35F-4903-8479-FA0885BB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60303AC-514A-48FD-B554-5A16BE44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797DD99-FFFF-4DE2-AC3D-C6DD1C20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813E5F9-22F8-44E7-946A-ECE929EE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1E204AC-C069-4742-8AAB-ABABFECC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91C9AD6-69A6-49DE-991C-684255E1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129AABE-BC46-40AF-8FA0-E584DE49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1F8A54F-1AF9-48A8-98C0-616D387E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49283-9FEF-4D53-AC0C-0DE03B48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4808A5E-E3B9-4A33-B0B3-71F529B4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45E2267-AD2B-4C51-B14A-BD2D9726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0A52B91-3B8E-46CC-A3CF-01BCC849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8485053-11D0-4D55-BCB0-7BFD9ABA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D2B19B3-2178-4937-8CFC-2A5B8F97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B4BD063-B3E6-4FD6-A1FA-CE552ECB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34F45A2-9508-44FD-ADC3-551A09C4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7D10E2A-6112-4139-B896-54857CF0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7A815CA-9834-4D78-8CB9-A3D430D4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EF74D2A-CB07-41AD-928C-AEA197D1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89A8A-E2CD-44B9-8912-851E3018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12C45EA-8AFC-4437-8072-0A2A2D67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F7B7013-0B6D-43C3-948B-EC1E54BA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50F7E15-2388-4C5F-A5F8-0AB66AF9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06AA3ED-6141-4E05-8517-5759866F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FC0CE37-CCC0-4446-B078-0F13656D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AED5975-15AD-48D4-8DC5-6BDA0C42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C871223-6EB3-4F47-B911-28613949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60175E2-1278-4C17-ADD4-B7248C67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66A615C-A749-43DF-847A-DE718F2C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9F66274-4C71-44F8-BD90-618568B8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CF86C-D890-4BE1-887A-CCD0FAD3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525DC87-79FB-4842-98DA-9263D940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16A513E-259D-4643-925E-70A2C710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618D10D-F102-41B9-8247-7E20D47F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5CEB5-2FAF-4666-9914-696D679C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CE120-B052-4410-B496-EC3FF840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0E91-8608-4C02-BB34-4505EE03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AF22C-3B47-48DF-8D94-BFECCF73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59A1A-04B1-4B1C-9572-4875F376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D33F8-B81B-4F6C-8B56-5F1EC225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627A2-168E-486F-93A9-30ECFFDC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2A720-0B9E-4A77-99F2-BE505EE3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E1F08-E1A2-471C-A352-51385DDC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60BE0-B7DD-4444-A5CA-F47D6D2C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D74DA-12D1-4BED-B54A-F929E95D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6EE2D-930F-4F3D-A7F9-F3021CBF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65A6E-76BD-4F59-B877-3EB02582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C15D-58F7-442E-B469-7DFB7561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46385-E3E3-4F26-8C0C-2013E5A0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8E4F7-ECB3-4C69-AA34-F5B7BE79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92E1E-85F1-41F5-8566-66026595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ACC66-6540-4594-ABB0-0ECDAEE8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A2678-E5F5-45D7-90D7-547E30D5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36C7D-DCFA-4F40-834C-ED73CB4F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30B4C-F1D5-4E23-8EA8-75A55E40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96057-6728-44FF-B5A3-A119E32F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28BE1-7630-468F-A409-72A6FAD3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C0B3E-1742-40A7-A8EA-079F703E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9A39-6EF6-44B7-992C-B8975136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C55F5-61B8-49F5-927B-DB503162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9F518-8598-484B-B523-272F4CD5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FB2FC-4D2C-4F4B-A61C-07945812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15314-D633-4887-B792-9DD8A317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9A37B-B30F-4F62-AE50-CAC5B0A0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216A4-F165-40DE-B3F7-BEF67388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D143A-7C85-4399-945E-91C33829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21438-0FAE-4103-86BA-235EC320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9F965-276E-4526-8D6E-E668487A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E8FF1-A2D4-4F60-8D3C-8AAC7AA3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DD01-7CB2-40FA-877C-9BFCAC5C899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3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274e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43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D5BA-BF73-460F-A169-98A311D6A38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7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47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AC31-BC3E-4817-BF1C-A5A7DEC25D8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2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52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54C1-2C6E-4100-9E85-D8ABA9978DC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6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56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6D40-9E66-4493-9D62-0A55B90491E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0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61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57BD-3181-41FF-BC80-5F4027189A7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5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91E5-DFA4-431A-9157-019882B0C57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9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69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3E6A-57AE-4890-954C-4A848CB50DA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4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74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2387-EA21-4868-A9FF-A08CB4D889F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8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78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200B-312F-42A5-879B-A31CEB3FF7C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2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83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C05E-1FFD-406B-B975-5C24848CB90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3BDA-FEC4-4445-B7DE-1D7610310E0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7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87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CE68-C9BF-4850-A070-BD125E57B35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1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1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1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2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06A1-463C-4085-A211-77F39DE1FB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6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6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6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51B0-9901-44D3-8F65-6DF2E1EB3A7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0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0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1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4180-7B17-4F35-8744-01742AAB88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5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5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5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E03C-5969-40C3-A3B1-7B33695498D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9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9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0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554F-9122-47FE-9931-DEF2C2E470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14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4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4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908E-6A0D-416A-97C6-8E843A62CF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18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8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9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B552-E223-4110-9617-CE387E10886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23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3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3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BB49-9C5F-4247-9ACA-6783F9B2706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27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7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8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9555-4045-449E-ADA2-B5FE33D500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B939-343E-459E-9381-1E5CE013615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2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2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2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9C37-983E-4E08-92EF-CAAE903AAF6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6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6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7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64DE-4F74-4C48-8749-3A7918D64E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9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9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E77F-C2C0-47E0-B654-DAD36E11B85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5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dt" idx="9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8EDD-6174-4A93-BB38-A15EA874D9C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9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 type="dt" idx="10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9BF9-06E2-43AE-85D7-4E565D55943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dt" idx="10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D739-2AB6-40FB-82B2-00F22A38657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dt" idx="10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40D0-D2BC-4651-9AB2-B7D4F547203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2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 type="dt" idx="10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3F21-A195-492C-B08B-6FB73C88A0B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 type="dt" idx="1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1E33-4D51-41D0-A7EB-CC34DED08B9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1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 type="dt" idx="1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6F34-EAF6-4A10-A709-DF9EA46B4CF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0260-F3C0-4DEF-9773-143FF507AD8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5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 type="dt" idx="1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1FD1-D5F9-4ABF-B907-E214C270366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0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 type="dt" idx="12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27A6-5147-4579-AECF-076876F4DEA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 type="dt" idx="1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2B6A-D533-4FD3-9F06-0E52AA9BA2D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8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88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grpSp>
        <p:nvGrpSpPr>
          <p:cNvPr id="188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88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89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 type="dt" idx="12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 type="ftr" idx="12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 type="sldNum" idx="12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C0B9-A140-4C05-8455-6D7A84E230F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193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93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965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 type="dt" idx="1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8B27-E969-4263-8345-F4DE47E6B01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00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00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1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4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5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6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7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8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9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0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3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4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7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8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2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3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4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5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6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7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9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 type="dt" idx="1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23E3-65CA-4FD7-B04F-E4FE2D4438C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08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08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5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8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9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0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1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2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3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4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7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8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1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2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6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7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8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9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0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1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3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 type="dt" idx="1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A237-F873-4209-AA5F-CB7218D4AEE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15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15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5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5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24DD-389E-4450-AB29-CCAE389F57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23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3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6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6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D042-DFB4-4FDF-9CEB-8F22A562DB7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30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0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7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0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1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2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3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4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5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6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9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0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3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4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8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9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0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1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2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3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5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 type="dt" idx="1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9071-E666-47B3-9DF9-D7B45D9CF8B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7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7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7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8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AFC8-62E0-4683-9646-D50BE04B217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37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7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1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4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5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6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7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8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9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0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3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4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7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8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2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3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4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5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6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7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9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 type="dt" idx="1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DE55-A940-42D4-AE4B-80AE212546E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45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45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5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8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9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0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1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2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3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4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7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8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1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2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6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7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8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9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0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1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3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 type="dt" idx="1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87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FCB9-DCD7-471B-9037-DCD71C2C587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52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52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2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2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 type="dt" idx="15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AA5B-FB3F-487B-B5BB-F9884035C01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60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60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3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3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 type="dt" idx="1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635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C6A1-9013-4EEA-B9EF-970A212AC9D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67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67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7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0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1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2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3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4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5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6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9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0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3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4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8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9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0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1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2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3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5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D955-8514-4AA2-9CDF-82D58DC41E0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7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27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3E58-81BE-4D1F-98DB-0461D647991F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 type="dt" idx="16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00" name="PlaceHolder 4"/>
          <p:cNvSpPr>
            <a:spLocks noGrp="1"/>
          </p:cNvSpPr>
          <p:nvPr>
            <p:ph type="ftr" idx="1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5"/>
          <p:cNvSpPr>
            <a:spLocks noGrp="1"/>
          </p:cNvSpPr>
          <p:nvPr>
            <p:ph type="sldNum" idx="16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8B6E-DF93-4D6F-818F-C18AB05888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ACAC-4029-4CC7-B678-774FC736D7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09ED-7EC3-425F-9988-91BB438DB2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304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1771-B0ED-45EA-89FA-2F0A426B83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8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9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2007-6CA4-49EC-84C2-D82A3BEDFDF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net196.soes.ru/" TargetMode="External"/><Relationship Id="rId3" Type="http://schemas.openxmlformats.org/officeDocument/2006/relationships/hyperlink" Target="http://www.bestreferat.ru/" TargetMode="External"/><Relationship Id="rId4" Type="http://schemas.openxmlformats.org/officeDocument/2006/relationships/hyperlink" Target="http://www.baby.com.ua/" TargetMode="External"/><Relationship Id="rId5" Type="http://schemas.openxmlformats.org/officeDocument/2006/relationships/hyperlink" Target="http://www.le-mon.ru/" TargetMode="External"/><Relationship Id="rId6" Type="http://schemas.openxmlformats.org/officeDocument/2006/relationships/hyperlink" Target="http://www.add.net.ru/" TargetMode="External"/><Relationship Id="rId7" Type="http://schemas.openxmlformats.org/officeDocument/2006/relationships/hyperlink" Target="http://www.med.resourse.ru/" TargetMode="External"/><Relationship Id="rId8" Type="http://schemas.openxmlformats.org/officeDocument/2006/relationships/hyperlink" Target="http://www.djv.ru/" TargetMode="External"/><Relationship Id="rId9" Type="http://schemas.openxmlformats.org/officeDocument/2006/relationships/image" Target="../media/image28.wm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85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52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Аддиктивное поведение учащихся,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роблемы диагностики склонности учащих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 вредным привычк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 advTm="15000">
    <p:wedg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92936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i="1" lang="ru-RU" sz="3800" spc="-1" strike="noStrike">
                <a:solidFill>
                  <a:srgbClr val="cc0000"/>
                </a:solidFill>
                <a:latin typeface="Verdana"/>
              </a:rPr>
              <a:t>Какие бывают аддикции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В зависимости от того посредством чего осуществляется уход из реальности выделяются зависимости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300" spc="-1" strike="noStrike">
                <a:solidFill>
                  <a:srgbClr val="cc0000"/>
                </a:solidFill>
                <a:latin typeface="Verdana"/>
              </a:rPr>
              <a:t>- фармакологические (химические)-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зависимость от психоактивных веществ (ПАВ)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300" spc="-1" strike="noStrike">
                <a:solidFill>
                  <a:srgbClr val="cc0000"/>
                </a:solidFill>
                <a:latin typeface="Verdana"/>
              </a:rPr>
              <a:t>- субстанциональные –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эмоциональные (секс- и любовные зависимости), трудо-  или работоголизм, компьютерные и игорные зависимости и многие другие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300" spc="-1" strike="noStrike">
                <a:solidFill>
                  <a:srgbClr val="cc0000"/>
                </a:solidFill>
                <a:latin typeface="Verdana"/>
              </a:rPr>
              <a:t>- пищевые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зависимости говорят сами за себя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2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2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2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2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2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2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2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0" fill="hold"/>
                                        <p:tgtEl>
                                          <p:spTgt spid="2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56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cc0000"/>
                </a:solidFill>
                <a:latin typeface="Verdana"/>
              </a:rPr>
              <a:t>Какие вещества, предметы или действия могут быть предметом аддикции 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ркотики, алкоголь, табак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зартные игры(включая компьютерные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лительное прослушивание ритмичной музык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лное погружение в какой-либо вид деятельности с отказом от жизненно важных обязанностей человека (хобби, работа и т.д.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люди, предметы и явления окружающей действительности, вызывающие различные эмоциональные состоя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hecker dir="vert"/>
    <p:sndAc>
      <p:stSnd>
        <p:snd r:embed="rId1" name="chimes.wav"/>
      </p:stSnd>
    </p:sndAc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2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0" fill="hold"/>
                                        <p:tgtEl>
                                          <p:spTgt spid="2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0" fill="hold"/>
                                        <p:tgtEl>
                                          <p:spTgt spid="2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0" fill="hold"/>
                                        <p:tgtEl>
                                          <p:spTgt spid="2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2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0" fill="hold"/>
                                        <p:tgtEl>
                                          <p:spTgt spid="2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2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0" fill="hold"/>
                                        <p:tgtEl>
                                          <p:spTgt spid="2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2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2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55560" y="477720"/>
            <a:ext cx="777888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cc0000"/>
                </a:solidFill>
                <a:latin typeface="Verdana"/>
              </a:rPr>
              <a:t>     </a:t>
            </a:r>
            <a:r>
              <a:rPr b="1" i="1" lang="ru-RU" sz="3900" spc="-1" strike="noStrike">
                <a:solidFill>
                  <a:srgbClr val="cc0000"/>
                </a:solidFill>
                <a:latin typeface="Verdana"/>
              </a:rPr>
              <a:t>Алкогольная аддикция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23640" y="1846440"/>
            <a:ext cx="856908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2347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5ffff"/>
                </a:solidFill>
                <a:latin typeface="Verdana"/>
              </a:rPr>
              <a:t>     </a:t>
            </a:r>
            <a:r>
              <a:rPr b="0" lang="ru-RU" sz="2100" spc="-1" strike="noStrike">
                <a:solidFill>
                  <a:srgbClr val="e5ffff"/>
                </a:solidFill>
                <a:latin typeface="Verdana"/>
              </a:rPr>
              <a:t>Одна из форм фармакологических или химических зависимосте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347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e5ffff"/>
                </a:solidFill>
                <a:latin typeface="Verdana"/>
              </a:rPr>
              <a:t>                   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2347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AutoShape 5"/>
          <p:cNvSpPr/>
          <p:nvPr/>
        </p:nvSpPr>
        <p:spPr>
          <a:xfrm>
            <a:off x="3995640" y="2421000"/>
            <a:ext cx="4584960" cy="3595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84" name="Text Box 8"/>
          <p:cNvSpPr/>
          <p:nvPr/>
        </p:nvSpPr>
        <p:spPr>
          <a:xfrm>
            <a:off x="4067280" y="2492280"/>
            <a:ext cx="43923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В основе алкогольной зависимо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сти лежит употребление спирто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содержащих напитков. Алкоголь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является пищевым продуктом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или входит в них, не являясь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запрещенным как, например,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наркотики. Алкоголь не изменя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ет, а кристаллизует текущее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состояние: если вам грустно, то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употребление алкоголя не под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нимет ваше настроение,а, наобо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рот, его еще больше ухудшит.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2885" name="Picture 9" descr="image002"/>
          <p:cNvPicPr/>
          <p:nvPr/>
        </p:nvPicPr>
        <p:blipFill>
          <a:blip r:embed="rId2"/>
          <a:stretch/>
        </p:blipFill>
        <p:spPr>
          <a:xfrm>
            <a:off x="755640" y="2708280"/>
            <a:ext cx="2752560" cy="3240000"/>
          </a:xfrm>
          <a:prstGeom prst="rect">
            <a:avLst/>
          </a:prstGeom>
          <a:ln w="0">
            <a:noFill/>
          </a:ln>
        </p:spPr>
      </p:pic>
      <p:sp>
        <p:nvSpPr>
          <p:cNvPr id="28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3" name="chimes.wav"/>
      </p:stSnd>
    </p:sndAc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2000"/>
                                        <p:tgtEl>
                                          <p:spTgt spid="2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2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690480" y="318600"/>
            <a:ext cx="78408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4215"/>
                </a:solidFill>
                <a:latin typeface="Verdana"/>
              </a:rPr>
              <a:t>Наркотическая аддикция-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олезненные состояния, характеризующиеся явления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сихической и физическо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висимости, настоятельной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преодолимой потребн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повторном потреблении П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котическими призна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щества или лекарств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торые обладают способн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ецифического действия 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тральную нервную систем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тимулируют, вызывают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йфорию, изменяют восприятие окружающего мира и т.п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9" name="Picture 6" descr="image004"/>
          <p:cNvPicPr/>
          <p:nvPr/>
        </p:nvPicPr>
        <p:blipFill>
          <a:blip r:embed="rId2"/>
          <a:stretch/>
        </p:blipFill>
        <p:spPr>
          <a:xfrm>
            <a:off x="4788000" y="206064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28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3" name="chimes.wav"/>
      </p:stSnd>
    </p:sndAc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1000"/>
                                        <p:tgtEl>
                                          <p:spTgt spid="2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68000" y="596520"/>
            <a:ext cx="809604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Лекарственная аддикция-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82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ндром, развивающийся при употреблении психотроп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ществ; характеризуется патало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ческой потребностью в прием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х веществ для того, чт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бежать развития абстиненц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ли психических нарушений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стояния дискомфорта, возникаю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щих при прекращении их прие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бо при введении антагонис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их веществ. К ним относятс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медрол, феназепам и т.п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3" name="Picture 5" descr="image006"/>
          <p:cNvPicPr/>
          <p:nvPr/>
        </p:nvPicPr>
        <p:blipFill>
          <a:blip r:embed="rId2"/>
          <a:stretch/>
        </p:blipFill>
        <p:spPr>
          <a:xfrm>
            <a:off x="611280" y="2276640"/>
            <a:ext cx="3247920" cy="3686040"/>
          </a:xfrm>
          <a:prstGeom prst="rect">
            <a:avLst/>
          </a:prstGeom>
          <a:ln w="0">
            <a:noFill/>
          </a:ln>
        </p:spPr>
      </p:pic>
      <p:sp>
        <p:nvSpPr>
          <p:cNvPr id="28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vert"/>
    <p:sndAc>
      <p:stSnd>
        <p:snd r:embed="rId3" name="chimes.wav"/>
      </p:stSnd>
    </p:sndAc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4" dur="10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44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4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4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46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46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47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8400"/>
                            </p:stCondLst>
                            <p:childTnLst>
                              <p:par>
                                <p:cTn id="4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1800"/>
                            </p:stCondLst>
                            <p:childTnLst>
                              <p:par>
                                <p:cTn id="4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5400"/>
                            </p:stCondLst>
                            <p:childTnLst>
                              <p:par>
                                <p:cTn id="4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4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42100"/>
                            </p:stCondLst>
                            <p:childTnLst>
                              <p:par>
                                <p:cTn id="50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Табакокурени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урение табака - один из наиболее распространенных вид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комании, охватывающий большое количество людей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ющийся поэтому бытовой наркоманией. Дымящаяс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гарета доставляет привычному курильщику удоволь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обенно остро ощущается потребность в курении посл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нятия пищи, во время выпивки, при отрицательны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моциях и во время напряженной работы. При этом са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дыхаемый никотин не оказывает какого-либо положитель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го действия на организм. Сигарета является больше отвл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ющим фактором:переключение сознания на неё помог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одвинуть неприятные мысли, прервать тяжелую рабо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вместное курение облегчает контакт между людьми, явля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тся хорошим предлогом для знаком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7" name="Picture 4" descr="10023"/>
          <p:cNvPicPr/>
          <p:nvPr/>
        </p:nvPicPr>
        <p:blipFill>
          <a:blip r:embed="rId2"/>
          <a:stretch/>
        </p:blipFill>
        <p:spPr>
          <a:xfrm>
            <a:off x="5508720" y="404640"/>
            <a:ext cx="1296720" cy="1297080"/>
          </a:xfrm>
          <a:prstGeom prst="rect">
            <a:avLst/>
          </a:prstGeom>
          <a:ln w="0">
            <a:noFill/>
          </a:ln>
        </p:spPr>
      </p:pic>
      <p:sp>
        <p:nvSpPr>
          <p:cNvPr id="28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vert"/>
    <p:sndAc>
      <p:stSnd>
        <p:snd r:embed="rId3" name="chimes.wav"/>
      </p:stSnd>
    </p:sndAc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5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52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5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53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5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32600"/>
                            </p:stCondLst>
                            <p:childTnLst>
                              <p:par>
                                <p:cTn id="5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37900"/>
                            </p:stCondLst>
                            <p:childTnLst>
                              <p:par>
                                <p:cTn id="55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43100"/>
                            </p:stCondLst>
                            <p:childTnLst>
                              <p:par>
                                <p:cTn id="55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8900"/>
                            </p:stCondLst>
                            <p:childTnLst>
                              <p:par>
                                <p:cTn id="5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4900"/>
                            </p:stCondLst>
                            <p:childTnLst>
                              <p:par>
                                <p:cTn id="57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60600"/>
                            </p:stCondLst>
                            <p:childTnLst>
                              <p:par>
                                <p:cTn id="5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66300"/>
                            </p:stCondLst>
                            <p:childTnLst>
                              <p:par>
                                <p:cTn id="5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72200"/>
                            </p:stCondLst>
                            <p:childTnLst>
                              <p:par>
                                <p:cTn id="5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Токсикома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ксикомания развивается в связ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употреблением лекарств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ств и веществ, не отнес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наркотическим, но также изменя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ющих психическое состоян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ловека и его поведение. Диапазо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ществ с токсикологически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йствием очень широк – от мед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ментов (аналгетики, транквил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торы, снотворные, стимуля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др.) до технических растворител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средств бытовой хим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1" name="Picture 8" descr="image008"/>
          <p:cNvPicPr/>
          <p:nvPr/>
        </p:nvPicPr>
        <p:blipFill>
          <a:blip r:embed="rId2"/>
          <a:stretch/>
        </p:blipFill>
        <p:spPr>
          <a:xfrm>
            <a:off x="5651640" y="1628640"/>
            <a:ext cx="2895480" cy="4324320"/>
          </a:xfrm>
          <a:prstGeom prst="rect">
            <a:avLst/>
          </a:prstGeom>
          <a:ln w="0">
            <a:noFill/>
          </a:ln>
        </p:spPr>
      </p:pic>
      <p:sp>
        <p:nvSpPr>
          <p:cNvPr id="2902" name="AutoShape 9"/>
          <p:cNvSpPr/>
          <p:nvPr/>
        </p:nvSpPr>
        <p:spPr>
          <a:xfrm>
            <a:off x="6516720" y="3573360"/>
            <a:ext cx="1258920" cy="1042920"/>
          </a:xfrm>
          <a:custGeom>
            <a:avLst/>
            <a:gdLst>
              <a:gd name="textAreaLeft" fmla="*/ 67320 w 1258920"/>
              <a:gd name="textAreaRight" fmla="*/ 1191600 w 1258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6072" h="21600">
                <a:moveTo>
                  <a:pt x="0" y="0"/>
                </a:moveTo>
                <a:lnTo>
                  <a:pt x="26072" y="0"/>
                </a:lnTo>
                <a:lnTo>
                  <a:pt x="26072" y="21600"/>
                </a:lnTo>
                <a:lnTo>
                  <a:pt x="0" y="21600"/>
                </a:lnTo>
                <a:close/>
              </a:path>
              <a:path fill="lightenLess" w="26072" h="21600">
                <a:moveTo>
                  <a:pt x="0" y="0"/>
                </a:moveTo>
                <a:lnTo>
                  <a:pt x="26072" y="0"/>
                </a:lnTo>
                <a:lnTo>
                  <a:pt x="24672" y="1400"/>
                </a:lnTo>
                <a:lnTo>
                  <a:pt x="1400" y="1400"/>
                </a:lnTo>
                <a:close/>
              </a:path>
              <a:path fill="darken" w="26072" h="21600">
                <a:moveTo>
                  <a:pt x="26072" y="0"/>
                </a:moveTo>
                <a:lnTo>
                  <a:pt x="26072" y="21600"/>
                </a:lnTo>
                <a:lnTo>
                  <a:pt x="24672" y="20200"/>
                </a:lnTo>
                <a:lnTo>
                  <a:pt x="24672" y="1400"/>
                </a:lnTo>
                <a:close/>
              </a:path>
              <a:path fill="darkenLess" w="26072" h="21600">
                <a:moveTo>
                  <a:pt x="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2" y="20200"/>
                </a:lnTo>
                <a:close/>
              </a:path>
              <a:path fill="lighten" w="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2" h="21600">
                <a:moveTo>
                  <a:pt x="13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072" h="21600">
                <a:moveTo>
                  <a:pt x="14141" y="14281"/>
                </a:moveTo>
                <a:lnTo>
                  <a:pt x="14141" y="12323"/>
                </a:lnTo>
                <a:cubicBezTo>
                  <a:pt x="14141" y="11496"/>
                  <a:pt x="14472" y="10800"/>
                  <a:pt x="15073" y="10800"/>
                </a:cubicBezTo>
                <a:cubicBezTo>
                  <a:pt x="16204" y="10800"/>
                  <a:pt x="17101" y="9434"/>
                  <a:pt x="17101" y="7849"/>
                </a:cubicBezTo>
                <a:cubicBezTo>
                  <a:pt x="17101" y="5534"/>
                  <a:pt x="15247" y="3794"/>
                  <a:pt x="13036" y="3794"/>
                </a:cubicBezTo>
                <a:cubicBezTo>
                  <a:pt x="10825" y="3794"/>
                  <a:pt x="9154" y="5534"/>
                  <a:pt x="9154" y="7849"/>
                </a:cubicBezTo>
                <a:lnTo>
                  <a:pt x="11008" y="7849"/>
                </a:lnTo>
                <a:cubicBezTo>
                  <a:pt x="11008" y="6709"/>
                  <a:pt x="11931" y="5821"/>
                  <a:pt x="13036" y="5821"/>
                </a:cubicBezTo>
                <a:cubicBezTo>
                  <a:pt x="14141" y="5821"/>
                  <a:pt x="15073" y="6709"/>
                  <a:pt x="15073" y="7849"/>
                </a:cubicBezTo>
                <a:cubicBezTo>
                  <a:pt x="15073" y="8589"/>
                  <a:pt x="14603" y="9320"/>
                  <a:pt x="14141" y="9320"/>
                </a:cubicBezTo>
                <a:cubicBezTo>
                  <a:pt x="13036" y="9320"/>
                  <a:pt x="11931" y="10800"/>
                  <a:pt x="11931" y="12323"/>
                </a:cubicBezTo>
                <a:lnTo>
                  <a:pt x="11931" y="142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3" name="chimes.wav"/>
      </p:stSnd>
    </p:sndAc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0" dur="1000"/>
                                        <p:tgtEl>
                                          <p:spTgt spid="2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2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2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2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2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29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29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29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29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29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29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29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20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9" dur="20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0000"/>
            </a:gs>
            <a:gs pos="100000">
              <a:srgbClr val="ffd5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Суици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мерение лишить себя жизни, повышенный риск сове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ения самоубийства. Эта форма отклоняющегося повед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ия пассивного типа является способом ухода от нераз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имых проблем.Идея может стать навязчивой и превра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иться в аддикцию. Суициды в большей степени характе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ы для высокоразвитых стран, и сегодня существует тен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нция к увеличению их числа. Суицидная актив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еет временные циклы: весенне -летний пик и осенн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имний спад. Количество самоубийств возрастает во вто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ик и снижается в среду-четверг.Чаще совершаются в воз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те после 55 и до 20 лет.Соотношение между мужчина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женщинами-самоубийцами примерно 4: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1" name="chimes.wav"/>
      </p:stSnd>
    </p:sndAc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2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1000"/>
                                        <p:tgtEl>
                                          <p:spTgt spid="2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1000"/>
                                        <p:tgtEl>
                                          <p:spTgt spid="2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2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1000"/>
                                        <p:tgtEl>
                                          <p:spTgt spid="2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1000"/>
                                        <p:tgtEl>
                                          <p:spTgt spid="2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2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1000"/>
                                        <p:tgtEl>
                                          <p:spTgt spid="29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1000"/>
                                        <p:tgtEl>
                                          <p:spTgt spid="29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1000"/>
                                        <p:tgtEl>
                                          <p:spTgt spid="29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1000"/>
                                        <p:tgtEl>
                                          <p:spTgt spid="29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1000"/>
                                        <p:tgtEl>
                                          <p:spTgt spid="29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1000"/>
                                        <p:tgtEl>
                                          <p:spTgt spid="29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Трудоголиз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удоголизм, в отличие от многи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ругих зависимостей, являе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циально-одобряемой аддикци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 на самом деле трудоголик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личность с определенными психологическими пробл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ми.Трудоголиком может стать и лентяй, дни и ноч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сиживающий на работе во время домашних неурядиц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ом психологического дискомфорта, психолог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ской травмы чаще всего бывает реально пережиты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ли мнимый страх:боязнь неудачи, страх перед одиноч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вом или, напротив, боязнь общ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9" name="Picture 6" descr="image012"/>
          <p:cNvPicPr/>
          <p:nvPr/>
        </p:nvPicPr>
        <p:blipFill>
          <a:blip r:embed="rId2"/>
          <a:stretch/>
        </p:blipFill>
        <p:spPr>
          <a:xfrm>
            <a:off x="5508720" y="549360"/>
            <a:ext cx="3267000" cy="2438280"/>
          </a:xfrm>
          <a:prstGeom prst="rect">
            <a:avLst/>
          </a:prstGeom>
          <a:ln w="0">
            <a:noFill/>
          </a:ln>
        </p:spPr>
      </p:pic>
      <p:sp>
        <p:nvSpPr>
          <p:cNvPr id="29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vert"/>
    <p:sndAc>
      <p:stSnd>
        <p:snd r:embed="rId3" name="chimes.wav"/>
      </p:stSnd>
    </p:sndAc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3" dur="1000"/>
                                        <p:tgtEl>
                                          <p:spTgt spid="2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7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7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4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75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6400"/>
                            </p:stCondLst>
                            <p:childTnLst>
                              <p:par>
                                <p:cTn id="76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31700"/>
                            </p:stCondLst>
                            <p:childTnLst>
                              <p:par>
                                <p:cTn id="7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37400"/>
                            </p:stCondLst>
                            <p:childTnLst>
                              <p:par>
                                <p:cTn id="7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42600"/>
                            </p:stCondLst>
                            <p:childTnLst>
                              <p:par>
                                <p:cTn id="7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48200"/>
                            </p:stCondLst>
                            <p:childTnLst>
                              <p:par>
                                <p:cTn id="7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Verdana"/>
              </a:rPr>
              <a:t>Пищевые зависимост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566640" y="1773360"/>
            <a:ext cx="818208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ним относятся такие пс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ические расстройства ка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улимия (переедание)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орексия (доброволь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каз от пищи).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ищевая зависимость 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не только переедание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лодание,но и зависим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 вкуса:от вкуса кофе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околада, сливок и т.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3" name="Picture 8" descr="image010"/>
          <p:cNvPicPr/>
          <p:nvPr/>
        </p:nvPicPr>
        <p:blipFill>
          <a:blip r:embed="rId2"/>
          <a:stretch/>
        </p:blipFill>
        <p:spPr>
          <a:xfrm>
            <a:off x="4500720" y="1052640"/>
            <a:ext cx="3981240" cy="2666880"/>
          </a:xfrm>
          <a:prstGeom prst="rect">
            <a:avLst/>
          </a:prstGeom>
          <a:ln w="0">
            <a:noFill/>
          </a:ln>
        </p:spPr>
      </p:pic>
      <p:pic>
        <p:nvPicPr>
          <p:cNvPr id="2914" name="Picture 9" descr="image014"/>
          <p:cNvPicPr/>
          <p:nvPr/>
        </p:nvPicPr>
        <p:blipFill>
          <a:blip r:embed="rId3"/>
          <a:stretch/>
        </p:blipFill>
        <p:spPr>
          <a:xfrm>
            <a:off x="684360" y="3716280"/>
            <a:ext cx="3981240" cy="2666880"/>
          </a:xfrm>
          <a:prstGeom prst="rect">
            <a:avLst/>
          </a:prstGeom>
          <a:ln w="0">
            <a:noFill/>
          </a:ln>
        </p:spPr>
      </p:pic>
      <p:sp>
        <p:nvSpPr>
          <p:cNvPr id="29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vert"/>
    <p:sndAc>
      <p:stSnd>
        <p:snd r:embed="rId4" name="chimes.wav"/>
      </p:stSnd>
    </p:sndAc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0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8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8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8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8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8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8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8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ЕТИ – это наш суд на миру, наше зеркало, в котором совесть, ум, честность, опрятность нашу – все наголо вид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ети могут нами закрыться, мы ими никог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.П.Астафье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49" name="Picture 4" descr="j0284916"/>
          <p:cNvPicPr/>
          <p:nvPr/>
        </p:nvPicPr>
        <p:blipFill>
          <a:blip r:embed="rId1"/>
          <a:stretch/>
        </p:blipFill>
        <p:spPr>
          <a:xfrm>
            <a:off x="1187280" y="3429000"/>
            <a:ext cx="3657600" cy="2419200"/>
          </a:xfrm>
          <a:prstGeom prst="rect">
            <a:avLst/>
          </a:prstGeom>
          <a:ln w="0">
            <a:noFill/>
          </a:ln>
        </p:spPr>
      </p:pic>
      <p:sp>
        <p:nvSpPr>
          <p:cNvPr id="28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Verdana"/>
              </a:rPr>
              <a:t>Игромания и компьютерная зависимо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ной из проблем современно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формационного общес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ется новая для педагог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а – </a:t>
            </a: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игромания и  компью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терная зависимость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ув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ьютерными играми, интернет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ями, игровыми автоматами, азартными игр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громания – увлечение или болезнь? Психиатры утве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дают – игромания лечится, но бороться с зависим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ужно на ранней стадии.Болезнь начинается с привязан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сти к компьютерным играм, которая превращается 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талогию.Игра – это взаимодействие. И не важно с кем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людьми, компьютером или же с самим собо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8" name="Picture 6" descr="image016"/>
          <p:cNvPicPr/>
          <p:nvPr/>
        </p:nvPicPr>
        <p:blipFill>
          <a:blip r:embed="rId2"/>
          <a:stretch/>
        </p:blipFill>
        <p:spPr>
          <a:xfrm>
            <a:off x="5435640" y="1052640"/>
            <a:ext cx="3238560" cy="2523960"/>
          </a:xfrm>
          <a:prstGeom prst="rect">
            <a:avLst/>
          </a:prstGeom>
          <a:ln w="0">
            <a:noFill/>
          </a:ln>
        </p:spPr>
      </p:pic>
      <p:sp>
        <p:nvSpPr>
          <p:cNvPr id="29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3" name="chimes.wav"/>
      </p:stSnd>
    </p:sndAc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0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1000"/>
                                        <p:tgtEl>
                                          <p:spTgt spid="2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8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8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89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18600"/>
                            </p:stCondLst>
                            <p:childTnLst>
                              <p:par>
                                <p:cTn id="8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90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9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33400"/>
                            </p:stCondLst>
                            <p:childTnLst>
                              <p:par>
                                <p:cTn id="9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92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9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49800"/>
                            </p:stCondLst>
                            <p:childTnLst>
                              <p:par>
                                <p:cTn id="9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55300"/>
                            </p:stCondLst>
                            <p:childTnLst>
                              <p:par>
                                <p:cTn id="9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Проблемы компьютерной зависим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1" name="Picture 9" descr="image018"/>
          <p:cNvPicPr/>
          <p:nvPr/>
        </p:nvPicPr>
        <p:blipFill>
          <a:blip r:embed="rId2"/>
          <a:stretch/>
        </p:blipFill>
        <p:spPr>
          <a:xfrm>
            <a:off x="468360" y="907920"/>
            <a:ext cx="8064360" cy="5183280"/>
          </a:xfrm>
          <a:prstGeom prst="rect">
            <a:avLst/>
          </a:prstGeom>
          <a:ln w="0">
            <a:noFill/>
          </a:ln>
        </p:spPr>
      </p:pic>
      <p:sp>
        <p:nvSpPr>
          <p:cNvPr id="2922" name="Text Box 10"/>
          <p:cNvSpPr/>
          <p:nvPr/>
        </p:nvSpPr>
        <p:spPr>
          <a:xfrm>
            <a:off x="395280" y="981000"/>
            <a:ext cx="8748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ритерии, определяющие начало компьютерной 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зависимости: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беспричинные частые и резкие перепады настроения       от подавленного до эйфорически-приподнятого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болезненная и неадекватная реакция на критику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нарастающая оппозиционность к родителям, друзьям, значительное эмоциональное отчуждение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ухудшение памяти, внимания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снижение успеваемости, прогулы занятий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уход от участия в делах, которые ранее были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нтересны, отказ от хобби, любимого дела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пропажа из дома ценностей или денег, проявление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чужих вещей, денежные долги ребенка,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появляющаяся изворотливость, лживость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неопрятность, неряшливость не характерные ранее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приступы депрессии, страха, тревоги.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3" name="chimes.wav"/>
      </p:stSnd>
    </p:sndAc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0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29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574200" y="404280"/>
            <a:ext cx="8001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Памятка для родителей по использованию компьютера ребенк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того, чтобы родители могли контролировать использование ребенком компьютера, они сами должны хотя бы на элементарном уровне уметь им пользова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бенок не должен играть в компьютерные игры перед сн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рез каждые 20-30 минут работы на компьютере необходимо делать переры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бенок не должен работать на компьютере более 1,5-2 часов в сут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ребенок посещает компьютерный клуб, родители должны знать, в каком клубе (зале) он бывает и с кем там общае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dissolve/>
    <p:sndAc>
      <p:stSnd>
        <p:snd r:embed="rId7" name="chimes.wav"/>
      </p:stSnd>
    </p:sndAc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nodeType="clickEffect" fill="hold">
                      <p:stCondLst>
                        <p:cond delay="0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0" fill="hold"/>
                                        <p:tgtEl>
                                          <p:spTgt spid="2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0" fill="hold"/>
                                        <p:tgtEl>
                                          <p:spTgt spid="2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0" fill="hold"/>
                                        <p:tgtEl>
                                          <p:spTgt spid="2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0" fill="hold"/>
                                        <p:tgtEl>
                                          <p:spTgt spid="2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0" fill="hold"/>
                                        <p:tgtEl>
                                          <p:spTgt spid="2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0" fill="hold"/>
                                        <p:tgtEl>
                                          <p:spTgt spid="2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0" fill="hold"/>
                                        <p:tgtEl>
                                          <p:spTgt spid="2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0" fill="hold"/>
                                        <p:tgtEl>
                                          <p:spTgt spid="2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8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0" fill="hold"/>
                                        <p:tgtEl>
                                          <p:spTgt spid="2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0" fill="hold"/>
                                        <p:tgtEl>
                                          <p:spTgt spid="2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99308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Компьютер-мясорубка для информации. </a:t>
            </a:r>
            <a:br>
              <a:rPr sz="2000"/>
            </a:b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                      Компьютер-это резонатор того интеллекта,</a:t>
            </a:r>
            <a:br>
              <a:rPr sz="2000"/>
            </a:b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                      с которым человек к нему обращае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                                              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дители должны контролировать приобретение ребенком компьютерных дисков с играми, чтобы они не причинили вреда детскому здоровью и психи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ребенок использует компьютер безответственно, необходимо ввести пароль, чтобы сделать невозможным доступ без разрешения родител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какие именно Интернет - сайты посещает ваш ребен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9" name="Picture 4" descr="j0195384"/>
          <p:cNvPicPr/>
          <p:nvPr/>
        </p:nvPicPr>
        <p:blipFill>
          <a:blip r:embed="rId5"/>
          <a:stretch/>
        </p:blipFill>
        <p:spPr>
          <a:xfrm>
            <a:off x="611280" y="333360"/>
            <a:ext cx="2144520" cy="2190600"/>
          </a:xfrm>
          <a:prstGeom prst="rect">
            <a:avLst/>
          </a:prstGeom>
          <a:ln w="0">
            <a:noFill/>
          </a:ln>
        </p:spPr>
      </p:pic>
      <p:sp>
        <p:nvSpPr>
          <p:cNvPr id="2930" name="Text Box 5"/>
          <p:cNvSpPr/>
          <p:nvPr/>
        </p:nvSpPr>
        <p:spPr>
          <a:xfrm>
            <a:off x="6732720" y="1268280"/>
            <a:ext cx="180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В.Г.Кротов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6" name="chimes.wav"/>
      </p:stSnd>
    </p:sndAc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0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0" fill="hold"/>
                                        <p:tgtEl>
                                          <p:spTgt spid="2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0" fill="hold"/>
                                        <p:tgtEl>
                                          <p:spTgt spid="2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0" fill="hold"/>
                                        <p:tgtEl>
                                          <p:spTgt spid="2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0" fill="hold"/>
                                        <p:tgtEl>
                                          <p:spTgt spid="2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0" fill="hold"/>
                                        <p:tgtEl>
                                          <p:spTgt spid="2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0" fill="hold"/>
                                        <p:tgtEl>
                                          <p:spTgt spid="2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0" fill="hold"/>
                                        <p:tgtEl>
                                          <p:spTgt spid="2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0" fill="hold"/>
                                        <p:tgtEl>
                                          <p:spTgt spid="2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2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Подробно о методах и приемах профилактики компьютерной зависимости можно ознакомиться на Интернет – сайтах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net196.soes.r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BestReferat.r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www.baby.com.ua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www.Le-Mon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add.net.r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www.med.resourse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www.DJV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www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одител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>
              <a:spcBef>
                <a:spcPts val="8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4" name="Picture 4" descr="j0205466"/>
          <p:cNvPicPr/>
          <p:nvPr/>
        </p:nvPicPr>
        <p:blipFill>
          <a:blip r:embed="rId9"/>
          <a:stretch/>
        </p:blipFill>
        <p:spPr>
          <a:xfrm>
            <a:off x="395280" y="2708280"/>
            <a:ext cx="1819440" cy="1809720"/>
          </a:xfrm>
          <a:prstGeom prst="rect">
            <a:avLst/>
          </a:prstGeom>
          <a:ln w="0">
            <a:noFill/>
          </a:ln>
        </p:spPr>
      </p:pic>
      <p:sp>
        <p:nvSpPr>
          <p:cNvPr id="29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10" name="chimes.wav"/>
      </p:stSnd>
    </p:sndAc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nodeType="clickEffect" fill="hold">
                      <p:stCondLst>
                        <p:cond delay="0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9" dur="2000"/>
                                        <p:tgtEl>
                                          <p:spTgt spid="2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0" fill="hold"/>
                                        <p:tgtEl>
                                          <p:spTgt spid="2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0" fill="hold"/>
                                        <p:tgtEl>
                                          <p:spTgt spid="2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0" fill="hold"/>
                                        <p:tgtEl>
                                          <p:spTgt spid="2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0" fill="hold"/>
                                        <p:tgtEl>
                                          <p:spTgt spid="2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6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7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108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574200" y="260280"/>
            <a:ext cx="80010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Как воспитать у ребенка положительные привычк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24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Первое правило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обходимо научить ребенка осознавать, что без неё жизнь превращается в катастроф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Второе правило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Ребенок должен научиться никогда не давать себе поблажки в проявлении той или иной привычки. Необходимо создать условия для исправления плохих привычек, даже если для этого необходимо проявить твердость и жестк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Третье правило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Необходимо учить ребенка использовать любую возможность для проявления положительной привычки. Тренировка в  положительных привычках приводит к их закреплению и привычки становятся «второй натурой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5" name="chimes.wav"/>
      </p:stSnd>
    </p:sndAc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0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0" fill="hold"/>
                                        <p:tgtEl>
                                          <p:spTgt spid="2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0" fill="hold"/>
                                        <p:tgtEl>
                                          <p:spTgt spid="2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0" fill="hold"/>
                                        <p:tgtEl>
                                          <p:spTgt spid="2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0" fill="hold"/>
                                        <p:tgtEl>
                                          <p:spTgt spid="2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0" fill="hold"/>
                                        <p:tgtEl>
                                          <p:spTgt spid="2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0" fill="hold"/>
                                        <p:tgtEl>
                                          <p:spTgt spid="2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bd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574200" y="-306720"/>
            <a:ext cx="80010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566640" y="404640"/>
            <a:ext cx="8182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ccff"/>
                </a:solidFill>
                <a:latin typeface="Verdana"/>
              </a:rPr>
              <a:t>Четвертое правило.</a:t>
            </a:r>
            <a:r>
              <a:rPr b="0" lang="ru-RU" sz="2000" spc="-1" strike="noStrike">
                <a:solidFill>
                  <a:srgbClr val="00cc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льзя бесконечно говорить обладателю плохой привычки, что он - её хозяин. Бесконечные проповеди и нравоучения озлобляют        учащихся. Многие учащиеся и так прекрасно знают, что у них есть плохие привычки. Надо быть среди учащихся очень авторитетным человеком, чтобы они стали прислушиваться к взрослым и хотели исправить свои привыч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ccff"/>
                </a:solidFill>
                <a:latin typeface="Verdana"/>
              </a:rPr>
              <a:t>Пятое правило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проявления положительных привычек взрослый ( классный руководитель, родитель) должен создавать условия. Если классный руководитель знает, что большинство учащихся курит, необходимо организовать встречи с врачами, людьми, преодолевшими пристрастие к курению, смотреть фильмы, участвовать и организовывать акции и т.п. Однако для того чтобы так строить работу, надо знать, какие вредные привычки стали частью образа жизни ваших дет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2"/>
    <p:sndAc>
      <p:stSnd>
        <p:snd r:embed="rId3" name="chimes.wav"/>
      </p:stSnd>
    </p:sndAc>
  </p:transition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0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2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8" dur="2000" fill="hold"/>
                                        <p:tgtEl>
                                          <p:spTgt spid="2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0"/>
                </a:solidFill>
                <a:latin typeface="Verdana"/>
              </a:rPr>
              <a:t>        </a:t>
            </a:r>
            <a:r>
              <a:rPr b="1" i="1" lang="ru-RU" sz="4000" spc="-1" strike="noStrike">
                <a:solidFill>
                  <a:srgbClr val="fffff0"/>
                </a:solidFill>
                <a:latin typeface="Verdana"/>
              </a:rPr>
              <a:t>Желаем успех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в преодолении вредных привыче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и зависимостей ( аддикций 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и воспитании положительны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привыче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Смысл притягивает, комплекс толкает».(Франкл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висимость-это не притяжение, это толк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лкание изнутри собственным страхом подростка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ахом перед реальностью.Помогите ребенк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бавиться от своих страхов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3"/>
    <p:sndAc>
      <p:stSnd>
        <p:snd r:embed="rId2" name="chimes.wav"/>
      </p:stSnd>
    </p:sndAc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0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10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1000"/>
                                        <p:tgtEl>
                                          <p:spTgt spid="2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1000"/>
                                        <p:tgtEl>
                                          <p:spTgt spid="2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1000"/>
                                        <p:tgtEl>
                                          <p:spTgt spid="2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1000"/>
                                        <p:tgtEl>
                                          <p:spTgt spid="2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1000"/>
                                        <p:tgtEl>
                                          <p:spTgt spid="2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1000"/>
                                        <p:tgtEl>
                                          <p:spTgt spid="2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3" dur="1000"/>
                                        <p:tgtEl>
                                          <p:spTgt spid="2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1000"/>
                                        <p:tgtEl>
                                          <p:spTgt spid="29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1000"/>
                                        <p:tgtEl>
                                          <p:spTgt spid="29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1000"/>
                                        <p:tgtEl>
                                          <p:spTgt spid="29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8" dur="20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1" dur="10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00"/>
                </a:solidFill>
                <a:latin typeface="Arial"/>
              </a:rPr>
              <a:t>Что такое привычк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ивычка – это капитал, приобретаемый       в ходе постоянных упражнений. Их надо сначала накопить, а потом жить на проценты с этого капитала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жемс,амер.псих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med">
    <p:zoom dir="out"/>
    <p:sndAc>
      <p:stSnd>
        <p:snd r:embed="rId1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94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6376"/>
            </a:gs>
            <a:gs pos="50000">
              <a:srgbClr val="ffd5ff"/>
            </a:gs>
            <a:gs pos="100000">
              <a:srgbClr val="7663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Начиная разговор о вредных привычках и зависимостях с подростками или родителями, воспользуйтесь следующими известными афоризмами:</a:t>
            </a:r>
            <a:br>
              <a:rPr sz="2400"/>
            </a:br>
            <a:endParaRPr b="1" lang="en-US" sz="2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205848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ивычка - вторая натура.»                                           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ицеро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1302"/>
                </a:solidFill>
                <a:latin typeface="Arial"/>
              </a:rPr>
              <a:t>«Руководителем в жизни является не разум, а привычка. Лишь она понуждает ум во всех случаях предполагать, что будущее соответствует прошлому.»                                             </a:t>
            </a:r>
            <a:r>
              <a:rPr b="0" i="1" lang="ru-RU" sz="1800" spc="-1" strike="noStrike">
                <a:solidFill>
                  <a:srgbClr val="7c1302"/>
                </a:solidFill>
                <a:latin typeface="Arial"/>
              </a:rPr>
              <a:t>(Юм Дави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ивычка, эта вторая натура, оказывается для большинства людей их единственной натурой.»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Ромен Ролла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1302"/>
                </a:solidFill>
                <a:latin typeface="Arial"/>
              </a:rPr>
              <a:t>«Привычки превращают обязанности в удовольствия, а удовольствия в обязанности.»                      </a:t>
            </a:r>
            <a:r>
              <a:rPr b="0" i="1" lang="ru-RU" sz="1800" spc="-1" strike="noStrike">
                <a:solidFill>
                  <a:srgbClr val="7c1302"/>
                </a:solidFill>
                <a:latin typeface="Arial"/>
              </a:rPr>
              <a:t>(Э.А.Севрус (Ворохов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ся вторая половина человеческой жизни составляется обыкновенно из одних только накопленных в первую половину привычек.»                                                          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стоевский Ф.М.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over dir="l"/>
    <p:sndAc>
      <p:stSnd>
        <p:snd r:embed="rId6" name="chimes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20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2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2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2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2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2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2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2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Так ли безобидны детские «безобидные» привычк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лонность ко лжи?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бедничество?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ксивость?                      </a:t>
            </a:r>
            <a:r>
              <a:rPr b="0" i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бывчивость?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ы в азартные игры?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сцельное гуляние?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лечение мобильными телефонам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ражание героям фильмов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лечение японскими мультикам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рес к эротическим рисункам и фильма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9" name="Picture 6" descr="j0286034"/>
          <p:cNvPicPr/>
          <p:nvPr/>
        </p:nvPicPr>
        <p:blipFill>
          <a:blip r:embed="rId12"/>
          <a:stretch/>
        </p:blipFill>
        <p:spPr>
          <a:xfrm>
            <a:off x="7451640" y="404640"/>
            <a:ext cx="919080" cy="88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60" name="AutoShape 7"/>
          <p:cNvSpPr/>
          <p:nvPr/>
        </p:nvSpPr>
        <p:spPr>
          <a:xfrm>
            <a:off x="4572000" y="1989000"/>
            <a:ext cx="4332240" cy="2156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Если вовремя не обратить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внимания на эти «безобид-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ные» привычки, ребенок 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может стать зависимым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и мы получим личность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с девиантным поведением.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over dir="r"/>
    <p:sndAc>
      <p:stSnd>
        <p:snd r:embed="rId13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2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2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2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2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2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2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2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2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2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2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2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2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2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2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2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2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2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2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2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2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2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2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2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2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2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ддиктивное поведение -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клонность  подростка  к приобретению вредных привыч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агубная склонность к чему-либ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Суть аддиктивного поведения заключается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стремлении изменить своё психическое 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посредством приёма некоторых веществ или фиксацией внимания на определенных предме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или видах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2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2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1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2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2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2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2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2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2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2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2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Garamond"/>
              </a:rPr>
              <a:t>Что происходит с психикой человека, склонного к аддикции?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цесс употребления ПАВ, привязанность к предмету или действию сопровождается развитием интенсивных эмоций, принимает такие размеры, что начинает управлять жизнью человека, лишает его воли к противодействию аддик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7" name="Picture 10" descr="j0302953"/>
          <p:cNvPicPr/>
          <p:nvPr/>
        </p:nvPicPr>
        <p:blipFill>
          <a:blip r:embed="rId1"/>
          <a:stretch/>
        </p:blipFill>
        <p:spPr>
          <a:xfrm>
            <a:off x="7093080" y="836640"/>
            <a:ext cx="1263600" cy="1770120"/>
          </a:xfrm>
          <a:prstGeom prst="rect">
            <a:avLst/>
          </a:prstGeom>
          <a:ln w="0">
            <a:noFill/>
          </a:ln>
        </p:spPr>
      </p:pic>
      <p:sp>
        <p:nvSpPr>
          <p:cNvPr id="28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2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94088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00"/>
                </a:solidFill>
                <a:latin typeface="Garamond"/>
              </a:rPr>
              <a:t>Кто склонен к аддикциям?</a:t>
            </a:r>
            <a:br>
              <a:rPr sz="4800"/>
            </a:br>
            <a:endParaRPr b="0" lang="en-US" sz="4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юди с низкой переносимостью психологических затруднений, плохо адаптирующиеся к быстрой смене жизненных обстоятельств, стремящиеся в связи с этим быстрее и проще достичь психофизиологического комфор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1000"/>
                                        <p:tgtEl>
                                          <p:spTgt spid="2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С чем связано аддиктивное        поведение?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желанием человека уйти из реальной жизни путем изменения своего сознания. Аддикция становится средством бегства от проблем. Для самозащиты, люди с аддиктивным поведением используют механизм, называемый в психологии «мышлением по желанию», т.е. они считают реальным лишь то, что соответствует их желаниям. В итоге нарушаются межличностные отношения, человек отчуждается от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2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3:06:43Z</dcterms:created>
  <dc:creator>Сарахман И.Д.</dc:creator>
  <dc:description/>
  <dc:language>en-US</dc:language>
  <cp:lastModifiedBy>LEGION</cp:lastModifiedBy>
  <dcterms:modified xsi:type="dcterms:W3CDTF">2015-05-12T09:04:39Z</dcterms:modified>
  <cp:revision>52</cp:revision>
  <dc:subject/>
  <dc:title>Аддиктивное поведение учащихс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