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27.wmf" ContentType="image/x-wmf"/>
  <Override PartName="/ppt/media/image24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6.wmf" ContentType="image/x-wmf"/>
  <Override PartName="/ppt/media/image19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31.png" ContentType="image/png"/>
  <Override PartName="/ppt/media/image1.png" ContentType="image/png"/>
  <Override PartName="/ppt/media/image13.jpeg" ContentType="image/jpeg"/>
  <Override PartName="/ppt/media/image14.jpeg" ContentType="image/jpeg"/>
  <Override PartName="/ppt/media/image20.jpeg" ContentType="image/jpeg"/>
  <Override PartName="/ppt/media/chimes.wav" ContentType="audio/x-wav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</p:sldMasterIdLst>
  <p:notesMasterIdLst>
    <p:notesMasterId r:id="rId58"/>
  </p:notesMasterIdLst>
  <p:sldIdLst>
    <p:sldId id="256" r:id="rId59"/>
    <p:sldId id="257" r:id="rId60"/>
    <p:sldId id="258" r:id="rId61"/>
    <p:sldId id="259" r:id="rId62"/>
    <p:sldId id="260" r:id="rId63"/>
    <p:sldId id="261" r:id="rId64"/>
    <p:sldId id="262" r:id="rId65"/>
    <p:sldId id="263" r:id="rId66"/>
    <p:sldId id="264" r:id="rId67"/>
    <p:sldId id="265" r:id="rId68"/>
    <p:sldId id="266" r:id="rId69"/>
    <p:sldId id="267" r:id="rId70"/>
    <p:sldId id="268" r:id="rId71"/>
    <p:sldId id="269" r:id="rId72"/>
    <p:sldId id="270" r:id="rId73"/>
    <p:sldId id="271" r:id="rId74"/>
    <p:sldId id="272" r:id="rId75"/>
    <p:sldId id="273" r:id="rId76"/>
    <p:sldId id="274" r:id="rId77"/>
    <p:sldId id="275" r:id="rId78"/>
    <p:sldId id="276" r:id="rId79"/>
    <p:sldId id="277" r:id="rId80"/>
    <p:sldId id="278" r:id="rId81"/>
    <p:sldId id="279" r:id="rId82"/>
    <p:sldId id="280" r:id="rId83"/>
    <p:sldId id="281" r:id="rId84"/>
    <p:sldId id="282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notesMaster" Target="notesMasters/notesMaster1.xml"/><Relationship Id="rId59" Type="http://schemas.openxmlformats.org/officeDocument/2006/relationships/slide" Target="slides/slide1.xml"/><Relationship Id="rId60" Type="http://schemas.openxmlformats.org/officeDocument/2006/relationships/slide" Target="slides/slide2.xml"/><Relationship Id="rId61" Type="http://schemas.openxmlformats.org/officeDocument/2006/relationships/slide" Target="slides/slide3.xml"/><Relationship Id="rId62" Type="http://schemas.openxmlformats.org/officeDocument/2006/relationships/slide" Target="slides/slide4.xml"/><Relationship Id="rId63" Type="http://schemas.openxmlformats.org/officeDocument/2006/relationships/slide" Target="slides/slide5.xml"/><Relationship Id="rId64" Type="http://schemas.openxmlformats.org/officeDocument/2006/relationships/slide" Target="slides/slide6.xml"/><Relationship Id="rId65" Type="http://schemas.openxmlformats.org/officeDocument/2006/relationships/slide" Target="slides/slide7.xml"/><Relationship Id="rId66" Type="http://schemas.openxmlformats.org/officeDocument/2006/relationships/slide" Target="slides/slide8.xml"/><Relationship Id="rId67" Type="http://schemas.openxmlformats.org/officeDocument/2006/relationships/slide" Target="slides/slide9.xml"/><Relationship Id="rId68" Type="http://schemas.openxmlformats.org/officeDocument/2006/relationships/slide" Target="slides/slide10.xml"/><Relationship Id="rId69" Type="http://schemas.openxmlformats.org/officeDocument/2006/relationships/slide" Target="slides/slide11.xml"/><Relationship Id="rId70" Type="http://schemas.openxmlformats.org/officeDocument/2006/relationships/slide" Target="slides/slide12.xml"/><Relationship Id="rId71" Type="http://schemas.openxmlformats.org/officeDocument/2006/relationships/slide" Target="slides/slide13.xml"/><Relationship Id="rId72" Type="http://schemas.openxmlformats.org/officeDocument/2006/relationships/slide" Target="slides/slide14.xml"/><Relationship Id="rId73" Type="http://schemas.openxmlformats.org/officeDocument/2006/relationships/slide" Target="slides/slide15.xml"/><Relationship Id="rId74" Type="http://schemas.openxmlformats.org/officeDocument/2006/relationships/slide" Target="slides/slide16.xml"/><Relationship Id="rId75" Type="http://schemas.openxmlformats.org/officeDocument/2006/relationships/slide" Target="slides/slide17.xml"/><Relationship Id="rId76" Type="http://schemas.openxmlformats.org/officeDocument/2006/relationships/slide" Target="slides/slide18.xml"/><Relationship Id="rId77" Type="http://schemas.openxmlformats.org/officeDocument/2006/relationships/slide" Target="slides/slide19.xml"/><Relationship Id="rId78" Type="http://schemas.openxmlformats.org/officeDocument/2006/relationships/slide" Target="slides/slide20.xml"/><Relationship Id="rId79" Type="http://schemas.openxmlformats.org/officeDocument/2006/relationships/slide" Target="slides/slide21.xml"/><Relationship Id="rId80" Type="http://schemas.openxmlformats.org/officeDocument/2006/relationships/slide" Target="slides/slide22.xml"/><Relationship Id="rId81" Type="http://schemas.openxmlformats.org/officeDocument/2006/relationships/slide" Target="slides/slide23.xml"/><Relationship Id="rId82" Type="http://schemas.openxmlformats.org/officeDocument/2006/relationships/slide" Target="slides/slide24.xml"/><Relationship Id="rId83" Type="http://schemas.openxmlformats.org/officeDocument/2006/relationships/slide" Target="slides/slide25.xml"/><Relationship Id="rId84" Type="http://schemas.openxmlformats.org/officeDocument/2006/relationships/slide" Target="slides/slide26.xml"/><Relationship Id="rId85" Type="http://schemas.openxmlformats.org/officeDocument/2006/relationships/slide" Target="slides/slide27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 type="dt" idx="16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5"/>
          <p:cNvSpPr>
            <a:spLocks noGrp="1"/>
          </p:cNvSpPr>
          <p:nvPr>
            <p:ph type="ftr" idx="17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6"/>
          <p:cNvSpPr>
            <a:spLocks noGrp="1"/>
          </p:cNvSpPr>
          <p:nvPr>
            <p:ph type="sldNum" idx="17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CE0D-AEAC-46B7-86F2-7FB42685FF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" Target="../slides/slide22.xml"/><Relationship Id="rId7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" Target="../slides/slide23.xml"/><Relationship Id="rId5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hyperlink" Target="http://www.net196.soes.ru/" TargetMode="External"/><Relationship Id="rId2" Type="http://schemas.openxmlformats.org/officeDocument/2006/relationships/hyperlink" Target="http://www.bestreferat.ru/" TargetMode="External"/><Relationship Id="rId3" Type="http://schemas.openxmlformats.org/officeDocument/2006/relationships/hyperlink" Target="http://www.baby.com.ua/" TargetMode="External"/><Relationship Id="rId4" Type="http://schemas.openxmlformats.org/officeDocument/2006/relationships/hyperlink" Target="http://www.le-mon.ru/" TargetMode="External"/><Relationship Id="rId5" Type="http://schemas.openxmlformats.org/officeDocument/2006/relationships/hyperlink" Target="http://www.add.net.ru/" TargetMode="External"/><Relationship Id="rId6" Type="http://schemas.openxmlformats.org/officeDocument/2006/relationships/hyperlink" Target="http://www.med.resourse.ru/" TargetMode="External"/><Relationship Id="rId7" Type="http://schemas.openxmlformats.org/officeDocument/2006/relationships/hyperlink" Target="http://www.djv.ru/" TargetMode="External"/><Relationship Id="rId8" Type="http://schemas.openxmlformats.org/officeDocument/2006/relationships/slide" Target="../slides/slide24.xml"/><Relationship Id="rId9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" Target="../slides/slide25.xml"/><Relationship Id="rId5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" Target="../slides/slide26.xml"/><Relationship Id="rId4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3.gif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3.gif"/><Relationship Id="rId8" Type="http://schemas.openxmlformats.org/officeDocument/2006/relationships/image" Target="../media/image33.gif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slide" Target="../slides/slide5.xml"/><Relationship Id="rId1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3ECB-23A9-4E43-8C3D-54CE34B5AD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ддиктивное поведение учащих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блемы диагностики склонности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 вредным привыч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Какие бывают аддик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того посредством чего осуществляется уход из реальности выделяются зависим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фармакологические (химические)-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зависимость от психоактивных веществ (ПА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субстанциональные –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эмоциональные (секс- и любовные зависимости), трудо-  или работоголизм, компьютерные и игорные зависимости и многие друг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пищевые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ависимости говорят сами за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F55E-98A6-46A0-9BA2-936B5BCFB5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333399"/>
                </a:solidFill>
                <a:latin typeface="Arial"/>
              </a:rPr>
              <a:t>Какие вещества, предметы или действия могут быть предметом аддикции 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ки, алкоголь, таба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артные игры(включая компьютерны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ое прослушивание ритмичной музы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погружение в какой-либо вид деятельности с отказом от жизненно важных обязанностей человека (хобби, работа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, предметы и явления окружающей действительности, вызывающие различные эмоциональные состоя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6B45-22C5-4D43-A98D-EE83DCBC36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лкогольная адди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5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e5ffff"/>
                </a:solidFill>
                <a:latin typeface="Arial"/>
              </a:rPr>
              <a:t>Одна из форм фармакологических или химических зависим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5ffff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0E92-60BA-4814-A035-7BD30F5515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4215"/>
                </a:solidFill>
                <a:latin typeface="Arial"/>
              </a:rPr>
              <a:t>Наркотическая аддикци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нные состояния, характеризующиеся яв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ической и физиче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и, настоятельно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одолимой потре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вторном потреблении П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ческими призн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а или лекар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обладают спосо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ого действия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ую нервную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тимулируют, вызыва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йфорию, изменяют восприятие окружающего мира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3305-4F2C-44A4-BAE2-685241BC94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Лекарственная аддикци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дром, развивающийся при употреблении психотроп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; характеризуется патал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ческой потребностью в при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х веществ для того, чт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жать развития абстин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психических нарушений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я дискомфорта, возникаю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их при прекращении их при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при введении антагон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х веществ. К ним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медрол, феназепам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3D38-C51B-49EE-8AF1-68C97F2458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абакоку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 табака - один из наиболее распространенных ви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мании, охватывающий большое количество людей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ийся поэтому бытовой наркоманией. Дымящая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арета доставляет привычному курильщику удоволь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остро ощущается потребность в курении пос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я пищи, во время выпивки, при отрицате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ях и во время напряженной работы. При этом с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дыхаемый никотин не оказывает какого-либо положите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го действия на организм. Сигарета является больше отвл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ющим фактором:переключение сознания на неё помог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двинуть неприятные мысли, прервать тяжелую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курение облегчает контакт между людьми, явля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тся хорошим предлогом для знаком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22DC-1453-440E-A085-FA53D62F0E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оксико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ксикомания развивается в связ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употреблением лекарств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 и веществ, не отнес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аркотическим, но также изменя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щих психическое состоя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 и его поведение. Диапаз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 с токсикологическ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м очень широк – от ме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ентов (аналгетики, транквил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оры, снотворные, стимуля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) до технических раствор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редств бытовой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5404-47C0-4324-9441-862E651765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иц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ерение лишить себя жизни, повышенный риск сов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ния самоубийства. Эта форма отклоняющегося повед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я пассивного типа является способом ухода от не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мых проблем.Идея может стать навязчивой и превр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ься в аддикцию. Суициды в большей степени характ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 для высокоразвитых стран, и сегодня существует т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ция к увеличению их числа. Суицид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временные циклы: весенне -летний пик и осенн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ний спад. Количество самоубийств возрастает во вто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 и снижается в среду-четверг.Чаще совершаются в во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 после 55 и до 20 лет.Соотношение между мужчи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женщинами-самоубийцами примерно 4: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CBF2-0DAD-468B-B854-D23872FC4D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рудого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голизм, в отличие от мног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х зависимостей, явля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одобряемой адди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на самом деле трудоголик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личность с определенными психологическими пробл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ми.Трудоголиком может стать и лентяй, дни и но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иживающий на работе во время домашних неуряд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ом психологического дискомфорта, психолог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ской травмы чаще всего бывает реально пережит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мнимый страх:боязнь неудачи, страх перед одиноч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вом или, напротив, боязнь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3502-1F21-4969-8EEF-C4000FEE10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ищевые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им относятся такие пс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ческие расстройства к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имия (переедание)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рексия (доброво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пищи).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евая зависимость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 только переедание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лодание,но и завис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вкуса:от вкуса коф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колада, сливок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FBFF-B19A-4C4C-8886-81A5D26018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И – это наш суд на миру, наше зеркало, в котором совесть, ум, честность, опрятность нашу – все наголо вид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и могут нами закрыться, мы ими никог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.П.Астафь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DAF6-8B12-4EDB-8333-A8CC2E1C96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громания и компьютерная завис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проблем соврем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новая для педагог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–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игромания и  компью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терная зависимость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ув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ьютерными играми, интерне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ми, игровыми автоматами, азартными иг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омания – увлечение или болезнь? Психиатры утв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дают – игромания лечится, но бороться с зависим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на ранней стадии.Болезнь начинается с привяз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ти к компьютерным играм, которая превращае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алогию.Игра – это взаимодействие. И не важно с кем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людьми, компьютером или же с самим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DE5D-2726-49F4-9149-5A3DD84A06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Проблемы компьютер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CDB7-03D3-4FAD-8688-73BAF1C462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Памятка для родителей по использованию компьютера ребе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родители могли контролировать использование ребенком компьютера, они сами должны хотя бы на элементарном уровне уметь им пользов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должен играть в компьютерные игры перед с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каждые 20-30 минут работы на компьютере необходимо делать переры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должен работать на компьютере более 1,5-2 часов в су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ок посещает компьютерный клуб, родители должны знать, в каком клубе (зале) он бывает и с кем там общ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2917-6DCD-4428-BB81-99CBD9CAE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Компьютер-мясорубка для информации. </a:t>
            </a:r>
            <a:br>
              <a:rPr sz="1100"/>
            </a:b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                      Компьютер-это резонатор того интеллекта,</a:t>
            </a:r>
            <a:br>
              <a:rPr sz="1100"/>
            </a:b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                      с которым человек к нему обращаетс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должны контролировать приобретение ребенком компьютерных дисков с играми, чтобы они не причинили вреда детскому здоровью и псих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ок использует компьютер безответственно, необходимо ввести пароль, чтобы сделать невозможным доступ без разрешения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ируйте какие именно Интернет - сайты посещает ваш ребе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84BB-848C-48D8-84B2-A834376C97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дробно о методах и приемах профилактики компьютерной зависимости можно ознакомиться на Интернет – сайт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et196.soes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estReferat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baby.com.u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e-Mon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dd.net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ed.resourse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DJV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дите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0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3A86-6C6E-4C56-A19B-1CB06C24E4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ак воспитать у ребенка положительные привыч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Первое правило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научить ребенка осознавать, что без неё жизнь превращается в катастроф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Второе прави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бенок должен научиться никогда не давать себе поблажки в проявлении той или иной привычки. Необходимо создать условия для исправления плохих привычек, даже если для этого необходимо проявить твердость и жестк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Третье прави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обходимо учить ребенка использовать любую возможность для проявления положительной привычки. Тренировка в  положительных привычках приводит к их закреплению и привычки становятся «второй натуро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7CCC-A0F2-4FFE-98E1-FE33CBF8C1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ccff"/>
                </a:solidFill>
                <a:latin typeface="Arial"/>
              </a:rPr>
              <a:t>Четвертое правило.</a:t>
            </a:r>
            <a:r>
              <a:rPr b="0" lang="ru-RU" sz="12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бесконечно говорить обладателю плохой привычки, что он - её хозяин. Бесконечные проповеди и нравоучения озлобляют        учащихся. Многие учащиеся и так прекрасно знают, что у них есть плохие привычки. Надо быть среди учащихся очень авторитетным человеком, чтобы они стали прислушиваться к взрослым и хотели исправить свои привы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ccff"/>
                </a:solidFill>
                <a:latin typeface="Arial"/>
              </a:rPr>
              <a:t>Пятое правило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явления положительных привычек взрослый ( классный руководитель, родитель) должен создавать условия. Если классный руководитель знает, что большинство учащихся курит, необходимо организовать встречи с врачами, людьми, преодолевшими пристрастие к курению, смотреть фильмы, участвовать и организовывать акции и т.п. Однако для того чтобы так строить работу, надо знать, какие вредные привычки стали частью образа жизни ваших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0A90-00D8-4775-89B9-EF8BABCB59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0"/>
                </a:solidFill>
                <a:latin typeface="Arial"/>
              </a:rPr>
              <a:t>Желаем усп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 преодолении вредных привы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и зависимостей ( аддикций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и воспитании положите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привыч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мысл притягивает, комплекс толкает».(Франк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-это не притяжение, это толк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кание изнутри собственным страхом подростк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м перед реальностью.Помогите ребен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авиться от своих страх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566B-72A8-45C3-BA5F-D06C649CB8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Что такое привыч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 – это капитал, приобретаемый       в ходе постоянных упражнений. Их надо сначала накопить, а потом жить на проценты с этого капитал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жемс,амер.психол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FDCD-DC98-4A2E-BCEA-EFFF00BAAD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3399"/>
                </a:solidFill>
                <a:latin typeface="Arial"/>
              </a:rPr>
              <a:t>Начиная разговор о вредных привычках и зависимостях с подростками или родителями, воспользуйтесь следующими известными афоризмами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 - вторая натура.»                                            (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Цицерон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уководителем в жизни является не разум, а привычка. Лишь она понуждает ум во всех случаях предполагать, что будущее соответствует прошлому.»                   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Юм Давид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, эта вторая натура, оказывается для большинства людей их единственной натурой.»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Ромен Роллан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и превращают обязанности в удовольствия, а удовольствия в обязанности.»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Э.А.Севрус (Ворохов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я вторая половина человеческой жизни составляется обыкновенно из одних только накопленных в первую половину привычек.»                                                           (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Достоевский Ф.М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9C27-F92C-4DD7-B9BC-0A66BF8B05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Так ли безобидны детские «безобидные» привыч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ость ко лжи?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бедничество?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сивость?                      </a:t>
            </a:r>
            <a:r>
              <a:rPr b="0" i="1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ывчивость?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ы в азартные игры?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цельное гуляние?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ечение мобильными телефон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жание героям фильм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ечение японскими мультик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к эротическим рисункам и фильма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4147-9C44-419E-A869-88F1681AB8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диктивное поведение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лонность  подростка  к приобретению вредных привыче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агубная склонность к чему-ли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уть аддиктивного поведения заключаетс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тремлении изменить своё психическое состо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посредством приёма некоторых веществ или фиксацией внимания на определенных предме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или видах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4EEE-FB92-4667-8940-B189BA175D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99"/>
                </a:solidFill>
                <a:latin typeface="Arial"/>
              </a:rPr>
              <a:t>Что происходит с психикой человека, склонного к аддикци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употребления ПАВ, привязанность к предмету или действию сопровождается развитием интенсивных эмоций, принимает такие размеры, что начинает управлять жизнью человека, лишает его воли к противодействию адди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0B04-325A-40BC-8B92-D2ACA851FB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то склонен к аддикциям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с низкой переносимостью психологических затруднений, плохо адаптирующиеся к быстрой смене жизненных обстоятельств, стремящиеся в связи с этим быстрее и проще достичь психофизиологического комф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DD60-D2CE-4699-973A-0D2ED7A5EF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С чем связано аддиктивное        повед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желанием человека уйти из реальной жизни путем изменения своего сознания. Аддикция становится средством бегства от проблем. Для самозащиты, люди с аддиктивным поведением используют механизм, называемый в психологии «мышлением по желанию», т.е. они считают реальным лишь то, что соответствует их желаниям. В итоге нарушаются межличностные отношения, человек отчуждается от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CD18-6B7B-4413-9C9F-3D9F8E6127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52BC-968A-4B52-84FE-42B5A903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6E6B-0CCF-4D44-837C-65593F65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C1952-084D-4451-BF7E-F064F885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9C4B6-39F5-4AE5-A851-54A942A0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AF30A-A525-43CF-80F7-AD8AC266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5B8D7-9AF9-4B2C-88F3-295521CD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92CE9-FB00-4AA2-9073-3F1841A4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83310-F573-4AEF-8C6B-237F6E00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D55AC-4A92-4F5B-B2EB-A8F18E95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3A216-6316-4419-80C7-6279925B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01DA9-C85D-4174-A732-3BE39761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7BB54-B435-42D3-A380-470115F4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B7FF-E515-4F08-A769-3EABEEAE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56023-08B2-47F0-8636-7B424F4A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142A7-2D8E-4B31-8732-F6EDB7C9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0A7BC-A79C-4569-80F5-59C6F841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5A54C-835C-447E-BE3F-D69F4BA7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907B9-3C6E-45CE-AD4C-7DDEE51C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2D175-E9E2-41D0-9673-BD9E9DC2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F29B9-50CE-4575-8F3B-86EC30A3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AD124-4EE1-45E9-A893-1EF69DC5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EBE56-285E-4A4B-AF30-E95F041B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2418D-3623-4E5A-8091-28D465AE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526E-D85B-4C42-BFC9-531ED8CB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E1C2A-6186-4FCE-8F42-C139BB34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81AC0-1213-4AB1-9AA8-7544C917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D6A8C-F233-4B84-854D-FC29FD9E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72217-0324-43D7-A5A4-342F140C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FC36C-9ACC-4529-B9C4-4948E191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18D81-2F32-4A5E-8B3B-6441F91C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65C2D-66B9-4AA1-A153-0EED4C5E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5258F-B5C0-4FB8-866E-C2E9BA89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9743E-04EF-4C05-A95F-E97EE267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7430A-E60E-4B2D-AD34-D81A4DF4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2C0E-ACC1-4425-8D34-1B68D19F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4BDE2-EECA-442D-81A3-6CA58774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FA721-EE99-49F2-B2D8-2DAD4B6C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81A31-11F9-4C07-8A87-7B83387A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FCCA5-A45A-4A5B-A82C-154D7144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EE039-FCFE-4B1F-84D7-05B09A29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B7892-6207-4CF8-8361-6700E532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EFA6B-E877-4639-96B7-B2BA1178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9F61E-C41F-44A3-8E83-06B9D6F7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E8BFC-5FA2-43AB-99FD-DCCA6837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E9C76-F73C-46C5-9405-070BC0A2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554A-D2BC-4FBB-8FCE-DDAD57A6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B33D2-E9B1-46C7-98DB-C55C964A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8F7F4-2B92-493E-88B4-9A03E91A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C60F2-084A-498F-BF8D-067FA6EA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6420E-BAB0-40FB-ACAA-296A85F8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D3629-9109-45DE-A8FF-4ACA9FDC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ED32C-48D1-4DD3-B481-C08DFC04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75282-5DD6-44FE-A1F3-D8B3DAF0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359B0-4D09-4FE0-A55C-1B617B2D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8BBAE-5A35-4C0C-8770-E3DB5DA6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B5801-724B-460A-ACFC-A29550EE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E199-2541-4ED7-8202-DD03CCC9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9232C-4982-4733-9F09-52101354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31864-5B80-49CC-BC6E-8B52B7DF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7FE738-D4B9-4F23-AF5E-6DA99D41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A1B69-95AB-488C-B599-280BF0A2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7A8BB-F630-47F1-A34B-284A8276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DEF87-2813-46A5-A3E9-9D1EA236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38D9B-402F-43FF-90C8-861566AA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44360C-3D02-4B7D-BFF8-01577CC7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64B520-FB43-4FB7-98B1-00FF3580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00916-4F1D-45B7-A27C-3411C215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3E77-0291-46CD-979B-5657456C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7D942-045E-4AB3-BA61-F727791B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CC41B-B763-4B09-9E39-5440F52B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5227A2-F960-4BC3-8F1D-B8CA1896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FFEFE7-84C1-4E22-A0CE-621B5BAC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94CA45-AF85-4B53-B51C-57AC94C8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213CCE-8C4C-4FAC-BE6E-F8042268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23492-6A51-498F-B842-7358AF05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B22810-B959-4E21-9075-C139F3D6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8E0941-5AB7-43F7-B6CE-791E9591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47687E-3353-4BC6-A50C-3F8717A3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0667-7397-4637-895B-C2FA9BCA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1093ED-DAAE-41FC-9CF8-9103BBC5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66F5B3-02F4-44F9-B7F8-4B79B01B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588E83-093F-45AE-B43D-DB0DA454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287EAA-1787-4823-BEDB-2D5B9AA6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1FD25A-941A-4DE6-9A9D-DED592D3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6816FB-B4EB-4334-98C7-1DC708CE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0C43A3-157A-43EE-BF43-E6A6FA9F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5B9187-C878-48C0-8439-045F5ECC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422339-4275-4548-9E50-A30FE69C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26DD59-DBC8-4E1B-975B-F5D78AF8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C25C-B5C2-4983-8835-9313B6AA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4B312E-CF88-4E85-95B4-22F24C11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40BC2C-8D26-40DE-8EAA-0FBC96C6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E03280-4670-4165-95F6-0AA6256A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A01B2D-0D76-46A9-8835-4E549502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078335-4BB4-4D27-B749-7C77FAD3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C2FA5F-76F4-4453-8F07-D954B37F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71E682-B4E8-4677-A6EE-D00BB740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A7D705-615B-40C3-9FC2-6A2E52E9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97F632-B787-4217-9ABB-05DC5643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AE2682-509F-4AF6-B66D-FAECF3E4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C20C-761E-4C2B-85CD-99133AF6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0C0B29-E9EE-4280-B89B-25C02107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6C8268-DCDD-4E54-85E3-FEB824DC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4EF653-C7DF-4A39-8FCA-09A2E88D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93CB1C-5FA5-49F5-BBDC-18962845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28E101-A41A-4AA5-AE15-E7D72092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DD883F-8E7C-4282-99B3-0797D48D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D982EE-C608-4CAA-A054-7659DCC5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A1C11C-F63A-4346-9F9E-1ADD204B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202BDA-928D-4831-801A-65015A17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1DA6AF-AD72-405D-8E30-52561A1F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FFC2-7C42-4023-9595-50EA4A90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892B-27C4-4E59-A933-85789B6D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243778-956D-4A3A-AAC9-E6526039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0341FB-B668-4176-9C0E-A0DDE4CD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0346E7-83A5-4538-896B-8191EA1C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084D09-32E3-4F58-B86C-E7DF7836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E012AA-6127-4735-9639-C6702D03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14B0E5-6DDE-4754-AABD-BF5CCE9C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1CB79B-FCB2-4CE1-93F3-BF88EDAB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B3818D-6D63-4C41-8F76-521AAFD1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DF52C3-F819-4D5B-877B-4DACD95E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8688F5-F834-4326-A680-B1D15F07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4241-AD41-46ED-BD88-0D742415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2A3C6C-3996-455E-A02F-CCCEC01C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BDB223-7E60-42B5-8373-42CEB61E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63C2A2-FB18-4AB1-92DC-B7B106FA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732992-AD13-45B2-90DF-8BA25B8C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2E7610-9A7C-445A-9DE1-834C38F4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44EAEC-FB41-4A6C-8DE0-64D1F25B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1EAD74-FBAA-4366-B86F-81657EA8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9B19CE-7A8A-4DCE-8882-6D2F201B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216510-2A98-41C0-8A99-24D8244B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E7F5B7-6A05-495B-B94B-F290346C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3040-334F-43AC-AD75-5E98B615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17B66E-767A-4E99-9376-A4B1A085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0085D2-4C86-4868-9E03-DFBB2690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83A42C-2DDC-49E7-8145-0B009DA1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A254CC-77EE-4F23-8505-F8CE2CDD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396A93-C11E-4C23-8C30-45983C1B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A0A814-DB0C-4F2B-BD17-ABAC874C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D743CF-A1DC-40A7-BF24-FE662A8B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984BA8-7F99-43D0-9547-A6C180D7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6A34F6-A8BA-456C-AFB8-95987E30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F95ED5-91AB-481C-B0F9-1F4957BE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D217-6F38-4935-B650-F5ED35E9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03BBAB-D277-4D2D-882A-98EB4E6E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3FD080-A88F-4061-9854-086E7E60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C63D29-DB83-4824-A72A-522A7555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67E5AA-BA61-4AD5-BABC-CFB5194B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519138-6418-4AF1-A7FF-42548792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72FCD9-6948-4081-AB82-6DC3E4D4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14F50B-5700-457F-B2AA-C86875FE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83922B-A22F-4E6F-A600-EA9A2E67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7D9DA8-E091-4363-99AC-80768377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7E4172-FDBD-4620-8D2C-493B6F69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49EB-5483-46EF-8A88-6E66E345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6DF932-6C30-41E1-9FBD-D403BD7B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BCD663-1EF3-4664-A741-8CD37D3B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63D32F-9E48-4362-A332-E5DFA74C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DA856F-83C3-4D72-BCC5-E952A32F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623733-C77B-4836-993B-DDB92337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7D4403-53EA-4D65-AF5F-507D51E1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DFCE24-C582-4636-A53F-8F9419B6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BD6D65-C3FA-47D0-A90C-3AD8A48E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D7D588-EE09-4C77-9161-B28674E3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0185D7-B67D-4EF0-A4CC-33B4F2A1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323B4-2F4A-4322-AFAC-2F68D0A0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4DADFD-BF08-4D5E-AC2A-E0200486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399C97-CDCD-440E-B5EC-6E203225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51431F-876A-4C1C-BB24-53B4BDF6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B9BA3C-0A48-4D52-8CF7-8FF06316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2A0448-5C8A-41CA-AA3F-79452C47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252F8F-221F-47EA-A126-6783C2F5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234A19-75BD-438D-BEC2-414FA8CC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00FFAD-5740-41C8-AAAD-CEA92AA5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9DB2C8-3FA2-405B-81B7-DF16139D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A8C754-7768-4FD0-B495-C6EF70B9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A5C36-9639-40CD-B54D-041A6D09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90A39D-2010-45FD-BF30-57EE0025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B7A50E-B2C1-4119-AC09-DAEE32EA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60DEB2-ECDB-43A6-99EF-A9C85791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DED640-6C15-4E60-BB53-D9640D62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2B4828-15FF-4CC3-9EFC-C5C5581F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84C49A-DCC0-4534-A624-20DB807E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498CA7-ABCC-4ADB-A110-3BADA6B3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D7B77F-4289-4AB0-AF2A-659EA878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378017-1F55-4849-84E6-2A4C24A0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545B76-96EF-41BD-A32A-02060012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79BA6-3731-4A75-B68A-6E3A51CE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59760F-7982-41C1-BD4E-806F41BD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52DFA7-C979-46EE-9AEB-17239184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86D4A3-5FB6-4184-983B-C218F003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4D1963-FAF2-400F-8B39-85F3C07D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BD4946-AFD6-411A-A1AB-B814C49A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2AF523-65F9-4FFA-90E8-2671E08E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3F4DD0-5D78-4EC3-A422-9E976AAB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C5B958-0685-4106-8655-E4DF54C8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9C97C2-645F-437F-9128-CB81E358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904641-C9E1-46AD-A9C6-94F354F9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C0737-A5BE-4049-AE0D-68E14B20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340631-B403-4E79-8BD9-608C897D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A705B4-06CD-41A1-8418-067EA65B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BCB3E6-C1F2-4AA5-BE82-66C558B2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D3F3A7-ABD5-4540-92BC-8B88E01C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C42F8A-4791-41CC-9C10-46167482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63D949-34B1-4E0A-B46A-88193ACF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247C91-F50B-4057-B263-FC65AFF4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975B4B-3342-46D3-8589-193C0FA2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D72CD3-1DEF-4DE8-9353-C1938A4A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AB6690-D179-48D2-A72C-266FF8EE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556C9-37FB-48E7-AFA6-9CD8E8AC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BE7EB5-C9B1-434B-92ED-6E55E5EC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1D69C2-74EA-452C-A5A5-FEE6297A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BBB454-360C-4F1B-B67C-DBAB6E33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B6C2A8-480B-4EF8-9543-E1C2FA40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9A6F7C-6E9E-472C-8B2C-ACDFE39F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43DEAD-A8BC-4CFF-8FBB-1FE7E442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B6267F-03E2-4594-8F89-72DE0127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075F88-D553-4F69-9233-7B698903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971349-33CC-45FC-A862-0B181578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26A052-EE03-484E-A95B-277BD88A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D59-57A2-4861-97DE-E2B6409A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E2F31-B807-4A43-AF30-3BE50857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CD9A15-E718-433D-B4F0-A6BC06B2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750F32-07A6-4E0E-BE22-62F1B40C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B0CCC6-447F-42B6-8CEB-C046C735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505F67-BF37-4A3E-891D-581D8AEA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40F0F4-9F1F-43AD-8AD5-863B2DCF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1CF944-A2F2-47C9-B010-6C8D098C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14AFDB-D29D-42AC-9505-48D6E866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43C064-44F4-4803-AD15-3BFDA684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01CC3B-3363-4DCB-A599-84C3D856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4CE4E8-F702-425E-8416-91DD9C08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81085-C2C2-4DC5-90FC-6612AAD5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0729DD-3C41-4521-B8A8-4AF79E1C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6C4C2C-A7DD-4BD5-86E1-93D88A2A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FE6FD7-EE12-4B8C-9878-0A8F5991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BBE120-F104-4FF2-AEE8-FBE37986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E54B01-D1B6-4B38-A371-BAB4D8B7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58B4DA-4374-43C8-AF79-4819C95A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C30B9F-3A95-49F0-80B1-F4A3DABF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1BE5D3-C593-4AC1-8FBC-E4582A76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FCFB24-735A-41B0-BCF9-C46EE630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C74A34-314A-4912-9818-7C087610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3C8B9-786E-478F-B3A8-01623762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595D5B-2554-444D-A43D-E103FBA7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173348-0957-4195-ABB9-0DF6186A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83304A-5760-4950-84A5-7F036B76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9D2F14-856E-4FC8-836B-FE054F85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07F819-B9A9-44D2-A40D-2FAEA39A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E3FEB2-2961-4414-8F51-D6AC85B3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1D36A0-89C9-42F5-9851-4FED63DE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6E72E3-584E-4651-9FAF-FC4D6C70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311642-91E0-4E90-A4B2-B94CEA90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65E919-BC04-4025-83A3-FE2DDD3A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8A047-69CA-4EF1-A14F-7C1F6898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DC4F4D-7582-4FCE-8649-5098E307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E47681-B210-4558-B68B-90648457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67B513-15F6-4F16-A3BD-75927C20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507521-6AAB-49AA-B384-5B838ACF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54FA61-5567-4EE2-B352-6A8BC8ED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DB142F-0EE9-4392-BCEE-0720984B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B1A79A-D192-4834-A27B-0A5FE28D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B166F8-E987-4AD7-BEA7-6F9C5AF0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34F5B8-6D38-4294-B6FE-B6B03A62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07600E-0060-4564-B5AF-3CD0F96D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99E74-EA5B-497F-A9DB-952B9250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0CAA84-F270-4B79-8BA2-71FE06FD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4A619F-EEC2-47E9-9946-BBD9D1CD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A57819-C7A6-4996-95D0-DA0E5C82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592328-AEE5-4EC9-9CB3-9B492955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62DA8E-F72F-44D3-B7B5-13276122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1A35DE-A710-4A0F-8A32-57802533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0B4FEF-4DC2-4F73-8E1E-52D1380B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225F49-69E2-47C8-8AA3-7D49FBA5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7E9AC8-E328-422F-AA09-625F934B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9A9436-8304-4809-A7F3-504017F5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6218D-0B08-45A6-8FE4-2763FEE6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A358F5-A442-43E3-9C04-1CBDC83D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68147D-F89F-40FC-BF25-B27D4F54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1CABAB-59BD-45DD-8CBE-2AC1EDB2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F58E42-4811-45F9-BBB8-EBD11C06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64A651-252D-4DDD-81C0-C1471AA3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62AF88-2E71-47C7-9E7D-19ED51B7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8756EC-C0CC-49E9-A5AC-8B8713BC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6C655C-9C71-4A95-AD2B-E311FAC2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187B2C-80E5-4E02-B755-A723FE0A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565972-CAFD-486B-89AA-C55F7C31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35C7C-BFCD-48DD-9BE9-891D8DAE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65AA7C-3661-4F17-909A-9B12E8FD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F7473F-5703-4ED5-9109-A1F88742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21BB5A-7327-4EFA-AE36-CF1600CF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78D657-AB2D-4783-B403-3633A005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EDC7A4-22DA-4DA9-968A-96F16580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994D27-BCA9-4356-B223-CC14ECDB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FC6146-4E2E-4E05-9899-FA3E3CB7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842FBA-6521-4FC4-A523-EF9A5D7B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81FDEF-66DD-41D2-9141-9E75ED59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52946D-A8E7-4BE3-973E-B54EFCFA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10A0D-B2CD-4C8F-8560-56841F93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4D4187-877E-4F64-B675-C52E1551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AF8822-1EB0-4821-89F3-38F64680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A38B29-7312-4ADF-8664-8693155E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B07F09-434C-4E52-8703-91273E89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4B0B83-871E-4C6C-BB56-3A7F0ED3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9FCB4E-1C57-4353-A831-298395FB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C48124-FA3D-4617-993B-C20577B8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DBBB9F-1118-4FBB-BEF6-1F4E967F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39CADB2-C917-4627-A367-91E1F27A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6934E2-2380-458F-925A-26D41A98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B53D8-E63F-4D27-A489-2A3F9F31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387418-EFAA-4825-A4FD-377CD831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DCC2540-D433-40D8-ABE0-5355CD7C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B929DA-6B88-46A0-BC61-C0218F08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A8E3905-B47D-4FEE-98D9-FD7AFE45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619CAE-DFB0-4EEA-8ACF-ED9DD623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B5AA48-F705-446C-953E-2348708A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70C7276-0584-46DF-B3C6-541F1339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555AFE8-F6FA-42FF-BDA0-B3C32FFD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942CBA-E37F-4533-A587-870D899C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DA74E7-7120-4A97-90F2-97E2BAD2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933C6-DEC7-4BB2-B251-1C8EB3F7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11F581E-C92A-4E88-A062-1DAB14EA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8F69EE6-89EA-4323-89FB-96EB43A9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87FEA9-FD2F-4490-B3E9-9B9B098B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FA1493E-1AD7-4860-B012-E493E85A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C8FD0A-FC7A-4F82-873E-3F1EDC89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BA8543-E08D-46E3-8DFD-CB69AC9F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868448-591C-4323-B79D-CD05EF0E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22ACD6-0083-4857-AF40-3F41BE72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170D79A-F8AB-472F-998D-727C9DD7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05853A-68C4-4F2B-8BDE-B9073A33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426-3A4B-4FD1-81C7-472EB785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66839-9D25-42FA-B2B8-03E1E2FD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760A20-BF18-42E7-8368-421FB473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CF90E7C-55CF-4D7E-BF8A-D184BF95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56FE0D-0168-47E1-942D-B0CFCA74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E905175-818E-4252-945E-42C6F4EC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174D4E6-976A-403F-933A-B6A751DF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44D14A-0AC2-46EB-82D0-E7A7CC21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ED9AF26-F080-409D-BD78-C43B610E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2A342C-C26A-4CE7-ADF1-6A36D0C0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6CCBBEA-C4A0-49B7-BA8A-8C814DA7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55219E1-771A-446A-977F-9D90A0F5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F21D0-F2C5-4A89-99A4-7E0EF121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BA54BD-D02B-47AA-A399-AC1E0317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5E95471-FF07-470D-9387-A8678039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0CBF636-1EC5-4EDD-9959-7D2C6531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179B73E-1239-489C-B7D1-2155B25E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D448F5F-28B7-4770-AB98-1AEDD2F8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3E69AE-50F4-4EC2-BAD5-4B00D1CF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581BA54-20C1-4570-B8B8-A0AB8919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32FC21-A3DD-4562-A010-B15DABC5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9F19C3C-C0A6-4710-9362-870A64CB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E60F0DD-B10F-4550-8CF7-E59E31E9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F9F1A-E173-4033-BDF7-1925EE44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A375085-3B3C-41B0-8817-AD2330F7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C03B9A7-C7E2-4A32-933C-9DC4A685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EB8029-F786-4847-B841-312DF4F5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4589401-538B-4F87-8657-F72670FD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CEFB096-4098-4FF2-995E-F8F675E7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34F4DD6-00E0-4E83-B138-FE9D7D48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1DDF388-C9E8-4663-B9D8-EA8DAC08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0948B46-D16E-428C-BD58-4C976C3C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EB040B-3D12-499C-9A78-5523B814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580DB5-63BA-4DCE-9FA3-1DBF9E8A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71BC9-B3E0-4570-90DC-9D5C4735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A9879F-0132-49CD-BD7F-F9DC89B2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57ADCDC-540D-47A1-A198-538CBEE6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F7742A-7933-4ADE-90CC-F01C88DE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8D7909E-9C39-4D3F-AFFB-5B6A149C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5976C81-6DF3-4D4E-800F-08D3B37E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23703EC-CB8F-4FC5-8B0F-49AB2863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7D7E7B1-831B-466C-856F-15C573DE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5B11A5C-5F11-4B2E-8CA3-CD62193F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A965A5-AEBB-4805-9D49-D62DE946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19471C7-0D48-4FC2-A778-293FA364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ACEF9-8954-46BC-B0F1-D5066DEA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51B48E3-B165-483C-BB79-F7E790EE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DD47C9E-7BF9-4D91-8C25-639243A9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83A2F7-BD4A-4B11-95D3-1E0DE19C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B01805F-B2EE-4F82-8CEE-9C1867FA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A7CC966-C85E-41C4-AD40-64270282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C306628-3732-4CC0-BE40-F537F90A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BE670BD-6AAF-491D-919E-508EE681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7462202-AE92-4BD3-B345-1D7729C5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0D03BA9-0F7E-4118-A948-F4229B75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F349224-3BC8-47CA-AE6F-9B2B5A66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AF572-88C3-4D7D-9546-5D783E67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13CF934-D85A-41DA-A3E3-790BA17F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E00CC18-ACFB-4244-9D8B-3E06CAB9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800D0D3-A3EB-46A0-AA0B-2309305C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2412911-A3F6-4860-B3BE-D5DAAA14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9D62458-10C1-48F3-B3AA-72E2F9D0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740DC0-EC41-420F-84D5-62239541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B98B789-52FA-4954-A23C-98D0ABA7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95494A9-1D9E-41DC-B637-11DA817F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80B8F61-BA2B-442C-9041-CA11D5CB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D879A2B-46A6-48CE-BE57-8141EB05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924F2-7F48-461D-ACC0-D0053A06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6DF72D4-58CC-48F2-84EC-D4CC0480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452BB5C-F570-48D8-8755-539EDFFE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23BE5B0-2082-4605-BF17-B83651E4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276A836-4E1C-481D-B573-601147AD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AD4A79A-B5A9-4582-BAC0-935A94E7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826ACB5-C733-4027-829D-07221110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4E8725D-4592-4830-AFEB-6318D07A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95B90F2-C839-4010-93C7-E06A53CF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1E55E9D-4B0C-4418-BF1B-A254A5CA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CAD886B-201F-4925-9D1F-EADB1FBD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3686C-BEF9-4B69-8A1A-B3808A30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FEBC849-AFD8-4153-A7FC-C3D3D0C0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E6156E4-3B5D-4089-B763-32EE93BB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CCF73BD-620F-4942-B140-CBD232E0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6D3D1C1-4404-4AB2-9710-C85CF94D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C3119AB-9090-4691-8F2A-4A0DBDD6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6F856E4-CEE7-4476-B6D3-17040949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17D6404-DAC3-40BE-B195-98DD11D9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F6AC80C-66D3-4AB9-941E-2B35AE6B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F7C0054-3DD8-4416-9A30-C73B17F6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884A724-C8DA-4D48-9B94-90154AEA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52315-6420-4F0F-AF7D-725583CD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F668D44-A59E-4D20-BC31-7B1B6ABC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995B54B-B66C-4F13-B6D0-B03DAFDF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45471BB-7565-44DA-82DD-E522E760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ECC8703-BDD4-4B40-AC38-268996AF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CD411F9-8A50-4719-B355-C9144421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989CF12-E9F6-4A69-ADF4-25BDFFED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BFF1BE1-C987-4BE8-8BB2-B5A3414D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7822743-B5E7-4CFC-935D-59CD3D8D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C12F20C-FCA6-4124-A5DA-DCE06570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480F02C-C094-46A0-B37C-C3BA9439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E3742-8402-4195-861A-4664BAD4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DAB441C-B96F-4156-A6E1-3BDB7359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1144D1F-251F-4083-93B3-B936F610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8BD95FF-D522-4C4C-8AD4-A53F8C71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C26D20E-386D-4F27-BA39-84C37A26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DB3F2CE-645A-4A1E-A7FE-A0BDB06E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B815529-2B76-4104-8521-C22A5ACD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6DDDE07-265F-4BB0-AB6C-77FBBD19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8ADF844-2302-4784-9890-0CA0C597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C1B38F1-02AE-40B5-82D6-C2651CDD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2FE79EC-16A0-4FC3-BAD1-159F870A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6CE-9056-4C33-B304-B36AD9AF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8CE98-AAC9-4B8E-81E2-49BF960A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4AB5E2C-5CF1-4A79-9C04-381EE9C6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526A793-D237-402D-9E22-B9DAB8D7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50B1E54-96F3-4C28-8A5A-B7B1E5FE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09E478D-4C00-417A-A034-011B1273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1A9FF8E-D8CF-4573-953E-0D4A9ABD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D856834-2DE2-4011-A32A-20856049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7E8B7A4-BD6D-42E5-8B8D-992AAD8D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0F2CA0B-0EA3-4056-93EE-57CB82B4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5EFCE4F-22F2-4B05-865A-30BD4AD9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5A8DB7F-E6C2-4161-9CAD-F70CCE0D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A4E03-2D1B-4B7B-AACD-969BA568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22FBA04-0A94-47C6-8E3C-B3E555D7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BC2A0FF-09A9-4C62-A0EA-85EAF359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ABBA3D4-9D52-4FC6-99EC-29B35981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7671BDB-1D9B-4BCA-951A-6D3299D8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4FF27BC-5179-439F-AF67-DF364F4A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37215BD-D2B7-4C80-98B3-83E57755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56134F6-1CC2-4ABD-BE71-F49F5DA5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81AF9CD-43D3-4BA5-BECD-B1D7C1E9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FED2037-A924-4E6F-A7AD-6646BA93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5D3196C-170F-4243-B7FC-999250FD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D9576-3E34-4361-9B3C-6E97CDE0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D101A72-9BC2-4D6F-B33B-0E0D8404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9E71EE1-1CB8-4CA7-9254-C326EE39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A844F67-CF52-4D45-8F79-6A2AE09B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C22C775-70C5-4D0F-81C3-2A9171D9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ECFE059-2BED-4D1B-A708-34EF2374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B93235D-2091-4210-822D-483A94DA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11567EB-BA79-4ED9-AE31-7378A92A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9E013A2-798A-450E-98FD-24109FFA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6364B6B-2B63-4C1A-98AE-3EA5D279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A89735C-52D2-402B-827B-E472D9C2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E83CD-4552-4875-BA19-76B52EE7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55FEE51-8141-4EFC-8E26-2FEEBFD5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579A700-3D64-4761-B6E8-F12A27AE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C970112-F02F-493F-8120-11ED2512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D0CBEE5-D8A7-475F-9E6E-79634648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0BA0CAB-F6FB-483E-BE3E-13E5440F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94EAC96-7CB1-4CAE-9121-54213DC5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E0DBB64-D412-449E-99D3-7617841C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CB6C519-3C2B-4DE5-AD58-C9D63AFE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1B27A59-E4B2-43F9-B101-159F6EF3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60F2A15-45F2-44B1-B9E6-68780816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0AEAE-BF48-4C6E-A4F5-6205FE2F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109C8EB-F552-40ED-9AF5-038CC255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043E857-7259-445C-838F-3A861472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BCF71B4-4C32-4895-BA0D-D2DFD831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061DFA1-7AF4-45FF-B529-F15FB087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0CDE660-E751-4900-8242-AFDC3868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1C7DD5A-7AD0-4446-8384-1D4F8482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BA2D644-7AAD-4AE0-9799-3DD5FACA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FBE5128-B29A-4628-987E-A93A2FE6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C01F7D7-B4E9-4649-8F24-2C0DD14A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964950B-68D1-46F3-8614-5C6ACBBB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B641C-2F1E-4AFA-945E-F861E1DB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41B51D1-EE83-4D85-ABCF-7FC5F223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A29EF67-B40E-4A28-AF74-CE038F3B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EFF1A65-AB97-4181-9C9B-0BA1409C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D3D1ECF-6FD1-451C-999D-AE6C9AA4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63A681C-8B4B-4AB7-A563-C3B83C05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7432999-5FFB-414F-B09D-20E17B53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7868963-1983-414D-9D39-CB5DCEB1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EF5420C-7060-47C0-ADF0-1E80841D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8510AE6-246F-4D46-9FD3-F17DA246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C00EAF5-7BDB-451B-903D-078D4374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B9552-5F15-4B6D-B3B0-D7699F5C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A767DDD-ED52-413C-95D1-C991FEA9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2679E8D-17E1-428C-9D80-AD0C1AE1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6A225EF-8C75-4A91-A096-4B2A0DDC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F9C45C2-FBDE-4C19-AB4D-5C8A8C46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4559ABC-84FF-415D-A1E2-45ADB1DE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AC47108-D2D4-4574-B545-C409430E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BE05115-1BC3-4186-B45A-FCA6724C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FF899FB-8883-4114-87A5-0423C960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C19225B-7DC5-4D26-B51B-BB50AEC0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FEE3183-E8FC-439D-9789-B5ACE309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5124B-F7AB-4CDD-9AA8-7C051B44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ED6583E-8959-423C-9A9B-B579F706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B093024-7946-4359-B01C-97AE36B6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2DC72D5-BB48-41CC-BF0E-CAA421C0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A825F73-4DAC-4C39-A4E3-B382BA61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A360869-3B3E-4A56-87B1-4796353D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313C23A-8C37-40C0-A829-05210B42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33C2589-9412-4843-B5F0-32015022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1BE4B82-B560-4B38-B544-393F4641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0CB8DC0-1D75-43E4-90C5-9F4A4E65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90A818B-41EF-415B-B038-BEE2C2F3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73CD0-F501-4894-AEB7-F709CD66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E6ADB91-3968-47AD-9F68-0939F74A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B8B7511-D37B-42B4-AF7C-435F4E0F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E1F92EF-9F2E-4DD4-8E48-32BFCB29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5A25795-1E84-417A-8182-D2FF3FA6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F7AC77A-E90E-4036-8D6E-9C60EDC4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E23B91F-7B8C-4CF8-B618-72B92F35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7BA4621-22EB-4C44-A40B-B1738EDD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6F4607D-0DB3-4AC7-A257-777284CA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617BFFA-9330-4D5A-ADF5-871E2A2B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8DE9CD1-7FFF-427D-A185-A18D48EE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462EA-C593-4EBA-9075-A8C76E95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680EA71-B136-40E4-99ED-743868F5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00BACE6-66C9-4BC8-A7FA-61ACD723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B332AB4-FA98-43FF-A373-F6A684A3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397BC15-7962-47DD-A216-6090FC06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DE094D8-EBEA-44A0-886B-4699CE28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DB65DC6-C7E2-48E8-888A-B55A7F9C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69C6B50-1948-4AD7-8B87-A88FAB9A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8AC3BD3-3FF5-4DF2-B389-39F0CFAD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2288BE0-179C-4853-99A6-1CC99828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14B1077-83D1-43D7-91CF-24857583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BE7-1D6D-47F1-B62F-A8551874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3E22F-19EE-4A29-B27A-BAD7B285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1D9D98A-4363-4DA5-92E2-63E46861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6DB1730-1F06-42C6-B465-2F35BF89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1D07C7F-563D-4144-803B-E2877AA4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F3D8293-4C47-4562-939E-A8A93AA0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BD1E310-A15A-4116-936F-9D497CC6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B99C228-DC55-4488-B5E8-8EEA92D8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55C67FA-35B3-41E5-A520-739BAC7E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E728BA5-E824-4585-9406-1300EB82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AF7E0A6-559C-4845-85CF-E1606A44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853D135-0AB9-47CB-B1A1-84B4EDFD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146A2-9B95-44C8-B768-4E9ADEF9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F654FA2-8CFB-4A86-8399-24F25033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656034F-FE00-483E-B22F-BFB52274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DF1F700-9965-4112-B4F1-E832ED9A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7584583-AA91-4235-880F-90583CD5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CAFD6AE-AB24-4ACC-8E6E-F09A7E52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3FFB137-57CE-40C2-933D-D439AFFC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2C7515C-ED72-4605-A9C3-670EE72E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1FB1F26-9B13-465F-8833-81DA6954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4F98C86-F16B-43A9-B60C-53314CDA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F7ACA12-81BE-4757-AFD2-008CAD5D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03913-2DA7-42FA-BD2B-70FE4FDE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7CF1699-0012-467F-A816-632DB227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19EF654-A415-4124-8261-4F4DCF2E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2E60D60-063A-4AB1-8050-F7839090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654431E-1F47-4E40-9AAA-9FD4E5A3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81A9FB5-B958-4942-9ABD-B8875F66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40F5A4A-08C1-46F7-92F3-75407D7B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952A2CF-3199-43B5-AC5E-40775CD2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74B76CE-9570-46D5-AD91-E2EDFBE7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9117142-A520-478F-AA07-194128F0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ACDE429-C961-4A93-9A21-515FBF6C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CE8AD-841F-4C02-A0A7-FCCAA5F6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740C15A-D96F-44DE-B64D-16596DE1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568550B-2906-478A-BD37-307E8244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79A2123-1B46-4717-86D8-577CFBB8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A30B40D-C7FD-4611-9293-BC5269DE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B263A1E-9127-4F3A-9116-A0CE92FA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CA6AF8F-BFC2-40D3-ACC2-D9E16575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FC458E9-8001-4077-86A8-C036295A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A4FF828-5843-4718-A2D2-834E445B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3868487-FB64-413F-A90D-87354F97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A2475AD-260E-480E-B209-FD519BC7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614BF-9AD0-4F90-9DF8-72F4F665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339F772-8A0D-4A32-BCF5-58836EAF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5AAA0EC-D962-43B9-BF37-4507B549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3FC6AB3-D745-4F0C-9F39-C8801544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A5D0BF6-5D10-43D3-B613-47DB8F48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4DF9650-9473-4554-9403-2C3865EC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DE7970F-417D-4759-8EF4-BC7CE0BC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E66C00F-462D-4BF9-A4C6-727F52B8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0209547-51D9-4595-9A6D-55C7D5B6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53A9224-F572-4F0E-985B-3D87A137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B8AC201-CB5D-41E4-A370-9FA1DF83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F3C33-E5AA-4782-81BD-FB736BA8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DA1F5E6-F254-4AFE-BD7F-800104E4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9059293-DC61-49DD-BDB7-44EB65B6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7C00303-C112-4368-91BA-EF54C94E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26C27DE-D1A5-4D9B-962A-62D0066F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D73959D-E5DE-4016-83BB-F568FB9F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84CC5ED-48C0-4A61-BB12-D2599E86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343C9FF-98FD-4094-B652-4B5C2A93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3675338-4E41-4693-9641-272402D2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6C10DDD-E582-49CE-ABE8-D071590F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31AAA26-8E49-48FF-A097-90B130B4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23F9F-1826-4DE3-9717-A1D5BD7B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98BC7F4-3865-4590-BF13-44D332CF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05A81E2-2FD3-4F63-AD96-4604639A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EDF7D1F-7EF6-46FE-8172-FB730B31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458E7DF-E4C4-491E-BC34-80118CE8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9A75795-68DB-4BCE-AB96-1354E71B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0A032EE-DDEA-409B-8DCF-62A6267C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EDB0464-39AF-47C3-9547-7CAF17A0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BD6E478-15B3-4A4D-8471-E3B837B4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535A097-455D-42CD-99D7-14D79240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B3D1123-EAFB-42B4-B48E-33556637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9F451-C191-4F10-8742-BBB784C1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EC4F648-480D-4EA0-A7E7-9ACB2A48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BA7B798-1746-47D1-9C53-57FC2C05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1B77D43-C852-4097-BE73-F3F6CA50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CD837-86BE-4BF6-BB63-0CF6CBEB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2FA36-FD09-4A6C-A505-0758D86F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960-2C41-428C-91A5-81B49022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2473E-4E4C-47E7-B2F1-D5A2D42B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0D305-F043-4D1B-B931-A49258C1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EE8BA-025D-4855-8DA6-881AF689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A60C9-FC83-47E8-9932-FF9EBFBC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0F60A-289F-4814-B563-3AADBC7C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55C9C-D99F-44A6-9E1A-DBE66276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2ADEA-6403-43E3-A6C5-81BB3199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48C7D-2E2C-40EF-9234-95F69A34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EB0D8-CA53-433B-909D-D42E8848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25315-BA7C-4223-B7C5-DB953FBE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965-1C55-46A2-8076-A83C3ED8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DF23B-9796-4423-8C29-E32AFC3F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59670-5FF9-48E6-A12E-107E7DA1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54A6E-7B56-47FC-B3B0-02E3BEE2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07293-D450-4178-90C5-ECB0541C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91568-0C59-49D6-9531-7926F294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F868B-22C1-4F6A-9022-353AA91E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F0707-592B-4EB9-B370-515E8D97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CBEC0-F95C-483B-8EE9-D2A210BB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63262-D639-43F9-A27A-E1690440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BD84B-ED54-4D62-A0CB-ED57FDB8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A8C-7C16-4F89-BE22-9AE1E897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DA1EA-C7FC-488B-91E6-262FE1ED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B9EA4-C0D3-49C0-ACCD-6511695C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2632D-32E1-4A4E-92C7-7A9BBDB9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1F3C9-F32F-419B-8C96-0AA988CD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DCBD6-EAA0-4B70-BB00-C87F8F80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95285-4AD4-4D85-BD91-EB2059C0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F7114-9550-488D-BE82-A782D3DE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F9F00-0106-4100-8B4A-5949C001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AC6CE-6C05-4E8D-9F80-138A93B6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FC02B-DADE-44B6-BBFF-CCBDB8ED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85B3-5EDE-4BBE-91BB-ACC5B800152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3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274e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3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DF53-F2F5-4DD7-92EA-2650B8C4FD7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702E-2D43-4D6F-B81E-10A643A57D4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2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52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26C0-0C88-4367-9132-EFB4B8114B8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6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56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FB70-6A94-4FF2-94EA-832FEED496D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0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1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BD1B-D21F-4F6C-90F1-84354C9D377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5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40A2-EC8A-4145-AB09-A721D99B059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9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9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D2EA-E4DC-468F-8E6C-88EA1C6110E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4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74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3EF6-395E-4B66-86BC-1D6FE3DF2FB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8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78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E6A5-8A30-41D4-9F89-104DC50B4BB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83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555F-94F1-410D-9610-675C0B2D770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E0A6-D751-4134-A2B2-76D91EF4299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7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87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1A2A-FEE8-405C-9FBF-1441A669CEB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1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2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8490-6D2C-4B08-B683-AA871D80BA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6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6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6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F789-4758-4FF0-BB29-DA39615FBE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0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0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1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688A-5E12-436A-A4B2-8C4560AB13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5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5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5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6C55-6361-46B3-A42E-F43FB452D27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9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9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0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322A-8DF5-4CD1-B021-8A6E8872EF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4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4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4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DDFB-37B3-4F10-9209-08D7494D526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8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8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9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D073-8671-446F-821C-A391AA86D2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23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3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3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F56F-1139-4B27-8ACC-97F4998D48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27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7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8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5DDF-01AE-47EF-8F7A-7F9DF8528A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6E08-D7AC-42B6-B875-0C23DCB9336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2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2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2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7320-7A8E-4FFD-9469-4D6EC056CFB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6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6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7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180D-10CC-42A2-BC92-73C5968482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9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9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6146-2EA7-4976-82A4-B26D5BE1AFA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9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02C2-19CA-4337-BC9F-FC39B0FDCDE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9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 type="dt" idx="10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91A0-A553-4953-885D-8D35E3B6634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10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AF10-B69A-4449-9755-E89CFB415A7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dt" idx="10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DFDD-3271-4D5C-8080-797AD950C61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 type="dt" idx="10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A58B-7F11-4BA6-A369-046E9BC7607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dt" idx="1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183B-7E5D-4BBF-B32A-269C19A0BCF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 type="dt" idx="1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9133-EFE9-4880-B301-5E43B5A2E8A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4B39-669C-46EB-8D8C-F700DF5C7F2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5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 type="dt" idx="1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80B2-2082-416B-9CED-EAE6E745BED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dt" idx="1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842D-3A8A-4835-AF5F-BA9CAE61A06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 type="dt" idx="1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8189-C211-4543-A750-C9C408CBE12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8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88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grpSp>
        <p:nvGrpSpPr>
          <p:cNvPr id="188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8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89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 type="dt" idx="12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 type="ftr" idx="12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 type="sldNum" idx="12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C383-23F8-4A77-93E2-3F934AC55BF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193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93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965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 type="dt" idx="1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C7F6-0DC4-44CA-B730-8940DC388F7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00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0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1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4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5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6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7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8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9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0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3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4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7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8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2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3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4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5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6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7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9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2D2F-5934-4EE9-8ECA-9B45CDD4330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08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8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5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8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9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0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1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2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3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4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7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8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1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2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6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7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8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9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0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1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3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 type="dt" idx="1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B127-357B-491A-9569-6D033BDFA6C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15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15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5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5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1D1D-C70C-41FF-94B2-2EC3AC77C2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23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3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6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6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ABCE-A460-4B00-8FA3-A44D15AE7F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30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0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7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0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1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2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3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4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5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6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9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0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3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4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8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9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0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1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2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3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5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 type="dt" idx="1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E225-30D1-46A0-98CF-0755AB6A4EE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7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7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7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8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2339-D127-4DA8-B261-C7344C6688B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37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7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1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4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5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6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7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8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9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0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3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4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7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8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2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3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4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5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6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7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9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 type="dt" idx="1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6F13-8BC7-4576-AF18-8CAC0A389C6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45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45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5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8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9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0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1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2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3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4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7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8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1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2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6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7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8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9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0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1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3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 type="dt" idx="1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87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6BE4-C3FD-4143-9E9F-E515694904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52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52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 type="dt" idx="15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2555-2B2E-406E-B02F-69D7870967B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60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60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3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3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 type="dt" idx="1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2530-6658-464D-9078-5CBCEF7C0C3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67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67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7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0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1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2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3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4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5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6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9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0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3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4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8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9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0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1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2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3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5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9E0B-F98E-45D3-B838-87F1F16C8DD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7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7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1DE0-1B40-4DA9-AC21-53230F9FAC56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 type="dt" idx="16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00" name="PlaceHolder 4"/>
          <p:cNvSpPr>
            <a:spLocks noGrp="1"/>
          </p:cNvSpPr>
          <p:nvPr>
            <p:ph type="ftr" idx="1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5"/>
          <p:cNvSpPr>
            <a:spLocks noGrp="1"/>
          </p:cNvSpPr>
          <p:nvPr>
            <p:ph type="sldNum" idx="16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D37C-7CC3-48BB-A501-2850FD2C6B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EED7-C95E-4845-8C09-450CD000E80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9E58-CB7C-4185-BB9C-03B38F4056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304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A373-7132-4C3C-AAD9-104B0B1A1F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8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287C-352A-404F-A53E-EB00227EA81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net196.soes.ru/" TargetMode="External"/><Relationship Id="rId3" Type="http://schemas.openxmlformats.org/officeDocument/2006/relationships/hyperlink" Target="http://www.bestreferat.ru/" TargetMode="External"/><Relationship Id="rId4" Type="http://schemas.openxmlformats.org/officeDocument/2006/relationships/hyperlink" Target="http://www.baby.com.ua/" TargetMode="External"/><Relationship Id="rId5" Type="http://schemas.openxmlformats.org/officeDocument/2006/relationships/hyperlink" Target="http://www.le-mon.ru/" TargetMode="External"/><Relationship Id="rId6" Type="http://schemas.openxmlformats.org/officeDocument/2006/relationships/hyperlink" Target="http://www.add.net.ru/" TargetMode="External"/><Relationship Id="rId7" Type="http://schemas.openxmlformats.org/officeDocument/2006/relationships/hyperlink" Target="http://www.med.resourse.ru/" TargetMode="External"/><Relationship Id="rId8" Type="http://schemas.openxmlformats.org/officeDocument/2006/relationships/hyperlink" Target="http://www.djv.ru/" TargetMode="External"/><Relationship Id="rId9" Type="http://schemas.openxmlformats.org/officeDocument/2006/relationships/image" Target="../media/image28.wm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52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Аддиктивное поведение учащихся,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роблемы диагностики склонности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 вредным привычк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 advTm="15000">
    <p:wedg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92936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i="1" lang="ru-RU" sz="3800" spc="-1" strike="noStrike">
                <a:solidFill>
                  <a:srgbClr val="cc0000"/>
                </a:solidFill>
                <a:latin typeface="Verdana"/>
              </a:rPr>
              <a:t>Какие бывают аддикции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В зависимости от того посредством чего осуществляется уход из реальности выделяются зависимости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фармакологические (химические)-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зависимость от психоактивных веществ (ПАВ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субстанциональные –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эмоциональные (секс- и любовные зависимости), трудо-  или работоголизм, компьютерные и игорные зависимости и многие другие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пищевые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зависимости говорят сами за себя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cc0000"/>
                </a:solidFill>
                <a:latin typeface="Verdana"/>
              </a:rPr>
              <a:t>Какие вещества, предметы или действия могут быть предметом аддикции 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ркотики, алкоголь, табак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зартные игры(включая компьютерные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лительное прослушивание ритмичной музык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лное погружение в какой-либо вид деятельности с отказом от жизненно важных обязанностей человека (хобби, работа и т.д.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юди, предметы и явления окружающей действительности, вызывающие различные эмоциональные состоя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hecker dir="vert"/>
    <p:sndAc>
      <p:stSnd>
        <p:snd r:embed="rId1" name="chimes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0" fill="hold"/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0" fill="hold"/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0" fill="hold"/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0" fill="hold"/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55560" y="477720"/>
            <a:ext cx="777888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c0000"/>
                </a:solidFill>
                <a:latin typeface="Verdana"/>
              </a:rPr>
              <a:t>     </a:t>
            </a:r>
            <a:r>
              <a:rPr b="1" i="1" lang="ru-RU" sz="3900" spc="-1" strike="noStrike">
                <a:solidFill>
                  <a:srgbClr val="cc0000"/>
                </a:solidFill>
                <a:latin typeface="Verdana"/>
              </a:rPr>
              <a:t>Алкогольная аддикция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23640" y="1846440"/>
            <a:ext cx="856908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2347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5ffff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e5ffff"/>
                </a:solidFill>
                <a:latin typeface="Verdana"/>
              </a:rPr>
              <a:t>Одна из форм фармакологических или химических зависимосте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34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e5ffff"/>
                </a:solidFill>
                <a:latin typeface="Verdana"/>
              </a:rPr>
              <a:t>                  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234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AutoShape 5"/>
          <p:cNvSpPr/>
          <p:nvPr/>
        </p:nvSpPr>
        <p:spPr>
          <a:xfrm>
            <a:off x="3995640" y="2421000"/>
            <a:ext cx="4584960" cy="3595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84" name="Text Box 8"/>
          <p:cNvSpPr/>
          <p:nvPr/>
        </p:nvSpPr>
        <p:spPr>
          <a:xfrm>
            <a:off x="4067280" y="2492280"/>
            <a:ext cx="43923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В основе алкогольной зависим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ти лежит употребление спирт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одержащих напитков. Алкоголь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является пищевым продуктом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или входит в них, не являясь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запрещенным как, например,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наркотики. Алкоголь не изменя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ет, а кристаллизует текущее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остояние: если вам грустно, то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употребление алкоголя не под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нимет ваше настроение,а, наоб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рот, его еще больше ухудшит.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2885" name="Picture 9" descr="image002"/>
          <p:cNvPicPr/>
          <p:nvPr/>
        </p:nvPicPr>
        <p:blipFill>
          <a:blip r:embed="rId2"/>
          <a:stretch/>
        </p:blipFill>
        <p:spPr>
          <a:xfrm>
            <a:off x="755640" y="2708280"/>
            <a:ext cx="2752560" cy="3240000"/>
          </a:xfrm>
          <a:prstGeom prst="rect">
            <a:avLst/>
          </a:prstGeom>
          <a:ln w="0">
            <a:noFill/>
          </a:ln>
        </p:spPr>
      </p:pic>
      <p:sp>
        <p:nvSpPr>
          <p:cNvPr id="28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2000"/>
                                        <p:tgtEl>
                                          <p:spTgt spid="2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690480" y="318600"/>
            <a:ext cx="78408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4215"/>
                </a:solidFill>
                <a:latin typeface="Verdana"/>
              </a:rPr>
              <a:t>Наркотическая аддикция-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олезненные состояния, характеризующиеся явления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сихической и физическо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висимости, настоятельной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преодолимой потребн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повторном потреблении П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котическими призна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а или лекарств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торые обладают способн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ецифического действия 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альную нервную систем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тимулируют, вызывают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йфорию, изменяют восприятие окружающего мира и т.п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9" name="Picture 6" descr="image004"/>
          <p:cNvPicPr/>
          <p:nvPr/>
        </p:nvPicPr>
        <p:blipFill>
          <a:blip r:embed="rId2"/>
          <a:stretch/>
        </p:blipFill>
        <p:spPr>
          <a:xfrm>
            <a:off x="4788000" y="206064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28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3" name="chimes.wav"/>
      </p:stSnd>
    </p:sndAc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1000"/>
                                        <p:tgtEl>
                                          <p:spTgt spid="2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68000" y="596520"/>
            <a:ext cx="809604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Лекарственная аддикция-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82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ндром, развивающийся при употреблении психотроп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; характеризуется патало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ческой потребностью в прием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х веществ для того, чт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бежать развития абстиненц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и психических нарушений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стояния дискомфорта, возникаю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щих при прекращении их прие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бо при введении антагонис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их веществ. К ним относя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медрол, феназепам и т.п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3" name="Picture 5" descr="image006"/>
          <p:cNvPicPr/>
          <p:nvPr/>
        </p:nvPicPr>
        <p:blipFill>
          <a:blip r:embed="rId2"/>
          <a:stretch/>
        </p:blipFill>
        <p:spPr>
          <a:xfrm>
            <a:off x="611280" y="2276640"/>
            <a:ext cx="3247920" cy="3686040"/>
          </a:xfrm>
          <a:prstGeom prst="rect">
            <a:avLst/>
          </a:prstGeom>
          <a:ln w="0">
            <a:noFill/>
          </a:ln>
        </p:spPr>
      </p:pic>
      <p:sp>
        <p:nvSpPr>
          <p:cNvPr id="2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vert"/>
    <p:sndAc>
      <p:stSnd>
        <p:snd r:embed="rId3" name="chimes.wav"/>
      </p:stSnd>
    </p:sndAc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10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4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4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4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4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46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47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8400"/>
                            </p:stCondLst>
                            <p:childTnLst>
                              <p:par>
                                <p:cTn id="4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4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5400"/>
                            </p:stCondLst>
                            <p:childTnLst>
                              <p:par>
                                <p:cTn id="4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4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42100"/>
                            </p:stCondLst>
                            <p:childTnLst>
                              <p:par>
                                <p:cTn id="5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Табакокуре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рение табака - один из наиболее распространенных вид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комании, охватывающий большое количество людей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ющийся поэтому бытовой наркоманией. Дымящаяс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гарета доставляет привычному курильщику удоволь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обенно остро ощущается потребность в курении посл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нятия пищи, во время выпивки, при отрицательны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моциях и во время напряженной работы. При этом са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дыхаемый никотин не оказывает какого-либо положитель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го действия на организм. Сигарета является больше отвл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ющим фактором:переключение сознания на неё помог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одвинуть неприятные мысли, прервать тяжелую рабо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вместное курение облегчает контакт между людьми, явля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тся хорошим предлогом для знаком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7" name="Picture 4" descr="10023"/>
          <p:cNvPicPr/>
          <p:nvPr/>
        </p:nvPicPr>
        <p:blipFill>
          <a:blip r:embed="rId2"/>
          <a:stretch/>
        </p:blipFill>
        <p:spPr>
          <a:xfrm>
            <a:off x="5508720" y="40464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28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vert"/>
    <p:sndAc>
      <p:stSnd>
        <p:snd r:embed="rId3" name="chimes.wav"/>
      </p:stSnd>
    </p:sndAc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5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52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5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53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5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5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37900"/>
                            </p:stCondLst>
                            <p:childTnLst>
                              <p:par>
                                <p:cTn id="5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43100"/>
                            </p:stCondLst>
                            <p:childTnLst>
                              <p:par>
                                <p:cTn id="55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8900"/>
                            </p:stCondLst>
                            <p:childTnLst>
                              <p:par>
                                <p:cTn id="5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4900"/>
                            </p:stCondLst>
                            <p:childTnLst>
                              <p:par>
                                <p:cTn id="5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600"/>
                            </p:stCondLst>
                            <p:childTnLst>
                              <p:par>
                                <p:cTn id="5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66300"/>
                            </p:stCondLst>
                            <p:childTnLst>
                              <p:par>
                                <p:cTn id="5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72200"/>
                            </p:stCondLst>
                            <p:childTnLst>
                              <p:par>
                                <p:cTn id="5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Токсикома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ксикомания развивается в связ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употреблением лекарств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ств и веществ, не отнес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наркотическим, но также изменя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ющих психическое состоян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ловека и его поведение. Диапазо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 с токсикологически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йствием очень широк – от мед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ментов (аналгетики, транквил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торы, снотворные, стимуля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др.) до технических растворител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средств бытовой хим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1" name="Picture 8" descr="image008"/>
          <p:cNvPicPr/>
          <p:nvPr/>
        </p:nvPicPr>
        <p:blipFill>
          <a:blip r:embed="rId2"/>
          <a:stretch/>
        </p:blipFill>
        <p:spPr>
          <a:xfrm>
            <a:off x="5651640" y="1628640"/>
            <a:ext cx="2895480" cy="4324320"/>
          </a:xfrm>
          <a:prstGeom prst="rect">
            <a:avLst/>
          </a:prstGeom>
          <a:ln w="0">
            <a:noFill/>
          </a:ln>
        </p:spPr>
      </p:pic>
      <p:sp>
        <p:nvSpPr>
          <p:cNvPr id="2902" name="AutoShape 9"/>
          <p:cNvSpPr/>
          <p:nvPr/>
        </p:nvSpPr>
        <p:spPr>
          <a:xfrm>
            <a:off x="6516720" y="357336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072" h="21600">
                <a:moveTo>
                  <a:pt x="14141" y="14281"/>
                </a:moveTo>
                <a:lnTo>
                  <a:pt x="14141" y="12323"/>
                </a:lnTo>
                <a:cubicBezTo>
                  <a:pt x="14141" y="11496"/>
                  <a:pt x="14472" y="10800"/>
                  <a:pt x="15073" y="10800"/>
                </a:cubicBezTo>
                <a:cubicBezTo>
                  <a:pt x="16204" y="10800"/>
                  <a:pt x="17101" y="9434"/>
                  <a:pt x="17101" y="7849"/>
                </a:cubicBezTo>
                <a:cubicBezTo>
                  <a:pt x="17101" y="5534"/>
                  <a:pt x="15247" y="3794"/>
                  <a:pt x="13036" y="3794"/>
                </a:cubicBezTo>
                <a:cubicBezTo>
                  <a:pt x="10825" y="3794"/>
                  <a:pt x="9154" y="5534"/>
                  <a:pt x="9154" y="7849"/>
                </a:cubicBezTo>
                <a:lnTo>
                  <a:pt x="11008" y="7849"/>
                </a:lnTo>
                <a:cubicBezTo>
                  <a:pt x="11008" y="6709"/>
                  <a:pt x="11931" y="5821"/>
                  <a:pt x="13036" y="5821"/>
                </a:cubicBezTo>
                <a:cubicBezTo>
                  <a:pt x="14141" y="5821"/>
                  <a:pt x="15073" y="6709"/>
                  <a:pt x="15073" y="7849"/>
                </a:cubicBezTo>
                <a:cubicBezTo>
                  <a:pt x="15073" y="8589"/>
                  <a:pt x="14603" y="9320"/>
                  <a:pt x="14141" y="9320"/>
                </a:cubicBezTo>
                <a:cubicBezTo>
                  <a:pt x="13036" y="9320"/>
                  <a:pt x="11931" y="10800"/>
                  <a:pt x="11931" y="12323"/>
                </a:cubicBezTo>
                <a:lnTo>
                  <a:pt x="11931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0" dur="10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2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2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2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2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2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2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2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2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29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9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29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20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9" dur="20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0000"/>
            </a:gs>
            <a:gs pos="100000">
              <a:srgbClr val="ffd5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Суици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мерение лишить себя жизни, повышенный риск сов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ения самоубийства. Эта форма отклоняющегося повед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ия пассивного типа является способом ухода от нераз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имых проблем.Идея может стать навязчивой и превра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ться в аддикцию. Суициды в большей степени характ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ы для высокоразвитых стран, и сегодня существует тен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нция к увеличению их числа. Суицидная актив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еет временные циклы: весенне -летний пик и осенн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имний спад. Количество самоубийств возрастает во вто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ик и снижается в среду-четверг.Чаще совершаются в воз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те после 55 и до 20 лет.Соотношение между мужчин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женщинами-самоубийцами примерно 4: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1" name="chimes.wav"/>
      </p:stSnd>
    </p:sndAc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1000"/>
                                        <p:tgtEl>
                                          <p:spTgt spid="2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1000"/>
                                        <p:tgtEl>
                                          <p:spTgt spid="2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1000"/>
                                        <p:tgtEl>
                                          <p:spTgt spid="2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1000"/>
                                        <p:tgtEl>
                                          <p:spTgt spid="2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1000"/>
                                        <p:tgtEl>
                                          <p:spTgt spid="2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1000"/>
                                        <p:tgtEl>
                                          <p:spTgt spid="2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1000"/>
                                        <p:tgtEl>
                                          <p:spTgt spid="29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29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1000"/>
                                        <p:tgtEl>
                                          <p:spTgt spid="29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1000"/>
                                        <p:tgtEl>
                                          <p:spTgt spid="29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Трудоголиз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удоголизм, в отличие от многи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ругих зависимостей, являе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циально-одобряемой аддикци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 на самом деле трудоголик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личность с определенными психологическими пробл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ми.Трудоголиком может стать и лентяй, дни и ноч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сиживающий на работе во время домашних неурядиц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ом психологического дискомфорта, психолог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ской травмы чаще всего бывает реально пережиты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и мнимый страх:боязнь неудачи, страх перед одиноч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вом или, напротив, боязнь общ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9" name="Picture 6" descr="image012"/>
          <p:cNvPicPr/>
          <p:nvPr/>
        </p:nvPicPr>
        <p:blipFill>
          <a:blip r:embed="rId2"/>
          <a:stretch/>
        </p:blipFill>
        <p:spPr>
          <a:xfrm>
            <a:off x="5508720" y="549360"/>
            <a:ext cx="3267000" cy="2438280"/>
          </a:xfrm>
          <a:prstGeom prst="rect">
            <a:avLst/>
          </a:prstGeom>
          <a:ln w="0">
            <a:noFill/>
          </a:ln>
        </p:spPr>
      </p:pic>
      <p:sp>
        <p:nvSpPr>
          <p:cNvPr id="29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vert"/>
    <p:sndAc>
      <p:stSnd>
        <p:snd r:embed="rId3" name="chimes.wav"/>
      </p:stSnd>
    </p:sndAc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3" dur="1000"/>
                                        <p:tgtEl>
                                          <p:spTgt spid="2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7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7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76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31700"/>
                            </p:stCondLst>
                            <p:childTnLst>
                              <p:par>
                                <p:cTn id="7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37400"/>
                            </p:stCondLst>
                            <p:childTnLst>
                              <p:par>
                                <p:cTn id="7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2600"/>
                            </p:stCondLst>
                            <p:childTnLst>
                              <p:par>
                                <p:cTn id="7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48200"/>
                            </p:stCondLst>
                            <p:childTnLst>
                              <p:par>
                                <p:cTn id="7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Пищевые зависимост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566640" y="1773360"/>
            <a:ext cx="818208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ним относятся такие пс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ические расстройства ка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улимия (переедание)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орексия (доброво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каз от пищи).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ищевая зависимость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не только переедание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лодание,но и зависим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 вкуса:от вкуса кофе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околада, сливок и т.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3" name="Picture 8" descr="image010"/>
          <p:cNvPicPr/>
          <p:nvPr/>
        </p:nvPicPr>
        <p:blipFill>
          <a:blip r:embed="rId2"/>
          <a:stretch/>
        </p:blipFill>
        <p:spPr>
          <a:xfrm>
            <a:off x="4500720" y="1052640"/>
            <a:ext cx="3981240" cy="2666880"/>
          </a:xfrm>
          <a:prstGeom prst="rect">
            <a:avLst/>
          </a:prstGeom>
          <a:ln w="0">
            <a:noFill/>
          </a:ln>
        </p:spPr>
      </p:pic>
      <p:pic>
        <p:nvPicPr>
          <p:cNvPr id="2914" name="Picture 9" descr="image014"/>
          <p:cNvPicPr/>
          <p:nvPr/>
        </p:nvPicPr>
        <p:blipFill>
          <a:blip r:embed="rId3"/>
          <a:stretch/>
        </p:blipFill>
        <p:spPr>
          <a:xfrm>
            <a:off x="684360" y="3716280"/>
            <a:ext cx="3981240" cy="2666880"/>
          </a:xfrm>
          <a:prstGeom prst="rect">
            <a:avLst/>
          </a:prstGeom>
          <a:ln w="0">
            <a:noFill/>
          </a:ln>
        </p:spPr>
      </p:pic>
      <p:sp>
        <p:nvSpPr>
          <p:cNvPr id="29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vert"/>
    <p:sndAc>
      <p:stSnd>
        <p:snd r:embed="rId4" name="chimes.wav"/>
      </p:stSnd>
    </p:sndAc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8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8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8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8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8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8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ЕТИ – это наш суд на миру, наше зеркало, в котором совесть, ум, честность, опрятность нашу – все наголо вид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ети могут нами закрыться, мы ими никог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.П.Астафье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9" name="Picture 4" descr="j0284916"/>
          <p:cNvPicPr/>
          <p:nvPr/>
        </p:nvPicPr>
        <p:blipFill>
          <a:blip r:embed="rId1"/>
          <a:stretch/>
        </p:blipFill>
        <p:spPr>
          <a:xfrm>
            <a:off x="1187280" y="3429000"/>
            <a:ext cx="3657600" cy="2419200"/>
          </a:xfrm>
          <a:prstGeom prst="rect">
            <a:avLst/>
          </a:prstGeom>
          <a:ln w="0">
            <a:noFill/>
          </a:ln>
        </p:spPr>
      </p:pic>
      <p:sp>
        <p:nvSpPr>
          <p:cNvPr id="28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Игромания и компьютерная зависим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ой из проблем современно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формационного обще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ется новая для педагог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а – </a:t>
            </a: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игромания и  компью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терная зависимость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ув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ьютерными играми, интернет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ями, игровыми автоматами, азартными игр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омания – увлечение или болезнь? Психиатры утв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дают – игромания лечится, но бороться с зависим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ужно на ранней стадии.Болезнь начинается с привязан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сти к компьютерным играм, которая превращается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алогию.Игра – это взаимодействие. И не важно с кем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людьми, компьютером или же с самим собо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8" name="Picture 6" descr="image016"/>
          <p:cNvPicPr/>
          <p:nvPr/>
        </p:nvPicPr>
        <p:blipFill>
          <a:blip r:embed="rId2"/>
          <a:stretch/>
        </p:blipFill>
        <p:spPr>
          <a:xfrm>
            <a:off x="5435640" y="1052640"/>
            <a:ext cx="3238560" cy="2523960"/>
          </a:xfrm>
          <a:prstGeom prst="rect">
            <a:avLst/>
          </a:prstGeom>
          <a:ln w="0">
            <a:noFill/>
          </a:ln>
        </p:spPr>
      </p:pic>
      <p:sp>
        <p:nvSpPr>
          <p:cNvPr id="29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10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8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8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89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8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90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9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33400"/>
                            </p:stCondLst>
                            <p:childTnLst>
                              <p:par>
                                <p:cTn id="9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9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9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49800"/>
                            </p:stCondLst>
                            <p:childTnLst>
                              <p:par>
                                <p:cTn id="9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55300"/>
                            </p:stCondLst>
                            <p:childTnLst>
                              <p:par>
                                <p:cTn id="9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Проблемы компьютерной зависим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1" name="Picture 9" descr="image018"/>
          <p:cNvPicPr/>
          <p:nvPr/>
        </p:nvPicPr>
        <p:blipFill>
          <a:blip r:embed="rId2"/>
          <a:stretch/>
        </p:blipFill>
        <p:spPr>
          <a:xfrm>
            <a:off x="468360" y="907920"/>
            <a:ext cx="8064360" cy="5183280"/>
          </a:xfrm>
          <a:prstGeom prst="rect">
            <a:avLst/>
          </a:prstGeom>
          <a:ln w="0">
            <a:noFill/>
          </a:ln>
        </p:spPr>
      </p:pic>
      <p:sp>
        <p:nvSpPr>
          <p:cNvPr id="2922" name="Text Box 10"/>
          <p:cNvSpPr/>
          <p:nvPr/>
        </p:nvSpPr>
        <p:spPr>
          <a:xfrm>
            <a:off x="395280" y="981000"/>
            <a:ext cx="8748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ритерии, определяющие начало компьютерной 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зависимости: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беспричинные частые и резкие перепады настроения       от подавленного до эйфорически-приподнятого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болезненная и неадекватная реакция на критику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нарастающая оппозиционность к родителям, друзьям, значительное эмоциональное отчуждение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ухудшение памяти, внимания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снижение успеваемости, прогулы занятий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уход от участия в делах, которые ранее были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нтересны, отказ от хобби, любимого дела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ропажа из дома ценностей или денег, проявление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чужих вещей, денежные долги ребенка,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оявляющаяся изворотливость, лживость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неопрятность, неряшливость не характерные ранее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риступы депрессии, страха, тревоги.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3" name="chimes.wav"/>
      </p:stSnd>
    </p:sndAc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0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574200" y="404280"/>
            <a:ext cx="8001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Памятка для родителей по использованию компьютера ребенк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того, чтобы родители могли контролировать использование ребенком компьютера, они сами должны хотя бы на элементарном уровне уметь им пользова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не должен играть в компьютерные игры перед сн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рез каждые 20-30 минут работы на компьютере необходимо делать переры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не должен работать на компьютере более 1,5-2 часов в сут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ребенок посещает компьютерный клуб, родители должны знать, в каком клубе (зале) он бывает и с кем там общае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dissolve/>
    <p:sndAc>
      <p:stSnd>
        <p:snd r:embed="rId7" name="chimes.wav"/>
      </p:stSnd>
    </p:sndAc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0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0" fill="hold"/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0" fill="hold"/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0" fill="hold"/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0" fill="hold"/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0" fill="hold"/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0" fill="hold"/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0" fill="hold"/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0" fill="hold"/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8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0" fill="hold"/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0" fill="hold"/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99308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Компьютер-мясорубка для информации. </a:t>
            </a:r>
            <a:br>
              <a:rPr sz="2000"/>
            </a:b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                      Компьютер-это резонатор того интеллекта,</a:t>
            </a:r>
            <a:br>
              <a:rPr sz="2000"/>
            </a:b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                      с которым человек к нему обращае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                                             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дители должны контролировать приобретение ребенком компьютерных дисков с играми, чтобы они не причинили вреда детскому здоровью и психи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ребенок использует компьютер безответственно, необходимо ввести пароль, чтобы сделать невозможным доступ без разрешения родител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какие именно Интернет - сайты посещает ваш ребен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9" name="Picture 4" descr="j0195384"/>
          <p:cNvPicPr/>
          <p:nvPr/>
        </p:nvPicPr>
        <p:blipFill>
          <a:blip r:embed="rId5"/>
          <a:stretch/>
        </p:blipFill>
        <p:spPr>
          <a:xfrm>
            <a:off x="611280" y="333360"/>
            <a:ext cx="2144520" cy="2190600"/>
          </a:xfrm>
          <a:prstGeom prst="rect">
            <a:avLst/>
          </a:prstGeom>
          <a:ln w="0">
            <a:noFill/>
          </a:ln>
        </p:spPr>
      </p:pic>
      <p:sp>
        <p:nvSpPr>
          <p:cNvPr id="2930" name="Text Box 5"/>
          <p:cNvSpPr/>
          <p:nvPr/>
        </p:nvSpPr>
        <p:spPr>
          <a:xfrm>
            <a:off x="6732720" y="126828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В.Г.Кротов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6" name="chimes.wav"/>
      </p:stSnd>
    </p:sndAc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0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0" fill="hold"/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0" fill="hold"/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0" fill="hold"/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0" fill="hold"/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0" fill="hold"/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0" fill="hold"/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0" fill="hold"/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0" fill="hold"/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Подробно о методах и приемах профилактики компьютерной зависимости можно ознакомиться на Интернет – сайтах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net196.soes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BestReferat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baby.com.ua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www.Le-Mon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add.net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www.med.resourse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www.DJV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www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одител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spcBef>
                <a:spcPts val="8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4" name="Picture 4" descr="j0205466"/>
          <p:cNvPicPr/>
          <p:nvPr/>
        </p:nvPicPr>
        <p:blipFill>
          <a:blip r:embed="rId9"/>
          <a:stretch/>
        </p:blipFill>
        <p:spPr>
          <a:xfrm>
            <a:off x="395280" y="270828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29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10" name="chimes.wav"/>
      </p:stSnd>
    </p:sndAc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nodeType="clickEffect" fill="hold">
                      <p:stCondLst>
                        <p:cond delay="0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9" dur="2000"/>
                                        <p:tgtEl>
                                          <p:spTgt spid="2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0" fill="hold"/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0" fill="hold"/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0" fill="hold"/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0" fill="hold"/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6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574200" y="260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Как воспитать у ребенка положительные привычк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24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Первое правило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бходимо научить ребенка осознавать, что без неё жизнь превращается в катастроф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Второе правил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Ребенок должен научиться никогда не давать себе поблажки в проявлении той или иной привычки. Необходимо создать условия для исправления плохих привычек, даже если для этого необходимо проявить твердость и жестк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Третье правил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Необходимо учить ребенка использовать любую возможность для проявления положительной привычки. Тренировка в  положительных привычках приводит к их закреплению и привычки становятся «второй натурой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5" name="chimes.wav"/>
      </p:stSnd>
    </p:sndAc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0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0" fill="hold"/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0" fill="hold"/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0" fill="hold"/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0" fill="hold"/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0" fill="hold"/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0" fill="hold"/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b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574200" y="-306720"/>
            <a:ext cx="80010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566640" y="404640"/>
            <a:ext cx="8182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Verdana"/>
              </a:rPr>
              <a:t>Четвертое правило.</a:t>
            </a:r>
            <a:r>
              <a:rPr b="0" lang="ru-RU" sz="2000" spc="-1" strike="noStrike">
                <a:solidFill>
                  <a:srgbClr val="00cc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льзя бесконечно говорить обладателю плохой привычки, что он - её хозяин. Бесконечные проповеди и нравоучения озлобляют        учащихся. Многие учащиеся и так прекрасно знают, что у них есть плохие привычки. Надо быть среди учащихся очень авторитетным человеком, чтобы они стали прислушиваться к взрослым и хотели исправить свои привыч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Verdana"/>
              </a:rPr>
              <a:t>Пятое правило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проявления положительных привычек взрослый ( классный руководитель, родитель) должен создавать условия. Если классный руководитель знает, что большинство учащихся курит, необходимо организовать встречи с врачами, людьми, преодолевшими пристрастие к курению, смотреть фильмы, участвовать и организовывать акции и т.п. Однако для того чтобы так строить работу, надо знать, какие вредные привычки стали частью образа жизни ваших дет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2"/>
    <p:sndAc>
      <p:stSnd>
        <p:snd r:embed="rId3" name="chimes.wav"/>
      </p:stSnd>
    </p:sndAc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2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8" dur="2000" fill="hold"/>
                                        <p:tgtEl>
                                          <p:spTgt spid="2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0"/>
                </a:solidFill>
                <a:latin typeface="Verdana"/>
              </a:rPr>
              <a:t>        </a:t>
            </a:r>
            <a:r>
              <a:rPr b="1" i="1" lang="ru-RU" sz="4000" spc="-1" strike="noStrike">
                <a:solidFill>
                  <a:srgbClr val="fffff0"/>
                </a:solidFill>
                <a:latin typeface="Verdana"/>
              </a:rPr>
              <a:t>Желаем успех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в преодолении вредных привыче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и зависимостей ( аддикций 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и воспитании положительны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привыче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Смысл притягивает, комплекс толкает».(Франкл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висимость-это не притяжение, это толк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кание изнутри собственным страхом подростка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ахом перед реальностью.Помогите ребенк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бавиться от своих страхов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3"/>
    <p:sndAc>
      <p:stSnd>
        <p:snd r:embed="rId2" name="chimes.wav"/>
      </p:stSnd>
    </p:sndAc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0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10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1000"/>
                                        <p:tgtEl>
                                          <p:spTgt spid="2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1000"/>
                                        <p:tgtEl>
                                          <p:spTgt spid="2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1000"/>
                                        <p:tgtEl>
                                          <p:spTgt spid="2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1000"/>
                                        <p:tgtEl>
                                          <p:spTgt spid="2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1000"/>
                                        <p:tgtEl>
                                          <p:spTgt spid="2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1000"/>
                                        <p:tgtEl>
                                          <p:spTgt spid="2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1000"/>
                                        <p:tgtEl>
                                          <p:spTgt spid="2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1000"/>
                                        <p:tgtEl>
                                          <p:spTgt spid="2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1000"/>
                                        <p:tgtEl>
                                          <p:spTgt spid="29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1000"/>
                                        <p:tgtEl>
                                          <p:spTgt spid="29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8" dur="20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1" dur="10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00"/>
                </a:solidFill>
                <a:latin typeface="Arial"/>
              </a:rPr>
              <a:t>Что такое привычк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ивычка – это капитал, приобретаемый       в ходе постоянных упражнений. Их надо сначала накопить, а потом жить на проценты с этого капитала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жемс,амер.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med">
    <p:zoom dir="out"/>
    <p:sndAc>
      <p:stSnd>
        <p:snd r:embed="rId1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94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6376"/>
            </a:gs>
            <a:gs pos="50000">
              <a:srgbClr val="ffd5ff"/>
            </a:gs>
            <a:gs pos="100000">
              <a:srgbClr val="7663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Начиная разговор о вредных привычках и зависимостях с подростками или родителями, воспользуйтесь следующими известными афоризмами:</a:t>
            </a:r>
            <a:br>
              <a:rPr sz="2400"/>
            </a:br>
            <a:endParaRPr b="1" lang="en-US" sz="2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205848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вычка - вторая натура.»                                           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ицер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1302"/>
                </a:solidFill>
                <a:latin typeface="Arial"/>
              </a:rPr>
              <a:t>«Руководителем в жизни является не разум, а привычка. Лишь она понуждает ум во всех случаях предполагать, что будущее соответствует прошлому.»                                             </a:t>
            </a:r>
            <a:r>
              <a:rPr b="0" i="1" lang="ru-RU" sz="1800" spc="-1" strike="noStrike">
                <a:solidFill>
                  <a:srgbClr val="7c1302"/>
                </a:solidFill>
                <a:latin typeface="Arial"/>
              </a:rPr>
              <a:t>(Юм Дав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вычка, эта вторая натура, оказывается для большинства людей их единственной натурой.»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Ромен Ролл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1302"/>
                </a:solidFill>
                <a:latin typeface="Arial"/>
              </a:rPr>
              <a:t>«Привычки превращают обязанности в удовольствия, а удовольствия в обязанности.»                      </a:t>
            </a:r>
            <a:r>
              <a:rPr b="0" i="1" lang="ru-RU" sz="1800" spc="-1" strike="noStrike">
                <a:solidFill>
                  <a:srgbClr val="7c1302"/>
                </a:solidFill>
                <a:latin typeface="Arial"/>
              </a:rPr>
              <a:t>(Э.А.Севрус (Ворохов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ся вторая половина человеческой жизни составляется обыкновенно из одних только накопленных в первую половину привычек.»                                                          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стоевский Ф.М.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over dir="l"/>
    <p:sndAc>
      <p:stSnd>
        <p:snd r:embed="rId6" name="chime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20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Так ли безобидны детские «безобидные» привычк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онность ко лжи?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бедничество?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ксивость?                      </a:t>
            </a: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бывчивость?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ы в азартные игры?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сцельное гуляние?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лечение мобильными телефон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ражание героям фильмов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лечение японскими мультик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ес к эротическим рисункам и фильма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9" name="Picture 6" descr="j0286034"/>
          <p:cNvPicPr/>
          <p:nvPr/>
        </p:nvPicPr>
        <p:blipFill>
          <a:blip r:embed="rId12"/>
          <a:stretch/>
        </p:blipFill>
        <p:spPr>
          <a:xfrm>
            <a:off x="7451640" y="404640"/>
            <a:ext cx="919080" cy="8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60" name="AutoShape 7"/>
          <p:cNvSpPr/>
          <p:nvPr/>
        </p:nvSpPr>
        <p:spPr>
          <a:xfrm>
            <a:off x="4572000" y="1989000"/>
            <a:ext cx="4332240" cy="2156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Если вовремя не обратить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внимания на эти «безобид-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ные» привычки, ребенок 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может стать зависимым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и мы получим личность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с девиантным поведением.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over dir="r"/>
    <p:sndAc>
      <p:stSnd>
        <p:snd r:embed="rId13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2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2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ддиктивное поведение -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клонность  подростка  к приобретению вредных привыч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губная склонность к чему-либ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Суть аддиктивного поведения заключаетс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стремлении изменить своё психическое 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посредством приёма некоторых веществ или фиксацией внимания на определенных предме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или видах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2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2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Garamond"/>
              </a:rPr>
              <a:t>Что происходит с психикой человека, склонного к аддикции?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цесс употребления ПАВ, привязанность к предмету или действию сопровождается развитием интенсивных эмоций, принимает такие размеры, что начинает управлять жизнью человека, лишает его воли к противодействию аддик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7" name="Picture 10" descr="j0302953"/>
          <p:cNvPicPr/>
          <p:nvPr/>
        </p:nvPicPr>
        <p:blipFill>
          <a:blip r:embed="rId1"/>
          <a:stretch/>
        </p:blipFill>
        <p:spPr>
          <a:xfrm>
            <a:off x="7093080" y="836640"/>
            <a:ext cx="1263600" cy="1770120"/>
          </a:xfrm>
          <a:prstGeom prst="rect">
            <a:avLst/>
          </a:prstGeom>
          <a:ln w="0">
            <a:noFill/>
          </a:ln>
        </p:spPr>
      </p:pic>
      <p:sp>
        <p:nvSpPr>
          <p:cNvPr id="28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9408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Garamond"/>
              </a:rPr>
              <a:t>Кто склонен к аддикциям?</a:t>
            </a:r>
            <a:br>
              <a:rPr sz="4800"/>
            </a:br>
            <a:endParaRPr b="0" lang="en-US" sz="4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юди с низкой переносимостью психологических затруднений, плохо адаптирующиеся к быстрой смене жизненных обстоятельств, стремящиеся в связи с этим быстрее и проще достичь психофизиологического комфор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10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С чем связано аддиктивное        поведение?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желанием человека уйти из реальной жизни путем изменения своего сознания. Аддикция становится средством бегства от проблем. Для самозащиты, люди с аддиктивным поведением используют механизм, называемый в психологии «мышлением по желанию», т.е. они считают реальным лишь то, что соответствует их желаниям. В итоге нарушаются межличностные отношения, человек отчуждается от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2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3:06:43Z</dcterms:created>
  <dc:creator>Сарахман И.Д.</dc:creator>
  <dc:description/>
  <dc:language>en-US</dc:language>
  <cp:lastModifiedBy>LEGION</cp:lastModifiedBy>
  <dcterms:modified xsi:type="dcterms:W3CDTF">2015-05-12T09:04:39Z</dcterms:modified>
  <cp:revision>52</cp:revision>
  <dc:subject/>
  <dc:title>Аддиктивное поведение учащихс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