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explod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4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gif" ContentType="image/gif"/>
  <Override PartName="/ppt/media/image18.gif" ContentType="image/gif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date/time&gt;</a:t>
            </a:r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67FF-AA20-4F6C-9331-D5FBAD35F77B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образовательное учреждение  среднего профессионального образова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итета по здравоохранению Администрации  Волгоградской области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Медицинский колледж №1»,Волгогр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81F9-3331-40E4-9FD0-1E680A8B5029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нарушении дыхания и сердечной деятельности производить оживление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5BFA-CB5A-41C1-8FF1-8A56496505D6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efe"/>
                </a:solidFill>
                <a:latin typeface="Calibri"/>
              </a:rPr>
              <a:t>Будьте осторож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F8AA-5418-4202-938F-100612A4A5FD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33cc"/>
                </a:solidFill>
                <a:uFillTx/>
                <a:latin typeface="Calibri"/>
              </a:rPr>
              <a:t>Информационные источни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D595-3886-46FB-9566-B4B9BA673CBA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В 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66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Информационные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B814-6801-431D-AD12-C9D416A337D6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FEAE-4632-4551-9B96-1FCD599B25E8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ff"/>
                </a:solidFill>
                <a:latin typeface="Impact"/>
              </a:rPr>
              <a:t>СИМПТО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ульс едва прощупывается,дыхание еле</a:t>
            </a:r>
            <a:r>
              <a:rPr b="0" lang="ru-RU" sz="1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c3300"/>
                </a:solidFill>
                <a:latin typeface="Calibri"/>
              </a:rPr>
              <a:t>заметно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A3C5-3E09-44BE-BAE1-6291E9FD1B5E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ac090"/>
                </a:solidFill>
                <a:latin typeface="Calibri"/>
              </a:rPr>
              <a:t>В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жет нач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Calibri"/>
              </a:rPr>
              <a:t>Тошно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Рво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ровотечение из н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Судорог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мо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A140-FCF5-4B4E-BD98-DE0B2134A809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ПЕРВАЯ ПОМОЩЬ ПРИ СОЛНЕЧНОМ УДА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его уложить в тени, освободить от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E054-7EA3-4AD8-A68B-A5EF5DA84860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CB08-D243-4E75-AEF0-AAEC45A5AB32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70c0"/>
                </a:solidFill>
                <a:uFillTx/>
                <a:latin typeface="Calibri"/>
              </a:rPr>
              <a:t>ПЕРВАЯ ПОМОЩЬ ПРИ ТЕПЛОВОМ УДАР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0CB7-57EA-4662-8BE3-D96BF0CBC2C3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C9B3-813C-4565-9C6B-D8D364373C3D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690-A955-47E5-B5D2-C9C70A78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FF2-69FF-4DE6-B673-7E073794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ADC-AA7A-45DF-B7D9-BAE50FEC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357-20EB-45F7-A53C-A0447026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154E-4B76-4407-AA08-9CB6D53B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039-D844-43CB-AB70-7714AB26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C0C-1629-46E1-8AD1-D5E85378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DB1-AD39-4F11-A722-EAC46475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1A0-F8C9-4A3B-ACD3-157E3428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AD6-E3C9-4DAB-9ACF-18922DB6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963-4377-4878-BE0A-2D2456A0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BA4-3CB3-4FC4-926D-16C7B8E0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99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66AF-886B-4255-98F8-1FF525C595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uliya_chicherina_-_zhara.mp3" descr=""/>
          <p:cNvPicPr/>
          <p:nvPr/>
        </p:nvPicPr>
        <p:blipFill>
          <a:blip r:embed="rId1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pic>
        <p:nvPicPr>
          <p:cNvPr id="49" name="iuliya_chicherina_-_zhara.mp3" descr=""/>
          <p:cNvPicPr/>
          <p:nvPr/>
        </p:nvPicPr>
        <p:blipFill>
          <a:blip r:embed="rId2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осударственное образовательное учреждение  среднего профессионального образования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итета по здравоохранению Администрации  Волгоградской области 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Медицинский колледж №1»,Волгогр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443640" y="4994280"/>
            <a:ext cx="23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составила студентка группы М-422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енко Оксана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6877080" y="6427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гоград,2011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3" name="Picture 11" descr="2_4A"/>
          <p:cNvPicPr/>
          <p:nvPr/>
        </p:nvPicPr>
        <p:blipFill>
          <a:blip r:embed="rId3"/>
          <a:stretch/>
        </p:blipFill>
        <p:spPr>
          <a:xfrm>
            <a:off x="611280" y="4746600"/>
            <a:ext cx="3155760" cy="20844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7"/>
          <p:cNvSpPr/>
          <p:nvPr/>
        </p:nvSpPr>
        <p:spPr>
          <a:xfrm>
            <a:off x="2627280" y="3774960"/>
            <a:ext cx="3025800" cy="269712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5" name="WordArt 19" descr=""/>
          <p:cNvPicPr/>
          <p:nvPr/>
        </p:nvPicPr>
        <p:blipFill>
          <a:blip r:embed="rId4"/>
          <a:stretch/>
        </p:blipFill>
        <p:spPr>
          <a:xfrm>
            <a:off x="384120" y="1322280"/>
            <a:ext cx="8399520" cy="1128960"/>
          </a:xfrm>
          <a:prstGeom prst="rect">
            <a:avLst/>
          </a:prstGeom>
          <a:ln w="0">
            <a:noFill/>
          </a:ln>
        </p:spPr>
      </p:pic>
      <p:pic>
        <p:nvPicPr>
          <p:cNvPr id="56" name="WordArt 22" descr=""/>
          <p:cNvPicPr/>
          <p:nvPr/>
        </p:nvPicPr>
        <p:blipFill>
          <a:blip r:embed="rId5"/>
          <a:stretch/>
        </p:blipFill>
        <p:spPr>
          <a:xfrm>
            <a:off x="6076800" y="2687760"/>
            <a:ext cx="2891160" cy="1330200"/>
          </a:xfrm>
          <a:prstGeom prst="rect">
            <a:avLst/>
          </a:prstGeom>
          <a:ln w="0">
            <a:noFill/>
          </a:ln>
        </p:spPr>
      </p:pic>
      <p:pic>
        <p:nvPicPr>
          <p:cNvPr id="57" name="WordArt 23" descr=""/>
          <p:cNvPicPr/>
          <p:nvPr/>
        </p:nvPicPr>
        <p:blipFill>
          <a:blip r:embed="rId6"/>
          <a:stretch/>
        </p:blipFill>
        <p:spPr>
          <a:xfrm>
            <a:off x="311040" y="2541600"/>
            <a:ext cx="5735880" cy="9828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5">
            <a:hlinkClick r:id="rId7"/>
          </p:cNvPr>
          <p:cNvSpPr/>
          <p:nvPr/>
        </p:nvSpPr>
        <p:spPr>
          <a:xfrm>
            <a:off x="8675640" y="6499080"/>
            <a:ext cx="468360" cy="331920"/>
          </a:xfrm>
          <a:custGeom>
            <a:avLst/>
            <a:gdLst>
              <a:gd name="textAreaLeft" fmla="*/ 21240 w 468360"/>
              <a:gd name="textAreaRight" fmla="*/ 447120 w 468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30469" h="21600">
                <a:moveTo>
                  <a:pt x="0" y="0"/>
                </a:moveTo>
                <a:lnTo>
                  <a:pt x="30469" y="0"/>
                </a:lnTo>
                <a:lnTo>
                  <a:pt x="30469" y="21600"/>
                </a:lnTo>
                <a:lnTo>
                  <a:pt x="0" y="21600"/>
                </a:lnTo>
                <a:close/>
              </a:path>
              <a:path fill="lightenLess" w="30469" h="21600">
                <a:moveTo>
                  <a:pt x="0" y="0"/>
                </a:moveTo>
                <a:lnTo>
                  <a:pt x="30469" y="0"/>
                </a:lnTo>
                <a:lnTo>
                  <a:pt x="29069" y="1400"/>
                </a:lnTo>
                <a:lnTo>
                  <a:pt x="1400" y="1400"/>
                </a:lnTo>
                <a:close/>
              </a:path>
              <a:path fill="darken" w="30469" h="21600">
                <a:moveTo>
                  <a:pt x="30469" y="0"/>
                </a:moveTo>
                <a:lnTo>
                  <a:pt x="30469" y="21600"/>
                </a:lnTo>
                <a:lnTo>
                  <a:pt x="29069" y="20200"/>
                </a:lnTo>
                <a:lnTo>
                  <a:pt x="29069" y="1400"/>
                </a:lnTo>
                <a:close/>
              </a:path>
              <a:path fill="darkenLess" w="30469" h="21600">
                <a:moveTo>
                  <a:pt x="30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9" y="20200"/>
                </a:lnTo>
                <a:close/>
              </a:path>
              <a:path fill="lighten" w="30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9" h="21600">
                <a:moveTo>
                  <a:pt x="8228" y="3794"/>
                </a:moveTo>
                <a:lnTo>
                  <a:pt x="22241" y="10800"/>
                </a:lnTo>
                <a:lnTo>
                  <a:pt x="822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ransition>
    <p:cover dir="u"/>
    <p:sndAc>
      <p:stSnd>
        <p:snd r:embed="rId8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4640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При нарушении дыхания и сердечной деятельности производить оживление орган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3[3]"/>
          <p:cNvPicPr/>
          <p:nvPr/>
        </p:nvPicPr>
        <p:blipFill>
          <a:blip r:embed="rId1"/>
          <a:stretch/>
        </p:blipFill>
        <p:spPr>
          <a:xfrm>
            <a:off x="539640" y="4149720"/>
            <a:ext cx="4419720" cy="199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7[2]"/>
          <p:cNvPicPr/>
          <p:nvPr/>
        </p:nvPicPr>
        <p:blipFill>
          <a:blip r:embed="rId2"/>
          <a:stretch/>
        </p:blipFill>
        <p:spPr>
          <a:xfrm>
            <a:off x="4859280" y="836640"/>
            <a:ext cx="2232000" cy="28796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/>
          <p:cNvSpPr/>
          <p:nvPr/>
        </p:nvSpPr>
        <p:spPr>
          <a:xfrm>
            <a:off x="5292720" y="4076640"/>
            <a:ext cx="2303640" cy="201636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4" descr="а.jpeg"/>
          <p:cNvPicPr/>
          <p:nvPr/>
        </p:nvPicPr>
        <p:blipFill>
          <a:blip r:embed="rId1"/>
          <a:stretch/>
        </p:blipFill>
        <p:spPr>
          <a:xfrm>
            <a:off x="5000760" y="4071960"/>
            <a:ext cx="3643200" cy="27860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2786040"/>
            <a:ext cx="8278920" cy="154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images.jpeg"/>
          <p:cNvPicPr/>
          <p:nvPr/>
        </p:nvPicPr>
        <p:blipFill>
          <a:blip r:embed="rId3"/>
          <a:stretch/>
        </p:blipFill>
        <p:spPr>
          <a:xfrm>
            <a:off x="428760" y="285840"/>
            <a:ext cx="3857400" cy="2714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ап.jpeg"/>
          <p:cNvPicPr/>
          <p:nvPr/>
        </p:nvPicPr>
        <p:blipFill>
          <a:blip r:embed="rId4"/>
          <a:stretch/>
        </p:blipFill>
        <p:spPr>
          <a:xfrm>
            <a:off x="428760" y="4071960"/>
            <a:ext cx="3857400" cy="2786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ьер а.jpeg"/>
          <p:cNvPicPr/>
          <p:nvPr/>
        </p:nvPicPr>
        <p:blipFill>
          <a:blip r:embed="rId5"/>
          <a:stretch/>
        </p:blipFill>
        <p:spPr>
          <a:xfrm>
            <a:off x="4929120" y="285840"/>
            <a:ext cx="3643560" cy="26431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3cc"/>
                </a:solidFill>
                <a:uFillTx/>
                <a:latin typeface="Arial"/>
              </a:rPr>
              <a:t>Информационные источ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СОЛНЕЧНЫ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В  тяжелых случа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ТЕПЛОВО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Информацион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7524720" y="189000"/>
            <a:ext cx="1441440" cy="129528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24000" y="260280"/>
            <a:ext cx="1296720" cy="12240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724360" y="1773360"/>
            <a:ext cx="2160720" cy="2663640"/>
          </a:xfrm>
          <a:prstGeom prst="lightningBol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68" name="Picture 9" descr="002"/>
          <p:cNvPicPr/>
          <p:nvPr/>
        </p:nvPicPr>
        <p:blipFill>
          <a:blip r:embed="rId1"/>
          <a:stretch/>
        </p:blipFill>
        <p:spPr>
          <a:xfrm>
            <a:off x="5940360" y="1989000"/>
            <a:ext cx="2160720" cy="244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640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ульс едва прощупывается,дыхание еле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заме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WordArt 7" descr=""/>
          <p:cNvPicPr/>
          <p:nvPr/>
        </p:nvPicPr>
        <p:blipFill>
          <a:blip r:embed="rId1"/>
          <a:stretch/>
        </p:blipFill>
        <p:spPr>
          <a:xfrm>
            <a:off x="1536840" y="165240"/>
            <a:ext cx="6229080" cy="146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07"/>
          <p:cNvPicPr/>
          <p:nvPr/>
        </p:nvPicPr>
        <p:blipFill>
          <a:blip r:embed="rId2"/>
          <a:stretch/>
        </p:blipFill>
        <p:spPr>
          <a:xfrm>
            <a:off x="2484360" y="4653000"/>
            <a:ext cx="3610080" cy="2205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6bcf"/>
                </a:solidFill>
                <a:latin typeface="Arial"/>
              </a:rPr>
              <a:t>В ТЯЖЕЛЫХ СЛУЧА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WordArt 4" descr=""/>
          <p:cNvPicPr/>
          <p:nvPr/>
        </p:nvPicPr>
        <p:blipFill>
          <a:blip r:embed="rId1"/>
          <a:stretch/>
        </p:blipFill>
        <p:spPr>
          <a:xfrm>
            <a:off x="2620800" y="1755720"/>
            <a:ext cx="3530880" cy="46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8360" y="2781360"/>
            <a:ext cx="784872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ошнота</a:t>
            </a:r>
            <a:endParaRPr b="1" i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вота</a:t>
            </a:r>
            <a:endParaRPr b="1" i="1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ровотечение из носа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удороги</a:t>
            </a:r>
            <a:endParaRPr b="1" i="1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бморок</a:t>
            </a: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77" name="Picture 6" descr="Клизма"/>
          <p:cNvPicPr/>
          <p:nvPr/>
        </p:nvPicPr>
        <p:blipFill>
          <a:blip r:embed="rId2"/>
          <a:stretch/>
        </p:blipFill>
        <p:spPr>
          <a:xfrm>
            <a:off x="5796000" y="2565360"/>
            <a:ext cx="295272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ПЕРВАЯ ПОМОЩЬ ПРИ СОЛНЕЧН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6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его уложить в тени, освободить от оде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4_4A"/>
          <p:cNvPicPr/>
          <p:nvPr/>
        </p:nvPicPr>
        <p:blipFill>
          <a:blip r:embed="rId1"/>
          <a:stretch/>
        </p:blipFill>
        <p:spPr>
          <a:xfrm rot="20569200">
            <a:off x="4643280" y="4581000"/>
            <a:ext cx="2735280" cy="1990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_1A"/>
          <p:cNvPicPr/>
          <p:nvPr/>
        </p:nvPicPr>
        <p:blipFill>
          <a:blip r:embed="rId2"/>
          <a:stretch/>
        </p:blipFill>
        <p:spPr>
          <a:xfrm rot="20802600">
            <a:off x="1258920" y="4653000"/>
            <a:ext cx="280836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WordArt 4" descr=""/>
          <p:cNvPicPr/>
          <p:nvPr/>
        </p:nvPicPr>
        <p:blipFill>
          <a:blip r:embed="rId1"/>
          <a:stretch/>
        </p:blipFill>
        <p:spPr>
          <a:xfrm>
            <a:off x="669960" y="176040"/>
            <a:ext cx="7900920" cy="12020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611280" y="4292640"/>
            <a:ext cx="1800000" cy="2016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87" name="Рисунок 5" descr="ьер а.jpeg"/>
          <p:cNvPicPr/>
          <p:nvPr/>
        </p:nvPicPr>
        <p:blipFill>
          <a:blip r:embed="rId2"/>
          <a:stretch/>
        </p:blipFill>
        <p:spPr>
          <a:xfrm>
            <a:off x="4500720" y="421488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70c0"/>
                </a:solidFill>
                <a:uFillTx/>
                <a:latin typeface="Arial"/>
              </a:rPr>
              <a:t>ПЕРВАЯ ПОМОЩЬ ПРИ ТЕПЛОВ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435640" y="5516640"/>
            <a:ext cx="914400" cy="91440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5580000" y="1773360"/>
            <a:ext cx="2303640" cy="201600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3" name="Picture 9" descr="i"/>
          <p:cNvPicPr/>
          <p:nvPr/>
        </p:nvPicPr>
        <p:blipFill>
          <a:blip r:embed="rId1"/>
          <a:stretch/>
        </p:blipFill>
        <p:spPr>
          <a:xfrm>
            <a:off x="5940360" y="400536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324000" y="476280"/>
            <a:ext cx="76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333360"/>
            <a:ext cx="52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7" name="Picture 8" descr="С4"/>
          <p:cNvPicPr/>
          <p:nvPr/>
        </p:nvPicPr>
        <p:blipFill>
          <a:blip r:embed="rId1"/>
          <a:stretch/>
        </p:blipFill>
        <p:spPr>
          <a:xfrm>
            <a:off x="5796000" y="62064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doctor"/>
          <p:cNvPicPr/>
          <p:nvPr/>
        </p:nvPicPr>
        <p:blipFill>
          <a:blip r:embed="rId2"/>
          <a:stretch/>
        </p:blipFill>
        <p:spPr>
          <a:xfrm>
            <a:off x="5364000" y="426564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056"/>
          <p:cNvPicPr/>
          <p:nvPr/>
        </p:nvPicPr>
        <p:blipFill>
          <a:blip r:embed="rId3"/>
          <a:stretch/>
        </p:blipFill>
        <p:spPr>
          <a:xfrm>
            <a:off x="2556000" y="472428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34:13Z</dcterms:created>
  <dc:creator>STUDENT</dc:creator>
  <dc:description/>
  <dc:language>en-US</dc:language>
  <cp:lastModifiedBy>LEGION</cp:lastModifiedBy>
  <dcterms:modified xsi:type="dcterms:W3CDTF">2015-05-12T09:05:18Z</dcterms:modified>
  <cp:revision>31</cp:revision>
  <dc:subject/>
  <dc:title>Первая помощь при</dc:title>
</cp:coreProperties>
</file>