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explode.wav" ContentType="audio/x-wav"/>
  <Override PartName="/ppt/media/image5.png" ContentType="image/png"/>
  <Override PartName="/ppt/media/image4.png" ContentType="image/png"/>
  <Override PartName="/ppt/media/image3.png" ContentType="image/png"/>
  <Override PartName="/ppt/media/image24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gif" ContentType="image/gif"/>
  <Override PartName="/ppt/media/image18.gif" ContentType="image/gif"/>
  <Override PartName="/ppt/media/image17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9.gif" ContentType="image/gif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 u="sng">
                <a:solidFill>
                  <a:srgbClr val="ff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date/time&gt;</a:t>
            </a:r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 u="sng">
                <a:solidFill>
                  <a:srgbClr val="ff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D614-3512-42BE-8C7C-A09E67B4B71E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сударственное образовательное учреждение  среднего профессионального образования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итета по здравоохранению Администрации  Волгоградской области 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Медицинский колледж №1»,Волгогр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9294-57C2-428A-8413-83C8E34D0D49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 нарушении дыхания и сердечной деятельности производить оживление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B880-0FD4-49E4-A4FB-B80C55F773B7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efe"/>
                </a:solidFill>
                <a:latin typeface="Calibri"/>
              </a:rPr>
              <a:t>Будьте осторож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CF66-424D-4382-8452-DFFAC96AE03B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33cc"/>
                </a:solidFill>
                <a:uFillTx/>
                <a:latin typeface="Calibri"/>
              </a:rPr>
              <a:t>Информационные источни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Учебники по Основ безопасности  жизнедеятельности под редакцией зам. Министра МЧС  Ю. Л. Воробь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Первая медицинская помощь дома и на улице», под редакцией профессора Попова и кандидата медицинских наук Беля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A1E3-D57F-4552-B3D8-981B273AF988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5050"/>
                </a:solidFill>
                <a:uFillTx/>
                <a:latin typeface="Calibri"/>
              </a:rPr>
              <a:t>Симп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5050"/>
                </a:solidFill>
                <a:uFillTx/>
                <a:latin typeface="Calibri"/>
              </a:rPr>
              <a:t>В  тяжел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66"/>
                </a:solidFill>
                <a:uFillTx/>
                <a:latin typeface="Calibri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Информационные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12AF-4B61-42A5-98A1-E2CEBF2BF977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b0f0"/>
                </a:solidFill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олнечный удар может произойти в жаркий ясный день,когда лучи солнца падают на непокрытую голо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6850-B242-4186-B6F6-041CD40382BC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ff"/>
                </a:solidFill>
                <a:latin typeface="Impact"/>
              </a:rPr>
              <a:t>СИМПТО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 солнечном ударе лицо человека сначала краснеет,потом бледнеет,появляется шум в уш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Если, находясь на солнце,Вы почувствовали слабость,головокружение,перед глазами замелькали «мошки»-это первые признаки перегревания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ульс едва прощупывается,дыхание еле</a:t>
            </a:r>
            <a:r>
              <a:rPr b="0" lang="ru-RU" sz="10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c3300"/>
                </a:solidFill>
                <a:latin typeface="Calibri"/>
              </a:rPr>
              <a:t>заметно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8AEE-83FC-456D-9C03-13A5233621E6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ac090"/>
                </a:solidFill>
                <a:latin typeface="Calibri"/>
              </a:rPr>
              <a:t>В ТЯЖЕЛ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жет нач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00"/>
                </a:solidFill>
                <a:latin typeface="Calibri"/>
              </a:rPr>
              <a:t>Тошнот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alibri"/>
              </a:rPr>
              <a:t>Рво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ровотечение из н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Судорог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мо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C769-FEF0-4E91-80E1-DEAFA21C977D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ПЕРВАЯ ПОМОЩЬ ПРИ СОЛНЕЧНОМ УДА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острадавшего уложить в тени, освободить от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На голову и затылок положить пузырь со льдом (по возможности) ,грудь и шею обливать холодной водой, при остановки дыхания и сердечной деятельности производить оживление организма с применением искусственного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острадавших ,после оказания первой помощи обязательно направить в стационар, т.к. возможно ухудшение состояния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C3A5-CC67-477D-A0A6-80592665A855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епловой удар-результат общего перегрева организма-нередко сочетается с солнечным ударом.Он может случиться в жаркую погоду –при длительной и тяжелой физической работе,долгих и трудных перех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ИМП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Появление сильной жажды,сухость во рту,покраснение лица,и такие-же,как  при солнечном уда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C707-0A17-468E-8992-867B38D8D43F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70c0"/>
                </a:solidFill>
                <a:uFillTx/>
                <a:latin typeface="Calibri"/>
              </a:rPr>
              <a:t>ПЕРВАЯ ПОМОЩЬ ПРИ ТЕПЛОВОМ УДАР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Немедленно удалить пострадавшего из жаркого помещения в прохладное место,на свежий воздух,снять с него лишнюю одеж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AFE6-36BA-40FB-8389-B9F74C9B3E37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лить пострадавшего холодной водой,к голове и области сердца приложить холодные примочки,дать понюхать нашатырный спи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0052-28CB-4639-87F6-B3E71F0E9199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B1A4-DD45-43E7-9568-EEB23729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73A0-D86E-4BF9-8A14-ACC4B5F2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8AA6-923B-4279-9648-2974D95D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63C8-09D0-49C7-9981-51CEF64C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C50-7189-4B7C-9D46-0F1DF19C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5E6-731A-467C-A718-B1C6B9F5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33D1-F72C-499E-AC58-27630529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4D49-3579-422F-90FA-6ECEB85D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B04-EA6D-4AF8-A4B5-14319F32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310-F4BF-497C-9FC0-7E7E658E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E858-E18F-4198-9BA6-E5A41835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46F5-49A5-4FCE-920D-FA8A1DFA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99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EBD4-B8C4-48DE-A2B4-2FA64E8458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uliya_chicherina_-_zhara.mp3" descr=""/>
          <p:cNvPicPr/>
          <p:nvPr/>
        </p:nvPicPr>
        <p:blipFill>
          <a:blip r:embed="rId1"/>
          <a:stretch/>
        </p:blipFill>
        <p:spPr>
          <a:xfrm>
            <a:off x="4419720" y="3263760"/>
            <a:ext cx="303120" cy="303480"/>
          </a:xfrm>
          <a:prstGeom prst="rect">
            <a:avLst/>
          </a:prstGeom>
          <a:ln w="0">
            <a:noFill/>
          </a:ln>
        </p:spPr>
      </p:pic>
      <p:pic>
        <p:nvPicPr>
          <p:cNvPr id="49" name="iuliya_chicherina_-_zhara.mp3" descr=""/>
          <p:cNvPicPr/>
          <p:nvPr/>
        </p:nvPicPr>
        <p:blipFill>
          <a:blip r:embed="rId2"/>
          <a:stretch/>
        </p:blipFill>
        <p:spPr>
          <a:xfrm>
            <a:off x="4419720" y="3263760"/>
            <a:ext cx="303120" cy="303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осударственное образовательное учреждение  среднего профессионального образования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митета по здравоохранению Администрации  Волгоградской области 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Медицинский колледж №1»,Волгогр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443640" y="4994280"/>
            <a:ext cx="23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составила студентка группы М-422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енко Оксана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6877080" y="642780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гоград,2011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53" name="Picture 11" descr="2_4A"/>
          <p:cNvPicPr/>
          <p:nvPr/>
        </p:nvPicPr>
        <p:blipFill>
          <a:blip r:embed="rId3"/>
          <a:stretch/>
        </p:blipFill>
        <p:spPr>
          <a:xfrm>
            <a:off x="611280" y="4746600"/>
            <a:ext cx="3155760" cy="20844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7"/>
          <p:cNvSpPr/>
          <p:nvPr/>
        </p:nvSpPr>
        <p:spPr>
          <a:xfrm>
            <a:off x="2627280" y="3774960"/>
            <a:ext cx="3025800" cy="269712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55" name="WordArt 19" descr=""/>
          <p:cNvPicPr/>
          <p:nvPr/>
        </p:nvPicPr>
        <p:blipFill>
          <a:blip r:embed="rId4"/>
          <a:stretch/>
        </p:blipFill>
        <p:spPr>
          <a:xfrm>
            <a:off x="384120" y="1322280"/>
            <a:ext cx="8399520" cy="1128960"/>
          </a:xfrm>
          <a:prstGeom prst="rect">
            <a:avLst/>
          </a:prstGeom>
          <a:ln w="0">
            <a:noFill/>
          </a:ln>
        </p:spPr>
      </p:pic>
      <p:pic>
        <p:nvPicPr>
          <p:cNvPr id="56" name="WordArt 22" descr=""/>
          <p:cNvPicPr/>
          <p:nvPr/>
        </p:nvPicPr>
        <p:blipFill>
          <a:blip r:embed="rId5"/>
          <a:stretch/>
        </p:blipFill>
        <p:spPr>
          <a:xfrm>
            <a:off x="6076800" y="2687760"/>
            <a:ext cx="2891160" cy="1330200"/>
          </a:xfrm>
          <a:prstGeom prst="rect">
            <a:avLst/>
          </a:prstGeom>
          <a:ln w="0">
            <a:noFill/>
          </a:ln>
        </p:spPr>
      </p:pic>
      <p:pic>
        <p:nvPicPr>
          <p:cNvPr id="57" name="WordArt 23" descr=""/>
          <p:cNvPicPr/>
          <p:nvPr/>
        </p:nvPicPr>
        <p:blipFill>
          <a:blip r:embed="rId6"/>
          <a:stretch/>
        </p:blipFill>
        <p:spPr>
          <a:xfrm>
            <a:off x="311040" y="2541600"/>
            <a:ext cx="5735880" cy="9828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25">
            <a:hlinkClick r:id="rId7"/>
          </p:cNvPr>
          <p:cNvSpPr/>
          <p:nvPr/>
        </p:nvSpPr>
        <p:spPr>
          <a:xfrm>
            <a:off x="8675640" y="6499080"/>
            <a:ext cx="468360" cy="331920"/>
          </a:xfrm>
          <a:custGeom>
            <a:avLst/>
            <a:gdLst>
              <a:gd name="textAreaLeft" fmla="*/ 21240 w 468360"/>
              <a:gd name="textAreaRight" fmla="*/ 447120 w 46836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30469" h="21600">
                <a:moveTo>
                  <a:pt x="0" y="0"/>
                </a:moveTo>
                <a:lnTo>
                  <a:pt x="30469" y="0"/>
                </a:lnTo>
                <a:lnTo>
                  <a:pt x="30469" y="21600"/>
                </a:lnTo>
                <a:lnTo>
                  <a:pt x="0" y="21600"/>
                </a:lnTo>
                <a:close/>
              </a:path>
              <a:path fill="lightenLess" w="30469" h="21600">
                <a:moveTo>
                  <a:pt x="0" y="0"/>
                </a:moveTo>
                <a:lnTo>
                  <a:pt x="30469" y="0"/>
                </a:lnTo>
                <a:lnTo>
                  <a:pt x="29069" y="1400"/>
                </a:lnTo>
                <a:lnTo>
                  <a:pt x="1400" y="1400"/>
                </a:lnTo>
                <a:close/>
              </a:path>
              <a:path fill="darken" w="30469" h="21600">
                <a:moveTo>
                  <a:pt x="30469" y="0"/>
                </a:moveTo>
                <a:lnTo>
                  <a:pt x="30469" y="21600"/>
                </a:lnTo>
                <a:lnTo>
                  <a:pt x="29069" y="20200"/>
                </a:lnTo>
                <a:lnTo>
                  <a:pt x="29069" y="1400"/>
                </a:lnTo>
                <a:close/>
              </a:path>
              <a:path fill="darkenLess" w="30469" h="21600">
                <a:moveTo>
                  <a:pt x="304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69" y="20200"/>
                </a:lnTo>
                <a:close/>
              </a:path>
              <a:path fill="lighten" w="304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69" h="21600">
                <a:moveTo>
                  <a:pt x="8228" y="3794"/>
                </a:moveTo>
                <a:lnTo>
                  <a:pt x="22241" y="10800"/>
                </a:lnTo>
                <a:lnTo>
                  <a:pt x="822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ransition>
    <p:cover dir="u"/>
    <p:sndAc>
      <p:stSnd>
        <p:snd r:embed="rId8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4640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При нарушении дыхания и сердечной деятельности производить оживление орган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03[3]"/>
          <p:cNvPicPr/>
          <p:nvPr/>
        </p:nvPicPr>
        <p:blipFill>
          <a:blip r:embed="rId1"/>
          <a:stretch/>
        </p:blipFill>
        <p:spPr>
          <a:xfrm>
            <a:off x="539640" y="4149720"/>
            <a:ext cx="4419720" cy="199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7[2]"/>
          <p:cNvPicPr/>
          <p:nvPr/>
        </p:nvPicPr>
        <p:blipFill>
          <a:blip r:embed="rId2"/>
          <a:stretch/>
        </p:blipFill>
        <p:spPr>
          <a:xfrm>
            <a:off x="4859280" y="836640"/>
            <a:ext cx="2232000" cy="28796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7"/>
          <p:cNvSpPr/>
          <p:nvPr/>
        </p:nvSpPr>
        <p:spPr>
          <a:xfrm>
            <a:off x="5292720" y="4076640"/>
            <a:ext cx="2303640" cy="2016360"/>
          </a:xfrm>
          <a:custGeom>
            <a:avLst/>
            <a:gdLst>
              <a:gd name="textAreaLeft" fmla="*/ 525960 w 2303640"/>
              <a:gd name="textAreaRight" fmla="*/ 1777680 w 2303640"/>
              <a:gd name="textAreaTop" fmla="*/ 460080 h 2016360"/>
              <a:gd name="textAreaBottom" fmla="*/ 15562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4" descr="а.jpeg"/>
          <p:cNvPicPr/>
          <p:nvPr/>
        </p:nvPicPr>
        <p:blipFill>
          <a:blip r:embed="rId1"/>
          <a:stretch/>
        </p:blipFill>
        <p:spPr>
          <a:xfrm>
            <a:off x="5000760" y="4071960"/>
            <a:ext cx="3643200" cy="27860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365040" y="2786040"/>
            <a:ext cx="8278920" cy="1548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images.jpeg"/>
          <p:cNvPicPr/>
          <p:nvPr/>
        </p:nvPicPr>
        <p:blipFill>
          <a:blip r:embed="rId3"/>
          <a:stretch/>
        </p:blipFill>
        <p:spPr>
          <a:xfrm>
            <a:off x="428760" y="285840"/>
            <a:ext cx="3857400" cy="27144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ап.jpeg"/>
          <p:cNvPicPr/>
          <p:nvPr/>
        </p:nvPicPr>
        <p:blipFill>
          <a:blip r:embed="rId4"/>
          <a:stretch/>
        </p:blipFill>
        <p:spPr>
          <a:xfrm>
            <a:off x="428760" y="4071960"/>
            <a:ext cx="3857400" cy="2786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ьер а.jpeg"/>
          <p:cNvPicPr/>
          <p:nvPr/>
        </p:nvPicPr>
        <p:blipFill>
          <a:blip r:embed="rId5"/>
          <a:stretch/>
        </p:blipFill>
        <p:spPr>
          <a:xfrm>
            <a:off x="4929120" y="285840"/>
            <a:ext cx="3643560" cy="26431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33cc"/>
                </a:solidFill>
                <a:uFillTx/>
                <a:latin typeface="Arial"/>
              </a:rPr>
              <a:t>Информационные источн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Учебники по Основ безопасности  жизнедеятельности под редакцией зам. Министра МЧС  Ю. Л. Воробь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Первая медицинская помощь дома и на улице», под редакцией профессора Попова и кандидата медицинских наук Беля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6600"/>
                </a:solidFill>
                <a:uFillTx/>
                <a:latin typeface="Arial"/>
              </a:rPr>
              <a:t>СОЛНЕЧНЫЙ У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Симп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В  тяжелых случа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6600"/>
                </a:solidFill>
                <a:uFillTx/>
                <a:latin typeface="Arial"/>
              </a:rPr>
              <a:t>ТЕПЛОВОЙ У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Информационные 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Arial"/>
              </a:rPr>
              <a:t>СОЛНЕЧНЫ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7524720" y="189000"/>
            <a:ext cx="1441440" cy="129528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324000" y="260280"/>
            <a:ext cx="1296720" cy="12240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Солнечный удар может произойти в жаркий ясный день,когда лучи солнца падают на непокрытую голо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5724360" y="1773360"/>
            <a:ext cx="2160720" cy="2663640"/>
          </a:xfrm>
          <a:prstGeom prst="lightningBol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68" name="Picture 9" descr="002"/>
          <p:cNvPicPr/>
          <p:nvPr/>
        </p:nvPicPr>
        <p:blipFill>
          <a:blip r:embed="rId1"/>
          <a:stretch/>
        </p:blipFill>
        <p:spPr>
          <a:xfrm>
            <a:off x="5940360" y="1989000"/>
            <a:ext cx="2160720" cy="244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24000" y="2133360"/>
            <a:ext cx="8640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При солнечном ударе лицо человека сначала краснеет,потом бледнеет,появляется шум в уш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Если, находясь на солнце,Вы почувствовали слабость,головокружение,перед глазами замелькали «мошки»-это первые признаки перегревания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Пульс едва прощупывается,дыхание еле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заме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WordArt 7" descr=""/>
          <p:cNvPicPr/>
          <p:nvPr/>
        </p:nvPicPr>
        <p:blipFill>
          <a:blip r:embed="rId1"/>
          <a:stretch/>
        </p:blipFill>
        <p:spPr>
          <a:xfrm>
            <a:off x="1536840" y="165240"/>
            <a:ext cx="6229080" cy="146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007"/>
          <p:cNvPicPr/>
          <p:nvPr/>
        </p:nvPicPr>
        <p:blipFill>
          <a:blip r:embed="rId2"/>
          <a:stretch/>
        </p:blipFill>
        <p:spPr>
          <a:xfrm>
            <a:off x="2484360" y="4653000"/>
            <a:ext cx="3610080" cy="22050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b6bcf"/>
                </a:solidFill>
                <a:latin typeface="Arial"/>
              </a:rPr>
              <a:t>В ТЯЖЕЛЫХ СЛУЧА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WordArt 4" descr=""/>
          <p:cNvPicPr/>
          <p:nvPr/>
        </p:nvPicPr>
        <p:blipFill>
          <a:blip r:embed="rId1"/>
          <a:stretch/>
        </p:blipFill>
        <p:spPr>
          <a:xfrm>
            <a:off x="2620800" y="1755720"/>
            <a:ext cx="3530880" cy="469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68360" y="2781360"/>
            <a:ext cx="7848720" cy="35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Тошнота</a:t>
            </a:r>
            <a:endParaRPr b="1" i="1" lang="en-US" sz="20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Рвота</a:t>
            </a:r>
            <a:endParaRPr b="1" i="1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Кровотечение из носа</a:t>
            </a:r>
            <a:endParaRPr b="1" i="1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удороги</a:t>
            </a:r>
            <a:endParaRPr b="1" i="1" lang="en-US" sz="36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бморок</a:t>
            </a: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77" name="Picture 6" descr="Клизма"/>
          <p:cNvPicPr/>
          <p:nvPr/>
        </p:nvPicPr>
        <p:blipFill>
          <a:blip r:embed="rId2"/>
          <a:stretch/>
        </p:blipFill>
        <p:spPr>
          <a:xfrm>
            <a:off x="5796000" y="2565360"/>
            <a:ext cx="2952720" cy="37814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0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60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Arial"/>
              </a:rPr>
              <a:t>ПЕРВАЯ ПОМОЩЬ ПРИ СОЛНЕЧНОМ УД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6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острадавшего уложить в тени, освободить от одеж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На голову и затылок положить пузырь со льдом (по возможности) ,грудь и шею обливать холодной водой, при остановки дыхания и сердечной деятельности производить оживление организма с применением искусственного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острадавших ,после оказания первой помощи обязательно направить в стационар, т.к. возможно ухудшение состояния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H4_4A"/>
          <p:cNvPicPr/>
          <p:nvPr/>
        </p:nvPicPr>
        <p:blipFill>
          <a:blip r:embed="rId1"/>
          <a:stretch/>
        </p:blipFill>
        <p:spPr>
          <a:xfrm rot="20569200">
            <a:off x="4643280" y="4581000"/>
            <a:ext cx="2735280" cy="1990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2_1A"/>
          <p:cNvPicPr/>
          <p:nvPr/>
        </p:nvPicPr>
        <p:blipFill>
          <a:blip r:embed="rId2"/>
          <a:stretch/>
        </p:blipFill>
        <p:spPr>
          <a:xfrm rot="20802600">
            <a:off x="1258920" y="4653000"/>
            <a:ext cx="2808360" cy="2016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епловой удар-результат общего перегрева организма-нередко сочетается с солнечным ударом.Он может случиться в жаркую погоду –при длительной и тяжелой физической работе,долгих и трудных перехо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СИМП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Появление сильной жажды,сухость во рту,покраснение лица,и такие-же,как  при солнечном уд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WordArt 4" descr=""/>
          <p:cNvPicPr/>
          <p:nvPr/>
        </p:nvPicPr>
        <p:blipFill>
          <a:blip r:embed="rId1"/>
          <a:stretch/>
        </p:blipFill>
        <p:spPr>
          <a:xfrm>
            <a:off x="669960" y="176040"/>
            <a:ext cx="7900920" cy="12020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611280" y="4292640"/>
            <a:ext cx="1800000" cy="20160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87" name="Рисунок 5" descr="ьер а.jpeg"/>
          <p:cNvPicPr/>
          <p:nvPr/>
        </p:nvPicPr>
        <p:blipFill>
          <a:blip r:embed="rId2"/>
          <a:stretch/>
        </p:blipFill>
        <p:spPr>
          <a:xfrm>
            <a:off x="4500720" y="4214880"/>
            <a:ext cx="3643200" cy="23572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70c0"/>
                </a:solidFill>
                <a:uFillTx/>
                <a:latin typeface="Arial"/>
              </a:rPr>
              <a:t>ПЕРВАЯ ПОМОЩЬ ПРИ ТЕПЛОВОМ УД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Немедленно удалить пострадавшего из жаркого помещения в прохладное место,на свежий воздух,снять с него лишнюю одеж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5435640" y="5516640"/>
            <a:ext cx="914400" cy="91440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5580000" y="1773360"/>
            <a:ext cx="2303640" cy="2016000"/>
          </a:xfrm>
          <a:custGeom>
            <a:avLst/>
            <a:gdLst>
              <a:gd name="textAreaLeft" fmla="*/ 525960 w 2303640"/>
              <a:gd name="textAreaRight" fmla="*/ 1777680 w 2303640"/>
              <a:gd name="textAreaTop" fmla="*/ 460080 h 2016000"/>
              <a:gd name="textAreaBottom" fmla="*/ 155592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93" name="Picture 9" descr="i"/>
          <p:cNvPicPr/>
          <p:nvPr/>
        </p:nvPicPr>
        <p:blipFill>
          <a:blip r:embed="rId1"/>
          <a:stretch/>
        </p:blipFill>
        <p:spPr>
          <a:xfrm>
            <a:off x="5940360" y="4005360"/>
            <a:ext cx="2232000" cy="23763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6"/>
          <p:cNvSpPr/>
          <p:nvPr/>
        </p:nvSpPr>
        <p:spPr>
          <a:xfrm>
            <a:off x="324000" y="476280"/>
            <a:ext cx="763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0" y="333360"/>
            <a:ext cx="521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блить пострадавшего холодной водой,к голове и области сердца приложить холодные примочки,дать понюхать нашатырный спирт.</a:t>
            </a:r>
            <a:endParaRPr b="1" i="1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97" name="Picture 8" descr="С4"/>
          <p:cNvPicPr/>
          <p:nvPr/>
        </p:nvPicPr>
        <p:blipFill>
          <a:blip r:embed="rId1"/>
          <a:stretch/>
        </p:blipFill>
        <p:spPr>
          <a:xfrm>
            <a:off x="5796000" y="62064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doctor"/>
          <p:cNvPicPr/>
          <p:nvPr/>
        </p:nvPicPr>
        <p:blipFill>
          <a:blip r:embed="rId2"/>
          <a:stretch/>
        </p:blipFill>
        <p:spPr>
          <a:xfrm>
            <a:off x="5364000" y="4265640"/>
            <a:ext cx="2664000" cy="259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056"/>
          <p:cNvPicPr/>
          <p:nvPr/>
        </p:nvPicPr>
        <p:blipFill>
          <a:blip r:embed="rId3"/>
          <a:stretch/>
        </p:blipFill>
        <p:spPr>
          <a:xfrm>
            <a:off x="2556000" y="4724280"/>
            <a:ext cx="2305080" cy="18716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5:34:13Z</dcterms:created>
  <dc:creator>STUDENT</dc:creator>
  <dc:description/>
  <dc:language>en-US</dc:language>
  <cp:lastModifiedBy>LEGION</cp:lastModifiedBy>
  <dcterms:modified xsi:type="dcterms:W3CDTF">2015-05-12T09:05:18Z</dcterms:modified>
  <cp:revision>31</cp:revision>
  <dc:subject/>
  <dc:title>Первая помощь при</dc:title>
</cp:coreProperties>
</file>