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explode.wav" ContentType="audio/x-wav"/>
  <Override PartName="/ppt/media/image5.png" ContentType="image/png"/>
  <Override PartName="/ppt/media/image4.png" ContentType="image/png"/>
  <Override PartName="/ppt/media/image3.png" ContentType="image/png"/>
  <Override PartName="/ppt/media/image24.jpeg" ContentType="image/jpeg"/>
  <Override PartName="/ppt/media/image23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gif" ContentType="image/gif"/>
  <Override PartName="/ppt/media/image18.gif" ContentType="image/gif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date/time&gt;</a:t>
            </a:r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ru-RU" sz="1200" spc="-1" strike="noStrike" u="sng">
                <a:solidFill>
                  <a:srgbClr val="ff0000"/>
                </a:solidFill>
                <a:uFillTx/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F8EF1-6880-4AB2-B9EA-20BE2B3CA8F8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Государственное образовательное учреждение  среднего профессионального образования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митета по здравоохранению Администрации  Волгоградской области  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«Медицинский колледж №1»,Волгогр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CDDF-AA2E-4906-B152-7EC2106B5623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нарушении дыхания и сердечной деятельности производить оживление организ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FFB80-9460-4987-9D53-1C7DABBA99A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efe"/>
                </a:solidFill>
                <a:latin typeface="Calibri"/>
              </a:rPr>
              <a:t>Будьте осторожны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5EE2D-137A-4B40-AD33-5A4547800D62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 u="sng">
                <a:solidFill>
                  <a:srgbClr val="0033cc"/>
                </a:solidFill>
                <a:uFillTx/>
                <a:latin typeface="Calibri"/>
              </a:rPr>
              <a:t>Информационные источники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7DBEC-FFAD-41F0-AC01-EA9915C1CA0D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70c0"/>
                </a:solidFill>
                <a:latin typeface="Calibri"/>
              </a:rPr>
              <a:t>Содерж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5050"/>
                </a:solidFill>
                <a:uFillTx/>
                <a:latin typeface="Calibri"/>
              </a:rPr>
              <a:t>В 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66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6600"/>
                </a:solidFill>
                <a:uFillTx/>
                <a:latin typeface="Calibri"/>
              </a:rPr>
              <a:t>ТЕПЛОВО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Первая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cc3300"/>
                </a:solidFill>
                <a:uFillTx/>
                <a:latin typeface="Calibri"/>
              </a:rPr>
              <a:t>Информационные источ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224BC-80A5-4940-BE52-DC9BBAFCC0D3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b0f0"/>
                </a:solidFill>
                <a:latin typeface="Calibri"/>
              </a:rPr>
              <a:t>СОЛНЕЧНЫЙ УД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E767F-2A36-48CB-9770-5BCCCC81F35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ff"/>
                </a:solidFill>
                <a:latin typeface="Impact"/>
              </a:rPr>
              <a:t>СИМПТОМ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cc33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Пульс едва прощупывается,дыхание еле</a:t>
            </a:r>
            <a:r>
              <a:rPr b="0" lang="ru-RU" sz="1000" spc="-1" strike="noStrike">
                <a:solidFill>
                  <a:srgbClr val="cc33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cc3300"/>
                </a:solidFill>
                <a:latin typeface="Calibri"/>
              </a:rPr>
              <a:t>заметно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D2826-58B1-4E86-BFC8-9139E1C41E79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ac090"/>
                </a:solidFill>
                <a:latin typeface="Calibri"/>
              </a:rPr>
              <a:t>В ТЯЖЕЛЫХ СЛУЧА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Может начать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ff0000"/>
                </a:solidFill>
                <a:latin typeface="Calibri"/>
              </a:rPr>
              <a:t>Тошнота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Calibri"/>
              </a:rPr>
              <a:t>Рвот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ровотечение из н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8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0000"/>
                </a:solidFill>
                <a:latin typeface="Calibri"/>
              </a:rPr>
              <a:t>Судорог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мо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FD943-60B7-4ADB-9849-F3FD4B5425DF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b0f0"/>
                </a:solidFill>
                <a:latin typeface="Calibri"/>
              </a:rPr>
              <a:t>ПЕРВАЯ ПОМОЩЬ ПРИ СОЛНЕЧНОМ УДА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его уложить в тени, освободить от одеж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Calibri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CA33E-7BE0-4763-9A9D-305A9A811362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СИМПТ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cc"/>
                </a:solidFill>
                <a:latin typeface="Calibri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6961E-386E-4EA4-99B3-D2E1DAD0E1D7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 u="sng">
                <a:solidFill>
                  <a:srgbClr val="0070c0"/>
                </a:solidFill>
                <a:uFillTx/>
                <a:latin typeface="Calibri"/>
              </a:rPr>
              <a:t>ПЕРВАЯ ПОМОЩЬ ПРИ ТЕПЛОВОМ УДАР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3300"/>
                </a:solidFill>
                <a:latin typeface="Calibri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21B9-6718-468F-9AF2-422E3C85C815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C20C-8BD9-4A43-8A23-5854B61B61FA}" type="slidenum"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&lt;number&gt;</a:t>
            </a:fld>
            <a:endParaRPr b="1" i="1" lang="en-US" sz="1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D6DA-8BB3-4C1C-B00B-BEBC20644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3F0-A862-4ED3-9659-494B9F375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05F-FCEE-4FAE-B21C-8AAA0DC9F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B008-A1B3-4594-85ED-FA956EE50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E4C4-F887-48A3-AEEC-38720D371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ADDF0-81FC-4A2E-AA52-3A2CCBEF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4B1-CCF2-41F6-B88E-6DCD0DA04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5245-6BE7-48EC-B42B-D2368EB28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1EFA-1BBD-42BA-912E-44E63E04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6323-E7DE-4432-83B3-B4E1699D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69D-BC4E-4409-9932-39E5285B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FBAE-BE77-4FF8-AF4E-8637E3AB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50000">
              <a:srgbClr val="ff99ff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CA7B4-0631-4DD8-9C0F-17AB591C58F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hyperlink" Target="file:///tmp/home/.config/libreoffice/4/user/gallery/wind.wav" TargetMode="External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1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uliya_chicherina_-_zhara.mp3" descr=""/>
          <p:cNvPicPr/>
          <p:nvPr/>
        </p:nvPicPr>
        <p:blipFill>
          <a:blip r:embed="rId1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pic>
        <p:nvPicPr>
          <p:cNvPr id="49" name="iuliya_chicherina_-_zhara.mp3" descr=""/>
          <p:cNvPicPr/>
          <p:nvPr/>
        </p:nvPicPr>
        <p:blipFill>
          <a:blip r:embed="rId2"/>
          <a:stretch/>
        </p:blipFill>
        <p:spPr>
          <a:xfrm>
            <a:off x="4419720" y="3263760"/>
            <a:ext cx="303120" cy="30348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3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Государственное образовательное учреждение  среднего профессионального образования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Комитета по здравоохранению Администрации  Волгоградской области  </a:t>
            </a:r>
            <a:br>
              <a:rPr sz="1400"/>
            </a:b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«Медицинский колледж №1»,Волгогра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443640" y="4994280"/>
            <a:ext cx="239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ю составила студентка группы М-422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ренко Оксана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2" name="Text Box 10"/>
          <p:cNvSpPr/>
          <p:nvPr/>
        </p:nvSpPr>
        <p:spPr>
          <a:xfrm>
            <a:off x="6877080" y="6427800"/>
            <a:ext cx="22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лгоград,2011</a:t>
            </a:r>
            <a:endParaRPr b="1" i="1" lang="en-US" sz="18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3" name="Picture 11" descr="2_4A"/>
          <p:cNvPicPr/>
          <p:nvPr/>
        </p:nvPicPr>
        <p:blipFill>
          <a:blip r:embed="rId3"/>
          <a:stretch/>
        </p:blipFill>
        <p:spPr>
          <a:xfrm>
            <a:off x="611280" y="4746600"/>
            <a:ext cx="3155760" cy="208440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17"/>
          <p:cNvSpPr/>
          <p:nvPr/>
        </p:nvSpPr>
        <p:spPr>
          <a:xfrm>
            <a:off x="2627280" y="3774960"/>
            <a:ext cx="3025800" cy="269712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55" name="WordArt 19" descr=""/>
          <p:cNvPicPr/>
          <p:nvPr/>
        </p:nvPicPr>
        <p:blipFill>
          <a:blip r:embed="rId4"/>
          <a:stretch/>
        </p:blipFill>
        <p:spPr>
          <a:xfrm>
            <a:off x="384120" y="1322280"/>
            <a:ext cx="8399520" cy="1128960"/>
          </a:xfrm>
          <a:prstGeom prst="rect">
            <a:avLst/>
          </a:prstGeom>
          <a:ln w="0">
            <a:noFill/>
          </a:ln>
        </p:spPr>
      </p:pic>
      <p:pic>
        <p:nvPicPr>
          <p:cNvPr id="56" name="WordArt 22" descr=""/>
          <p:cNvPicPr/>
          <p:nvPr/>
        </p:nvPicPr>
        <p:blipFill>
          <a:blip r:embed="rId5"/>
          <a:stretch/>
        </p:blipFill>
        <p:spPr>
          <a:xfrm>
            <a:off x="6076800" y="2687760"/>
            <a:ext cx="2891160" cy="1330200"/>
          </a:xfrm>
          <a:prstGeom prst="rect">
            <a:avLst/>
          </a:prstGeom>
          <a:ln w="0">
            <a:noFill/>
          </a:ln>
        </p:spPr>
      </p:pic>
      <p:pic>
        <p:nvPicPr>
          <p:cNvPr id="57" name="WordArt 23" descr=""/>
          <p:cNvPicPr/>
          <p:nvPr/>
        </p:nvPicPr>
        <p:blipFill>
          <a:blip r:embed="rId6"/>
          <a:stretch/>
        </p:blipFill>
        <p:spPr>
          <a:xfrm>
            <a:off x="311040" y="2541600"/>
            <a:ext cx="5735880" cy="98280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25">
            <a:hlinkClick r:id="rId7"/>
          </p:cNvPr>
          <p:cNvSpPr/>
          <p:nvPr/>
        </p:nvSpPr>
        <p:spPr>
          <a:xfrm>
            <a:off x="8675640" y="6499080"/>
            <a:ext cx="468360" cy="331920"/>
          </a:xfrm>
          <a:custGeom>
            <a:avLst/>
            <a:gdLst>
              <a:gd name="textAreaLeft" fmla="*/ 21240 w 468360"/>
              <a:gd name="textAreaRight" fmla="*/ 447120 w 468360"/>
              <a:gd name="textAreaTop" fmla="*/ 21240 h 331920"/>
              <a:gd name="textAreaBottom" fmla="*/ 310680 h 331920"/>
            </a:gdLst>
            <a:ahLst/>
            <a:rect l="textAreaLeft" t="textAreaTop" r="textAreaRight" b="textAreaBottom"/>
            <a:pathLst>
              <a:path w="30469" h="21600">
                <a:moveTo>
                  <a:pt x="0" y="0"/>
                </a:moveTo>
                <a:lnTo>
                  <a:pt x="30469" y="0"/>
                </a:lnTo>
                <a:lnTo>
                  <a:pt x="30469" y="21600"/>
                </a:lnTo>
                <a:lnTo>
                  <a:pt x="0" y="21600"/>
                </a:lnTo>
                <a:close/>
              </a:path>
              <a:path fill="lightenLess" w="30469" h="21600">
                <a:moveTo>
                  <a:pt x="0" y="0"/>
                </a:moveTo>
                <a:lnTo>
                  <a:pt x="30469" y="0"/>
                </a:lnTo>
                <a:lnTo>
                  <a:pt x="29069" y="1400"/>
                </a:lnTo>
                <a:lnTo>
                  <a:pt x="1400" y="1400"/>
                </a:lnTo>
                <a:close/>
              </a:path>
              <a:path fill="darken" w="30469" h="21600">
                <a:moveTo>
                  <a:pt x="30469" y="0"/>
                </a:moveTo>
                <a:lnTo>
                  <a:pt x="30469" y="21600"/>
                </a:lnTo>
                <a:lnTo>
                  <a:pt x="29069" y="20200"/>
                </a:lnTo>
                <a:lnTo>
                  <a:pt x="29069" y="1400"/>
                </a:lnTo>
                <a:close/>
              </a:path>
              <a:path fill="darkenLess" w="30469" h="21600">
                <a:moveTo>
                  <a:pt x="3046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9" y="20200"/>
                </a:lnTo>
                <a:close/>
              </a:path>
              <a:path fill="lighten" w="3046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9" h="21600">
                <a:moveTo>
                  <a:pt x="8228" y="3794"/>
                </a:moveTo>
                <a:lnTo>
                  <a:pt x="22241" y="10800"/>
                </a:lnTo>
                <a:lnTo>
                  <a:pt x="8228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ransition>
    <p:cover dir="u"/>
    <p:sndAc>
      <p:stSnd>
        <p:snd r:embed="rId8" name="explod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77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" dur="770" fill="hold"/>
                                        <p:tgtEl>
                                          <p:spTgt spid="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6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8" dur="77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4464000" cy="43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При нарушении дыхания и сердечной деятельности производить оживление орган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03[3]"/>
          <p:cNvPicPr/>
          <p:nvPr/>
        </p:nvPicPr>
        <p:blipFill>
          <a:blip r:embed="rId1"/>
          <a:stretch/>
        </p:blipFill>
        <p:spPr>
          <a:xfrm>
            <a:off x="539640" y="4149720"/>
            <a:ext cx="4419720" cy="1990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17[2]"/>
          <p:cNvPicPr/>
          <p:nvPr/>
        </p:nvPicPr>
        <p:blipFill>
          <a:blip r:embed="rId2"/>
          <a:stretch/>
        </p:blipFill>
        <p:spPr>
          <a:xfrm>
            <a:off x="4859280" y="836640"/>
            <a:ext cx="2232000" cy="2879640"/>
          </a:xfrm>
          <a:prstGeom prst="rect">
            <a:avLst/>
          </a:prstGeom>
          <a:ln w="0">
            <a:noFill/>
          </a:ln>
        </p:spPr>
      </p:pic>
      <p:sp>
        <p:nvSpPr>
          <p:cNvPr id="104" name="AutoShape 7"/>
          <p:cNvSpPr/>
          <p:nvPr/>
        </p:nvSpPr>
        <p:spPr>
          <a:xfrm>
            <a:off x="5292720" y="4076640"/>
            <a:ext cx="2303640" cy="201636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360"/>
              <a:gd name="textAreaBottom" fmla="*/ 155628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31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Содержимое 4" descr="а.jpeg"/>
          <p:cNvPicPr/>
          <p:nvPr/>
        </p:nvPicPr>
        <p:blipFill>
          <a:blip r:embed="rId1"/>
          <a:stretch/>
        </p:blipFill>
        <p:spPr>
          <a:xfrm>
            <a:off x="5000760" y="4071960"/>
            <a:ext cx="3643200" cy="2786040"/>
          </a:xfrm>
          <a:prstGeom prst="rect">
            <a:avLst/>
          </a:prstGeom>
          <a:ln w="0">
            <a:noFill/>
          </a:ln>
        </p:spPr>
      </p:pic>
      <p:pic>
        <p:nvPicPr>
          <p:cNvPr id="108" name="Прямоугольник 3" descr=""/>
          <p:cNvPicPr/>
          <p:nvPr/>
        </p:nvPicPr>
        <p:blipFill>
          <a:blip r:embed="rId2"/>
          <a:stretch/>
        </p:blipFill>
        <p:spPr>
          <a:xfrm>
            <a:off x="365040" y="2786040"/>
            <a:ext cx="8278920" cy="1548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5" descr="images.jpeg"/>
          <p:cNvPicPr/>
          <p:nvPr/>
        </p:nvPicPr>
        <p:blipFill>
          <a:blip r:embed="rId3"/>
          <a:stretch/>
        </p:blipFill>
        <p:spPr>
          <a:xfrm>
            <a:off x="428760" y="285840"/>
            <a:ext cx="3857400" cy="27144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6" descr="ап.jpeg"/>
          <p:cNvPicPr/>
          <p:nvPr/>
        </p:nvPicPr>
        <p:blipFill>
          <a:blip r:embed="rId4"/>
          <a:stretch/>
        </p:blipFill>
        <p:spPr>
          <a:xfrm>
            <a:off x="428760" y="4071960"/>
            <a:ext cx="3857400" cy="278604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7" descr="ьер а.jpeg"/>
          <p:cNvPicPr/>
          <p:nvPr/>
        </p:nvPicPr>
        <p:blipFill>
          <a:blip r:embed="rId5"/>
          <a:stretch/>
        </p:blipFill>
        <p:spPr>
          <a:xfrm>
            <a:off x="4929120" y="285840"/>
            <a:ext cx="3643560" cy="2643120"/>
          </a:xfrm>
          <a:prstGeom prst="rect">
            <a:avLst/>
          </a:prstGeom>
          <a:ln w="0">
            <a:noFill/>
          </a:ln>
        </p:spPr>
      </p:pic>
      <p:sp>
        <p:nvSpPr>
          <p:cNvPr id="1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33cc"/>
                </a:solidFill>
                <a:uFillTx/>
                <a:latin typeface="Arial"/>
              </a:rPr>
              <a:t>Информационные источники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Учебники по Основ безопасности  жизнедеятельности под редакцией зам. Министра МЧС  Ю. Л. Воробь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«Первая медицинская помощь дома и на улице», под редакцией профессора Попова и кандидата медицинских наук Беляе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9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70c0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СОЛНЕЧНЫ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5050"/>
                </a:solidFill>
                <a:uFillTx/>
                <a:latin typeface="Arial"/>
              </a:rPr>
              <a:t>В  тяжелых случа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0066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6600"/>
                </a:solidFill>
                <a:uFillTx/>
                <a:latin typeface="Arial"/>
              </a:rPr>
              <a:t>ТЕПЛОВОЙ УД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Первая помощ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cc3300"/>
                </a:solidFill>
                <a:uFillTx/>
                <a:latin typeface="Arial"/>
              </a:rPr>
              <a:t>Информационные источн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6" dur="2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9" dur="2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2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5" dur="2000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8" dur="1000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" dur="2000"/>
                                        <p:tgtEl>
                                          <p:spTgt spid="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b0f0"/>
                </a:solidFill>
                <a:latin typeface="Arial"/>
              </a:rPr>
              <a:t>СОЛНЕЧНЫЙ УДА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7524720" y="189000"/>
            <a:ext cx="1441440" cy="129528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5" name="AutoShape 5"/>
          <p:cNvSpPr/>
          <p:nvPr/>
        </p:nvSpPr>
        <p:spPr>
          <a:xfrm>
            <a:off x="324000" y="260280"/>
            <a:ext cx="1296720" cy="1224000"/>
          </a:xfrm>
          <a:prstGeom prst="sun">
            <a:avLst>
              <a:gd name="adj" fmla="val 25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cc"/>
                </a:solidFill>
                <a:latin typeface="Arial"/>
              </a:rPr>
              <a:t>Солнечный удар может произойти в жаркий ясный день,когда лучи солнца падают на непокрытую голов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8"/>
          <p:cNvSpPr/>
          <p:nvPr/>
        </p:nvSpPr>
        <p:spPr>
          <a:xfrm>
            <a:off x="5724360" y="1773360"/>
            <a:ext cx="2160720" cy="2663640"/>
          </a:xfrm>
          <a:prstGeom prst="lightningBol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68" name="Picture 9" descr="002"/>
          <p:cNvPicPr/>
          <p:nvPr/>
        </p:nvPicPr>
        <p:blipFill>
          <a:blip r:embed="rId1"/>
          <a:stretch/>
        </p:blipFill>
        <p:spPr>
          <a:xfrm>
            <a:off x="5940360" y="1989000"/>
            <a:ext cx="2160720" cy="24480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8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0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64072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ри солнечном ударе лицо человека сначала краснеет,потом бледнеет,появляется шум в уш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Если, находясь на солнце,Вы почувствовали слабость,головокружение,перед глазами замелькали «мошки»-это первые признаки перегревания организ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3300"/>
                </a:solidFill>
                <a:latin typeface="Arial"/>
              </a:rPr>
              <a:t>Пульс едва прощупывается,дыхание еле</a:t>
            </a: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замет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ordArt 7" descr=""/>
          <p:cNvPicPr/>
          <p:nvPr/>
        </p:nvPicPr>
        <p:blipFill>
          <a:blip r:embed="rId1"/>
          <a:stretch/>
        </p:blipFill>
        <p:spPr>
          <a:xfrm>
            <a:off x="1536840" y="165240"/>
            <a:ext cx="6229080" cy="14684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007"/>
          <p:cNvPicPr/>
          <p:nvPr/>
        </p:nvPicPr>
        <p:blipFill>
          <a:blip r:embed="rId2"/>
          <a:stretch/>
        </p:blipFill>
        <p:spPr>
          <a:xfrm>
            <a:off x="2484360" y="4653000"/>
            <a:ext cx="3610080" cy="220500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0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6b6bcf"/>
                </a:solidFill>
                <a:latin typeface="Arial"/>
              </a:rPr>
              <a:t>В ТЯЖЕЛЫХ СЛУЧАЯ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ordArt 4" descr=""/>
          <p:cNvPicPr/>
          <p:nvPr/>
        </p:nvPicPr>
        <p:blipFill>
          <a:blip r:embed="rId1"/>
          <a:stretch/>
        </p:blipFill>
        <p:spPr>
          <a:xfrm>
            <a:off x="2620800" y="1755720"/>
            <a:ext cx="3530880" cy="4698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468360" y="2781360"/>
            <a:ext cx="7848720" cy="35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Тошнота</a:t>
            </a:r>
            <a:endParaRPr b="1" i="1" lang="en-US" sz="20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17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Рвота</a:t>
            </a:r>
            <a:endParaRPr b="1" i="1" lang="en-US" sz="28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Кровотечение из носа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2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0000"/>
                </a:solidFill>
                <a:uFillTx/>
                <a:latin typeface="Arial"/>
              </a:rPr>
              <a:t>Судороги</a:t>
            </a:r>
            <a:endParaRPr b="1" i="1" lang="en-US" sz="3600" spc="-1" strike="noStrike" u="sng">
              <a:solidFill>
                <a:srgbClr val="ff0000"/>
              </a:solidFill>
              <a:uFillTx/>
              <a:latin typeface="Arial"/>
            </a:endParaRPr>
          </a:p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ff0000"/>
                </a:solidFill>
                <a:uFillTx/>
                <a:latin typeface="Arial"/>
              </a:rPr>
              <a:t>Обморок</a:t>
            </a: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77" name="Picture 6" descr="Клизма"/>
          <p:cNvPicPr/>
          <p:nvPr/>
        </p:nvPicPr>
        <p:blipFill>
          <a:blip r:embed="rId2"/>
          <a:stretch/>
        </p:blipFill>
        <p:spPr>
          <a:xfrm>
            <a:off x="5796000" y="2565360"/>
            <a:ext cx="295272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0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140" dur="500" autoRev="1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53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6600"/>
                            </p:stCondLst>
                            <p:childTnLst>
                              <p:par>
                                <p:cTn id="160" nodeType="after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161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b0f0"/>
                </a:solidFill>
                <a:latin typeface="Arial"/>
              </a:rPr>
              <a:t>ПЕРВАЯ ПОМОЩЬ ПРИ СОЛНЕЧН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661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его уложить в тени, освободить от одеж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На голову и затылок положить пузырь со льдом (по возможности) ,грудь и шею обливать холодной водой, при остановки дыхания и сердечной деятельности производить оживление организма с применением искусственного дых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33cc"/>
                </a:solidFill>
                <a:latin typeface="Arial"/>
              </a:rPr>
              <a:t>Пострадавших ,после оказания первой помощи обязательно направить в стационар, т.к. возможно ухудшение состояния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H4_4A"/>
          <p:cNvPicPr/>
          <p:nvPr/>
        </p:nvPicPr>
        <p:blipFill>
          <a:blip r:embed="rId1"/>
          <a:stretch/>
        </p:blipFill>
        <p:spPr>
          <a:xfrm rot="20569200">
            <a:off x="4643280" y="4581000"/>
            <a:ext cx="2735280" cy="1990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2_1A"/>
          <p:cNvPicPr/>
          <p:nvPr/>
        </p:nvPicPr>
        <p:blipFill>
          <a:blip r:embed="rId2"/>
          <a:stretch/>
        </p:blipFill>
        <p:spPr>
          <a:xfrm rot="20802600">
            <a:off x="1258920" y="4653000"/>
            <a:ext cx="2808360" cy="201600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8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Тепловой удар-результат общего перегрева организма-нередко сочетается с солнечным ударом.Он может случиться в жаркую погоду –при длительной и тяжелой физической работе,долгих и трудных переход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СИМПТО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Появление сильной жажды,сухость во рту,покраснение лица,и такие-же,как  при солнечном уда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WordArt 4" descr=""/>
          <p:cNvPicPr/>
          <p:nvPr/>
        </p:nvPicPr>
        <p:blipFill>
          <a:blip r:embed="rId1"/>
          <a:stretch/>
        </p:blipFill>
        <p:spPr>
          <a:xfrm>
            <a:off x="669960" y="176040"/>
            <a:ext cx="7900920" cy="120204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5"/>
          <p:cNvSpPr/>
          <p:nvPr/>
        </p:nvSpPr>
        <p:spPr>
          <a:xfrm>
            <a:off x="611280" y="4292640"/>
            <a:ext cx="1800000" cy="2016000"/>
          </a:xfrm>
          <a:prstGeom prst="lightningBol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87" name="Рисунок 5" descr="ьер а.jpeg"/>
          <p:cNvPicPr/>
          <p:nvPr/>
        </p:nvPicPr>
        <p:blipFill>
          <a:blip r:embed="rId2"/>
          <a:stretch/>
        </p:blipFill>
        <p:spPr>
          <a:xfrm>
            <a:off x="4500720" y="4214880"/>
            <a:ext cx="3643200" cy="235728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8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8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 u="sng">
                <a:solidFill>
                  <a:srgbClr val="0070c0"/>
                </a:solidFill>
                <a:uFillTx/>
                <a:latin typeface="Arial"/>
              </a:rPr>
              <a:t>ПЕРВАЯ ПОМОЩЬ ПРИ ТЕПЛОВОМ УДА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483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3300"/>
                </a:solidFill>
                <a:latin typeface="Arial"/>
              </a:rPr>
              <a:t>Немедленно удалить пострадавшего из жаркого помещения в прохладное место,на свежий воздух,снять с него лишнюю одежду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4"/>
          <p:cNvSpPr/>
          <p:nvPr/>
        </p:nvSpPr>
        <p:spPr>
          <a:xfrm>
            <a:off x="5435640" y="5516640"/>
            <a:ext cx="914400" cy="914400"/>
          </a:xfrm>
          <a:prstGeom prst="irregularSeal2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5580000" y="1773360"/>
            <a:ext cx="2303640" cy="2016000"/>
          </a:xfrm>
          <a:custGeom>
            <a:avLst/>
            <a:gdLst>
              <a:gd name="textAreaLeft" fmla="*/ 525960 w 2303640"/>
              <a:gd name="textAreaRight" fmla="*/ 1777680 w 2303640"/>
              <a:gd name="textAreaTop" fmla="*/ 460080 h 2016000"/>
              <a:gd name="textAreaBottom" fmla="*/ 155592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3" name="Picture 9" descr="i"/>
          <p:cNvPicPr/>
          <p:nvPr/>
        </p:nvPicPr>
        <p:blipFill>
          <a:blip r:embed="rId1"/>
          <a:stretch/>
        </p:blipFill>
        <p:spPr>
          <a:xfrm>
            <a:off x="5940360" y="4005360"/>
            <a:ext cx="2232000" cy="23763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8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8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8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8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7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9" dur="20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6"/>
          <p:cNvSpPr/>
          <p:nvPr/>
        </p:nvSpPr>
        <p:spPr>
          <a:xfrm>
            <a:off x="324000" y="476280"/>
            <a:ext cx="76327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0" y="333360"/>
            <a:ext cx="5219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Облить пострадавшего холодной водой,к голове и области сердца приложить холодные примочки,дать понюхать нашатырный спирт.</a:t>
            </a:r>
            <a:endParaRPr b="1" i="1" lang="en-US" sz="32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  <p:pic>
        <p:nvPicPr>
          <p:cNvPr id="97" name="Picture 8" descr="С4"/>
          <p:cNvPicPr/>
          <p:nvPr/>
        </p:nvPicPr>
        <p:blipFill>
          <a:blip r:embed="rId1"/>
          <a:stretch/>
        </p:blipFill>
        <p:spPr>
          <a:xfrm>
            <a:off x="5796000" y="620640"/>
            <a:ext cx="2381040" cy="2381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doctor"/>
          <p:cNvPicPr/>
          <p:nvPr/>
        </p:nvPicPr>
        <p:blipFill>
          <a:blip r:embed="rId2"/>
          <a:stretch/>
        </p:blipFill>
        <p:spPr>
          <a:xfrm>
            <a:off x="5364000" y="4265640"/>
            <a:ext cx="2664000" cy="2592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056"/>
          <p:cNvPicPr/>
          <p:nvPr/>
        </p:nvPicPr>
        <p:blipFill>
          <a:blip r:embed="rId3"/>
          <a:stretch/>
        </p:blipFill>
        <p:spPr>
          <a:xfrm>
            <a:off x="2556000" y="4724280"/>
            <a:ext cx="230508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1" i="1" lang="en-US" sz="1400" spc="-1" strike="noStrike" u="sng">
              <a:solidFill>
                <a:srgbClr val="ff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9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34:13Z</dcterms:created>
  <dc:creator>STUDENT</dc:creator>
  <dc:description/>
  <dc:language>en-US</dc:language>
  <cp:lastModifiedBy>LEGION</cp:lastModifiedBy>
  <dcterms:modified xsi:type="dcterms:W3CDTF">2015-05-12T09:05:18Z</dcterms:modified>
  <cp:revision>31</cp:revision>
  <dc:subject/>
  <dc:title>Первая помощь при</dc:title>
</cp:coreProperties>
</file>